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088-ED50-470F-A386-B2E37CEE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D5E-A4B5-40FC-BB8B-7DC3DA2B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9EB-25D3-48FC-9ADC-1790D101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CD2-6510-425B-B83E-A287D9FF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0045-3CD4-440A-AD98-541BAA91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F5FB-ABCF-4C74-99B6-6E9BFB59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78B-8B07-47D3-B516-080E9A68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1B4-CF9A-401C-86E4-A6F2562F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346C-F162-4F7E-9D1C-5E3446FD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C1D1-9E54-4DF2-83C5-761359B0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DB43-3D42-476A-A569-625B0BD7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6A61-016E-4C6B-82B5-E11593C4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06F2-C1D6-4D2D-9CC2-87431D7E9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788652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e75b6"/>
                </a:solidFill>
                <a:latin typeface="Calibri"/>
                <a:ea typeface="Arial"/>
              </a:rPr>
              <a:t>Job vacancy pilot project – proof of concept for big data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collected via web scrapp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collected from administrative sources in different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adoop in the clou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Microsoft Azzure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 relational data 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2015_RZS_BANNER"/>
          <p:cNvPicPr/>
          <p:nvPr/>
        </p:nvPicPr>
        <p:blipFill>
          <a:blip r:embed="rId1"/>
          <a:stretch/>
        </p:blipFill>
        <p:spPr>
          <a:xfrm>
            <a:off x="166680" y="357120"/>
            <a:ext cx="52689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08:12:04Z</dcterms:created>
  <dc:creator>.</dc:creator>
  <dc:description/>
  <dc:language>en-US</dc:language>
  <cp:lastModifiedBy>.</cp:lastModifiedBy>
  <dcterms:modified xsi:type="dcterms:W3CDTF">2015-11-19T08:13:40Z</dcterms:modified>
  <cp:revision>2</cp:revision>
  <dc:subject/>
  <dc:title>Job vacancy pilot project – proof of concept for big data </dc:title>
</cp:coreProperties>
</file>