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CD2-14D2-4292-8B3F-F65FD0BE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A71-33DC-437D-816D-CED04D4B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F87-5DB2-4149-BF00-5789943D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016-03A4-42EF-AA83-5D4871A4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EAB-DAD0-49F0-8BAA-E712DF78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3D5-5DA3-46AE-BFAD-B8255D28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084-9AB8-40E3-83B4-42B4A629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6FD-3F06-4F0C-B9BD-A8C098E1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E82-3F85-4165-9580-5B010EE0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BEA-D7D5-42EB-A0DB-73AA42F2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D98-F71F-4C75-8F5C-691BB72C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0C8-A62E-4BB7-88D7-DB30BB49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FC9F-E150-4B31-9B82-A9F84C965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788652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e75b6"/>
                </a:solidFill>
                <a:latin typeface="Calibri"/>
                <a:ea typeface="Arial"/>
              </a:rPr>
              <a:t>Job vacancy pilot project – proof of concept for big data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ed via web scrap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ed from administrative sources in different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adoop in the clou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Microsoft Azzure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 relational data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2015_RZS_BANNER"/>
          <p:cNvPicPr/>
          <p:nvPr/>
        </p:nvPicPr>
        <p:blipFill>
          <a:blip r:embed="rId1"/>
          <a:stretch/>
        </p:blipFill>
        <p:spPr>
          <a:xfrm>
            <a:off x="166680" y="357120"/>
            <a:ext cx="52689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08:12:04Z</dcterms:created>
  <dc:creator>.</dc:creator>
  <dc:description/>
  <dc:language>en-US</dc:language>
  <cp:lastModifiedBy>.</cp:lastModifiedBy>
  <dcterms:modified xsi:type="dcterms:W3CDTF">2015-11-19T08:13:40Z</dcterms:modified>
  <cp:revision>2</cp:revision>
  <dc:subject/>
  <dc:title>Job vacancy pilot project – proof of concept for big data </dc:title>
</cp:coreProperties>
</file>