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831-460F-4347-B681-FD62F093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1DF-03EB-4176-AA8D-DB4C0117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16E-A9EF-49F9-849C-400A06E4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FD1-7D8D-4A5C-8FE7-179248FA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FD1B-A501-46EE-AE0E-21F18CF4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2A29-B4C4-455C-98D4-2B53FA7A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9DFB-BC01-451E-A25D-D164A220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6801-ECF2-47EB-84C5-73F87F86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0D64-3534-4D65-B155-751E09B0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22EB-A30B-4DE9-A234-93E07D8E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67A1-0C08-4320-BD07-837D92F7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DDA-5D1E-4AEE-8040-A9D00BC2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A738-F83A-44EC-963E-7700B90C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90D4-F7EB-4CFA-B576-5BBD9E67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4BA4-4B0A-49A2-B2A5-419DF036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90D4-43AB-4553-8C0A-D78E755A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2600-5535-4DF1-A0E0-C11BA746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B0BFC-DB3C-4540-95E6-0837308A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5F1AE-2C39-42C4-AA2F-2BA39F7C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A3783-A2D5-4146-9D45-1BAC2D73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55979-F23A-416E-9070-852345DA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93F6-5ECD-4672-A1C2-3B1762FE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AFD9-0BC3-4B7B-BC98-1457F159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95D45-F6BF-49BE-ACCA-9B204EB9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DEA11-4144-4002-8408-69819184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5010D-4D92-4009-9806-DBB76D02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26B9E-7414-4B9B-A5B3-ABC8BABA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73EC5-73AE-40E5-BFA8-F6D05DD2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4F3B8-0124-4172-A05C-33963375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79C67-D208-43D0-8E82-49D63446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036D3-AE46-42E9-B146-A3B4981D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5A1C0-1EA7-479F-9C5E-1E92B839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B0997-A29E-4728-9FAF-4B150E41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53B-CB72-4BF0-A812-3A257674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01525-3238-4F80-B192-DADF56BF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581A2-27FE-4E47-B210-7A95FDD4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E5625-747F-4878-81F8-F1C80E14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2EED5-DB51-4A6E-BEE5-D7F2AC99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23094-8E0C-453D-B5EC-50603B49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87E8E-FBD4-4F4D-A07D-05B40D21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85E5A-BD02-422B-9BAA-9261FF46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7730B-0159-44E4-B892-66899767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68B0D-FB3A-47DA-803A-B173D357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53186-99E9-4423-9F46-0796F0E9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0D53-889B-4F4B-967D-CA811BC7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0F48A-9ED1-4088-9045-DAEBE4A5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AEB27-0626-41D7-83D6-012AB228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95C78-030B-4DC5-9C40-95941336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8E0A7-6601-4D46-9B3F-AFE1462E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C7F23-029C-4808-B5C3-EFCCE450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CE0AB-12E5-46F8-A94E-9BCAFBF2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D571D-AAE9-4DE0-B24C-E9D5EF89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AE6A0-923E-47D7-8CE1-E78E8446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89FEE-EF61-4480-A1CC-46EB9685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AEA68-A303-4341-B1AF-991C1A5E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B871-2401-4D23-A8DE-78DBE968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DC03E-D42E-4F89-865D-F61AE933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D3BF2-6CF2-4287-B395-56CF28A7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41BBF-3D3A-4BCE-A26C-64D68754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98595-303C-4204-9331-FA379CEE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40818-579D-4E3B-90D0-20C31966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13C69-8AC5-404F-BC1B-986670C1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09523-0AA2-4A97-B0C4-6E7A8AC7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A579E-85A7-4B40-AC8B-C07CB2DD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DF1C5-02F2-4B7E-9DC9-90EA93A9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8BF9C-6FB7-44ED-BAE6-133FF0A7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9C45-005C-4496-87E0-5A6D18D2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26B06-0E5D-4087-B278-26F50420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F4C46-882F-40C6-B4DE-EE982A5A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E6A9D-48C0-4C90-83E6-EF18F575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0B2D8-AD2A-4556-8E0D-7CBEEC54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F7908-516D-41BA-A074-66F05E2B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36E9E-B041-4029-8D1C-01689706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D98AA-BF97-4511-A5BB-078577BE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33674-22D2-4E62-820D-DF6DF8EF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B4451-B13A-4A15-A4AB-B2740FBB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DDF18-9047-4861-947F-46E07B30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8241-BCE8-4874-BD4F-B37B6F8B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C14C5-E0AD-4E7D-A5DA-725DAD73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368C8-8984-41F1-99C3-93D7E15C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DE995-9C10-44C6-9838-7C0FDFD6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29E51-53CC-4ACB-BAA2-D2903A0A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A10A2-F540-4B8B-A252-279F6C66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A17FF-9D56-426E-BACF-2538CF07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80F01-0BF4-4A65-B2BC-E33F93FF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FC102-86D6-43D4-A600-B4BA855D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237F0-1EC2-4E2E-A107-86910703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BB973-53FD-4196-8EF3-4A8C57FB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B62-0B1E-44A7-AE42-EF875645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75F6B-514D-467E-84AF-0BB1BB13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5420F-FA59-48BD-8B36-4F0D3552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5B20E-401E-4EE5-88DC-6B3B4E71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5CDB3-AC4D-4D7A-A172-58DCE25D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F16FC-96F4-4123-8ED0-3FA266F9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9351C-59F8-431A-9F78-B37DA0C0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79677-338B-4767-81D0-F39BFF59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Łącznik prosty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C81E-0323-4FDF-938D-F1C33EFAE875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CCE7-26DF-4A70-AD17-37C844C55420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d7291"/>
              </a:gs>
              <a:gs pos="50000">
                <a:srgbClr val="96c0e4"/>
              </a:gs>
              <a:gs pos="100000">
                <a:srgbClr val="4d7291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c0d3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Łącznik prosty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2979-DD0C-447F-BC17-ADBE050CEDE1}" type="datetime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ff3f7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ff3f7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8216-71AF-4477-8BB3-5934500B523B}" type="slidenum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17C3-868F-46CD-B3E9-78712874C181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B70D-0BD3-42A0-824D-2A47EB51FA34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08B9-00A3-4E43-8527-0188AF1AD3F8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0B7B-D79F-4535-A912-065F9EC0E23C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D32F-290E-4EB5-9C5C-94E8CDA34B68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41B9-DFBA-4D16-A48F-9D5A2E444789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5905-B512-405C-8C76-A0F3815613F8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43DD-1273-4865-ACAB-E9CC98E0156F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A2BC-7DD7-4DF5-8799-1DC9A00EEDB7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8B22-35E8-4BA1-B442-B3D3E4954485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ójkąt prostokątny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Łącznik prosty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4B7B-9652-4659-BEB1-6BAE2F27B890}" type="datetime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A2EE-4081-4607-9700-E40C2AF199BA}" type="slidenum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Symbol zastępczy zawartości 6" descr=""/>
          <p:cNvPicPr/>
          <p:nvPr/>
        </p:nvPicPr>
        <p:blipFill>
          <a:blip r:embed="rId1"/>
          <a:stretch/>
        </p:blipFill>
        <p:spPr>
          <a:xfrm>
            <a:off x="414360" y="974880"/>
            <a:ext cx="8510400" cy="5035320"/>
          </a:xfrm>
          <a:prstGeom prst="rect">
            <a:avLst/>
          </a:prstGeom>
          <a:ln w="0">
            <a:noFill/>
          </a:ln>
        </p:spPr>
      </p:pic>
      <p:pic>
        <p:nvPicPr>
          <p:cNvPr id="371" name="Tytuł 2" descr=""/>
          <p:cNvPicPr/>
          <p:nvPr/>
        </p:nvPicPr>
        <p:blipFill>
          <a:blip r:embed="rId2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  <p:sp>
        <p:nvSpPr>
          <p:cNvPr id="372" name="Symbol zastępczy numeru slajdu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D151-FF6E-438B-B80A-85DC6A48BE32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ymbol zastępczy stopki 4"/>
          <p:cNvSpPr/>
          <p:nvPr/>
        </p:nvSpPr>
        <p:spPr>
          <a:xfrm>
            <a:off x="4379760" y="6408720"/>
            <a:ext cx="264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Haga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, 2015 Workshop on the </a:t>
            </a: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Modernisation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Symbol zastępczy zawartości 3" descr=""/>
          <p:cNvPicPr/>
          <p:nvPr/>
        </p:nvPicPr>
        <p:blipFill>
          <a:blip r:embed="rId1"/>
          <a:stretch/>
        </p:blipFill>
        <p:spPr>
          <a:xfrm>
            <a:off x="426960" y="950760"/>
            <a:ext cx="8296200" cy="5089680"/>
          </a:xfrm>
          <a:prstGeom prst="rect">
            <a:avLst/>
          </a:prstGeom>
          <a:ln w="0">
            <a:noFill/>
          </a:ln>
        </p:spPr>
      </p:pic>
      <p:pic>
        <p:nvPicPr>
          <p:cNvPr id="375" name="Tytuł 2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274760"/>
          </a:xfrm>
          <a:prstGeom prst="rect">
            <a:avLst/>
          </a:prstGeom>
          <a:ln w="0">
            <a:noFill/>
          </a:ln>
        </p:spPr>
      </p:pic>
      <p:sp>
        <p:nvSpPr>
          <p:cNvPr id="376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54B4-E6F8-4179-BA51-D3FDE029B34D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ymbol zastępczy stopki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Symbol zastępczy zawartości 3" descr=""/>
          <p:cNvPicPr/>
          <p:nvPr/>
        </p:nvPicPr>
        <p:blipFill>
          <a:blip r:embed="rId1"/>
          <a:stretch/>
        </p:blipFill>
        <p:spPr>
          <a:xfrm>
            <a:off x="450720" y="890640"/>
            <a:ext cx="8242560" cy="5149800"/>
          </a:xfrm>
          <a:prstGeom prst="rect">
            <a:avLst/>
          </a:prstGeom>
          <a:ln w="0">
            <a:noFill/>
          </a:ln>
        </p:spPr>
      </p:pic>
      <p:pic>
        <p:nvPicPr>
          <p:cNvPr id="379" name="Tytuł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3ECF-7376-4134-92EB-5CAF3272AAA6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ymbol zastępczy stopki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2:29:27Z</dcterms:created>
  <dc:creator>Długosz Anna</dc:creator>
  <dc:description/>
  <dc:language>en-US</dc:language>
  <cp:lastModifiedBy>Długosz Anna</cp:lastModifiedBy>
  <dcterms:modified xsi:type="dcterms:W3CDTF">2015-11-18T14:12:56Z</dcterms:modified>
  <cp:revision>15</cp:revision>
  <dc:subject/>
  <dc:title>Benefits of efective &amp; productive using of administrative data for statistical purpose</dc:title>
</cp:coreProperties>
</file>