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F91-A97D-431D-9126-78B9B587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5E3-7096-42AF-99F4-16F3CAF1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92E-7D81-4C97-A9F7-BD898078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E69-3317-4173-91E2-6DCBD321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E5E9-BA51-46CF-BA78-D07122A7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C517-8216-447B-BAC4-23991D0C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CBBD-ED3E-4B4B-9934-15B7CF67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F554-25E8-4A0F-89C8-75AF6C76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2C19-0A81-4072-B5AC-C7299DBC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237E-1340-4504-B0EB-640C8296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F705-7020-45C4-8101-C586735E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32B-7CAF-438B-BE44-E7A61A45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E1BE-DCC0-4510-9EBA-4AB3571C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BB7A-F2DE-408F-ABE5-456065F5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99AB-68D9-4EEA-A96D-AA4E1B1D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B3F0-D3DC-429E-B7C1-426B0896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C789-F143-40C6-A267-BCD1B38C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F494-AEA6-4647-BFBD-A54785D5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A9CF-AC0A-4FEB-8F52-DD0EFF5C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8F0F-54BA-4957-B3B2-113DDD40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5647-047A-411F-AE4B-5608C7CA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A32B-3362-484F-B001-127144A4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A2F-6738-4099-9BBC-5074C468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55EB5-5FE2-4303-85F4-AF220960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297B6-BD31-4268-8596-F3E90C1D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50A79-DC76-4FD6-852A-FE67E365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916B-AB36-4BEB-A5C2-88D6EBC3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6B8B-B9E9-4AEE-A2A5-B78F2153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3FD38-E4F8-45F6-8607-72044922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271B-AA4C-4C60-93DC-82CF43F2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81276-051F-4D6A-8978-AA72E32F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AD80-A2D2-4D33-A3A0-0EA47030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92330-B912-4657-B61F-5A09C049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54D-6B2D-4D58-A086-3F8BFE45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BEE8-242A-4661-AB1E-D91DE3F8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6D6F5-3242-43A1-8A46-11CB2828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A9560-8B95-4776-88C1-AF0E9ECF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07C6-1073-4A7B-9441-059D487A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572A7-C0BC-44AD-9011-F829051F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64CE-B87F-45C0-99BA-D7EA3959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ABE7-5805-4191-B282-E8D9BE09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671F9-9398-4E0C-867B-BFF1A5CE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04601-9034-4749-BB0B-83B93D64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C87F0-C9AE-454E-8777-A63B410F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4E2-16EA-4647-874B-61E2AD95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876F9-D534-4297-A4FA-FCB1B9B8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BB44-8AAB-4AC9-8250-3E0F4A2E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B7A23-F6F4-4412-AE40-86A7D6CF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A670D-AD67-4691-BCCB-C0F1B0BD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218D0-EAA0-4F83-8C2D-16B3A207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99550-0FC7-44FE-95C8-A207D31C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879D8-8FBD-40E4-A99B-886C936D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2F799-13DD-4FAF-B227-5228AD8C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7B723-74F0-49AA-B99D-52B92419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0B117-C1AA-405F-B529-C7E3EF15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EC3-1E77-4324-B3E1-FC69F57B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1B283-F1D3-4E09-906E-BA5EB50A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C957-BB31-4DBC-8225-3B083549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F860A-758C-4E45-93BA-2C08EB92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30F8C-3ADD-4FA7-A45C-C07D1C43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814A7-6C8B-4B22-8855-F7AE6811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58BFA-5C3B-4C1E-9760-806932D0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A8413-66A2-454F-9284-5886118A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F7796-1A0A-4379-9544-A44DF760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9E425-5B58-43A6-BAB5-FD7BA42B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E5B86-3D4A-41C5-BA13-DB9A1C8D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48C-116A-4736-B8D1-8E303402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9FE4A-5760-4FC1-89EF-F8439012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15D64-1FD4-49D5-873B-943C03F3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46FA3-7B7F-4576-B833-EFE8DBEE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EB637-72BA-4780-BFC9-7FF90627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72AFA-3E7E-4920-A9E9-467E893C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1FFFA-3A19-42D8-A2C4-EAF68AB0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39286-C636-4AAC-A17D-C185708C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4B39D-19FF-4781-9899-D6067811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EEB3D-182D-4CE9-9C09-99E1298D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51921-1BEB-4AF4-BA26-F60C9823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37E-E07E-43D1-86E1-9F84BB8D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BB95C-1126-4E0C-A1C4-0D29685C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1394A-9FEE-40CA-A8B5-D598ACE6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02E74-6304-41F2-99E6-FBAF61EB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FBE68-936A-49B3-AA21-AAEF63BE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5B534-A8D7-41D5-9426-D8CE442D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DABEE-4FCC-4D27-8A5D-D8F55921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BB8E9-707E-479F-8A16-EE31DF71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F62F6-7164-4505-81A7-D003DD22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AD781-4FA0-4767-BC84-4D61227B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1E232-230F-4510-BF70-9F2BAD15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7AD-966A-4CC2-A692-231E9FFC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7BA55-A02E-45C6-B5D1-899E1D04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F1B23-A29A-43CB-AE56-49814845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61A7A-B5F6-4FDD-A8DF-9EA578A4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7BF0C-93A1-403D-9EA5-C0669E5B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7EBFF-074A-4B68-A24F-8EBC528D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F0438-F72C-499A-A52A-E87AF9CB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4417F-FC9C-46CE-8F76-FBE4C869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8493-4490-47B0-87DB-B800C44E606F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B436-93F9-4307-9911-7C1A76B7CA02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d7291"/>
              </a:gs>
              <a:gs pos="50000">
                <a:srgbClr val="96c0e4"/>
              </a:gs>
              <a:gs pos="100000">
                <a:srgbClr val="4d7291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c0d3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Łącznik prosty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FB2B-9489-4F47-BF23-F4777C3B6E69}" type="datetime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ff3f7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ff3f7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0390-4C0F-4FB3-AA88-C2E380337481}" type="slidenum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8C5C-DDAB-4240-A23C-75E0CE8A0117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4D53-F269-420E-AAF6-A9048FE9683D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9D3F-6ECF-413F-AE2E-FF15CB5E2397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5D57-B36B-40EF-8B84-127884701C70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74DB-9BDD-4A0D-B5F7-8E66C25E654E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02E8-34EB-4DF9-B68F-C92E6DF932FE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53D8-16BA-4FA0-ADF3-AA2F3D271C67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716F-D8E1-464E-A544-B77AD5E4AEEA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F281-D436-44D7-8007-6C1C468CD53C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B1E8-0048-43BA-99DA-0E6D1EDB6036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Łącznik prosty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7441-D3C1-43F0-A54E-7714443BD2D2}" type="datetime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9F92-83F4-4F4F-8B65-133AEB56B59A}" type="slidenum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Symbol zastępczy zawartości 6" descr=""/>
          <p:cNvPicPr/>
          <p:nvPr/>
        </p:nvPicPr>
        <p:blipFill>
          <a:blip r:embed="rId1"/>
          <a:stretch/>
        </p:blipFill>
        <p:spPr>
          <a:xfrm>
            <a:off x="414360" y="974880"/>
            <a:ext cx="8510400" cy="5035320"/>
          </a:xfrm>
          <a:prstGeom prst="rect">
            <a:avLst/>
          </a:prstGeom>
          <a:ln w="0">
            <a:noFill/>
          </a:ln>
        </p:spPr>
      </p:pic>
      <p:pic>
        <p:nvPicPr>
          <p:cNvPr id="371" name="Tytuł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  <p:sp>
        <p:nvSpPr>
          <p:cNvPr id="372" name="Symbol zastępczy numeru slajdu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0B2B-725F-4AD6-99B8-BCFB748900AF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ymbol zastępczy stopki 4"/>
          <p:cNvSpPr/>
          <p:nvPr/>
        </p:nvSpPr>
        <p:spPr>
          <a:xfrm>
            <a:off x="4379760" y="6408720"/>
            <a:ext cx="264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Haga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, 2015 Workshop on the 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Modernisation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Symbol zastępczy zawartości 3" descr=""/>
          <p:cNvPicPr/>
          <p:nvPr/>
        </p:nvPicPr>
        <p:blipFill>
          <a:blip r:embed="rId1"/>
          <a:stretch/>
        </p:blipFill>
        <p:spPr>
          <a:xfrm>
            <a:off x="426960" y="950760"/>
            <a:ext cx="8296200" cy="5089680"/>
          </a:xfrm>
          <a:prstGeom prst="rect">
            <a:avLst/>
          </a:prstGeom>
          <a:ln w="0">
            <a:noFill/>
          </a:ln>
        </p:spPr>
      </p:pic>
      <p:pic>
        <p:nvPicPr>
          <p:cNvPr id="375" name="Tytuł 2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76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1D49-2217-4995-8040-D22B69F36841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ymbol zastępczy stopki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Symbol zastępczy zawartości 3" descr=""/>
          <p:cNvPicPr/>
          <p:nvPr/>
        </p:nvPicPr>
        <p:blipFill>
          <a:blip r:embed="rId1"/>
          <a:stretch/>
        </p:blipFill>
        <p:spPr>
          <a:xfrm>
            <a:off x="450720" y="890640"/>
            <a:ext cx="8242560" cy="5149800"/>
          </a:xfrm>
          <a:prstGeom prst="rect">
            <a:avLst/>
          </a:prstGeom>
          <a:ln w="0">
            <a:noFill/>
          </a:ln>
        </p:spPr>
      </p:pic>
      <p:pic>
        <p:nvPicPr>
          <p:cNvPr id="379" name="Tytuł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5AC7-2FAF-41AD-A561-F1191A7BE7D3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ymbol zastępczy stopki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2:29:27Z</dcterms:created>
  <dc:creator>Długosz Anna</dc:creator>
  <dc:description/>
  <dc:language>en-US</dc:language>
  <cp:lastModifiedBy>Długosz Anna</cp:lastModifiedBy>
  <dcterms:modified xsi:type="dcterms:W3CDTF">2015-11-18T14:12:56Z</dcterms:modified>
  <cp:revision>15</cp:revision>
  <dc:subject/>
  <dc:title>Benefits of efective &amp; productive using of administrative data for statistical purpose</dc:title>
</cp:coreProperties>
</file>