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8AAB-9DCD-491F-BB5F-3997F433FF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AE9F-2312-47AF-9479-3993DC244D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830E-B802-4F18-8F69-5A8F93E8D4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2F22-3C17-46B4-9100-9C9EAB8B3E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74A1-301B-4B43-A54F-A6F7F086A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DA58-455B-462A-AAA3-B0C811F8FA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0FF7-99B1-49FF-A933-26DFB78116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6282-9514-4FB1-9EBA-3277E93CA9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64F8-A74A-475C-A1DB-695DCE1E77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7A7B-99AE-4E47-9948-3F31346FED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D4E5-32E4-4D74-AEA4-81988B3EBD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B901-4D27-4368-AB40-937C7D6D6B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D0E7-3910-4997-A2CA-1156561EA9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4E8A-6FC6-419A-8523-36922B442C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E66D-3436-424B-9902-793C91C67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F2AF-C718-434D-80E0-0BE7C84795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C94B-AAA1-44E3-B221-AF8324777F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D40F0-48AA-444C-9B47-3B41C2D7C9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D1FD-A5BA-4399-AF49-1D4374319C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362E-23FF-4DAD-9899-FC395C3FFB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7311-44EC-4839-B2CC-46F67A644E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A4C9-F35C-41C6-B485-96F778146C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D57D-0B33-4426-BB51-A7637394F1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7D65-0817-46E1-AA1E-15B9F3079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ángulo redondeado 13"/>
          <p:cNvSpPr/>
          <p:nvPr/>
        </p:nvSpPr>
        <p:spPr>
          <a:xfrm>
            <a:off x="185760" y="165240"/>
            <a:ext cx="8835840" cy="222696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Num" idx="1"/>
          </p:nvPr>
        </p:nvSpPr>
        <p:spPr>
          <a:xfrm>
            <a:off x="702432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c9e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5750-0785-43F9-83FC-CA02AC08408E}" type="slidenum">
              <a:rPr b="0" lang="en-GB" sz="1200" spc="-1" strike="noStrike">
                <a:solidFill>
                  <a:srgbClr val="8c9eb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n 15" descr=""/>
          <p:cNvPicPr/>
          <p:nvPr/>
        </p:nvPicPr>
        <p:blipFill>
          <a:blip r:embed="rId2"/>
          <a:stretch/>
        </p:blipFill>
        <p:spPr>
          <a:xfrm>
            <a:off x="2397240" y="966960"/>
            <a:ext cx="5248080" cy="5644800"/>
          </a:xfrm>
          <a:prstGeom prst="rect">
            <a:avLst/>
          </a:prstGeom>
          <a:ln w="0">
            <a:noFill/>
          </a:ln>
        </p:spPr>
      </p:pic>
      <p:sp>
        <p:nvSpPr>
          <p:cNvPr id="111" name="Rectángulo 3"/>
          <p:cNvSpPr/>
          <p:nvPr/>
        </p:nvSpPr>
        <p:spPr>
          <a:xfrm>
            <a:off x="2482920" y="1017720"/>
            <a:ext cx="5651280" cy="54514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n 8" descr=""/>
          <p:cNvPicPr/>
          <p:nvPr/>
        </p:nvPicPr>
        <p:blipFill>
          <a:blip r:embed="rId3"/>
          <a:stretch/>
        </p:blipFill>
        <p:spPr>
          <a:xfrm>
            <a:off x="95400" y="9360"/>
            <a:ext cx="492120" cy="69408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9" descr=""/>
          <p:cNvPicPr/>
          <p:nvPr/>
        </p:nvPicPr>
        <p:blipFill>
          <a:blip r:embed="rId4"/>
          <a:stretch/>
        </p:blipFill>
        <p:spPr>
          <a:xfrm>
            <a:off x="727200" y="6259680"/>
            <a:ext cx="650880" cy="539640"/>
          </a:xfrm>
          <a:prstGeom prst="rect">
            <a:avLst/>
          </a:prstGeom>
          <a:ln w="0">
            <a:noFill/>
          </a:ln>
        </p:spPr>
      </p:pic>
      <p:pic>
        <p:nvPicPr>
          <p:cNvPr id="114" name="Imagen 10" descr=""/>
          <p:cNvPicPr/>
          <p:nvPr/>
        </p:nvPicPr>
        <p:blipFill>
          <a:blip r:embed="rId5"/>
          <a:stretch/>
        </p:blipFill>
        <p:spPr>
          <a:xfrm>
            <a:off x="8496360" y="34920"/>
            <a:ext cx="536400" cy="693720"/>
          </a:xfrm>
          <a:prstGeom prst="rect">
            <a:avLst/>
          </a:prstGeom>
          <a:ln w="0">
            <a:noFill/>
          </a:ln>
        </p:spPr>
      </p:pic>
      <p:pic>
        <p:nvPicPr>
          <p:cNvPr id="115" name="Imagen 11" descr=""/>
          <p:cNvPicPr/>
          <p:nvPr/>
        </p:nvPicPr>
        <p:blipFill>
          <a:blip r:embed="rId6"/>
          <a:stretch/>
        </p:blipFill>
        <p:spPr>
          <a:xfrm>
            <a:off x="76320" y="6259680"/>
            <a:ext cx="576000" cy="539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6"/>
          <p:cNvSpPr/>
          <p:nvPr/>
        </p:nvSpPr>
        <p:spPr>
          <a:xfrm>
            <a:off x="2178000" y="6505560"/>
            <a:ext cx="60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9eb6"/>
                </a:solidFill>
                <a:latin typeface="Calibri"/>
              </a:rPr>
              <a:t>68th GRSP. 8th December 20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uadroTexto 9"/>
          <p:cNvSpPr/>
          <p:nvPr/>
        </p:nvSpPr>
        <p:spPr>
          <a:xfrm>
            <a:off x="873000" y="108000"/>
            <a:ext cx="740736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9cb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e79"/>
                </a:solidFill>
                <a:latin typeface="Calibri"/>
              </a:rPr>
              <a:t>Effects of Q1.5 chin-thorax contact in measuring upper neck fo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Num" idx="2"/>
          </p:nvPr>
        </p:nvSpPr>
        <p:spPr>
          <a:xfrm>
            <a:off x="702432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c9e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D61C-3FBC-4EEC-A6F6-BBF1AA64BD47}" type="slidenum">
              <a:rPr b="0" lang="en-GB" sz="1200" spc="-1" strike="noStrike">
                <a:solidFill>
                  <a:srgbClr val="8c9eb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80960" y="738360"/>
            <a:ext cx="8229600" cy="1450800"/>
          </a:xfrm>
          <a:prstGeom prst="rect">
            <a:avLst/>
          </a:prstGeom>
          <a:ln w="0">
            <a:noFill/>
          </a:ln>
        </p:spPr>
      </p:pic>
      <p:sp>
        <p:nvSpPr>
          <p:cNvPr id="156" name="Rectángulo redondeado 23"/>
          <p:cNvSpPr/>
          <p:nvPr/>
        </p:nvSpPr>
        <p:spPr>
          <a:xfrm>
            <a:off x="5565600" y="3133800"/>
            <a:ext cx="3075120" cy="3538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16194"/>
                </a:solidFill>
                <a:latin typeface="Arial"/>
              </a:rPr>
              <a:t>Luis Martínez Sáe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5743440" y="3921120"/>
            <a:ext cx="2738520" cy="2604960"/>
            <a:chOff x="5743440" y="3921120"/>
            <a:chExt cx="2738520" cy="2604960"/>
          </a:xfrm>
        </p:grpSpPr>
        <p:sp>
          <p:nvSpPr>
            <p:cNvPr id="158" name="Rectángulo redondeado 23"/>
            <p:cNvSpPr/>
            <p:nvPr/>
          </p:nvSpPr>
          <p:spPr>
            <a:xfrm>
              <a:off x="5743440" y="3921120"/>
              <a:ext cx="2738520" cy="2604960"/>
            </a:xfrm>
            <a:prstGeom prst="roundRect">
              <a:avLst>
                <a:gd name="adj" fmla="val 16667"/>
              </a:avLst>
            </a:prstGeom>
            <a:solidFill>
              <a:srgbClr val="deebf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Imagen 19" descr=""/>
            <p:cNvPicPr/>
            <p:nvPr/>
          </p:nvPicPr>
          <p:blipFill>
            <a:blip r:embed="rId2"/>
            <a:stretch/>
          </p:blipFill>
          <p:spPr>
            <a:xfrm>
              <a:off x="6273720" y="5340240"/>
              <a:ext cx="64152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Imagen 20" descr=""/>
            <p:cNvPicPr/>
            <p:nvPr/>
          </p:nvPicPr>
          <p:blipFill>
            <a:blip r:embed="rId3"/>
            <a:stretch/>
          </p:blipFill>
          <p:spPr>
            <a:xfrm>
              <a:off x="7259760" y="4248000"/>
              <a:ext cx="97776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Imagen 21" descr=""/>
            <p:cNvPicPr/>
            <p:nvPr/>
          </p:nvPicPr>
          <p:blipFill>
            <a:blip r:embed="rId4"/>
            <a:stretch/>
          </p:blipFill>
          <p:spPr>
            <a:xfrm>
              <a:off x="7315200" y="5397480"/>
              <a:ext cx="635040" cy="8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Imagen 22" descr=""/>
            <p:cNvPicPr/>
            <p:nvPr/>
          </p:nvPicPr>
          <p:blipFill>
            <a:blip r:embed="rId5"/>
            <a:stretch/>
          </p:blipFill>
          <p:spPr>
            <a:xfrm>
              <a:off x="6073560" y="4248000"/>
              <a:ext cx="889200" cy="833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Imagen 1" descr=""/>
          <p:cNvPicPr/>
          <p:nvPr/>
        </p:nvPicPr>
        <p:blipFill>
          <a:blip r:embed="rId6"/>
          <a:srcRect l="0" t="0" r="0" b="-234"/>
          <a:stretch/>
        </p:blipFill>
        <p:spPr>
          <a:xfrm>
            <a:off x="687240" y="2546280"/>
            <a:ext cx="4361040" cy="39798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4629240" y="777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nformal Document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GRSP-68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68</a:t>
            </a:r>
            <a:r>
              <a:rPr b="0" lang="fr-FR" sz="12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th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GRSP, 7-11 December 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genda item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upo 24"/>
          <p:cNvGrpSpPr/>
          <p:nvPr/>
        </p:nvGrpSpPr>
        <p:grpSpPr>
          <a:xfrm>
            <a:off x="1143000" y="2103480"/>
            <a:ext cx="6899400" cy="646200"/>
            <a:chOff x="1143000" y="2103480"/>
            <a:chExt cx="6899400" cy="646200"/>
          </a:xfrm>
        </p:grpSpPr>
        <p:sp>
          <p:nvSpPr>
            <p:cNvPr id="242" name="Rectángulo redondeado 25"/>
            <p:cNvSpPr/>
            <p:nvPr/>
          </p:nvSpPr>
          <p:spPr>
            <a:xfrm>
              <a:off x="1143000" y="2103480"/>
              <a:ext cx="6899400" cy="646200"/>
            </a:xfrm>
            <a:prstGeom prst="roundRect">
              <a:avLst>
                <a:gd name="adj" fmla="val 16667"/>
              </a:avLst>
            </a:prstGeom>
            <a:solidFill>
              <a:srgbClr val="deebf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CuadroTexto 26" descr=""/>
            <p:cNvPicPr/>
            <p:nvPr/>
          </p:nvPicPr>
          <p:blipFill>
            <a:blip r:embed="rId1"/>
            <a:stretch/>
          </p:blipFill>
          <p:spPr>
            <a:xfrm>
              <a:off x="1243440" y="2103480"/>
              <a:ext cx="669996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Group 13"/>
          <p:cNvGrpSpPr/>
          <p:nvPr/>
        </p:nvGrpSpPr>
        <p:grpSpPr>
          <a:xfrm>
            <a:off x="5992920" y="3921120"/>
            <a:ext cx="2738160" cy="2604960"/>
            <a:chOff x="5992920" y="3921120"/>
            <a:chExt cx="2738160" cy="2604960"/>
          </a:xfrm>
        </p:grpSpPr>
        <p:sp>
          <p:nvSpPr>
            <p:cNvPr id="245" name="Rectángulo redondeado 23"/>
            <p:cNvSpPr/>
            <p:nvPr/>
          </p:nvSpPr>
          <p:spPr>
            <a:xfrm>
              <a:off x="5992920" y="3921120"/>
              <a:ext cx="2738160" cy="2604960"/>
            </a:xfrm>
            <a:prstGeom prst="roundRect">
              <a:avLst>
                <a:gd name="adj" fmla="val 16667"/>
              </a:avLst>
            </a:prstGeom>
            <a:solidFill>
              <a:srgbClr val="deebf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6" name="Imagen 19" descr=""/>
            <p:cNvPicPr/>
            <p:nvPr/>
          </p:nvPicPr>
          <p:blipFill>
            <a:blip r:embed="rId2"/>
            <a:stretch/>
          </p:blipFill>
          <p:spPr>
            <a:xfrm>
              <a:off x="6522840" y="5340240"/>
              <a:ext cx="64116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Imagen 20" descr=""/>
            <p:cNvPicPr/>
            <p:nvPr/>
          </p:nvPicPr>
          <p:blipFill>
            <a:blip r:embed="rId3"/>
            <a:stretch/>
          </p:blipFill>
          <p:spPr>
            <a:xfrm>
              <a:off x="7508880" y="4248000"/>
              <a:ext cx="97740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Imagen 21" descr=""/>
            <p:cNvPicPr/>
            <p:nvPr/>
          </p:nvPicPr>
          <p:blipFill>
            <a:blip r:embed="rId4"/>
            <a:stretch/>
          </p:blipFill>
          <p:spPr>
            <a:xfrm>
              <a:off x="7564320" y="5397480"/>
              <a:ext cx="634680" cy="8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Imagen 22" descr=""/>
            <p:cNvPicPr/>
            <p:nvPr/>
          </p:nvPicPr>
          <p:blipFill>
            <a:blip r:embed="rId5"/>
            <a:stretch/>
          </p:blipFill>
          <p:spPr>
            <a:xfrm>
              <a:off x="6322680" y="4248000"/>
              <a:ext cx="888840" cy="83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43FD-E6D8-469F-B97A-4EE6935EB8F2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16194"/>
                </a:solidFill>
                <a:latin typeface="Calibri"/>
              </a:rPr>
              <a:t>CLEPA proposal based in registered values</a:t>
            </a:r>
            <a:endParaRPr b="1" lang="en-US" sz="28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67" name="Marcador de contenido 2"/>
          <p:cNvSpPr/>
          <p:nvPr/>
        </p:nvSpPr>
        <p:spPr>
          <a:xfrm>
            <a:off x="1209600" y="5114880"/>
            <a:ext cx="69897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Chin to thorax contact is included in the measured upper neck for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4e79"/>
                </a:solidFill>
                <a:latin typeface="Calibri"/>
              </a:rPr>
              <a:t>Large increment between Q1 and Q1.5 for tensile force limit, not supported by a change in neck resistance during 6 month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Higher limits that in a biomechanics basics develop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078440" y="1419120"/>
            <a:ext cx="4911480" cy="32893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4"/>
          <p:cNvSpPr/>
          <p:nvPr/>
        </p:nvSpPr>
        <p:spPr>
          <a:xfrm>
            <a:off x="5049720" y="4654440"/>
            <a:ext cx="855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 UI"/>
                <a:ea typeface="Segoe UI"/>
              </a:rPr>
              <a:t>n = 7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6280200" y="4654440"/>
            <a:ext cx="855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 UI"/>
                <a:ea typeface="Segoe UI"/>
              </a:rPr>
              <a:t>n = 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7531200" y="4654440"/>
            <a:ext cx="855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 UI"/>
                <a:ea typeface="Segoe UI"/>
              </a:rPr>
              <a:t>n =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720800"/>
          <a:ext cx="4041720" cy="2494080"/>
        </p:xfrm>
        <a:graphic>
          <a:graphicData uri="http://schemas.openxmlformats.org/drawingml/2006/table">
            <a:tbl>
              <a:tblPr/>
              <a:tblGrid>
                <a:gridCol w="942840"/>
                <a:gridCol w="903600"/>
                <a:gridCol w="1022040"/>
                <a:gridCol w="117324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Dum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95</a:t>
                      </a:r>
                      <a:r>
                        <a:rPr b="1" lang="en-GB" sz="1400" spc="-1" strike="noStrike" baseline="30000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th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 %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Mean + (2*S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Limit propo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Q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[700]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Q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9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1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[950]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Q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2,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2,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[2,300]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With upper outliers removed*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Q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1,9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2,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[2,000]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Oval 3"/>
          <p:cNvSpPr/>
          <p:nvPr/>
        </p:nvSpPr>
        <p:spPr>
          <a:xfrm>
            <a:off x="7607160" y="1727280"/>
            <a:ext cx="652680" cy="7556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C3A4-C704-4093-98D0-965F684B9E07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16194"/>
                </a:solidFill>
                <a:latin typeface="Calibri"/>
              </a:rPr>
              <a:t>The effect of chin to thorax contact</a:t>
            </a:r>
            <a:endParaRPr b="1" lang="en-US" sz="32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77" name="Marcador de contenido 2"/>
          <p:cNvSpPr/>
          <p:nvPr/>
        </p:nvSpPr>
        <p:spPr>
          <a:xfrm>
            <a:off x="1209600" y="5114880"/>
            <a:ext cx="69897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Higher Fz tensile force is register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Higher thorax deformation is measur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High variability in the tests that this issue happ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Difficulties to control when it happ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0" descr=""/>
          <p:cNvPicPr/>
          <p:nvPr/>
        </p:nvPicPr>
        <p:blipFill>
          <a:blip r:embed="rId1"/>
          <a:srcRect l="11984" t="36980" r="11841" b="6461"/>
          <a:stretch/>
        </p:blipFill>
        <p:spPr>
          <a:xfrm>
            <a:off x="2325600" y="1171440"/>
            <a:ext cx="4957920" cy="38833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1"/>
          <p:cNvSpPr/>
          <p:nvPr/>
        </p:nvSpPr>
        <p:spPr>
          <a:xfrm>
            <a:off x="7293240" y="1438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100 ms 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CCFA-1036-44C8-8AD2-BC08E023C3FA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16194"/>
                </a:solidFill>
                <a:latin typeface="Calibri"/>
              </a:rPr>
              <a:t>The effect of chin to thorax contact</a:t>
            </a:r>
            <a:endParaRPr b="1" lang="en-US" sz="32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83" name="Marcador de contenido 2"/>
          <p:cNvSpPr/>
          <p:nvPr/>
        </p:nvSpPr>
        <p:spPr>
          <a:xfrm>
            <a:off x="2077920" y="6058080"/>
            <a:ext cx="5189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1f4e79"/>
                </a:solidFill>
                <a:latin typeface="Calibri"/>
              </a:rPr>
              <a:t>Higher Fz tensile force is regist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1235160" y="1265400"/>
            <a:ext cx="6792840" cy="47559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A88D-29F1-44AB-8CD4-09F538C46A80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16194"/>
                </a:solidFill>
                <a:latin typeface="Calibri"/>
              </a:rPr>
              <a:t>The effect of chin to thorax contact</a:t>
            </a:r>
            <a:endParaRPr b="1" lang="en-US" sz="28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89" name="Marcador de contenido 2"/>
          <p:cNvSpPr/>
          <p:nvPr/>
        </p:nvSpPr>
        <p:spPr>
          <a:xfrm>
            <a:off x="2157480" y="6010200"/>
            <a:ext cx="5187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Higher thorax deformation is meas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1251000" y="1233360"/>
            <a:ext cx="6832440" cy="478152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7" descr=""/>
          <p:cNvPicPr/>
          <p:nvPr/>
        </p:nvPicPr>
        <p:blipFill>
          <a:blip r:embed="rId1"/>
          <a:stretch/>
        </p:blipFill>
        <p:spPr>
          <a:xfrm rot="2525400">
            <a:off x="2453760" y="969840"/>
            <a:ext cx="3411720" cy="317844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3D5B-68F7-472D-BAAF-1F44A9D29B2B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64840" y="615960"/>
            <a:ext cx="8023320" cy="5572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16194"/>
                </a:solidFill>
                <a:latin typeface="Calibri"/>
              </a:rPr>
              <a:t>Upper neck force balance with chin to thorax contact</a:t>
            </a:r>
            <a:endParaRPr b="1" lang="en-US" sz="28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581040" y="620640"/>
            <a:ext cx="7983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2"/>
          <a:stretch/>
        </p:blipFill>
        <p:spPr>
          <a:xfrm rot="2525400">
            <a:off x="2305080" y="1001880"/>
            <a:ext cx="3411360" cy="3178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"/>
          <p:cNvPicPr/>
          <p:nvPr/>
        </p:nvPicPr>
        <p:blipFill>
          <a:blip r:embed="rId3"/>
          <a:stretch/>
        </p:blipFill>
        <p:spPr>
          <a:xfrm rot="19765800">
            <a:off x="1662120" y="3103200"/>
            <a:ext cx="2635200" cy="32418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0"/>
          <p:cNvSpPr/>
          <p:nvPr/>
        </p:nvSpPr>
        <p:spPr>
          <a:xfrm rot="20514600">
            <a:off x="4044960" y="2269800"/>
            <a:ext cx="1147680" cy="501480"/>
          </a:xfrm>
          <a:prstGeom prst="rightArrow">
            <a:avLst>
              <a:gd name="adj1" fmla="val 50000"/>
              <a:gd name="adj2" fmla="val 57215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11"/>
          <p:cNvSpPr/>
          <p:nvPr/>
        </p:nvSpPr>
        <p:spPr>
          <a:xfrm rot="20514600">
            <a:off x="2381040" y="3782520"/>
            <a:ext cx="1147680" cy="501840"/>
          </a:xfrm>
          <a:prstGeom prst="rightArrow">
            <a:avLst>
              <a:gd name="adj1" fmla="val 50000"/>
              <a:gd name="adj2" fmla="val 57174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Marcador de contenido 2"/>
          <p:cNvSpPr/>
          <p:nvPr/>
        </p:nvSpPr>
        <p:spPr>
          <a:xfrm>
            <a:off x="25560" y="1268280"/>
            <a:ext cx="3157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Forces acting over h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Marcador de contenido 2"/>
          <p:cNvSpPr/>
          <p:nvPr/>
        </p:nvSpPr>
        <p:spPr>
          <a:xfrm>
            <a:off x="5600880" y="1739880"/>
            <a:ext cx="3495600" cy="409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ertial forces accel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15"/>
          <p:cNvSpPr/>
          <p:nvPr/>
        </p:nvSpPr>
        <p:spPr>
          <a:xfrm rot="9720000">
            <a:off x="2555640" y="2733120"/>
            <a:ext cx="1147680" cy="501480"/>
          </a:xfrm>
          <a:prstGeom prst="rightArrow">
            <a:avLst>
              <a:gd name="adj1" fmla="val 50000"/>
              <a:gd name="adj2" fmla="val 57215"/>
            </a:avLst>
          </a:prstGeom>
          <a:gradFill rotWithShape="0">
            <a:gsLst>
              <a:gs pos="0">
                <a:srgbClr val="0066ff"/>
              </a:gs>
              <a:gs pos="50000">
                <a:srgbClr val="9cbee7"/>
              </a:gs>
              <a:gs pos="100000">
                <a:srgbClr val="0066ff"/>
              </a:gs>
            </a:gsLst>
            <a:lin ang="172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Marcador de contenido 2"/>
          <p:cNvSpPr/>
          <p:nvPr/>
        </p:nvSpPr>
        <p:spPr>
          <a:xfrm>
            <a:off x="131760" y="2004840"/>
            <a:ext cx="2647800" cy="4096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ed7d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C registered fo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756720" y="3012840"/>
            <a:ext cx="1753920" cy="947880"/>
            <a:chOff x="756720" y="3012840"/>
            <a:chExt cx="1753920" cy="947880"/>
          </a:xfrm>
        </p:grpSpPr>
        <p:sp>
          <p:nvSpPr>
            <p:cNvPr id="206" name="AutoShape 16"/>
            <p:cNvSpPr/>
            <p:nvPr/>
          </p:nvSpPr>
          <p:spPr>
            <a:xfrm rot="9720000">
              <a:off x="806040" y="3293640"/>
              <a:ext cx="1147680" cy="501840"/>
            </a:xfrm>
            <a:prstGeom prst="rightArrow">
              <a:avLst>
                <a:gd name="adj1" fmla="val 50000"/>
                <a:gd name="adj2" fmla="val 57174"/>
              </a:avLst>
            </a:prstGeom>
            <a:gradFill rotWithShape="0">
              <a:gsLst>
                <a:gs pos="0">
                  <a:srgbClr val="ed7d31"/>
                </a:gs>
                <a:gs pos="100000">
                  <a:srgbClr val="954f72"/>
                </a:gs>
              </a:gsLst>
              <a:lin ang="172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Group 21"/>
            <p:cNvGrpSpPr/>
            <p:nvPr/>
          </p:nvGrpSpPr>
          <p:grpSpPr>
            <a:xfrm>
              <a:off x="1986120" y="3012840"/>
              <a:ext cx="524520" cy="524520"/>
              <a:chOff x="1986120" y="3012840"/>
              <a:chExt cx="524520" cy="524520"/>
            </a:xfrm>
          </p:grpSpPr>
          <p:sp>
            <p:nvSpPr>
              <p:cNvPr id="208" name="Line 19"/>
              <p:cNvSpPr/>
              <p:nvPr/>
            </p:nvSpPr>
            <p:spPr>
              <a:xfrm>
                <a:off x="2147760" y="3012840"/>
                <a:ext cx="173160" cy="524520"/>
              </a:xfrm>
              <a:prstGeom prst="line">
                <a:avLst/>
              </a:prstGeom>
              <a:ln w="127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Line 20"/>
              <p:cNvSpPr/>
              <p:nvPr/>
            </p:nvSpPr>
            <p:spPr>
              <a:xfrm flipH="1">
                <a:off x="1986120" y="3180600"/>
                <a:ext cx="524520" cy="173160"/>
              </a:xfrm>
              <a:prstGeom prst="line">
                <a:avLst/>
              </a:prstGeom>
              <a:ln w="127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Rectangle 23"/>
          <p:cNvSpPr/>
          <p:nvPr/>
        </p:nvSpPr>
        <p:spPr>
          <a:xfrm>
            <a:off x="6334200" y="2241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e79"/>
                </a:solidFill>
                <a:latin typeface="Calibri"/>
              </a:rPr>
              <a:t>No chin cont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25"/>
          <p:cNvGrpSpPr/>
          <p:nvPr/>
        </p:nvGrpSpPr>
        <p:grpSpPr>
          <a:xfrm>
            <a:off x="5522760" y="3738600"/>
            <a:ext cx="3495960" cy="916920"/>
            <a:chOff x="5522760" y="3738600"/>
            <a:chExt cx="3495960" cy="916920"/>
          </a:xfrm>
        </p:grpSpPr>
        <p:sp>
          <p:nvSpPr>
            <p:cNvPr id="212" name="Marcador de contenido 2"/>
            <p:cNvSpPr/>
            <p:nvPr/>
          </p:nvSpPr>
          <p:spPr>
            <a:xfrm>
              <a:off x="5522760" y="3738600"/>
              <a:ext cx="3495960" cy="4096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ontact forc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Rectangle 24"/>
            <p:cNvSpPr/>
            <p:nvPr/>
          </p:nvSpPr>
          <p:spPr>
            <a:xfrm>
              <a:off x="5764680" y="4195800"/>
              <a:ext cx="293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4e79"/>
                  </a:solidFill>
                  <a:latin typeface="Calibri"/>
                </a:rPr>
                <a:t>Chin to thorax contac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Rectangle 26"/>
          <p:cNvSpPr/>
          <p:nvPr/>
        </p:nvSpPr>
        <p:spPr>
          <a:xfrm>
            <a:off x="4284000" y="5880240"/>
            <a:ext cx="4556160" cy="4230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e79"/>
                </a:solidFill>
                <a:latin typeface="Calibri"/>
              </a:rPr>
              <a:t>Upper neck LC register high</a:t>
            </a: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er fo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5188-7546-4D47-82BC-FD39F2ACBD92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16194"/>
                </a:solidFill>
                <a:latin typeface="Calibri"/>
              </a:rPr>
              <a:t>How compensate chin to thorax contact?</a:t>
            </a:r>
            <a:endParaRPr b="1" lang="en-US" sz="28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1"/>
          <a:stretch/>
        </p:blipFill>
        <p:spPr>
          <a:xfrm rot="2525400">
            <a:off x="1247760" y="1001880"/>
            <a:ext cx="3411720" cy="3178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2"/>
          <a:stretch/>
        </p:blipFill>
        <p:spPr>
          <a:xfrm rot="19765800">
            <a:off x="604800" y="3103200"/>
            <a:ext cx="2635200" cy="32418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0"/>
          <p:cNvSpPr/>
          <p:nvPr/>
        </p:nvSpPr>
        <p:spPr>
          <a:xfrm rot="20514600">
            <a:off x="2987640" y="2269800"/>
            <a:ext cx="1147680" cy="501480"/>
          </a:xfrm>
          <a:prstGeom prst="rightArrow">
            <a:avLst>
              <a:gd name="adj1" fmla="val 50000"/>
              <a:gd name="adj2" fmla="val 57215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11"/>
          <p:cNvSpPr/>
          <p:nvPr/>
        </p:nvSpPr>
        <p:spPr>
          <a:xfrm rot="9720000">
            <a:off x="1498320" y="2733120"/>
            <a:ext cx="1147680" cy="501480"/>
          </a:xfrm>
          <a:prstGeom prst="rightArrow">
            <a:avLst>
              <a:gd name="adj1" fmla="val 50000"/>
              <a:gd name="adj2" fmla="val 57215"/>
            </a:avLst>
          </a:prstGeom>
          <a:gradFill rotWithShape="0">
            <a:gsLst>
              <a:gs pos="0">
                <a:srgbClr val="0066ff"/>
              </a:gs>
              <a:gs pos="50000">
                <a:srgbClr val="9cbee7"/>
              </a:gs>
              <a:gs pos="100000">
                <a:srgbClr val="0066ff"/>
              </a:gs>
            </a:gsLst>
            <a:lin ang="172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Marcador de contenido 2"/>
          <p:cNvSpPr/>
          <p:nvPr/>
        </p:nvSpPr>
        <p:spPr>
          <a:xfrm>
            <a:off x="4519440" y="1327320"/>
            <a:ext cx="4364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To compute only inertial fo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4976640" y="1827360"/>
                <a:ext cx="38610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4"/>
              <p:cNvSpPr txBox="1"/>
              <p:nvPr/>
            </p:nvSpPr>
            <p:spPr>
              <a:xfrm>
                <a:off x="4138560" y="3367080"/>
                <a:ext cx="50054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Neck force for Injury As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5"/>
              <p:cNvSpPr txBox="1"/>
              <p:nvPr/>
            </p:nvSpPr>
            <p:spPr>
              <a:xfrm>
                <a:off x="4118040" y="4041720"/>
                <a:ext cx="49975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Head and LC part mas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6"/>
              <p:cNvSpPr txBox="1"/>
              <p:nvPr/>
            </p:nvSpPr>
            <p:spPr>
              <a:xfrm>
                <a:off x="4559400" y="4784760"/>
                <a:ext cx="4092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Head Z accelera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5"/>
              <p:cNvSpPr txBox="1"/>
              <p:nvPr/>
            </p:nvSpPr>
            <p:spPr>
              <a:xfrm>
                <a:off x="4718160" y="5362560"/>
                <a:ext cx="3600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÷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 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4232160" y="6099120"/>
                <a:ext cx="4232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66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FC5B-2A70-435D-BF2E-802DFED1F542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16194"/>
                </a:solidFill>
                <a:latin typeface="Calibri"/>
              </a:rPr>
              <a:t>Example of the process</a:t>
            </a:r>
            <a:endParaRPr b="1" lang="en-US" sz="28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Marcador de contenido 2"/>
          <p:cNvSpPr/>
          <p:nvPr/>
        </p:nvSpPr>
        <p:spPr>
          <a:xfrm>
            <a:off x="1565280" y="5856120"/>
            <a:ext cx="43639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f4e79"/>
                </a:solidFill>
                <a:latin typeface="Calibri"/>
              </a:rPr>
              <a:t>Fz with chin contact 1,629.8 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f4e79"/>
                </a:solidFill>
                <a:latin typeface="Calibri"/>
              </a:rPr>
              <a:t>Fz without chin contact 1,254.3 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15" descr=""/>
          <p:cNvPicPr/>
          <p:nvPr/>
        </p:nvPicPr>
        <p:blipFill>
          <a:blip r:embed="rId1"/>
          <a:stretch/>
        </p:blipFill>
        <p:spPr>
          <a:xfrm>
            <a:off x="1467000" y="1158840"/>
            <a:ext cx="6806880" cy="476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775F-666C-46ED-8D8E-A6C14FB7DE8D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16194"/>
                </a:solidFill>
                <a:latin typeface="Calibri"/>
              </a:rPr>
              <a:t>Next steps</a:t>
            </a:r>
            <a:endParaRPr b="1" lang="en-US" sz="28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Marcador de contenido 2"/>
          <p:cNvSpPr/>
          <p:nvPr/>
        </p:nvSpPr>
        <p:spPr>
          <a:xfrm>
            <a:off x="1393920" y="1384200"/>
            <a:ext cx="669600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6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To reprocess the 54 cases presented by CLEP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To recalculate again the Q1.5 Fz lim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To include Fz proposed Injury Assessment in R12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This IA process for the upper neck tensile force may be extended to other Q dummies siz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8:50:54Z</dcterms:created>
  <dc:creator>Luis Martínez</dc:creator>
  <dc:description/>
  <dc:language>en-US</dc:language>
  <cp:lastModifiedBy>Edoardo Gianotti</cp:lastModifiedBy>
  <dcterms:modified xsi:type="dcterms:W3CDTF">2020-12-08T10:51:37Z</dcterms:modified>
  <cp:revision>993</cp:revision>
  <dc:subject/>
  <dc:title>Presentación de PowerPoint</dc:title>
</cp:coreProperties>
</file>