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9AF63-791B-4528-B69B-6D4475DA0CB5}" type="datetime">
              <a:rPr b="0" lang="fr-FR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move the slide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A7CE-0918-4A19-AEA0-5B3DA2E1ECCB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9B6E-72F1-4EEC-A45D-61D7DE21D3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F62D-2D60-4618-86AD-ADB5B6DAEA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5AFCDD-BAE3-495C-B8D2-81DE66858F5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7F6-1D17-4578-B543-C5B49389F65C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29E3BF-53A4-4370-9DFA-2377AF6A09A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6CBB-3A73-4B9B-813F-2BC74502C848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48E90C-CC9D-4C1A-B885-4878259C1F5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5FA-E0C7-4899-B3EB-0AED962BC547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DBE2AD-E9C0-4C6B-91C9-6D3AF25797E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B1F-898D-45B2-9972-13BC7B6BDB09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BF2-3F6C-4165-8380-7EC81F12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82D-511E-4430-89D8-E1E4519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719-8BC6-4082-81D1-478B92D7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E97-6592-42F1-8348-068A05D6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E206D-68AE-4672-A4F7-54F5B7DCB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8FD00-5E0C-4082-99C3-3A8FD9D7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60620-37B4-4D5A-AE32-7CCD521E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AF6A-44FB-4968-9193-A2DC8C99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0F57F-039E-4F2C-BA2B-C3D7E573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B17D-2D34-481F-A664-4EA65013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BF441-281A-4322-AF4D-D5803745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371-1AA0-4494-A669-37694F9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13E61-F84A-4574-8641-F1B63A5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DB803-B6D9-4A29-8323-860A12D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E404-F9A0-4553-90CB-83FA979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5DD08-1D49-4F36-82CC-2AB9CF28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295F3-F969-45FE-932B-5622C4E51F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BD8E9-4307-40F5-A009-F14CB4683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AF42D-0CE5-46CC-88F1-D0DB25B9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47862-A3EC-4D7F-A9C6-78EA1239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A7D58-7E3E-40E9-9472-2E2320C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70FA1-2F8D-4280-8761-D179F5DF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317-7A94-40C9-B0A5-F7B863FE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6AFC2-7918-47E7-AA14-C33763B0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0B2E3-DE4F-4269-A06F-0A5E6C9D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64D6C-ED40-41C0-827C-C02E9170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0429C-B702-45FF-8C53-F46603E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4A54E-D415-477C-A605-9E858C6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FD15E-B10C-4ED2-A816-BF88953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842BA-9A4F-4367-9683-B886D0B78A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E8F23-7689-42D7-AEF5-D851B0E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EF425-C144-44C5-8DEA-B8D4986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29087-C4F1-4D96-B125-FBC3EC50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04A-7A58-4BCA-B92A-CD695C7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D4222-FC12-4013-AE0D-7F951F8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499D5-F4E8-4789-A9AF-F21283B0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F2A82-C371-42C5-ACD6-D092145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09E66-6592-46A9-82A1-327721B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9A7EB-A8A4-487E-8370-73036694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E1D8D-354A-4F9B-ABCD-3AB0085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29304-E8C0-479F-990C-57A2C590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B2C99-2968-4B43-9A83-94F4536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764B6-7B89-475E-9D25-92616AB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331-1FEA-4595-AF6B-59C7B47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4FB-FB8F-4F23-8487-B03368F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3A7-6614-4574-892A-FA5F19E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462-0886-452C-9A8F-FF3AD4E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66E-7A59-4944-B8F1-D6874A4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729-8498-4762-AF62-A1062F3F501D}" type="datetime">
              <a: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Times New Roman"/>
              </a:rPr>
              <a:t>SCM 6-7 Octo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AC44-8BD8-4F58-ABDB-1C782FE6750D}" type="slidenum">
              <a: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2195640" y="836640"/>
            <a:ext cx="4751280" cy="36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F868-0AB9-4FC6-BD02-5E6FA9C91E9B}" type="datetime">
              <a: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96E0-41DC-4F4D-89A5-3B533A81E665}" type="slidenum">
              <a: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0325-FBBE-4714-87EB-5EC172A65573}" type="datetime">
              <a: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3134-E1B3-4E99-BD47-10534EE70C32}" type="slidenum">
              <a: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6" descr=""/>
          <p:cNvPicPr/>
          <p:nvPr/>
        </p:nvPicPr>
        <p:blipFill>
          <a:blip r:embed="rId2"/>
          <a:stretch/>
        </p:blipFill>
        <p:spPr>
          <a:xfrm>
            <a:off x="73080" y="6126120"/>
            <a:ext cx="1736640" cy="768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DEF-9750-4BE9-BDAE-3C2C81361AEA}" type="datetime">
              <a:rPr b="0" lang="fr-FR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Times New Roman"/>
              </a:rPr>
              <a:t>SCM 6-7 Octo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805-BB66-45B6-B041-F55A8D3A51F7}" type="slidenum">
              <a:rPr b="0" lang="fr-CH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1133"/>
                </a:solidFill>
                <a:latin typeface="Segoe UI"/>
              </a:rPr>
              <a:t>Click to edit the title text format</a:t>
            </a:r>
            <a:endParaRPr b="0" lang="en-US" sz="36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ubtitle 2"/>
          <p:cNvSpPr/>
          <p:nvPr/>
        </p:nvSpPr>
        <p:spPr>
          <a:xfrm>
            <a:off x="406440" y="391788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548080" y="2438280"/>
            <a:ext cx="4047840" cy="1935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819000" y="4724280"/>
            <a:ext cx="7506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0d0d"/>
                </a:solidFill>
                <a:latin typeface="Univers"/>
                <a:ea typeface="MS PGothic"/>
              </a:rPr>
              <a:t>Proposal to introduce bodied L7 vehicles in R.E.3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d0d0d"/>
                </a:solidFill>
                <a:latin typeface="Univers"/>
                <a:ea typeface="MS PGothic"/>
              </a:rPr>
              <a:t>First step in three-step approach for Harmonisation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d0d0d"/>
                </a:solidFill>
                <a:latin typeface="Univers"/>
                <a:ea typeface="MS PGothic"/>
              </a:rPr>
              <a:t>(passive) safety requirements f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d0d0d"/>
                </a:solidFill>
                <a:latin typeface="Univers"/>
                <a:ea typeface="MS PGothic"/>
              </a:rPr>
              <a:t>of bodied L7 vehicl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6261120" y="11592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  <a:ea typeface="MS PGothic"/>
              </a:rPr>
              <a:t>Informal document GRSG-118-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  <a:ea typeface="MS PGothic"/>
              </a:rPr>
              <a:t>(15-17 July 2020, agenda item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897280" y="1628640"/>
            <a:ext cx="3349440" cy="1600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0" y="396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2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"/>
                <a:ea typeface="Times New Roman"/>
              </a:rPr>
              <a:t>Thank you for your atten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69800" y="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IMMA Proposal to amend R.E.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469800" y="1214280"/>
            <a:ext cx="78012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sert new paragraphs 2.9.3. and 2.9.3.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o re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"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.3.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adricycles (L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.9.3.1.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died Quadri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ehicle of category L7 with an enclosed driving and passenger compartment accessible via maximum three sides, whose maximum speed is not more than 90 km/h and whose dimensions do not exceed the following valu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2880" indent="-13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: 3,700 m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2880" indent="-13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th: 1,500 m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2880" indent="-13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: 2,500 mm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469800" y="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69800" y="1214280"/>
            <a:ext cx="78012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There is a wide variation of different styles of L7 vehic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Some are very ‘car-like’  in that they are equipped with a body and some car features. Typically, such vehicles are relatively fuel efficient, some electric power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The car-like nature of heavy passenger quadricycles (L7) may lead to expectation that they provide similar standard safety performance as a small passenger car hence the attention to improve the vehicle passive safet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Consolidated Resolution on the Construction of Vehicles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(R.E.3) </a:t>
            </a: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defines L7 a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n India, the Q-category was created recently, and safety requirements were publish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n Korea, Sa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fety Regulations on Micro Mobility incl. L7-category were recently </a:t>
            </a: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Quadricycles are not covered under S.R.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1"/>
          <a:stretch/>
        </p:blipFill>
        <p:spPr>
          <a:xfrm>
            <a:off x="1604880" y="3924360"/>
            <a:ext cx="552924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69800" y="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Example of car-like L7 veh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9800" y="1214280"/>
            <a:ext cx="78012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Image 3" descr=""/>
          <p:cNvPicPr/>
          <p:nvPr/>
        </p:nvPicPr>
        <p:blipFill>
          <a:blip r:embed="rId1"/>
          <a:stretch/>
        </p:blipFill>
        <p:spPr>
          <a:xfrm>
            <a:off x="1933560" y="1663560"/>
            <a:ext cx="527688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69800" y="26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L7-category vehicles -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69800" y="1609560"/>
            <a:ext cx="3492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Univers"/>
                <a:ea typeface="MS PGothic"/>
              </a:rPr>
              <a:t>EU Regulation 168/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Heavy On road Qu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ATVs (L7-B1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Side-by-Side (L7-B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commercial (L7e-CU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passenger (L7e-CP) quadricyc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L7-A hardly exist today on the mark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ar: 7 Points 3"/>
          <p:cNvSpPr/>
          <p:nvPr/>
        </p:nvSpPr>
        <p:spPr>
          <a:xfrm>
            <a:off x="9618840" y="1093680"/>
            <a:ext cx="4572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45942"/>
                </a:moveTo>
                <a:lnTo>
                  <a:pt x="7089" y="31793"/>
                </a:lnTo>
                <a:lnTo>
                  <a:pt x="4559" y="14149"/>
                </a:lnTo>
                <a:lnTo>
                  <a:pt x="15929" y="14149"/>
                </a:lnTo>
                <a:lnTo>
                  <a:pt x="23019" y="0"/>
                </a:lnTo>
                <a:lnTo>
                  <a:pt x="30108" y="14149"/>
                </a:lnTo>
                <a:lnTo>
                  <a:pt x="41478" y="14149"/>
                </a:lnTo>
                <a:lnTo>
                  <a:pt x="38948" y="31793"/>
                </a:lnTo>
                <a:lnTo>
                  <a:pt x="46037" y="45942"/>
                </a:lnTo>
                <a:lnTo>
                  <a:pt x="35793" y="53794"/>
                </a:lnTo>
                <a:lnTo>
                  <a:pt x="33263" y="71437"/>
                </a:lnTo>
                <a:lnTo>
                  <a:pt x="23019" y="63585"/>
                </a:lnTo>
                <a:lnTo>
                  <a:pt x="12774" y="71437"/>
                </a:lnTo>
                <a:lnTo>
                  <a:pt x="10244" y="53794"/>
                </a:lnTo>
                <a:lnTo>
                  <a:pt x="0" y="45942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573360" y="1609560"/>
            <a:ext cx="5413320" cy="44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720720" y="1274760"/>
            <a:ext cx="7677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Univers"/>
              </a:rPr>
              <a:t>Introduction Q-category ((</a:t>
            </a:r>
            <a:r>
              <a:rPr b="1" lang="fr-CH" sz="1800" spc="-1" strike="noStrike">
                <a:solidFill>
                  <a:srgbClr val="000000"/>
                </a:solidFill>
                <a:latin typeface="Univers"/>
              </a:rPr>
              <a:t>G.S.R. 99(E)) in </a:t>
            </a:r>
            <a:r>
              <a:rPr b="1" lang="en-GB" sz="1800" spc="-1" strike="noStrike">
                <a:solidFill>
                  <a:srgbClr val="000000"/>
                </a:solidFill>
                <a:latin typeface="Univers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Fully enclosed body structure with do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op edge of the doors having at least 200 mm from adjacent seat base top su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steering control through steering whe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Specific requirements for and goods veh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maximum weight 450 kg / 550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Maximum seating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Maximum load 550 kg for goods veh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Maximum power 15 k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Maximum design speed 70 km/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469800" y="26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L7-category vehicles -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614520" y="1200240"/>
            <a:ext cx="304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Univers"/>
              </a:rPr>
              <a:t>Rules on Motor vehicle management 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vehicle shall be designed and manufactured not to exceed 80km/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algun Gothic"/>
              </a:rPr>
              <a:t>Micro-mobilit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Malgun Gothic"/>
              </a:rPr>
              <a:t>L</a:t>
            </a:r>
            <a:r>
              <a:rPr b="0" lang="fr-CH" sz="1800" spc="-1" strike="noStrike">
                <a:solidFill>
                  <a:srgbClr val="000000"/>
                </a:solidFill>
                <a:latin typeface="Malgun Gothic"/>
              </a:rPr>
              <a:t>ength ≤ 3.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Malgun Gothic"/>
              </a:rPr>
              <a:t>Width ≤ 1.5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Malgun Gothic"/>
              </a:rPr>
              <a:t>Height ≤ 2.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299880" y="26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a1133"/>
                </a:solidFill>
                <a:latin typeface="Segoe UI"/>
                <a:ea typeface="MS PGothic"/>
              </a:rPr>
              <a:t>L7-category vehicles -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3801960" y="1657440"/>
            <a:ext cx="5200920" cy="3870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4062240" y="5734080"/>
            <a:ext cx="53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Univers"/>
                <a:ea typeface="MS PGothic"/>
              </a:rPr>
              <a:t>GRSP-65-23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  <a:ea typeface="MS PGothic"/>
              </a:rPr>
              <a:t>(65th GRSP, 13-17 May 2019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aa1133"/>
                </a:solidFill>
                <a:latin typeface="Segoe UI"/>
                <a:ea typeface="Times New Roman"/>
              </a:rPr>
              <a:t>IMMA Proposal to amend R.E.3</a:t>
            </a:r>
            <a:br>
              <a:rPr sz="2800"/>
            </a:br>
            <a:r>
              <a:rPr b="1" lang="fr-CH" sz="2000" spc="-1" strike="noStrike">
                <a:solidFill>
                  <a:srgbClr val="aa1133"/>
                </a:solidFill>
                <a:latin typeface="Segoe UI"/>
                <a:ea typeface="Times New Roman"/>
              </a:rPr>
              <a:t>118/GRSG, July 2020</a:t>
            </a:r>
            <a:endParaRPr b="0" lang="en-US" sz="20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"/>
              </a:rPr>
              <a:t>Introduce </a:t>
            </a:r>
            <a:r>
              <a:rPr b="1" lang="en-GB" sz="2000" spc="-1" strike="noStrike">
                <a:solidFill>
                  <a:srgbClr val="000000"/>
                </a:solidFill>
                <a:latin typeface="Univers"/>
              </a:rPr>
              <a:t>bodied L7 vehi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enclosed driving and passenger compartment accessible via maximum three s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"/>
              </a:rPr>
              <a:t>Introduce maximum desig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R.E.3 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90 km/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Korea: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80 km/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EU: 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90 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ndia: 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70 km/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Univers"/>
              </a:rPr>
              <a:t>Introduce maximum </a:t>
            </a:r>
            <a:r>
              <a:rPr b="0" lang="fr-CH" sz="2000" spc="-1" strike="noStrike">
                <a:solidFill>
                  <a:srgbClr val="000000"/>
                </a:solidFill>
                <a:latin typeface="Univers"/>
              </a:rPr>
              <a:t>dimen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R.E.3 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L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3.7 m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W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1.5 m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H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1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2.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Korea: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L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3.6 m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W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1.5 m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H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2.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EU: 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L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3.7 m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W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1.5 m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H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2.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ndia: 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L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3.0 m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W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1.5 m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H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 ≤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  <a:ea typeface="MS PGothic"/>
              </a:rPr>
              <a:t> 2.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aa1133"/>
                </a:solidFill>
                <a:latin typeface="Segoe UI"/>
                <a:ea typeface="Times New Roman"/>
              </a:rPr>
              <a:t>Next steps </a:t>
            </a:r>
            <a:endParaRPr b="0" lang="en-US" sz="2800" spc="-1" strike="noStrike">
              <a:solidFill>
                <a:srgbClr val="aa1133"/>
              </a:solidFill>
              <a:latin typeface="Segoe U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42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Univers"/>
              </a:rPr>
              <a:t>First step,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introduce and</a:t>
            </a:r>
            <a:r>
              <a:rPr b="1" lang="fr-CH" sz="1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harmonise </a:t>
            </a: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dimension criteria in R.E.3, (July 2020 GRSG-sessi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Invitation for Contracting Parties comments on informal docu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Univers"/>
                <a:ea typeface="MS PGothic"/>
              </a:rPr>
              <a:t>aim to submit formal document for October se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Second step, </a:t>
            </a:r>
            <a:r>
              <a:rPr b="0" lang="en-GB" sz="1600" spc="-1" strike="noStrike">
                <a:solidFill>
                  <a:srgbClr val="000000"/>
                </a:solidFill>
                <a:latin typeface="Univers"/>
              </a:rPr>
              <a:t>based on analysis of requirements in key markets (Europe, India,  Korea, …), develop proposals for three new UN Regulations addressing bodied passenger L7-category vehi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Uniform provisions concerning the approval of vehicles with regard to do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Uniform provisions concerning the approval of vehicles with regard to interior fit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nivers"/>
                <a:ea typeface="MS PGothic"/>
              </a:rPr>
              <a:t>Uniform provisions concerning the approval of vehicles with regard to seats and seat belt anchor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Univers"/>
              </a:rPr>
              <a:t>Third step, proposal to amend UN Regulation No. R137 to include ad hoc requirements including an adapted test (e.g. reduced speed) for bodied L7 vehic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14:41:26Z</dcterms:created>
  <dc:creator>Admin</dc:creator>
  <dc:description/>
  <dc:language>en-US</dc:language>
  <cp:lastModifiedBy>Edoardo Gianotti</cp:lastModifiedBy>
  <cp:lastPrinted>2018-05-14T14:52:03Z</cp:lastPrinted>
  <dcterms:modified xsi:type="dcterms:W3CDTF">2020-07-10T09:18:09Z</dcterms:modified>
  <cp:revision>892</cp:revision>
  <dc:subject/>
  <dc:title>1998 Agreement</dc:title>
</cp:coreProperties>
</file>