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5E8-CC06-474A-B8F0-26CC01E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335-C1C2-42ED-9206-56871E81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572-0AB5-4BD1-A501-C80A0D60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0A8-6BCC-4755-A0C5-8F9CCE65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CE21-1E30-48B7-BC21-758974A1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DDFB-DBA1-42B4-8F2B-CE3C797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C678-C58D-4636-AC1B-7844808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EF65-E1D7-4328-9145-6664C48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8245-0A46-40E7-AD8A-82D1FF5E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A178-F9B5-4E1A-80F8-7D26C19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2104-C456-4B5C-9FB3-5E135C6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C81-6FE4-4B80-A8C4-7F17148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503A-F20A-47DC-8A94-8B2AC1F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E06-19A2-4326-B098-20FE7BF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9F14-940E-4142-90E1-F5400D98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2E0-2535-47AE-AD17-98054206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635-1C80-4412-BE20-388EDACE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782-C748-4163-A242-0AEDCA2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B70-52CC-425C-A4DF-43FAD41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91E-F502-4263-9D00-F221B5A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6F9-57C0-44E4-833E-41698B4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70A-5459-4E36-BA15-D53EE09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2E6-EA9E-4CBC-B765-0FD204D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79C-8933-4717-B1FD-E2100F6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800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800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2222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2222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14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922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809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B553-FDA9-4E13-BA57-A43BFC2FB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D549-59AB-43B2-89F5-4EE62E5BED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5040" y="2228760"/>
            <a:ext cx="83073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pan's </a:t>
            </a:r>
            <a:r>
              <a:rPr b="0" lang="en-US" sz="3600" spc="-1" strike="noStrike">
                <a:solidFill>
                  <a:srgbClr val="333399"/>
                </a:solidFill>
                <a:latin typeface="ＭＳ Ｐゴシック"/>
              </a:rPr>
              <a:t>Feasibility Study of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CE/TRANS/WP.29/GRSP/2005/5/Rev.1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NECE-Regulation No.16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153040" y="114480"/>
            <a:ext cx="3794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SP-39-9/Rev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RSP, 15th- 19th Ma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item B.1.8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25360" y="944640"/>
            <a:ext cx="78026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Requirements for Acceleration Sleds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[R.16 GRSP/2005/5/Rev.1]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3000" y="2687400"/>
            <a:ext cx="777240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: Acceleration curve within the corri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: Delta V = 51 +2/0 (km/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: Initial slope of accele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5ms-10G &amp; 10ms-20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: Acceleration dist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50 +1/0km/h = 4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(c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952880"/>
            <a:ext cx="513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480" y="5029200"/>
            <a:ext cx="513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5760" y="5397480"/>
            <a:ext cx="513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2800" y="5473800"/>
            <a:ext cx="513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.16 Test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0600" y="1684440"/>
          <a:ext cx="8431200" cy="47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84440"/>
                    <a:ext cx="84312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.16 Test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321080" y="4668840"/>
            <a:ext cx="704880" cy="527040"/>
          </a:xfrm>
          <a:prstGeom prst="downArrow">
            <a:avLst>
              <a:gd name="adj1" fmla="val 45944"/>
              <a:gd name="adj2" fmla="val 55421"/>
            </a:avLst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080" y="5261040"/>
            <a:ext cx="87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acceleration device (HYGE) met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quirements by improving the metering-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0099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91960" y="2281320"/>
          <a:ext cx="8570880" cy="210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81320"/>
                    <a:ext cx="857088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7840" y="2019240"/>
            <a:ext cx="8775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verification test result shows that the requirements specified in GRSP/2005/5/Rev.1 can be satisfied unde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calibration cond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without a dummy/safety belt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o specify this requirement for on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libration condition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 we would like to propose to amend GRSP/2005/Rev.1 as same as “Deceleration test devic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02:58:27Z</dcterms:created>
  <dc:creator> </dc:creator>
  <dc:description/>
  <dc:language>en-US</dc:language>
  <cp:lastModifiedBy>Hubert</cp:lastModifiedBy>
  <dcterms:modified xsi:type="dcterms:W3CDTF">2006-05-17T11:11:50Z</dcterms:modified>
  <cp:revision>89</cp:revision>
  <dc:subject/>
  <dc:title>Questions and demands  for ECE-R44</dc:title>
</cp:coreProperties>
</file>