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4360" y="458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suhiro Ko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person of Flex-TEG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08000" y="2060640"/>
            <a:ext cx="89298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Report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exible Pedestrian Legform Impactor Technical Evaluatio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lex-TE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791320" y="95400"/>
            <a:ext cx="331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SP-39-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9th GRSP, 15-19 May 2006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item A.1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81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mitted by the expert from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08000" y="306864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7200" y="407052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nece.org/trans/main/wp29/wp29wgs/wp29grsp/pedestrian_FlexPLI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47640" y="1701720"/>
            <a:ext cx="60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lex-TEG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920" y="442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Delegations (appointed members/pa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6120" y="252108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Governmental Parties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/EEVC, Korean government, J-M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120" y="340056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Industrial Parties (related to car product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, 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6120" y="427824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Independent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AC, T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6120" y="515772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Dummy Product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SS, J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6120" y="76500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Chairperson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onosu (J-MILT/J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1643040"/>
            <a:ext cx="79916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Secretariat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1440" indent="-144144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Been (FTSS-Eur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27360" y="609444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interested partie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0" y="-10008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04640"/>
            <a:ext cx="903600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1: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usability, repeatability, reproducibility, and du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lex-PLI as a tool for GTR/PS legform test.  And shows the comparison results of all the above issues between the TRL-LFI (used in the current PS/GTR draft) and Flex-P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920" y="3645000"/>
            <a:ext cx="8783640" cy="1513440"/>
            <a:chOff x="34920" y="3645000"/>
            <a:chExt cx="8783640" cy="1513440"/>
          </a:xfrm>
        </p:grpSpPr>
        <p:sp>
          <p:nvSpPr>
            <p:cNvPr id="53" name=""/>
            <p:cNvSpPr/>
            <p:nvPr/>
          </p:nvSpPr>
          <p:spPr>
            <a:xfrm>
              <a:off x="34920" y="3645000"/>
              <a:ext cx="4321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87480" indent="-98748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sk 3: </a:t>
              </a:r>
              <a:r>
                <a:rPr b="1" lang="en-US" sz="2400" spc="-1" strike="noStrike" u="sng">
                  <a:solidFill>
                    <a:srgbClr val="3333ff"/>
                  </a:solidFill>
                  <a:uFillTx/>
                  <a:latin typeface="Arial"/>
                </a:rPr>
                <a:t>Technical Fea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120" y="4149720"/>
              <a:ext cx="867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 develop a car which complies Flex-PLI tests with the proposed threshold valu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ion of car design and car design proc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000" y="2452680"/>
            <a:ext cx="8775000" cy="1194480"/>
            <a:chOff x="45000" y="2452680"/>
            <a:chExt cx="8775000" cy="1194480"/>
          </a:xfrm>
        </p:grpSpPr>
        <p:sp>
          <p:nvSpPr>
            <p:cNvPr id="56" name=""/>
            <p:cNvSpPr/>
            <p:nvPr/>
          </p:nvSpPr>
          <p:spPr>
            <a:xfrm>
              <a:off x="45000" y="2452680"/>
              <a:ext cx="59932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sk 2: </a:t>
              </a:r>
              <a:r>
                <a:rPr b="1" lang="en-US" sz="2400" spc="-1" strike="noStrike" u="sng">
                  <a:solidFill>
                    <a:srgbClr val="3333ff"/>
                  </a:solidFill>
                  <a:uFillTx/>
                  <a:latin typeface="Arial"/>
                </a:rPr>
                <a:t>Review for Injury Risk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120" y="2943360"/>
              <a:ext cx="867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view for injury risk functions/curves related to the Flex-PLI, and propose threshold valu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920" y="5189400"/>
            <a:ext cx="9074160" cy="1626120"/>
            <a:chOff x="34920" y="5189400"/>
            <a:chExt cx="9074160" cy="1626120"/>
          </a:xfrm>
        </p:grpSpPr>
        <p:sp>
          <p:nvSpPr>
            <p:cNvPr id="59" name=""/>
            <p:cNvSpPr/>
            <p:nvPr/>
          </p:nvSpPr>
          <p:spPr>
            <a:xfrm>
              <a:off x="34920" y="5189400"/>
              <a:ext cx="901224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87480" indent="-98748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sk 4: </a:t>
              </a:r>
              <a:r>
                <a:rPr b="1" lang="en-US" sz="2400" spc="-1" strike="noStrike" u="sng">
                  <a:solidFill>
                    <a:srgbClr val="3333ff"/>
                  </a:solidFill>
                  <a:uFillTx/>
                  <a:latin typeface="Arial"/>
                </a:rPr>
                <a:t>Evaluation of Protection Leve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vided by the Flex-PLI and the proposed threshold val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2920" y="6111720"/>
              <a:ext cx="896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e protection level provided by the Flex-PLI and the proposed threshold values, and compare with that of the current PS/GTR draf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0" y="-2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0" y="585720"/>
            <a:ext cx="4859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planned by end of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280" y="117144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schedule is based on an informal document No.GRSP-36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920" y="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565200"/>
            <a:ext cx="8929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lex-TEG MT (OICA office, Paris, 5-6 Sep.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239840"/>
            <a:ext cx="88995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 Flex-TEG MT (BASt, Bergisch Gladbach, 22 Nov.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1916280"/>
            <a:ext cx="8928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 Flex-TEG MT (BASt, Bergisch Gladbach, 24 April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4920" y="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1  Activities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lex-TEG MT, 5-6 Sep. 200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200" y="565200"/>
            <a:ext cx="89298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of TOR for thi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for the Flex-PLI type G (Flex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ults for the Flex-G (component tests and car t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of future action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dditional test results are required for detail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20" y="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2  Activities (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lex-TEG MT, 22 Nov.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360" y="596880"/>
            <a:ext cx="8891640" cy="46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ults for the Flex-G (repeatability tests, reproducibility tests, and car t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 for the Flex-G testing (at BASt/B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of future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Usability, Repeatability, Reproducibility of Flex-G is seemed as good in component tests and assembly calibration tests. (those evaluations under car tests are still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 Flex-G, however, tends to reach at its knee bending limit (around 20 deg.) in car tests, impact velocities therefore had to be reduced. (In general, Flex-G test results were much more severe than that of Flex-PLI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s a results, enlargement of its knee bending limit is required, especially to conduct high speed impact tests to c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920" y="-3024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3  Activities (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lex-TEG MT, 24 April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552600"/>
            <a:ext cx="8962920" cy="552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the alpha version of Flex-GT (Flex-G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everal modifications are applied onto the Flex-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) Enlargement of knee bending limit (around 30% incre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) Improvement of its injury assessment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s on injury assessment ability of Flex-G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) Comparison of Flex-GT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 Flex-G, and a Human F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) Reconstruction Tests on the PMHS Test Using Flex-GT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) Reconstruction Tests on Car-Pedestrian Traffic Accidents Using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lex-GT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is group members are evaluating above results in detail now.        (by end of Ma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of future action pl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inalize Flex-GT specifications (by mid of June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evelop of Flex-GT 1.0 (by end of Jul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nduct initial evaluation tests of Flex-GT 1.0 (by end of Aug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Will have 4</a:t>
            </a:r>
            <a:r>
              <a:rPr b="1" lang="en-US" sz="20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Flex-TEG MT in Sep.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3080" y="61657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will re-discuss more detail at end of 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8120" y="620640"/>
            <a:ext cx="8807760" cy="5523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60" y="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Current Overall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76800" y="1082520"/>
            <a:ext cx="0" cy="5067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6200" y="6381720"/>
            <a:ext cx="19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re-discuss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 of 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7020720" y="4437720"/>
            <a:ext cx="216000" cy="36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4:07:26Z</dcterms:created>
  <dc:creator> </dc:creator>
  <dc:description/>
  <dc:language>en-US</dc:language>
  <cp:lastModifiedBy>Hubert</cp:lastModifiedBy>
  <dcterms:modified xsi:type="dcterms:W3CDTF">2006-05-11T13:15:13Z</dcterms:modified>
  <cp:revision>1475</cp:revision>
  <dc:subject/>
  <dc:title>スライド 1</dc:title>
</cp:coreProperties>
</file>