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Joint UNECE/FAO Working Party on Forest Economics and Statisti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22-24 March 2005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50920" y="6381720"/>
          <a:ext cx="428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381720"/>
                    <a:ext cx="428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71520" cy="360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cdc.noaa.gov/" TargetMode="External"/><Relationship Id="rId2" Type="http://schemas.openxmlformats.org/officeDocument/2006/relationships/hyperlink" Target="http://www.ncdc.noaa.gov/" TargetMode="External"/><Relationship Id="rId3" Type="http://schemas.openxmlformats.org/officeDocument/2006/relationships/hyperlink" Target="http://www.ncdc.noaa.gov/" TargetMode="External"/><Relationship Id="rId4" Type="http://schemas.openxmlformats.org/officeDocument/2006/relationships/hyperlink" Target="http://www.ncdc.noaa.gov/" TargetMode="External"/><Relationship Id="rId5" Type="http://schemas.openxmlformats.org/officeDocument/2006/relationships/hyperlink" Target="http://www.ncdc.noaa.gov/" TargetMode="External"/><Relationship Id="rId6" Type="http://schemas.openxmlformats.org/officeDocument/2006/relationships/hyperlink" Target="http://www.ncdc.noaa.gov/" TargetMode="External"/><Relationship Id="rId7" Type="http://schemas.openxmlformats.org/officeDocument/2006/relationships/hyperlink" Target="http://www.ncdc.noaa.gov/" TargetMode="External"/><Relationship Id="rId8" Type="http://schemas.openxmlformats.org/officeDocument/2006/relationships/hyperlink" Target="http://www.eia.doe.gov/" TargetMode="External"/><Relationship Id="rId9" Type="http://schemas.openxmlformats.org/officeDocument/2006/relationships/hyperlink" Target="http://www.eia.doe.gov/" TargetMode="External"/><Relationship Id="rId10" Type="http://schemas.openxmlformats.org/officeDocument/2006/relationships/hyperlink" Target="http://www.eia.doe.gov/" TargetMode="External"/><Relationship Id="rId11" Type="http://schemas.openxmlformats.org/officeDocument/2006/relationships/hyperlink" Target="http://www.eia.doe.gov/" TargetMode="External"/><Relationship Id="rId12" Type="http://schemas.openxmlformats.org/officeDocument/2006/relationships/hyperlink" Target="http://www.eia.doe.gov/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Tahoma"/>
              </a:rPr>
              <a:t>Woodfuel outlook study and revision to FAOSTAT woodfuel estimat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33cc"/>
                </a:solidFill>
                <a:latin typeface="Tahoma"/>
              </a:rPr>
              <a:t>Adrian Whitema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33cc"/>
                </a:solidFill>
                <a:latin typeface="Tahoma"/>
              </a:rPr>
              <a:t>FAO, Rom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Revised historical estimates and projec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trengths and weakness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9810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Models had good statist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- significant explanatory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- correct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Better than previous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Very weak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siness as usual”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cus on household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Challenges for the futur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9810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Numerous different statistics of dubious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Complexity of the woodfuel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High cost of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Unknown impact of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Very weak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siness as usual”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cus on household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trategy for the futur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98100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ed to stratify the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fferent approaches in different sub-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conometric analysis can overcome some data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 of existing “real”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tional or regional appro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ed for polic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e countries really interested and committed to collect the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981000"/>
            <a:ext cx="77724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Background – the need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ssible futur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Background – the need for this wor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981000"/>
            <a:ext cx="78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Woodfuel is believed to be the most significant use of round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International policy interest –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National policy interest – energy policies, deforestation and poverty allev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urrently, most of the data is estimated and, until recently, the FAO estimates were aw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rends in countries supplying woodfuel dat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23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rends in countries supplying charcoal dat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27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981000"/>
            <a:ext cx="81356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- FAOST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real data” c.1000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- Literature search c. 600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Econometr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vision of all FAOSTAT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jections of future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tatistics used in the analysis 1970-2000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8000" y="831960"/>
            <a:ext cx="8928000" cy="506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Modelling hierarch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856720" cy="568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Variables in the model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692280"/>
          <a:ext cx="8713800" cy="5486400"/>
        </p:xfrm>
        <a:graphic>
          <a:graphicData uri="http://schemas.openxmlformats.org/drawingml/2006/table">
            <a:tbl>
              <a:tblPr/>
              <a:tblGrid>
                <a:gridCol w="1144800"/>
                <a:gridCol w="2527200"/>
                <a:gridCol w="1297080"/>
                <a:gridCol w="37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r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D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er capita annual fuelwood consumption (hh and non-hh prefixes indicate household/non-household consump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ational annual fuelwood consumption (prefixes as ab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nnual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ºC +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AA Global historical climatatology network.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www.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ncdc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.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noaa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.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gov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capita GDP Purchasing Power Pa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 US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rted from income where given with fuelwood data; otherwise from STARS database, FAO Forest Products Yearbook, CIA factbook, IMF, OECD, and oth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st area per unit land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 1990 Global synthesis, State of the Worlds Forests 1997 or FRA 2000 for UN-ECE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area per cap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cap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ld Population: 1998 Revision, SOFO 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s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ld Population: 1998 Revision, SOFO 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 of urban to rural pop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ld Urbanisation Prospects 1996  (Figures for 1970-2030), or from reference source for local and regional fuelwood surv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 US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tional Energy Agency spot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 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rels cap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r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 Energy Information Administration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ttp://www.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eia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.doe.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gov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5:25:54Z</dcterms:created>
  <dc:creator>Timber Section</dc:creator>
  <dc:description/>
  <dc:language>en-US</dc:language>
  <cp:lastModifiedBy>McCusker</cp:lastModifiedBy>
  <dcterms:modified xsi:type="dcterms:W3CDTF">2005-03-24T14:14:01Z</dcterms:modified>
  <cp:revision>184</cp:revision>
  <dc:subject/>
  <dc:title>WPFES March 2005</dc:title>
</cp:coreProperties>
</file>