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46888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92B-EDFB-4423-A2F9-68DF5133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B56-34BB-4643-B7C7-3015F2C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DE7-8ABD-4884-862E-9BDCDB5C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2FD-824F-49DC-9722-C942DF92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469-9472-4AFE-A0C2-C7C9DD3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461-F615-4418-B2E8-7FCAE0B3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CD2-AAA6-47C2-B8E3-D2C23FB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A33-59C0-498E-918D-2E40557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67E-BA2F-45F3-AA16-A5F4D2D7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8CF-6658-4C00-A334-5850055E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83A-E93F-4B09-802A-96EA457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A64-49EC-4836-9014-F8EACEDA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34C-47EB-4695-96A2-19372DE56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entr-forest-based-industr@cec.eu.in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9840" cy="537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6588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27th Joint FAO/UNECE Working Party on Forest Economics &amp; Statistics,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24th </a:t>
            </a:r>
            <a:r>
              <a:rPr b="1" lang="fr-BE" sz="2800" spc="-1" strike="noStrike">
                <a:solidFill>
                  <a:srgbClr val="333399"/>
                </a:solidFill>
                <a:latin typeface="Arial"/>
              </a:rPr>
              <a:t>March 2005</a:t>
            </a:r>
            <a:br>
              <a:rPr sz="2800"/>
            </a:br>
            <a:r>
              <a:rPr b="0" lang="fr-BE" sz="2800" spc="-1" strike="noStrike">
                <a:solidFill>
                  <a:srgbClr val="333399"/>
                </a:solidFill>
                <a:latin typeface="Arial"/>
              </a:rPr>
              <a:t>Item 6: special topic – wood energy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Arial"/>
              </a:rPr>
              <a:t>Some implications for the wood-processing sector of increased demand for wood as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11280" y="5013000"/>
            <a:ext cx="3600360" cy="1655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Jeremy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G Enterprise &amp;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irectorate I, Uni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orest-based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8200" y="60480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4000" y="4365720"/>
            <a:ext cx="4465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8760" y="76212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1484280"/>
            <a:ext cx="2556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2. How much wood for RES and how can that best be manag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- Is use of wood as RES causing problems for the wood-using industri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- How much more wood should come from forests? How can it be mobili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-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How can more wood residues be col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How can wood be used most efficient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More diverse markets for sawmillers &amp; forest owners, but how to motiv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Wood-processing industries can make, use and sell heat and po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Disseminate best prac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Wood’s « green credentials » can be harnessed (energy-efficient buil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Does use of wood as RES cause problems for wood-using indust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BP: adequate supplies of biomass; no undue distortion of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ES WG report indicates at least regional distortions and « biomass, mostly wood, is main type of RES for which there is significant competition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RES WG 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5: better qualitative &amp; quantitative (incl. price) information on wood (incl. residues) availability to mkt.s, incl. consumption &amp;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9: examine elasticities of price on demand for wood and its residues;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5: studies, incl. sensitivity analysis, on use of economic instru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: examine causal factors of difficulties in wood supply to indust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How can more wood residues be collected?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 RES WG 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12: promote increased collection of residues, e.g. through contra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18: re-examine defintion(s) of biomass in relation to wa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9: voluntary agreements, inter alia for residue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How much (more) wood from forests for RES?</a:t>
            </a:r>
            <a:r>
              <a:rPr b="1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 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: re-assess projections of overall wood availability &amp; accessi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3: estimate realistic contributions to RES from forests and resid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6: examine scope for expansion of forest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How can it be mobilised?</a:t>
            </a:r>
            <a:r>
              <a:rPr b="1" lang="fr-BE" sz="2000" spc="-1" strike="noStrike" u="sng">
                <a:solidFill>
                  <a:srgbClr val="f51e19"/>
                </a:solidFill>
                <a:uFillTx/>
                <a:latin typeface="Arial"/>
              </a:rPr>
              <a:t>	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9: incentives incl. carefully quantified and targeted economic instruments to mobilise more wo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4: more intense, technically advanced, forest harves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6: institutional adaptation, e.g. forest owners co-opera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7: shared ownership of forest harvesters and/or power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How can wood be used most efficiently? Recommend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1: wood energy should be optimised through producing CH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f51e19"/>
                </a:solidFill>
                <a:uFillTx/>
                <a:latin typeface="Arial"/>
              </a:rPr>
              <a:t>More diverse markets for sawmillers &amp; forest owners (boost to SFM), but how can they be motiv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Recommend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9: examine elasticities of price on demand for wood and its residu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19: incentives incl. carefully quantified and targeted economic instruments to mobilise more wo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6: stable policy measures, esp. financial instru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3: examine policy package necessary to achieve RES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Wood energy information issues for JWPF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1: re-assess projections of overall wood availability and accessi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2: examine elasticities of price on demand for wood and its residu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3: estimate realistic contributions to RES from forests and resid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4: better qualitative &amp; quantitative (incl. price) information on wood (incl. residues) availability to mkt.s, incl. consumption &amp; trade.</a:t>
            </a:r>
            <a:r>
              <a:rPr b="0" lang="fr-BE" sz="2000" spc="-1" strike="noStrike">
                <a:solidFill>
                  <a:srgbClr val="f51e1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5: studies, incl. sensitivity analysis, on use of economic instru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6: design incentives incl. carefully quantified and targeted economic instruments to mobilise more wo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1e19"/>
                </a:solidFill>
                <a:latin typeface="Arial"/>
              </a:rPr>
              <a:t>DEMAND/SUPPLY APPROACH TO WOOD ENERGY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How should</a:t>
            </a:r>
            <a:r>
              <a:rPr b="0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JWPFES approach wood energy information issues?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Using a demand/supply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How do we define our information dem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We know information supply is inadequate, but how much can it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76480" y="149400"/>
            <a:ext cx="6791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OD &amp; WOOD ENERGY FLOW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38440" y="555480"/>
            <a:ext cx="5665680" cy="6429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9880" y="816120"/>
            <a:ext cx="566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8440" y="539640"/>
            <a:ext cx="56671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OREST (NA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240" y="750960"/>
            <a:ext cx="11430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SI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3720" y="816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2280" y="880920"/>
            <a:ext cx="2585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MOVALS Mm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.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10360" y="750960"/>
            <a:ext cx="1177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65760" y="816120"/>
            <a:ext cx="739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N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10360" y="816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3720" y="816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32280" y="1469880"/>
            <a:ext cx="1785960" cy="26064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32280" y="1469880"/>
            <a:ext cx="2647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ARK Mm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32280" y="1927080"/>
            <a:ext cx="2585880" cy="2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32280" y="1927080"/>
            <a:ext cx="2647800" cy="26280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OUND WOOD Mm</a:t>
            </a:r>
            <a:r>
              <a:rPr b="1" lang="fr-F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u.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2280" y="1990800"/>
            <a:ext cx="1415880" cy="1046160"/>
          </a:xfrm>
          <a:prstGeom prst="ellipse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2280" y="2057400"/>
            <a:ext cx="1415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OD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5960" y="1992240"/>
            <a:ext cx="1416240" cy="1046160"/>
          </a:xfrm>
          <a:prstGeom prst="ellipse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32000" y="2384280"/>
            <a:ext cx="1970280" cy="9795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0080" y="2384280"/>
            <a:ext cx="432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02080" y="2384280"/>
            <a:ext cx="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0160" y="2695680"/>
            <a:ext cx="1292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70280" y="2406600"/>
            <a:ext cx="432000" cy="90108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70280" y="238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95960" y="1992240"/>
            <a:ext cx="14162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ULP+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76240" y="3691080"/>
            <a:ext cx="984240" cy="26280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EL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298680"/>
            <a:ext cx="1477800" cy="9795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75444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363840"/>
            <a:ext cx="1539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N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886200"/>
            <a:ext cx="1415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80000" y="3298680"/>
            <a:ext cx="1540080" cy="39240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80000" y="3363840"/>
            <a:ext cx="13557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UL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3691080"/>
            <a:ext cx="1540080" cy="65232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65760" y="3691080"/>
            <a:ext cx="368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18360" y="36910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5360" y="3754440"/>
            <a:ext cx="1292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IQU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49680" y="3691080"/>
            <a:ext cx="738000" cy="59832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49680" y="3754440"/>
            <a:ext cx="7380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6120" y="3754440"/>
            <a:ext cx="1217520" cy="62784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C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L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08440" y="4540320"/>
            <a:ext cx="1479240" cy="5223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89480" y="4540320"/>
            <a:ext cx="1414440" cy="5223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0000" y="4540320"/>
            <a:ext cx="738360" cy="52236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08440" y="4540320"/>
            <a:ext cx="160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JO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87680" y="4540320"/>
            <a:ext cx="14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URNITURE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T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56520" y="4668840"/>
            <a:ext cx="9856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56120" y="5322960"/>
            <a:ext cx="1723680" cy="26280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COVER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49880" y="5322960"/>
            <a:ext cx="1908000" cy="26028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1320" y="5322960"/>
            <a:ext cx="1908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COVERED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23920" y="5910120"/>
            <a:ext cx="6956280" cy="459000"/>
          </a:xfrm>
          <a:prstGeom prst="rect">
            <a:avLst/>
          </a:prstGeom>
          <a:solidFill>
            <a:srgbClr val="a4bd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3920" y="5910120"/>
            <a:ext cx="1970280" cy="44532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OMESTIC FIRE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+ OTHER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95640" y="5910120"/>
            <a:ext cx="1968480" cy="445320"/>
          </a:xfrm>
          <a:prstGeom prst="rect">
            <a:avLst/>
          </a:prstGeom>
          <a:solidFill>
            <a:srgbClr val="a4bdf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DUSTRIAL (NON 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+ POWER (C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64120" y="5910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64120" y="5910120"/>
            <a:ext cx="16016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STRICT HEAT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WER (C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65760" y="5910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65760" y="5910120"/>
            <a:ext cx="141444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89160"/>
            <a:ext cx="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18240" y="1535040"/>
            <a:ext cx="227772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73920" y="277668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281720" y="2971800"/>
            <a:ext cx="12384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73720" y="427824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017600" y="4278240"/>
            <a:ext cx="80028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79880" y="4278240"/>
            <a:ext cx="92376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25760" y="5060880"/>
            <a:ext cx="30672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49680" y="506088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5840" y="656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4000" y="88092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880920"/>
            <a:ext cx="14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120816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07600" y="1339920"/>
            <a:ext cx="277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70280" y="558324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02280" y="5583240"/>
            <a:ext cx="110808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583240"/>
            <a:ext cx="246204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73920" y="5583240"/>
            <a:ext cx="24444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218000" y="480060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67760" y="2906280"/>
            <a:ext cx="0" cy="18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94120" y="427824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3720" y="2776680"/>
            <a:ext cx="0" cy="52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02280" y="2776680"/>
            <a:ext cx="23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680080" y="1990440"/>
            <a:ext cx="12938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0080" y="506088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0080" y="43434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862280" y="1600200"/>
            <a:ext cx="1170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6120" y="2189160"/>
            <a:ext cx="86184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615680" y="3166920"/>
            <a:ext cx="61596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62280" y="3625920"/>
            <a:ext cx="18576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048040" y="3363840"/>
            <a:ext cx="184608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47760" y="303660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2000" y="3886200"/>
            <a:ext cx="246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02000" y="336348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25840" y="2189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66040" y="571500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93640" y="5715000"/>
            <a:ext cx="597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494000" y="395100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40160" y="54547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40160" y="447336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93640" y="57150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92280" y="297144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95840" y="30369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201920" y="303696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1720" y="4278240"/>
            <a:ext cx="0" cy="20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080200" y="6302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20080" y="40179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143920" y="303660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57880" y="5454720"/>
            <a:ext cx="141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574120" y="2711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512200" y="2644560"/>
            <a:ext cx="6192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4804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07988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2596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466040" y="63687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6497640"/>
            <a:ext cx="695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92280" y="2906280"/>
            <a:ext cx="12384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36040" y="2160720"/>
            <a:ext cx="36972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4800600"/>
            <a:ext cx="0" cy="110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820000" y="1208160"/>
            <a:ext cx="0" cy="156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960" y="1339920"/>
            <a:ext cx="0" cy="51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49764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019720" y="4278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93920" y="166536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78240" y="2057400"/>
            <a:ext cx="1857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23920" y="3233880"/>
            <a:ext cx="18432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3363840"/>
            <a:ext cx="18432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342900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6040" y="4605480"/>
            <a:ext cx="1857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10160" y="5518080"/>
            <a:ext cx="1825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18240" y="5715000"/>
            <a:ext cx="1839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87880" y="5715000"/>
            <a:ext cx="18432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1797120"/>
            <a:ext cx="18432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20080" y="3363840"/>
            <a:ext cx="18396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27880" y="499572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1920" y="4668840"/>
            <a:ext cx="1843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3920" y="5649840"/>
            <a:ext cx="18396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50000" y="5322960"/>
            <a:ext cx="18576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2280" y="382104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16320" y="3363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7960" y="3363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49680" y="120816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49680" y="146988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173052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JWPFES wood energy information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13 countries respo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F, D, CH, CZ, LAT, FIN, 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AT, UK, EST,N, It, Rus – 6 up-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(up-dated draft report avai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2. Most expressed problems of infrequent specific wood energy survey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3. Partial information on wood energy 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JWPFES wood energy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51e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Decide on « lowest common denominator » of desirable inform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2. Are specific studies/survey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3. What kind of group should co-ordin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4. Is an expert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5. How should/can these items be fun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1604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000000"/>
                </a:solidFill>
                <a:uFillTx/>
                <a:latin typeface="Arial"/>
              </a:rPr>
              <a:t>F-BI Unit (DG ENTR/I/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act u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Commission, DG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st-based Industries’ Uni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e: AN88 04/27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-1049, 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Website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uropa.eu.int/comm/enterprise/forest_based/index_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n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32-2-299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32-2-296 7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tr-forest-based-industr@cec.eu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9840" cy="537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0000"/>
                </a:solidFill>
                <a:latin typeface="Arial"/>
              </a:rPr>
              <a:t>Challenge to JWPFES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anges in policies are driven by need to combat global warming (reduce greenhouse gases) and have more sustainable consumption of resources. </a:t>
            </a:r>
            <a:br>
              <a:rPr sz="2800"/>
            </a:b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For energy policy, this means increased demand for RES (renewable energy sources); for biomass, this means wood,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but: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ow to measure (changes in) wood energy fl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60480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4000" y="4365720"/>
            <a:ext cx="4465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8760" y="76212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U WHITE PAPER SCENARIO FOR BIOMASS (1997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UNEXPLOITED SOURCES/RESID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DEL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toe FROM 80 M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FARM &amp; WOOD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       “               “           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   “      FROM 150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CROPS         “               “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3  (EXTR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NB: NO “TARGET” FOR WOOD,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 BUT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 WOOD </a:t>
            </a:r>
            <a:r>
              <a:rPr b="0" lang="en-US" sz="1800" spc="-1" strike="noStrike">
                <a:solidFill>
                  <a:srgbClr val="f51e19"/>
                </a:solidFill>
                <a:latin typeface="Arial"/>
              </a:rPr>
              <a:t>SEEN AS</a:t>
            </a:r>
            <a:r>
              <a:rPr b="1" lang="en-US" sz="1800" spc="-1" strike="noStrike">
                <a:solidFill>
                  <a:srgbClr val="f51e19"/>
                </a:solidFill>
                <a:latin typeface="Arial"/>
              </a:rPr>
              <a:t> MAIN FARM &amp; WOOD BIOMASS  SOURCE SI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DITIONALLY USED; KNOW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EAP &amp; AVAILABLE (ANNUAL FOREST CUT 65 % OF NA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THER BIOMASS NOT WELL IDENTIFIED OR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1e19"/>
                </a:solidFill>
                <a:latin typeface="Arial"/>
              </a:rPr>
              <a:t>&gt; ESTIMATED 163 M m3 (47%) WOOD FROM EU-15 F-BI BY 201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DEVELOPMENTS IN RENEWABLE ENERGY SOURCES (RES) SINCE 20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LEGI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Green Electricity” Directive (22% RES by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-fuels Directive (5.7 % transport bio-fuels by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bined Heat &amp; Power (CHP) 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ive on Energy Efficiency i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Heat Dir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BUT:</a:t>
            </a: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51e19"/>
                </a:solidFill>
                <a:latin typeface="Arial"/>
              </a:rPr>
              <a:t>RES « TARGETS » NOT MET, 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e19"/>
                </a:solidFill>
                <a:latin typeface="Arial"/>
              </a:rPr>
              <a:t>- FOREST-BASED INDUSTRIES’ </a:t>
            </a:r>
            <a:r>
              <a:rPr b="1" lang="en-US" sz="2400" spc="-1" strike="noStrike">
                <a:solidFill>
                  <a:srgbClr val="f51e19"/>
                </a:solidFill>
                <a:latin typeface="Arial"/>
              </a:rPr>
              <a:t>INCREASED WOOD    </a:t>
            </a:r>
            <a:r>
              <a:rPr b="1" lang="en-US" sz="24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51e19"/>
                </a:solidFill>
                <a:latin typeface="Arial"/>
              </a:rPr>
              <a:t> CONSUMPTION</a:t>
            </a:r>
            <a:r>
              <a:rPr b="0" lang="en-US" sz="2400" spc="-1" strike="noStrike">
                <a:solidFill>
                  <a:srgbClr val="f51e1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far met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ly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MS (EU-10), other CEECs &amp;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RECASTS OF FURTHER SUCH INCREASES IN DEMAND FOR WOOD (e.g. Alte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 Working Group (led by DG Enterpr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Working Group of F-BI Advisory Committe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xamine the relationships between the EU policies affecting RES and the European wood suppliers and wood-processing industri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(so as to identify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olution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S Working Group - composi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od suppliers: incl. forest owners, sawmiller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od processors, incl. sawmillers, woodworking and paper and board manufacturing industr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ission services - DGs AGRI, ENTR,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V, RTD, TR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560" indent="-529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orial exp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000000"/>
                </a:solidFill>
                <a:uFillTx/>
                <a:latin typeface="Arial"/>
              </a:rPr>
              <a:t>RECOMMENDATIONS – five types</a:t>
            </a: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Legislation &amp;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RTD, innovation &amp; knowledge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Institution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pletion of RES WG repo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put to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munity Biomass Plan (CB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w EU initiative to reach RES « targets 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ed for follow-up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3200" spc="-1" strike="noStrike">
                <a:solidFill>
                  <a:srgbClr val="f51e19"/>
                </a:solidFill>
                <a:latin typeface="Arial"/>
              </a:rPr>
              <a:t>- better information, incl. sour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f51e19"/>
                </a:solidFill>
                <a:latin typeface="Arial"/>
              </a:rPr>
              <a:t>e.g. MS surveys? Other stud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- catalogue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isseminate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in issues arising from forest/wood secto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munity Biomass Plan (CB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ow can the overall 2010 biomass « targets » best be me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51e1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How much wood should be used as RES and how can that best be managed? (i.e. at national, regional &amp; loca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51e19"/>
                </a:solidFill>
                <a:latin typeface="Arial"/>
              </a:rPr>
              <a:t>(NB challenges &amp; opportunit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ich other kinds of biomass should be developed to fulfil the remaining biomass needs and how can that be done rapidly on a commercial scale? Which measure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4114800" y="101520"/>
              <a:ext cx="8380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0880" y="87516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561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38200" y="476280"/>
            <a:ext cx="20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and 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rectorate-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0:26:40Z</dcterms:created>
  <dc:creator>YAHIASR</dc:creator>
  <dc:description/>
  <dc:language>en-US</dc:language>
  <cp:lastModifiedBy>JW</cp:lastModifiedBy>
  <dcterms:modified xsi:type="dcterms:W3CDTF">2005-03-24T09:38:06Z</dcterms:modified>
  <cp:revision>36</cp:revision>
  <dc:subject/>
  <dc:title> Climate Change Kyoto Protocol Emissions Trading Directive  2 March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4933178</vt:r8>
  </property>
  <property fmtid="{D5CDD505-2E9C-101B-9397-08002B2CF9AE}" pid="3" name="_AuthorEmail">
    <vt:lpwstr>Jeremy.Wall@cec.eu.int</vt:lpwstr>
  </property>
  <property fmtid="{D5CDD505-2E9C-101B-9397-08002B2CF9AE}" pid="4" name="_AuthorEmailDisplayName">
    <vt:lpwstr>WALL Jeremy (ENTR)</vt:lpwstr>
  </property>
  <property fmtid="{D5CDD505-2E9C-101B-9397-08002B2CF9AE}" pid="5" name="_EmailEntryID">
    <vt:lpwstr>00000000C3C2BFC1E4AC274B930B29D2F412EF40C41E2100</vt:lpwstr>
  </property>
  <property fmtid="{D5CDD505-2E9C-101B-9397-08002B2CF9AE}" pid="6" name="_EmailStoreID">
    <vt:lpwstr>0000000038A1BB1005E5101AA1BB08002B2A56C200006D737073742E646C6C00000000004E495441F9BFB80100AA0037D96E000000433A5C57494E444F57535C4170706C69636174696F6E20446174615C4D6963726F736F66745C4F75746C6F6F6B5C4F75746C6F6F6B2E70737400</vt:lpwstr>
  </property>
  <property fmtid="{D5CDD505-2E9C-101B-9397-08002B2CF9AE}" pid="7" name="_EmailSubject">
    <vt:lpwstr/>
  </property>
  <property fmtid="{D5CDD505-2E9C-101B-9397-08002B2CF9AE}" pid="8" name="_PreviousAdHocReviewCycleID">
    <vt:r8>-1276372433</vt:r8>
  </property>
  <property fmtid="{D5CDD505-2E9C-101B-9397-08002B2CF9AE}" pid="9" name="_ReviewCycleID">
    <vt:r8>-142593797</vt:r8>
  </property>
  <property fmtid="{D5CDD505-2E9C-101B-9397-08002B2CF9AE}" pid="10" name="_ReviewingToolsShownOnce">
    <vt:lpwstr/>
  </property>
</Properties>
</file>