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46888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402D-AFEB-4F7F-9254-86BFF2B49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7255-4EEA-4263-AAF4-FC1EB9BC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0CC4-4E13-4D75-805E-4298443B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BDDF-52B2-421A-8A73-BE6F54597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66E4-5313-4668-AC9F-52E85B85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38E5-F84A-40FF-96B0-2E5073EB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7AA9-91CA-4584-A450-C39C5089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3B83-CB98-472C-8817-F88D1C2B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C07A-4709-4DA8-89B6-1DC9C06E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7A8B-7A7A-44D7-995C-836F5DF0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DFCA-D359-4C8A-931D-CDDC23E0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97CE-924D-4766-8992-8BFA7102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6636-18F0-428C-AFFE-95A560241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entr-forest-based-industr@cec.eu.int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69840" cy="5373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6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56000" y="1699920"/>
            <a:ext cx="65880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27th Joint FAO/UNECE Working Party on Forest Economics &amp; Statistics,</a:t>
            </a:r>
            <a:br>
              <a:rPr sz="2800"/>
            </a:b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24th </a:t>
            </a:r>
            <a:r>
              <a:rPr b="1" lang="fr-BE" sz="2800" spc="-1" strike="noStrike">
                <a:solidFill>
                  <a:srgbClr val="333399"/>
                </a:solidFill>
                <a:latin typeface="Arial"/>
              </a:rPr>
              <a:t>March 2005</a:t>
            </a:r>
            <a:br>
              <a:rPr sz="2800"/>
            </a:br>
            <a:r>
              <a:rPr b="0" lang="fr-BE" sz="2800" spc="-1" strike="noStrike">
                <a:solidFill>
                  <a:srgbClr val="333399"/>
                </a:solidFill>
                <a:latin typeface="Arial"/>
              </a:rPr>
              <a:t>Item 6: special topic – wood energy</a:t>
            </a:r>
            <a:br>
              <a:rPr sz="2800"/>
            </a:br>
            <a:r>
              <a:rPr b="1" lang="fr-BE" sz="2800" spc="-1" strike="noStrike">
                <a:solidFill>
                  <a:srgbClr val="333399"/>
                </a:solidFill>
                <a:latin typeface="Arial"/>
              </a:rPr>
              <a:t>Some implications for the wood-processing sector of increased demand for wood as fu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211280" y="5013000"/>
            <a:ext cx="3600360" cy="1655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Jeremy W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G Enterprise &amp;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irectorate I, Unit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Forest-based Indus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8200" y="604800"/>
            <a:ext cx="20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erprise and Indu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rectorate-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114800" y="123840"/>
            <a:ext cx="838080" cy="561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124000" y="4365720"/>
            <a:ext cx="44658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5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78760" y="762120"/>
            <a:ext cx="198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uropean Com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0" y="1484280"/>
            <a:ext cx="2556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964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 u="sng">
                <a:solidFill>
                  <a:srgbClr val="f51e19"/>
                </a:solidFill>
                <a:uFillTx/>
                <a:latin typeface="Arial"/>
              </a:rPr>
              <a:t>2. How much wood for RES and how can that best be manag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Challen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51e19"/>
                </a:solidFill>
                <a:latin typeface="Arial"/>
              </a:rPr>
              <a:t>- Is use of wood as RES causing problems for the wood-using industri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51e19"/>
                </a:solidFill>
                <a:latin typeface="Arial"/>
              </a:rPr>
              <a:t>- How much more wood should come from forests? How can it be mobilis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51e19"/>
                </a:solidFill>
                <a:latin typeface="Arial"/>
              </a:rPr>
              <a:t>-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How can more wood residues be collec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- How can wood be used most efficient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Opportun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BE" sz="2000" spc="-1" strike="noStrike">
                <a:solidFill>
                  <a:srgbClr val="f51e19"/>
                </a:solidFill>
                <a:latin typeface="Arial"/>
              </a:rPr>
              <a:t>More diverse markets for sawmillers &amp; forest owners, but how to motiv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- Wood-processing industries can make, use and sell heat and pow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- Disseminate best practic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- Wood’s « green credentials » can be harnessed (energy-efficient build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4114800" y="101520"/>
              <a:ext cx="838080" cy="4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80880" y="87516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9000" y="56124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uropean Commi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538200" y="476280"/>
            <a:ext cx="20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erprise and Indu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rectorate-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f51e19"/>
                </a:solidFill>
                <a:uFillTx/>
                <a:latin typeface="Arial"/>
              </a:rPr>
              <a:t>Does use of wood as RES cause problems for wood-using industr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CBP: adequate supplies of biomass; no undue distortion of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RES WG report indicates at least regional distortions and « biomass, mostly wood, is main type of RES for which there is significant competition 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RES WG recommend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51e19"/>
                </a:solidFill>
                <a:latin typeface="Arial"/>
              </a:rPr>
              <a:t>15: better qualitative &amp; quantitative (incl. price) information on wood (incl. residues) availability to mkt.s, incl. consumption &amp; tr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51e19"/>
                </a:solidFill>
                <a:latin typeface="Arial"/>
              </a:rPr>
              <a:t>9: examine elasticities of price on demand for wood and its residues;</a:t>
            </a: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51e19"/>
                </a:solidFill>
                <a:latin typeface="Arial"/>
              </a:rPr>
              <a:t>5: studies, incl. sensitivity analysis, on use of economic instrumen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2: examine causal factors of difficulties in wood supply to industr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000000"/>
                </a:solidFill>
                <a:uFillTx/>
                <a:latin typeface="Arial"/>
              </a:rPr>
              <a:t>How can more wood residues be collected?</a:t>
            </a:r>
            <a:r>
              <a:rPr b="1" lang="fr-BE" sz="2000" spc="-1" strike="noStrike" u="sng">
                <a:solidFill>
                  <a:srgbClr val="000000"/>
                </a:solidFill>
                <a:uFillTx/>
                <a:latin typeface="Arial"/>
              </a:rPr>
              <a:t> RES WG recommend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12: promote increased collection of residues, e.g. through contrac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18: re-examine defintion(s) of biomass in relation to was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29: voluntary agreements, inter alia for residue coll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4114800" y="101520"/>
              <a:ext cx="838080" cy="4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380880" y="87516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29000" y="56124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uropean Commi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38200" y="476280"/>
            <a:ext cx="20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erprise and Indu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rectorate-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f51e19"/>
                </a:solidFill>
                <a:uFillTx/>
                <a:latin typeface="Arial"/>
              </a:rPr>
              <a:t>How much (more) wood from forests for RES?</a:t>
            </a:r>
            <a:r>
              <a:rPr b="1" lang="fr-BE" sz="2000" spc="-1" strike="noStrike" u="sng">
                <a:solidFill>
                  <a:srgbClr val="f51e19"/>
                </a:solidFill>
                <a:uFillTx/>
                <a:latin typeface="Arial"/>
              </a:rPr>
              <a:t> </a:t>
            </a:r>
            <a:r>
              <a:rPr b="1" lang="fr-BE" sz="2000" spc="-1" strike="noStrike" u="sng">
                <a:solidFill>
                  <a:srgbClr val="000000"/>
                </a:solidFill>
                <a:uFillTx/>
                <a:latin typeface="Arial"/>
              </a:rPr>
              <a:t>Recommend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51e19"/>
                </a:solidFill>
                <a:latin typeface="Arial"/>
              </a:rPr>
              <a:t>1: re-assess projections of overall wood availability &amp; accessibilit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51e19"/>
                </a:solidFill>
                <a:latin typeface="Arial"/>
              </a:rPr>
              <a:t>3: estimate realistic contributions to RES from forests and residu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26: examine scope for expansion of forest resou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f51e19"/>
                </a:solidFill>
                <a:uFillTx/>
                <a:latin typeface="Arial"/>
              </a:rPr>
              <a:t>How can it be mobilised?</a:t>
            </a:r>
            <a:r>
              <a:rPr b="1" lang="fr-BE" sz="2000" spc="-1" strike="noStrike" u="sng">
                <a:solidFill>
                  <a:srgbClr val="f51e19"/>
                </a:solidFill>
                <a:uFillTx/>
                <a:latin typeface="Arial"/>
              </a:rPr>
              <a:t>	</a:t>
            </a:r>
            <a:r>
              <a:rPr b="1" lang="fr-BE" sz="2000" spc="-1" strike="noStrike" u="sng">
                <a:solidFill>
                  <a:srgbClr val="000000"/>
                </a:solidFill>
                <a:uFillTx/>
                <a:latin typeface="Arial"/>
              </a:rPr>
              <a:t>Recommend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51e19"/>
                </a:solidFill>
                <a:latin typeface="Arial"/>
              </a:rPr>
              <a:t>19: incentives incl. carefully quantified and targeted economic instruments to mobilise more woo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4: more intense, technically advanced, forest harvest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6: institutional adaptation, e.g. forest owners co-operativ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7: shared ownership of forest harvesters and/or power 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 u="sng">
                <a:solidFill>
                  <a:srgbClr val="000000"/>
                </a:solidFill>
                <a:uFillTx/>
                <a:latin typeface="Arial"/>
              </a:rPr>
              <a:t>How can wood be used most efficiently? Recommend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21: wood energy should be optimised through producing CH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4114800" y="101520"/>
              <a:ext cx="838080" cy="4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380880" y="87516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29000" y="56124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uropean Commi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38200" y="476280"/>
            <a:ext cx="20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erprise and Indu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rectorate-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Opportun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f51e19"/>
                </a:solidFill>
                <a:uFillTx/>
                <a:latin typeface="Arial"/>
              </a:rPr>
              <a:t>More diverse markets for sawmillers &amp; forest owners (boost to SFM), but how can they be motiv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 u="sng">
                <a:solidFill>
                  <a:srgbClr val="000000"/>
                </a:solidFill>
                <a:uFillTx/>
                <a:latin typeface="Arial"/>
              </a:rPr>
              <a:t>Recommend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51e19"/>
                </a:solidFill>
                <a:latin typeface="Arial"/>
              </a:rPr>
              <a:t>9: examine elasticities of price on demand for wood and its residu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51e19"/>
                </a:solidFill>
                <a:latin typeface="Arial"/>
              </a:rPr>
              <a:t>19: incentives incl. carefully quantified and targeted economic instruments to mobilise more woo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6: stable policy measures, esp. financial instru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23: examine policy package necessary to achieve RES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4114800" y="101520"/>
              <a:ext cx="838080" cy="4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380880" y="87516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29000" y="56124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uropean Commi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538200" y="476280"/>
            <a:ext cx="20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erprise and Indu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rectorate-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000" spc="-1" strike="noStrike" u="sng">
                <a:solidFill>
                  <a:srgbClr val="000000"/>
                </a:solidFill>
                <a:uFillTx/>
                <a:latin typeface="Arial"/>
              </a:rPr>
              <a:t>Wood energy information issues for JWPF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51e19"/>
                </a:solidFill>
                <a:latin typeface="Arial"/>
              </a:rPr>
              <a:t>1: re-assess projections of overall wood availability and accessibilit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51e19"/>
                </a:solidFill>
                <a:latin typeface="Arial"/>
              </a:rPr>
              <a:t>2: examine elasticities of price on demand for wood and its residu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51e19"/>
                </a:solidFill>
                <a:latin typeface="Arial"/>
              </a:rPr>
              <a:t>3: estimate realistic contributions to RES from forests and residu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51e19"/>
                </a:solidFill>
                <a:latin typeface="Arial"/>
              </a:rPr>
              <a:t>4: better qualitative &amp; quantitative (incl. price) information on wood (incl. residues) availability to mkt.s, incl. consumption &amp; trade.</a:t>
            </a:r>
            <a:r>
              <a:rPr b="0" lang="fr-BE" sz="2000" spc="-1" strike="noStrike">
                <a:solidFill>
                  <a:srgbClr val="f51e1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51e19"/>
                </a:solidFill>
                <a:latin typeface="Arial"/>
              </a:rPr>
              <a:t>5: studies, incl. sensitivity analysis, on use of economic instrumen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51e1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51e19"/>
                </a:solidFill>
                <a:latin typeface="Arial"/>
              </a:rPr>
              <a:t>6: design incentives incl. carefully quantified and targeted economic instruments to mobilise more woo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51e19"/>
                </a:solidFill>
                <a:latin typeface="Arial"/>
              </a:rPr>
              <a:t>DEMAND/SUPPLY APPROACH TO WOOD ENERGY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4114800" y="101520"/>
              <a:ext cx="838080" cy="4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380880" y="87516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29000" y="56124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uropean Commi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538200" y="476280"/>
            <a:ext cx="20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erprise and Indu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rectorate-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 u="sng">
                <a:solidFill>
                  <a:srgbClr val="000000"/>
                </a:solidFill>
                <a:uFillTx/>
                <a:latin typeface="Arial"/>
              </a:rPr>
              <a:t>How should</a:t>
            </a:r>
            <a:r>
              <a:rPr b="0" lang="fr-BE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fr-BE" sz="2800" spc="-1" strike="noStrike" u="sng">
                <a:solidFill>
                  <a:srgbClr val="000000"/>
                </a:solidFill>
                <a:uFillTx/>
                <a:latin typeface="Arial"/>
              </a:rPr>
              <a:t>JWPFES approach wood energy information issues?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51e19"/>
                </a:solidFill>
                <a:latin typeface="Arial"/>
              </a:rPr>
              <a:t>Using a demand/supply appro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51e1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51e19"/>
                </a:solidFill>
                <a:latin typeface="Arial"/>
              </a:rPr>
              <a:t>How do we define our information dem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51e1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51e19"/>
                </a:solidFill>
                <a:latin typeface="Arial"/>
              </a:rPr>
              <a:t>We know information supply is inadequate, but how much can it be impro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4114800" y="101520"/>
              <a:ext cx="838080" cy="4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80880" y="87516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29000" y="56124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uropean Commi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538200" y="476280"/>
            <a:ext cx="20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erprise and Indu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rectorate-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76480" y="149400"/>
            <a:ext cx="67910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WOOD &amp; WOOD ENERGY FLOW DI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38440" y="555480"/>
            <a:ext cx="5665680" cy="642960"/>
          </a:xfrm>
          <a:prstGeom prst="rect">
            <a:avLst/>
          </a:prstGeom>
          <a:solidFill>
            <a:srgbClr val="a4bd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39880" y="816120"/>
            <a:ext cx="566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38440" y="539640"/>
            <a:ext cx="56671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OREST (NA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03240" y="750960"/>
            <a:ext cx="114300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RESID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33720" y="81612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32280" y="880920"/>
            <a:ext cx="2585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REMOVALS Mm</a:t>
            </a:r>
            <a:r>
              <a:rPr b="1" lang="fr-FR" sz="12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o.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10360" y="750960"/>
            <a:ext cx="117792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X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65760" y="816120"/>
            <a:ext cx="7398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UNC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10360" y="81612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43720" y="81612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32280" y="1469880"/>
            <a:ext cx="1785960" cy="260640"/>
          </a:xfrm>
          <a:prstGeom prst="rect">
            <a:avLst/>
          </a:prstGeom>
          <a:solidFill>
            <a:srgbClr val="a4bd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32280" y="1469880"/>
            <a:ext cx="26478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BARK Mm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32280" y="1927080"/>
            <a:ext cx="2585880" cy="26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32280" y="1927080"/>
            <a:ext cx="2647800" cy="262800"/>
          </a:xfrm>
          <a:prstGeom prst="rect">
            <a:avLst/>
          </a:prstGeom>
          <a:solidFill>
            <a:srgbClr val="a4bdf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ROUND WOOD Mm</a:t>
            </a:r>
            <a:r>
              <a:rPr b="1" lang="fr-FR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u.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92280" y="1990800"/>
            <a:ext cx="1415880" cy="1046160"/>
          </a:xfrm>
          <a:prstGeom prst="ellipse">
            <a:avLst/>
          </a:prstGeom>
          <a:solidFill>
            <a:srgbClr val="a4bd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2280" y="2057400"/>
            <a:ext cx="141588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OOD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95960" y="1992240"/>
            <a:ext cx="1416240" cy="1046160"/>
          </a:xfrm>
          <a:prstGeom prst="ellipse">
            <a:avLst/>
          </a:prstGeom>
          <a:solidFill>
            <a:srgbClr val="a4bd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32000" y="2384280"/>
            <a:ext cx="1970280" cy="979560"/>
          </a:xfrm>
          <a:prstGeom prst="rect">
            <a:avLst/>
          </a:prstGeom>
          <a:solidFill>
            <a:srgbClr val="a4bd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70080" y="2384280"/>
            <a:ext cx="43200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02080" y="2384280"/>
            <a:ext cx="0" cy="97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40160" y="2695680"/>
            <a:ext cx="1292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SA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70280" y="2406600"/>
            <a:ext cx="432000" cy="901080"/>
          </a:xfrm>
          <a:prstGeom prst="rect">
            <a:avLst/>
          </a:prstGeom>
          <a:solidFill>
            <a:srgbClr val="a4bdf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70280" y="238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95960" y="1992240"/>
            <a:ext cx="141624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ULP+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76240" y="3691080"/>
            <a:ext cx="984240" cy="262800"/>
          </a:xfrm>
          <a:prstGeom prst="rect">
            <a:avLst/>
          </a:prstGeom>
          <a:solidFill>
            <a:srgbClr val="a4bd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EL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298680"/>
            <a:ext cx="1477800" cy="979560"/>
          </a:xfrm>
          <a:prstGeom prst="rect">
            <a:avLst/>
          </a:prstGeom>
          <a:solidFill>
            <a:srgbClr val="a4bd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3754440"/>
            <a:ext cx="147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3363840"/>
            <a:ext cx="15397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ANEL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3886200"/>
            <a:ext cx="1415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A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80000" y="3298680"/>
            <a:ext cx="1540080" cy="392400"/>
          </a:xfrm>
          <a:prstGeom prst="rect">
            <a:avLst/>
          </a:prstGeom>
          <a:solidFill>
            <a:srgbClr val="a4bd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80000" y="3363840"/>
            <a:ext cx="13557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UL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80000" y="3691080"/>
            <a:ext cx="1540080" cy="652320"/>
          </a:xfrm>
          <a:prstGeom prst="rect">
            <a:avLst/>
          </a:prstGeom>
          <a:solidFill>
            <a:srgbClr val="a4bd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65760" y="3691080"/>
            <a:ext cx="36828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218360" y="369108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75360" y="3754440"/>
            <a:ext cx="129240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IQU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649680" y="3691080"/>
            <a:ext cx="738000" cy="598320"/>
          </a:xfrm>
          <a:prstGeom prst="rect">
            <a:avLst/>
          </a:prstGeom>
          <a:solidFill>
            <a:srgbClr val="a4bd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49680" y="3754440"/>
            <a:ext cx="73800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SA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W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86120" y="3754440"/>
            <a:ext cx="1217520" cy="627840"/>
          </a:xfrm>
          <a:prstGeom prst="rect">
            <a:avLst/>
          </a:prstGeom>
          <a:solidFill>
            <a:srgbClr val="a4bdf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ACK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INC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AL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908440" y="4540320"/>
            <a:ext cx="1479240" cy="522360"/>
          </a:xfrm>
          <a:prstGeom prst="rect">
            <a:avLst/>
          </a:prstGeom>
          <a:solidFill>
            <a:srgbClr val="a4bd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89480" y="4540320"/>
            <a:ext cx="1414440" cy="522360"/>
          </a:xfrm>
          <a:prstGeom prst="rect">
            <a:avLst/>
          </a:prstGeom>
          <a:solidFill>
            <a:srgbClr val="a4bd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80000" y="4540320"/>
            <a:ext cx="738360" cy="522360"/>
          </a:xfrm>
          <a:prstGeom prst="rect">
            <a:avLst/>
          </a:prstGeom>
          <a:solidFill>
            <a:srgbClr val="a4bd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08440" y="4540320"/>
            <a:ext cx="16030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JOIN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387680" y="4540320"/>
            <a:ext cx="14162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URNITURE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T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56520" y="4668840"/>
            <a:ext cx="9856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56120" y="5322960"/>
            <a:ext cx="1723680" cy="262800"/>
          </a:xfrm>
          <a:prstGeom prst="rect">
            <a:avLst/>
          </a:prstGeom>
          <a:solidFill>
            <a:srgbClr val="a4bdf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RECOVERED W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49880" y="5322960"/>
            <a:ext cx="1908000" cy="260280"/>
          </a:xfrm>
          <a:prstGeom prst="rect">
            <a:avLst/>
          </a:prstGeom>
          <a:solidFill>
            <a:srgbClr val="a4bd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51320" y="5322960"/>
            <a:ext cx="19083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RECOVERED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23920" y="5910120"/>
            <a:ext cx="6956280" cy="459000"/>
          </a:xfrm>
          <a:prstGeom prst="rect">
            <a:avLst/>
          </a:prstGeom>
          <a:solidFill>
            <a:srgbClr val="a4bd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23920" y="5910120"/>
            <a:ext cx="1970280" cy="445320"/>
          </a:xfrm>
          <a:prstGeom prst="rect">
            <a:avLst/>
          </a:prstGeom>
          <a:solidFill>
            <a:srgbClr val="a4bdf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DOMESTIC FIREW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+ OTHER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95640" y="5910120"/>
            <a:ext cx="1968480" cy="445320"/>
          </a:xfrm>
          <a:prstGeom prst="rect">
            <a:avLst/>
          </a:prstGeom>
          <a:solidFill>
            <a:srgbClr val="a4bdf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INDUSTRIAL (NON 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T + POWER (CH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64120" y="5910120"/>
            <a:ext cx="0" cy="4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64120" y="5910120"/>
            <a:ext cx="160164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DISTRICT HEAT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WER (CH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65760" y="5910120"/>
            <a:ext cx="0" cy="4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65760" y="5910120"/>
            <a:ext cx="141444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O G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03640" y="2189160"/>
            <a:ext cx="0" cy="10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18240" y="1535040"/>
            <a:ext cx="2277720" cy="84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73920" y="2776680"/>
            <a:ext cx="0" cy="45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7281720" y="2971800"/>
            <a:ext cx="12384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73720" y="4278240"/>
            <a:ext cx="0" cy="26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4017600" y="4278240"/>
            <a:ext cx="800280" cy="26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79880" y="4278240"/>
            <a:ext cx="923760" cy="26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325760" y="5060880"/>
            <a:ext cx="30672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49680" y="506088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865840" y="65642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24000" y="88092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4000" y="880920"/>
            <a:ext cx="141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8160" y="1208160"/>
            <a:ext cx="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07600" y="1339920"/>
            <a:ext cx="277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70280" y="5583240"/>
            <a:ext cx="0" cy="32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02280" y="5583240"/>
            <a:ext cx="1108080" cy="32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5583240"/>
            <a:ext cx="2462040" cy="32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973920" y="5583240"/>
            <a:ext cx="244440" cy="32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7218000" y="4800600"/>
            <a:ext cx="104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8267760" y="2906280"/>
            <a:ext cx="0" cy="18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94120" y="4278240"/>
            <a:ext cx="0" cy="26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43720" y="2776680"/>
            <a:ext cx="0" cy="52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202280" y="2776680"/>
            <a:ext cx="23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5680080" y="1990440"/>
            <a:ext cx="1293840" cy="78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50080" y="506088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0080" y="434340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862280" y="1600200"/>
            <a:ext cx="1170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86120" y="2189160"/>
            <a:ext cx="861840" cy="12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615680" y="3166920"/>
            <a:ext cx="615960" cy="45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1862280" y="3625920"/>
            <a:ext cx="185760" cy="12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048040" y="3363840"/>
            <a:ext cx="1846080" cy="26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1247760" y="303660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02000" y="3886200"/>
            <a:ext cx="2462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402000" y="3363480"/>
            <a:ext cx="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25840" y="21891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466040" y="571500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493640" y="5715000"/>
            <a:ext cx="597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494000" y="3951000"/>
            <a:ext cx="0" cy="17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40160" y="545472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540160" y="4473360"/>
            <a:ext cx="0" cy="9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493640" y="57150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692280" y="2971440"/>
            <a:ext cx="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95840" y="303696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4201920" y="3036960"/>
            <a:ext cx="49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451720" y="4278240"/>
            <a:ext cx="0" cy="20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8080200" y="630252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020080" y="401796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8143920" y="3036600"/>
            <a:ext cx="0" cy="98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157880" y="5454720"/>
            <a:ext cx="141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574120" y="27115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8512200" y="2644560"/>
            <a:ext cx="61920" cy="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048040" y="6368760"/>
            <a:ext cx="0" cy="12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079880" y="6368760"/>
            <a:ext cx="0" cy="12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925960" y="6368760"/>
            <a:ext cx="0" cy="12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7466040" y="6368760"/>
            <a:ext cx="0" cy="12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7960" y="6497640"/>
            <a:ext cx="695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92280" y="2906280"/>
            <a:ext cx="123840" cy="6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636040" y="2160720"/>
            <a:ext cx="369720" cy="28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820000" y="4800600"/>
            <a:ext cx="0" cy="1109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8820000" y="1208160"/>
            <a:ext cx="0" cy="1566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7960" y="1339920"/>
            <a:ext cx="0" cy="515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6497640"/>
            <a:ext cx="18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8019720" y="42782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93920" y="1665360"/>
            <a:ext cx="184320" cy="19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478240" y="2057400"/>
            <a:ext cx="185760" cy="19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23920" y="3233880"/>
            <a:ext cx="184320" cy="19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31800" y="3363840"/>
            <a:ext cx="184320" cy="19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1600" y="3429000"/>
            <a:ext cx="184320" cy="19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46040" y="4605480"/>
            <a:ext cx="185760" cy="19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10160" y="5518080"/>
            <a:ext cx="182520" cy="19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18240" y="5715000"/>
            <a:ext cx="183960" cy="19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87880" y="5715000"/>
            <a:ext cx="184320" cy="19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72200" y="1797120"/>
            <a:ext cx="184320" cy="19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020080" y="3363840"/>
            <a:ext cx="183960" cy="19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327880" y="4995720"/>
            <a:ext cx="184320" cy="19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711920" y="4668840"/>
            <a:ext cx="184320" cy="19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73920" y="5649840"/>
            <a:ext cx="183960" cy="19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650000" y="5322960"/>
            <a:ext cx="185760" cy="19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92280" y="3821040"/>
            <a:ext cx="18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16320" y="33638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47960" y="33638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649680" y="1208160"/>
            <a:ext cx="0" cy="26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649680" y="1469880"/>
            <a:ext cx="0" cy="260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49680" y="173052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800" spc="-1" strike="noStrike" u="sng">
                <a:solidFill>
                  <a:srgbClr val="000000"/>
                </a:solidFill>
                <a:uFillTx/>
                <a:latin typeface="Arial"/>
              </a:rPr>
              <a:t>JWPFES wood energy information surve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51e1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51e19"/>
                </a:solidFill>
                <a:latin typeface="Arial"/>
              </a:rPr>
              <a:t>13 countries respon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51e19"/>
                </a:solidFill>
                <a:latin typeface="Arial"/>
              </a:rPr>
              <a:t>	</a:t>
            </a:r>
            <a:r>
              <a:rPr b="1" lang="fr-BE" sz="3200" spc="-1" strike="noStrike">
                <a:solidFill>
                  <a:srgbClr val="f51e19"/>
                </a:solidFill>
                <a:latin typeface="Arial"/>
              </a:rPr>
              <a:t>F, D, CH, CZ, LAT, FIN, 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51e19"/>
                </a:solidFill>
                <a:latin typeface="Arial"/>
              </a:rPr>
              <a:t>	</a:t>
            </a:r>
            <a:r>
              <a:rPr b="1" lang="fr-BE" sz="3200" spc="-1" strike="noStrike">
                <a:solidFill>
                  <a:srgbClr val="f51e19"/>
                </a:solidFill>
                <a:latin typeface="Arial"/>
              </a:rPr>
              <a:t>AT, UK, EST,N, It, Rus – 6 up-d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51e19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51e19"/>
                </a:solidFill>
                <a:latin typeface="Arial"/>
              </a:rPr>
              <a:t>(up-dated draft report avail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51e19"/>
                </a:solidFill>
                <a:latin typeface="Arial"/>
              </a:rPr>
              <a:t>2. Most expressed problems of infrequent specific wood energy survey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51e19"/>
                </a:solidFill>
                <a:latin typeface="Arial"/>
              </a:rPr>
              <a:t>3. Partial information on wood energy fl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pic>
          <p:nvPicPr>
            <p:cNvPr id="29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2"/>
            <a:stretch/>
          </p:blipFill>
          <p:spPr>
            <a:xfrm>
              <a:off x="4114800" y="101520"/>
              <a:ext cx="838080" cy="4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380880" y="87516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29000" y="56124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uropean Commi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538200" y="476280"/>
            <a:ext cx="20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erprise and Indu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rectorate-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800" spc="-1" strike="noStrike" u="sng">
                <a:solidFill>
                  <a:srgbClr val="000000"/>
                </a:solidFill>
                <a:uFillTx/>
                <a:latin typeface="Arial"/>
              </a:rPr>
              <a:t>JWPFES wood energy informat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51e1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51e19"/>
                </a:solidFill>
                <a:latin typeface="Arial"/>
              </a:rPr>
              <a:t>Decide on « lowest common denominator » of desirable informat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51e19"/>
                </a:solidFill>
                <a:latin typeface="Arial"/>
              </a:rPr>
              <a:t>2. Are specific studies/surveys nee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51e19"/>
                </a:solidFill>
                <a:latin typeface="Arial"/>
              </a:rPr>
              <a:t>3. What kind of group should co-ordin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51e19"/>
                </a:solidFill>
                <a:latin typeface="Arial"/>
              </a:rPr>
              <a:t>4. Is an expert nee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51e19"/>
                </a:solidFill>
                <a:latin typeface="Arial"/>
              </a:rPr>
              <a:t>5. How should/can these items be fun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pic>
          <p:nvPicPr>
            <p:cNvPr id="29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2"/>
            <a:stretch/>
          </p:blipFill>
          <p:spPr>
            <a:xfrm>
              <a:off x="4114800" y="101520"/>
              <a:ext cx="838080" cy="4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380880" y="87516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29000" y="56124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uropean Commi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538200" y="476280"/>
            <a:ext cx="20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erprise and Indu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rectorate-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16040" indent="0" algn="ctr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 u="sng">
                <a:solidFill>
                  <a:srgbClr val="000000"/>
                </a:solidFill>
                <a:uFillTx/>
                <a:latin typeface="Arial"/>
              </a:rPr>
              <a:t>F-BI Unit (DG ENTR/I/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16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16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ontact u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opean Commission, DG Enter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6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est-based Industries’ Uni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fice: AN88 04/27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-1049, Bru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6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Website: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europa.eu.int/comm/enterprise/forest_based/index_e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16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16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one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32-2-299 18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6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x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32-2-296 7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6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-mail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ntr-forest-based-industr@cec.eu.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pic>
          <p:nvPicPr>
            <p:cNvPr id="30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3"/>
            <a:stretch/>
          </p:blipFill>
          <p:spPr>
            <a:xfrm>
              <a:off x="4114800" y="101520"/>
              <a:ext cx="838080" cy="4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380880" y="87516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429000" y="56124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uropean Commi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38200" y="476280"/>
            <a:ext cx="20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erprise and Indu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rectorate-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69840" cy="5373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6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97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000000"/>
                </a:solidFill>
                <a:latin typeface="Arial"/>
              </a:rPr>
              <a:t>Challenge to JWPFES</a:t>
            </a: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4000"/>
            </a:b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changes in policies are driven by need to combat global warming (reduce greenhouse gases) and have more sustainable consumption of resources. </a:t>
            </a:r>
            <a:br>
              <a:rPr sz="2800"/>
            </a:br>
            <a:br>
              <a:rPr sz="2800"/>
            </a:b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For energy policy, this means increased demand for RES (renewable energy sources); for biomass, this means wood, </a:t>
            </a: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but:</a:t>
            </a:r>
            <a:br>
              <a:rPr sz="2800"/>
            </a:br>
            <a:br>
              <a:rPr sz="2800"/>
            </a:b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How to measure (changes in) wood energy flow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8200" y="604800"/>
            <a:ext cx="20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erprise and Indu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rectorate-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114800" y="123840"/>
            <a:ext cx="838080" cy="561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124000" y="4365720"/>
            <a:ext cx="44658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5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78760" y="762120"/>
            <a:ext cx="198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uropean Com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4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U WHITE PAPER SCENARIO FOR BIOMASS (1997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4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UNEXPLOITED SOURCES/RESID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G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D DELI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toe FROM 80 Mt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51e19"/>
                </a:solidFill>
                <a:latin typeface="Arial"/>
              </a:rPr>
              <a:t>FARM &amp; WOOD</a:t>
            </a:r>
            <a:r>
              <a:rPr b="0" lang="en-US" sz="1800" spc="-1" strike="noStrike">
                <a:solidFill>
                  <a:srgbClr val="f51e1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51e19"/>
                </a:solidFill>
                <a:latin typeface="Arial"/>
              </a:rPr>
              <a:t>       “               “           </a:t>
            </a:r>
            <a:r>
              <a:rPr b="0" lang="en-US" sz="1800" spc="-1" strike="noStrike">
                <a:solidFill>
                  <a:srgbClr val="f51e1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51e19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f51e19"/>
                </a:solidFill>
                <a:latin typeface="Arial"/>
              </a:rPr>
              <a:t>   “      FROM 150 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CROPS         “               “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  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3  (EXTRA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51e19"/>
                </a:solidFill>
                <a:latin typeface="Arial"/>
              </a:rPr>
              <a:t>NB: NO “TARGET” FOR WOOD,</a:t>
            </a:r>
            <a:r>
              <a:rPr b="0" lang="en-US" sz="1800" spc="-1" strike="noStrike">
                <a:solidFill>
                  <a:srgbClr val="f51e19"/>
                </a:solidFill>
                <a:latin typeface="Arial"/>
              </a:rPr>
              <a:t> BUT</a:t>
            </a:r>
            <a:r>
              <a:rPr b="1" lang="en-US" sz="1800" spc="-1" strike="noStrike">
                <a:solidFill>
                  <a:srgbClr val="f51e19"/>
                </a:solidFill>
                <a:latin typeface="Arial"/>
              </a:rPr>
              <a:t> WOOD </a:t>
            </a:r>
            <a:r>
              <a:rPr b="0" lang="en-US" sz="1800" spc="-1" strike="noStrike">
                <a:solidFill>
                  <a:srgbClr val="f51e19"/>
                </a:solidFill>
                <a:latin typeface="Arial"/>
              </a:rPr>
              <a:t>SEEN AS</a:t>
            </a:r>
            <a:r>
              <a:rPr b="1" lang="en-US" sz="1800" spc="-1" strike="noStrike">
                <a:solidFill>
                  <a:srgbClr val="f51e19"/>
                </a:solidFill>
                <a:latin typeface="Arial"/>
              </a:rPr>
              <a:t> MAIN FARM &amp; WOOD BIOMASS  SOURCE SI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RADITIONALLY USED; KNOWN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HEAP &amp; AVAILABLE (ANNUAL FOREST CUT 65 % OF NA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THER BIOMASS NOT WELL IDENTIFIED OR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51e19"/>
                </a:solidFill>
                <a:latin typeface="Arial"/>
              </a:rPr>
              <a:t>&gt; ESTIMATED 163 M m3 (47%) WOOD FROM EU-15 F-BI BY 2010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4114800" y="101520"/>
              <a:ext cx="838080" cy="4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80880" y="87516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29000" y="56124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uropean Commi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38200" y="476280"/>
            <a:ext cx="20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erprise and Indu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rectorate-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4960" indent="-534960" algn="ctr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 DEVELOPMENTS IN RENEWABLE ENERGY SOURCES (RES) SINCE 200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 LEGIS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“Green Electricity” Directive (22% RES by 20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io-fuels Directive (5.7 % transport bio-fuels by 20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mbined Heat &amp; Power (CHP) Dir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rective on Energy Efficiency in Buil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- Heat Direct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51e19"/>
                </a:solidFill>
                <a:latin typeface="Arial"/>
              </a:rPr>
              <a:t>BUT:</a:t>
            </a:r>
            <a:r>
              <a:rPr b="1" lang="fr-BE" sz="2400" spc="-1" strike="noStrike">
                <a:solidFill>
                  <a:srgbClr val="f51e19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f51e19"/>
                </a:solidFill>
                <a:latin typeface="Arial"/>
              </a:rPr>
              <a:t>RES « TARGETS » NOT MET, 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51e19"/>
                </a:solidFill>
                <a:latin typeface="Arial"/>
              </a:rPr>
              <a:t>- FOREST-BASED INDUSTRIES’ </a:t>
            </a:r>
            <a:r>
              <a:rPr b="1" lang="en-US" sz="2400" spc="-1" strike="noStrike">
                <a:solidFill>
                  <a:srgbClr val="f51e19"/>
                </a:solidFill>
                <a:latin typeface="Arial"/>
              </a:rPr>
              <a:t>INCREASED WOOD    </a:t>
            </a:r>
            <a:r>
              <a:rPr b="1" lang="en-US" sz="2400" spc="-1" strike="noStrike">
                <a:solidFill>
                  <a:srgbClr val="f51e1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51e19"/>
                </a:solidFill>
                <a:latin typeface="Arial"/>
              </a:rPr>
              <a:t> CONSUMPTION</a:t>
            </a:r>
            <a:r>
              <a:rPr b="0" lang="en-US" sz="2400" spc="-1" strike="noStrike">
                <a:solidFill>
                  <a:srgbClr val="f51e19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 far met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OR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stly fr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MS (EU-10), other CEECs &amp;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FORECASTS OF FURTHER SUCH INCREASES IN DEMAND FOR WOOD (e.g. Alter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4114800" y="101520"/>
              <a:ext cx="838080" cy="4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80880" y="87516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29000" y="56124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uropean Commi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538200" y="476280"/>
            <a:ext cx="20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erprise and Indu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rectorate-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4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S Working Group (led by DG Enterpri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Working Group of F-BI Advisory Committe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 u="sng">
                <a:solidFill>
                  <a:srgbClr val="000000"/>
                </a:solidFill>
                <a:uFillTx/>
                <a:latin typeface="Arial"/>
              </a:rPr>
              <a:t>Object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examine the relationships between the EU policies affecting RES and the European wood suppliers and wood-processing industrie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(so as to identify </a:t>
            </a: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solution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4114800" y="101520"/>
              <a:ext cx="838080" cy="4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80880" y="87516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29000" y="56124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uropean Commi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38200" y="476280"/>
            <a:ext cx="20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erprise and Indu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rectorate-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95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RES Working Group - composit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5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560" indent="-529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od suppliers: incl. forest owners, sawmiller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560" indent="-529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od processors, incl. sawmillers, woodworking and paper and board manufacturing industri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560" indent="-529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mission services - DGs AGRI, ENTR,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ENV, RTD, TRE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560" indent="-529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torial expe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4114800" y="101520"/>
              <a:ext cx="838080" cy="4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87516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29000" y="56124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uropean Commi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538200" y="476280"/>
            <a:ext cx="20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erprise and Indu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rectorate-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4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 u="sng">
                <a:solidFill>
                  <a:srgbClr val="000000"/>
                </a:solidFill>
                <a:uFillTx/>
                <a:latin typeface="Arial"/>
              </a:rPr>
              <a:t>RECOMMENDATIONS – five types</a:t>
            </a:r>
            <a:r>
              <a:rPr b="0" lang="fr-BE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4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Arial"/>
              </a:rPr>
              <a:t>Legislation &amp; 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Arial"/>
              </a:rPr>
              <a:t>RTD, innovation &amp; knowledge trans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Arial"/>
              </a:rPr>
              <a:t>Institutional adap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4114800" y="101520"/>
              <a:ext cx="838080" cy="4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80880" y="87516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29000" y="56124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uropean Commi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538200" y="476280"/>
            <a:ext cx="20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erprise and Indu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rectorate-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NEXT STEP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mpletion of RES WG repo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put to </a:t>
            </a: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Community Biomass Plan (CB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new EU initiative to reach RES « targets »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need for follow-up a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3200" spc="-1" strike="noStrike">
                <a:solidFill>
                  <a:srgbClr val="f51e19"/>
                </a:solidFill>
                <a:latin typeface="Arial"/>
              </a:rPr>
              <a:t>- better information, incl. sourc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51e19"/>
                </a:solidFill>
                <a:latin typeface="Arial"/>
              </a:rPr>
              <a:t>	</a:t>
            </a:r>
            <a:r>
              <a:rPr b="0" lang="fr-BE" sz="3200" spc="-1" strike="noStrike">
                <a:solidFill>
                  <a:srgbClr val="f51e19"/>
                </a:solidFill>
                <a:latin typeface="Arial"/>
              </a:rPr>
              <a:t>	</a:t>
            </a:r>
            <a:r>
              <a:rPr b="0" lang="fr-BE" sz="3200" spc="-1" strike="noStrike">
                <a:solidFill>
                  <a:srgbClr val="f51e19"/>
                </a:solidFill>
                <a:latin typeface="Arial"/>
              </a:rPr>
              <a:t>e.g. MS surveys? Other studi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- catalogue</a:t>
            </a: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disseminate best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4114800" y="101520"/>
              <a:ext cx="838080" cy="4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80880" y="87516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9000" y="56124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uropean Commi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538200" y="476280"/>
            <a:ext cx="20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erprise and Indu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rectorate-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Main issues arising from forest/wood sector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ommunity Biomass Plan (CBP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How can the overall 2010 biomass « targets » best be me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51e1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51e19"/>
                </a:solidFill>
                <a:latin typeface="Arial"/>
              </a:rPr>
              <a:t>How much wood should be used as RES and how can that best be managed? (i.e. at national, regional &amp; local lev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51e19"/>
                </a:solidFill>
                <a:latin typeface="Arial"/>
              </a:rPr>
              <a:t>	</a:t>
            </a:r>
            <a:r>
              <a:rPr b="1" lang="fr-BE" sz="2800" spc="-1" strike="noStrike">
                <a:solidFill>
                  <a:srgbClr val="f51e19"/>
                </a:solidFill>
                <a:latin typeface="Arial"/>
              </a:rPr>
              <a:t>(NB challenges &amp; opportunitie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Which other kinds of biomass should be developed to fulfil the remaining biomass needs and how can that be done rapidly on a commercial scale? Which measures are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4114800" y="101520"/>
              <a:ext cx="838080" cy="4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80880" y="87516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29000" y="56124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uropean Commi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38200" y="476280"/>
            <a:ext cx="20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erprise and Indu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rectorate-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0:26:40Z</dcterms:created>
  <dc:creator>YAHIASR</dc:creator>
  <dc:description/>
  <dc:language>en-US</dc:language>
  <cp:lastModifiedBy>JW</cp:lastModifiedBy>
  <dcterms:modified xsi:type="dcterms:W3CDTF">2005-03-24T09:38:06Z</dcterms:modified>
  <cp:revision>36</cp:revision>
  <dc:subject/>
  <dc:title> Climate Change Kyoto Protocol Emissions Trading Directive  2 March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44933178</vt:r8>
  </property>
  <property fmtid="{D5CDD505-2E9C-101B-9397-08002B2CF9AE}" pid="3" name="_AuthorEmail">
    <vt:lpwstr>Jeremy.Wall@cec.eu.int</vt:lpwstr>
  </property>
  <property fmtid="{D5CDD505-2E9C-101B-9397-08002B2CF9AE}" pid="4" name="_AuthorEmailDisplayName">
    <vt:lpwstr>WALL Jeremy (ENTR)</vt:lpwstr>
  </property>
  <property fmtid="{D5CDD505-2E9C-101B-9397-08002B2CF9AE}" pid="5" name="_EmailEntryID">
    <vt:lpwstr>00000000C3C2BFC1E4AC274B930B29D2F412EF40C41E2100</vt:lpwstr>
  </property>
  <property fmtid="{D5CDD505-2E9C-101B-9397-08002B2CF9AE}" pid="6" name="_EmailStoreID">
    <vt:lpwstr>0000000038A1BB1005E5101AA1BB08002B2A56C200006D737073742E646C6C00000000004E495441F9BFB80100AA0037D96E000000433A5C57494E444F57535C4170706C69636174696F6E20446174615C4D6963726F736F66745C4F75746C6F6F6B5C4F75746C6F6F6B2E70737400</vt:lpwstr>
  </property>
  <property fmtid="{D5CDD505-2E9C-101B-9397-08002B2CF9AE}" pid="7" name="_EmailSubject">
    <vt:lpwstr/>
  </property>
  <property fmtid="{D5CDD505-2E9C-101B-9397-08002B2CF9AE}" pid="8" name="_PreviousAdHocReviewCycleID">
    <vt:r8>-1276372433</vt:r8>
  </property>
  <property fmtid="{D5CDD505-2E9C-101B-9397-08002B2CF9AE}" pid="9" name="_ReviewCycleID">
    <vt:r8>-142593797</vt:r8>
  </property>
  <property fmtid="{D5CDD505-2E9C-101B-9397-08002B2CF9AE}" pid="10" name="_ReviewingToolsShownOnce">
    <vt:lpwstr/>
  </property>
</Properties>
</file>