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Joint UNECE/FAO Working Party on Forest Economics and Statisti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22-24 March 2005, Gen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50920" y="6381720"/>
          <a:ext cx="42840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6381720"/>
                    <a:ext cx="428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532720" y="6381720"/>
            <a:ext cx="371520" cy="360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cc"/>
                </a:solidFill>
                <a:latin typeface="Tahoma"/>
              </a:rPr>
              <a:t>Auto-evaluation of FAO</a:t>
            </a:r>
            <a:br>
              <a:rPr sz="3600"/>
            </a:br>
            <a:r>
              <a:rPr b="0" lang="fr-CH" sz="3600" spc="-1" strike="noStrike">
                <a:solidFill>
                  <a:srgbClr val="3333cc"/>
                </a:solidFill>
                <a:latin typeface="Tahoma"/>
              </a:rPr>
              <a:t>outlook studies work programm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3333cc"/>
                </a:solidFill>
                <a:latin typeface="Tahoma"/>
              </a:rPr>
              <a:t>Adrian Whitema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3333cc"/>
                </a:solidFill>
                <a:latin typeface="Tahoma"/>
              </a:rPr>
              <a:t>FAO, Rom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Quality of outlook studi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61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Quality and comparabilit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61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Other sources of outlook studi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77880"/>
            <a:ext cx="9144000" cy="561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Outcome: improving knowledg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677880"/>
            <a:ext cx="9144000" cy="561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Priority for future commitmen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77880"/>
            <a:ext cx="9144000" cy="561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Suggested focus in the futur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77880"/>
            <a:ext cx="9144000" cy="561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Survey of experts and policy maker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981000"/>
            <a:ext cx="813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83 people approached: experts; opinion formers;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70 people conta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One-third non-users; one-fifth only slight users (not getting to opinion formers – especially in govern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Some significant users: CIRAD; METLA; Forest Trends; CIFOR; World Bank; WWF; African Development Bank; Conservation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35 people interviewed in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Strengths and competitive advantag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981000"/>
            <a:ext cx="813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Unrivalled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Credible, unbiased, transparent and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Long-term and multi-country analysis, not available else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Have the authority of FAO’s backing, especially in broader agriculture and land-use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Shortcomings and limit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981000"/>
            <a:ext cx="8135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Not well advertised and weak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Audience is unclear – need more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Too big and too long/detailed for policy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Not enough country-specific follow-up (especially in Afr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Presentation is sometimes a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Overly caut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Short shelf-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(Experts/contributors) – data quality is an issue, sometimes a heavy demand on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itations (total 105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77880"/>
            <a:ext cx="9144000" cy="561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cc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981000"/>
            <a:ext cx="77724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FAO has to auto-evaluate each work programme element every 6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Surveyed OS users and experts Oct-Dec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Present the results of the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- achie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- guidance from W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Citations – use of outlook studi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981000"/>
            <a:ext cx="8135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PUBLIC SECTOR: used to stimulate debate, explain policy and raise awareness of the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PRIVATE SECTOR: used to stimulate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ACADEMIC: used for research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In particular, outlook studies are used to debate environmental issues, then economic and social issues in the forestry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316720" cy="628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urvey of (37) FAO staff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981000"/>
            <a:ext cx="8135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Mixed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Not used extensively, mainly used for information rather tha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Unclear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Poor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Little follow-up i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Short shelf-life, need regular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Should work more holis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cc"/>
                </a:solidFill>
                <a:latin typeface="Tahoma"/>
              </a:rPr>
              <a:t>Comments, questions and guidance please!  Especially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Audience: national policy; international policy; investment – need better focus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Large studies every 10 years or shorter more regular studies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Process – top down or greater country capacity building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rketing – getting the product onto desks!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issues (e.g. future developments)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Auto-evaluation surve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981000"/>
            <a:ext cx="78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Users (from various FAO databases) – internet, e-mail and paper ques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Experts and policymakers – telephone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FAO staff – telephone and face-to-face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Citatio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cc"/>
                </a:solidFill>
                <a:latin typeface="Tahoma"/>
              </a:rPr>
              <a:t>Website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User survey - coverag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935520"/>
        </p:xfrm>
        <a:graphic>
          <a:graphicData uri="http://schemas.openxmlformats.org/drawingml/2006/table">
            <a:tbl>
              <a:tblPr/>
              <a:tblGrid>
                <a:gridCol w="4556160"/>
                <a:gridCol w="1558800"/>
                <a:gridCol w="1117800"/>
                <a:gridCol w="996840"/>
              </a:tblGrid>
              <a:tr h="406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ype of questionn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eople wh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requested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ther peo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. Distributed to mailing lists provided by F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. Number of invalid em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. Number of valid emails (1-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4. Number of tracked responses from email lis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5. Percentage of tracked responses (4 /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. Anonymous respo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tal respo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User survey - coverag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451640" cy="5234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User survey - coverag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665280"/>
            <a:ext cx="9144000" cy="561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Importance of outlook studi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77880"/>
            <a:ext cx="9144000" cy="561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Knowledge of outlook studi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77880"/>
            <a:ext cx="9144000" cy="561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ahoma"/>
              </a:rPr>
              <a:t>Knowledge of outlook studi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77880"/>
            <a:ext cx="9144000" cy="561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5:25:54Z</dcterms:created>
  <dc:creator>Timber Section</dc:creator>
  <dc:description/>
  <dc:language>en-US</dc:language>
  <cp:lastModifiedBy>DeCastro</cp:lastModifiedBy>
  <dcterms:modified xsi:type="dcterms:W3CDTF">2005-03-30T07:12:13Z</dcterms:modified>
  <cp:revision>183</cp:revision>
  <dc:subject/>
  <dc:title>WPFES March 2005</dc:title>
</cp:coreProperties>
</file>