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10160"/>
            <a:ext cx="9144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Fabriquer du Papier en France demain” – 16 déc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50920" y="6381720"/>
          <a:ext cx="428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381720"/>
                    <a:ext cx="428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7152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16256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eorgia"/>
                <a:ea typeface="Times New Roman"/>
              </a:rPr>
              <a:t>European Forest Sector Outlook Study</a:t>
            </a:r>
            <a:r>
              <a:rPr b="0" lang="en-US" sz="4400" spc="-1" strike="noStrike">
                <a:solidFill>
                  <a:srgbClr val="003366"/>
                </a:solidFill>
                <a:latin typeface="Georgia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(Joint FAO/ECE Working Party on Forest Economics and Statistics, 23 March 2005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4876560"/>
            <a:ext cx="8001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eorgia"/>
              </a:rPr>
              <a:t>Kit Pri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eorgia"/>
              </a:rPr>
              <a:t>Chief, Timber Branch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47160" cy="533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DUSTRIAL ROUNDWOOD AS % OF TOTAL FIBRE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e other trends…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creased emphasis on environmental policies and sustainable development at all level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nges in ways government works in the sector: pressures for efficiency and clarity etc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ain policies influencing the forest sector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reater emphasis on biodiversity and nature conserv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gricultural, rural and regional development polici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onsequences of the transition proces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lobalisation, innovation and market structur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ergy, environment, climate chang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Source: Thoroe et al. (2004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e rough orders of magnitude:</a:t>
            </a:r>
            <a:br>
              <a:rPr sz="3600"/>
            </a:b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EUR billion, western Europe/EU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lue of wood production: 9.9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lue of non-wood forest products (excl. nuts): 1.5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lue of forest recreation: 2.6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centives from the state for forestry (national + EU, including fiscal measures and grants, 11 countries): 6.0  (wood production in those countries = 7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: EFSOS sections 2.10, 2.11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OUTLOO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RIVING FORC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inued economic growth, but slower than in the past (2.2% p.a.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vergence of living standards in west and eas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geing popul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 scenarios: baseline, “conservation”, “integration”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ain policy relevant forecasts (1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ycling and residue us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ll continue to expan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newable energy policies will increase demand for woo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urope’s forest resource will continue to expan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ellings will remain below annual increment in Europ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ain policy relevant forecasts (2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est products trade will intensify furthe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conomic viability of forest management will remain threatene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estry sector institutions will continue to evolve rapidl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mand for wood in EUROPE (total), by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0840" cy="5334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MAND FOR FOREST PRODUCTS, WESTER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292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UNECE Timber Committee (TC) and the FAO European Forestry Commission (EFC) work together to promote sustainable forest management in Europe, the CIS and North Ame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677960"/>
            <a:ext cx="8451720" cy="5180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BRE SUPPLY, WESTER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747800"/>
            <a:ext cx="8604360" cy="511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BRE SUPPLY FOR PAPER, SAWNWOOD AND PANELS, TOTAL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951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LEX RAW MATERIAL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584360"/>
            <a:ext cx="8604000" cy="5273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OVERY RATE WILL CONTINUE TO 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18560" cy="4854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WING STOCK, BY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18560" cy="4853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RVEST WILL REMAIN WELL BELOW 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olicy recommendations: gener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cessity of a cross-sectoral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tor should be proactive on climate change issues (analysis, communication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rove monitoring of SF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vernments work together on forest law enforcement and governanc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olicy recommendations: market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timulate sound use of wo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alanced implementation of wood energy polici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velop the region’s comparative advantag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olicy recommendations: SFM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rove economic viability of forest management in Europ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y attention to employment and work force issues (age, lack of skills, low statu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trol forest fires and intensify international cooperation on fir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olicy recommendations: international cooper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560" y="274320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ddress threats to SFM in Balkans and CI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vote policy attention to consequences of shift in balance to the eas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hare experiences on institutional change to countries in transi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sify input to global level: promote European experience in SF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4292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051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ny thanks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Volker Sa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drian White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team of special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national correspon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authors of Discussion Pa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FSOS follow up sugges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imulate EFSOS based policy discussion at national and regional lev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ess importance of cross-sectoral dimension, explain/discuss issu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rove understanding of energy outlook issues, tradeoff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???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27520" cy="5410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14800" y="1600200"/>
            <a:ext cx="4648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2666880"/>
            <a:ext cx="4419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ttp://www.unece.org/trade/ti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.timber@unec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7524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alyses past trends and future outlook for the supply and demand of the goods and services provided by the European fo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vides a more detailed analysis of the outlook for the centrally planned economies, non-wood forest products and services, forest management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pecial emphasis on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oss-sectoral policy lin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vailable in paper copy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ebruar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143000"/>
            <a:ext cx="3962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2752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3962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EFSOS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27520" cy="541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648320" cy="4592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21932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ucture of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2752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20574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Main past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4880" y="30492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2752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67080" y="114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Main trends: the European Fo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86000"/>
            <a:ext cx="4800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xp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vest well below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stock constantly 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tion and forest improvement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for resource mobilisation in some countries (small own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66240" y="304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in trends: Forest products and servic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llapse in eastern Europe and CIS, followed by (partial) recover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constituted panels have grown faster than sawnwoo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=&gt; more demand for small wood, recovered materials: in western Europe, in 2000, industrial roundwood &lt; 50% of raw material use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n-wood products equivalent to perhaps 10-25% of value of total forestry production, services the sam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nsification of international trad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ng term decline in pric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3080" y="30492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3680" y="1536840"/>
            <a:ext cx="86803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OUNDWOOD PRICES FA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5320" cy="822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60320" cy="7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99440" y="228600"/>
            <a:ext cx="692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ECE Timber Committee and FAO European Forestry Com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ECE/FAO Timber Bran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5:25:54Z</dcterms:created>
  <dc:creator>UNECE/FAO TIMBER BRANCH</dc:creator>
  <dc:description/>
  <dc:language>en-US</dc:language>
  <cp:lastModifiedBy>ONU</cp:lastModifiedBy>
  <dcterms:modified xsi:type="dcterms:W3CDTF">2005-03-23T11:34:21Z</dcterms:modified>
  <cp:revision>217</cp:revision>
  <dc:subject>WPFES March 2005</dc:subject>
  <dc:title>EFSOS Review</dc:title>
</cp:coreProperties>
</file>