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7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oudyOlSt BT"/>
              </a:rPr>
              <a:t>Alex Korotkov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OlSt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570E-EEFF-445C-A6A3-F41253E7F608}" type="datetime">
              <a:rPr b="0" lang="en-US" sz="1200" spc="-1" strike="noStrike">
                <a:solidFill>
                  <a:srgbClr val="000000"/>
                </a:solidFill>
                <a:latin typeface="GoudyOlSt BT"/>
              </a:rPr>
              <a:t>07/31/26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oudyOlSt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oudyOlSt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oudyOlSt BT"/>
              </a:rPr>
              <a:t>&lt;footer&gt;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oudyOlSt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A608-0DEC-483A-A5EA-342A09A714F2}" type="slidenum">
              <a:rPr b="0" lang="en-GB" sz="1200" spc="-1" strike="noStrike">
                <a:solidFill>
                  <a:srgbClr val="000000"/>
                </a:solidFill>
                <a:latin typeface="GoudyOlSt BT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oudyOlSt BT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oudyOlSt BT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oudyOlSt BT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oudyOlSt BT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un-goldt" descr=""/>
          <p:cNvPicPr/>
          <p:nvPr/>
        </p:nvPicPr>
        <p:blipFill>
          <a:blip r:embed="rId2"/>
          <a:stretch/>
        </p:blipFill>
        <p:spPr>
          <a:xfrm>
            <a:off x="1371600" y="5791320"/>
            <a:ext cx="1143000" cy="1066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905120" y="5791320"/>
            <a:ext cx="723888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666880" y="5972040"/>
            <a:ext cx="510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Times New Roman"/>
              </a:rPr>
              <a:t>The Joint UNECE/FAO Working Party </a:t>
            </a:r>
            <a:endParaRPr b="0" i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Times New Roman"/>
              </a:rPr>
              <a:t>27th Session,Geneva, 22-24 March 2005</a:t>
            </a:r>
            <a:endParaRPr b="0" i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" name="UN1-Dec01" descr=""/>
          <p:cNvPicPr/>
          <p:nvPr/>
        </p:nvPicPr>
        <p:blipFill>
          <a:blip r:embed="rId3"/>
          <a:stretch/>
        </p:blipFill>
        <p:spPr>
          <a:xfrm>
            <a:off x="0" y="0"/>
            <a:ext cx="1407960" cy="6858000"/>
          </a:xfrm>
          <a:prstGeom prst="rect">
            <a:avLst/>
          </a:prstGeom>
          <a:ln w="0">
            <a:noFill/>
          </a:ln>
        </p:spPr>
      </p:pic>
      <p:pic>
        <p:nvPicPr>
          <p:cNvPr id="4" name="FAO-C" descr=""/>
          <p:cNvPicPr/>
          <p:nvPr/>
        </p:nvPicPr>
        <p:blipFill>
          <a:blip r:embed="rId4"/>
          <a:stretch/>
        </p:blipFill>
        <p:spPr>
          <a:xfrm>
            <a:off x="8001000" y="5805360"/>
            <a:ext cx="1143000" cy="10400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ftr" idx="1"/>
          </p:nvPr>
        </p:nvSpPr>
        <p:spPr>
          <a:xfrm>
            <a:off x="1371240" y="380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GB" sz="10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00"/>
                </a:solidFill>
                <a:latin typeface="Arial"/>
              </a:rPr>
              <a:t>&lt;footer&gt;</a:t>
            </a:r>
            <a:r>
              <a:rPr b="1" i="1" lang="en-GB" sz="1000" spc="-1" strike="noStrike">
                <a:solidFill>
                  <a:srgbClr val="ffff00"/>
                </a:solidFill>
                <a:latin typeface="Arial"/>
              </a:rPr>
              <a:t>ECONOMIC COMMISSION FOR EUROPE 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00"/>
                </a:solidFill>
                <a:latin typeface="Arial"/>
              </a:rPr>
              <a:t>TIMBER COMMITTEE 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00"/>
                </a:solidFill>
                <a:latin typeface="Arial"/>
              </a:rPr>
              <a:t>Fifty-eighth session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fao" descr=""/>
          <p:cNvPicPr/>
          <p:nvPr/>
        </p:nvPicPr>
        <p:blipFill>
          <a:blip r:embed="rId2"/>
          <a:stretch/>
        </p:blipFill>
        <p:spPr>
          <a:xfrm>
            <a:off x="7924680" y="228600"/>
            <a:ext cx="914400" cy="903240"/>
          </a:xfrm>
          <a:prstGeom prst="rect">
            <a:avLst/>
          </a:prstGeom>
          <a:ln w="0">
            <a:noFill/>
          </a:ln>
        </p:spPr>
      </p:pic>
      <p:pic>
        <p:nvPicPr>
          <p:cNvPr id="45" name="un-goldt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1066680" cy="978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267080" y="304920"/>
            <a:ext cx="3657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00"/>
                </a:solidFill>
                <a:latin typeface="Arial"/>
              </a:rPr>
              <a:t>FOOD</a:t>
            </a:r>
            <a:r>
              <a:rPr b="0" i="1" lang="en-GB" sz="1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GB" sz="1000" spc="-1" strike="noStrike">
                <a:solidFill>
                  <a:srgbClr val="ffff00"/>
                </a:solidFill>
                <a:latin typeface="Arial"/>
              </a:rPr>
              <a:t>AND AGRICULTURE ORGANIZATION                                                                                       EUROPEAN FORESTRY COMMISSION                                                                                                      Thirtieth session</a:t>
            </a:r>
            <a:endParaRPr b="0" i="1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unece.org/trade/timber" TargetMode="External"/><Relationship Id="rId3" Type="http://schemas.openxmlformats.org/officeDocument/2006/relationships/hyperlink" Target="http://www.unece.org/trade/timber" TargetMode="External"/><Relationship Id="rId4" Type="http://schemas.openxmlformats.org/officeDocument/2006/relationships/hyperlink" Target="http://www.unece.org/trade/timber" TargetMode="External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440" y="1447560"/>
            <a:ext cx="70102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 u="sng">
                <a:solidFill>
                  <a:srgbClr val="ffff00"/>
                </a:solidFill>
                <a:uFillTx/>
                <a:latin typeface="Times New Roman"/>
              </a:rPr>
              <a:t>Forest Resource Assessment  and indicators of  SFM in the UNECE region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0" y="3657240"/>
            <a:ext cx="5943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66"/>
                </a:solidFill>
                <a:latin typeface="Times New Roman"/>
              </a:rPr>
              <a:t>by 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66"/>
                </a:solidFill>
                <a:latin typeface="Times New Roman"/>
              </a:rPr>
              <a:t>Alexander V. Korotkov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66"/>
                </a:solidFill>
                <a:latin typeface="Times New Roman"/>
              </a:rPr>
              <a:t>UNECE Timber Branch</a:t>
            </a:r>
            <a:r>
              <a:rPr b="1" i="1" lang="en-GB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04880" y="181080"/>
            <a:ext cx="729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UNECE/FAO Integrated Work Program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(Work Area 2 – FRA and C&amp;I for SFM)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1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4000" spc="-1" strike="noStrike" u="sng">
                <a:solidFill>
                  <a:srgbClr val="ffff00"/>
                </a:solidFill>
                <a:uFillTx/>
                <a:latin typeface="Times New Roman"/>
              </a:rPr>
              <a:t>FRA Team of Specialists</a:t>
            </a:r>
            <a:r>
              <a:rPr b="1" i="1" lang="fr-CH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00"/>
                </a:solidFill>
                <a:uFillTx/>
                <a:latin typeface="Times New Roman"/>
              </a:rPr>
              <a:t>Final meeting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Washington DC, 15-17 September 04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00"/>
                </a:solidFill>
                <a:uFillTx/>
                <a:latin typeface="Times New Roman"/>
              </a:rPr>
              <a:t>Outcome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Contribution to FRA 2005 (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overview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nalysis of MCPFE and Montreal process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Recommendation to the new To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Partnership building (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EU Forest Focus, ENFIN, EUROSTAT, EEA, …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MCPFE 2007/08 “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Road Map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” proposa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Background for C&amp;I reporting, etc …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4000" spc="-1" strike="noStrike" u="sng">
                <a:solidFill>
                  <a:srgbClr val="ffff00"/>
                </a:solidFill>
                <a:uFillTx/>
                <a:latin typeface="Times New Roman"/>
              </a:rPr>
              <a:t>FRA Team of Specialists</a:t>
            </a:r>
            <a:r>
              <a:rPr b="1" i="1" lang="fr-CH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914400"/>
            <a:ext cx="754380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00"/>
                </a:solidFill>
                <a:uFillTx/>
                <a:latin typeface="Times New Roman"/>
              </a:rPr>
              <a:t>Follow-up work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RA 2005 regional contribution (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continues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Elaboration of MCPFE Report “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Road map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”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Enquiry elaboration …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Terms and Definitions issues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MCPFE – Montreal C&amp;I: cont. coordination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MCPFE Advisory Group setting up…    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 u="sng">
                <a:solidFill>
                  <a:srgbClr val="ffff00"/>
                </a:solidFill>
                <a:uFillTx/>
                <a:latin typeface="Times New Roman"/>
              </a:rPr>
              <a:t>Working Party is invited</a:t>
            </a:r>
            <a:r>
              <a:rPr b="1" lang="fr-CH" sz="4000" spc="-1" strike="noStrike">
                <a:solidFill>
                  <a:srgbClr val="ffff00"/>
                </a:solidFill>
                <a:latin typeface="Times New Roman"/>
              </a:rPr>
              <a:t> …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1143000"/>
            <a:ext cx="6781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comment / discuss:</a:t>
            </a:r>
            <a:endParaRPr b="0" i="1" lang="en-US" sz="3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was right …?</a:t>
            </a:r>
            <a:endParaRPr b="0" i="1" lang="en-US" sz="3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was wrong …?</a:t>
            </a:r>
            <a:endParaRPr b="0" i="1" lang="en-US" sz="3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lessons are to be learned ?…</a:t>
            </a:r>
            <a:endParaRPr b="0" i="1" lang="en-US" sz="3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rom the previous ToS activities / experience …</a:t>
            </a:r>
            <a:endParaRPr b="0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 u="sng">
                <a:solidFill>
                  <a:srgbClr val="ffff00"/>
                </a:solidFill>
                <a:uFillTx/>
                <a:latin typeface="Times New Roman"/>
              </a:rPr>
              <a:t>Working Party is invited</a:t>
            </a:r>
            <a:r>
              <a:rPr b="1" lang="fr-CH" sz="4000" spc="-1" strike="noStrike">
                <a:solidFill>
                  <a:srgbClr val="ffff00"/>
                </a:solidFill>
                <a:latin typeface="Times New Roman"/>
              </a:rPr>
              <a:t> …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990720"/>
            <a:ext cx="7391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thank the outgoing ToS on the Forest Resources Assessment for its work;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endorse the Team of Specialists’ reported recommendations, and acknowledge its contribution to the process of the preparation and implementation of the global FRA  2005;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support the ToS proposals with regard to the future regional FRA- and C&amp;I- related work, including C&amp;I reporting aspects, and the co-ordination between MCPFE and Montreal processes in this area.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00"/>
                </a:solidFill>
                <a:uFillTx/>
                <a:latin typeface="Times New Roman"/>
              </a:rPr>
              <a:t>New ToS: FRA and C&amp;I for SF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9907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GoudyOlSt BT"/>
              </a:rPr>
              <a:t> 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762120"/>
            <a:ext cx="75438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i="1" lang="en-GB" sz="2800" spc="-1" strike="noStrike" baseline="30000">
                <a:solidFill>
                  <a:srgbClr val="ffff00"/>
                </a:solidFill>
                <a:latin typeface="Times New Roman"/>
              </a:rPr>
              <a:t>st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 meeting, 25-27 April 2005, Geneva 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Times New Roman"/>
              </a:rPr>
              <a:t> Agenda focus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RA- and C&amp;I- related developments 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Preparation for reporting to MCPFE 2007/08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Global FRA 2005 implementation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Draft Enquiry for MCPFE reporting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Montreal – MCPFE cooperation …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uture role of the regional ToS 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5212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 u="sng">
                <a:solidFill>
                  <a:srgbClr val="ffff00"/>
                </a:solidFill>
                <a:uFillTx/>
                <a:latin typeface="Times New Roman"/>
              </a:rPr>
              <a:t>Working Party is invited</a:t>
            </a:r>
            <a:r>
              <a:rPr b="1" lang="fr-CH" sz="4000" spc="-1" strike="noStrike">
                <a:solidFill>
                  <a:srgbClr val="ffff00"/>
                </a:solidFill>
                <a:latin typeface="Times New Roman"/>
              </a:rPr>
              <a:t> …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1143000"/>
            <a:ext cx="7391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cuss and comment on the New ToS settings;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cuss and comment on the Agenda items ; 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endorse the initial planning of the new Team of Specialists activities,  and provide guidance for its future work in the global FRA and MCPFE 2007/08 contexts;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provide guidance on the follow-up work to the recommendations of the former regional ToS on Forest Resources Assessment;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 u="sng">
                <a:solidFill>
                  <a:srgbClr val="ffff00"/>
                </a:solidFill>
                <a:uFillTx/>
                <a:latin typeface="Times New Roman"/>
              </a:rPr>
              <a:t>Working Party is invited</a:t>
            </a:r>
            <a:r>
              <a:rPr b="1" lang="fr-CH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(cont.)…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1219320"/>
            <a:ext cx="7391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suggest any additional relevant issues to be addressed by the Team of Specialists in general, and during its first meeting, specifically;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recommend specific issues to be included on the agenda of the first meeting of the new Team of Specialists, and provide advice on the resource/ financial support of the ToS activities. 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362320" y="0"/>
            <a:ext cx="561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00"/>
                </a:solidFill>
                <a:uFillTx/>
                <a:latin typeface="Times New Roman"/>
              </a:rPr>
              <a:t>FRA and C&amp;I for SFM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838080"/>
            <a:ext cx="716292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st to recall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pl., see MCPFE set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i="1" lang="en-US" sz="3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orest Resources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Global Carbon Cycle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-  </a:t>
            </a:r>
            <a:r>
              <a:rPr b="1" i="1" lang="de-DE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4  (5)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rest Ecosystem 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Health and Vitality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- </a:t>
            </a:r>
            <a:r>
              <a:rPr b="1" i="1" lang="de-DE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4  (7)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oductive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unctions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wood and non-wood) - </a:t>
            </a:r>
            <a:r>
              <a:rPr b="1" i="1" lang="de-DE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5 (3) 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iological Diversity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in Forest Ecosystems  - </a:t>
            </a:r>
            <a:r>
              <a:rPr b="1" i="1" lang="de-DE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 (7)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otective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unctions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in Forest Management - </a:t>
            </a:r>
            <a:r>
              <a:rPr b="1" i="1" lang="de-DE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 (2)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de-DE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i="1" lang="en-GB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ocio-economic</a:t>
            </a:r>
            <a:r>
              <a:rPr b="1" i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unctions</a:t>
            </a:r>
            <a:r>
              <a:rPr b="1" i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and </a:t>
            </a:r>
            <a:r>
              <a:rPr b="1" i="1" lang="en-GB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onditions</a:t>
            </a:r>
            <a:r>
              <a:rPr b="1" i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- </a:t>
            </a:r>
            <a:r>
              <a:rPr b="1" i="1" lang="de-DE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1  (3)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******************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de-DE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otal number of indicators</a:t>
            </a:r>
            <a:r>
              <a:rPr b="1" i="1" lang="de-DE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: </a:t>
            </a:r>
            <a:r>
              <a:rPr b="1" i="1" lang="de-DE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=35 (27)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  qualitative indicators (A and B) …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371600" y="0"/>
          <a:ext cx="777240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0"/>
                    <a:ext cx="7772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1751400" y="5127480"/>
            <a:ext cx="55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400" spc="-1" strike="noStrike">
                <a:solidFill>
                  <a:srgbClr val="ffff00"/>
                </a:solidFill>
                <a:latin typeface="Times New Roman"/>
              </a:rPr>
              <a:t>Source: </a:t>
            </a: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Dr. Aljoscha Requardt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Germany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MCPFE 2007/08 Report</a:t>
            </a:r>
            <a:r>
              <a:rPr b="1" i="1" lang="en-GB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600"/>
            </a:br>
            <a:r>
              <a:rPr b="1" i="1" lang="en-GB" sz="3600" spc="-1" strike="noStrike">
                <a:solidFill>
                  <a:srgbClr val="ffff00"/>
                </a:solidFill>
                <a:latin typeface="Times New Roman"/>
              </a:rPr>
              <a:t>on “</a:t>
            </a:r>
            <a:r>
              <a:rPr b="1" i="1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ate of Forests and Sustainable Forest Management in Europe”</a:t>
            </a: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oad Map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” for the preparation of the MCPFE Report </a:t>
            </a:r>
            <a:r>
              <a:rPr b="1" i="1" lang="en-GB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TIM/EFC/WP.2/2005/4, Annex I)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commendations of the Team of Specialists </a:t>
            </a:r>
            <a:r>
              <a:rPr b="1" i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port of the last meeting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dalities decided by ELM (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arsaw, Oct. 04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rms of Reference of the MCPFE Ad. Group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t of technical issues/ questions</a:t>
            </a:r>
            <a:r>
              <a:rPr b="1" lang="fr-CH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…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133720" y="0"/>
            <a:ext cx="579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4800" spc="-1" strike="noStrike" u="sng">
                <a:solidFill>
                  <a:srgbClr val="ffff00"/>
                </a:solidFill>
                <a:uFillTx/>
                <a:latin typeface="Times New Roman"/>
              </a:rPr>
              <a:t>Presentation outline</a:t>
            </a:r>
            <a:r>
              <a:rPr b="1" i="1" lang="en-GB" sz="40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914400"/>
            <a:ext cx="7315200" cy="45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749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fr-CH" sz="2800" spc="-1" strike="noStrike">
                <a:solidFill>
                  <a:srgbClr val="ffff00"/>
                </a:solidFill>
                <a:latin typeface="Times New Roman"/>
              </a:rPr>
              <a:t>Introduction and background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749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Follow-up to JWP guidance, March</a:t>
            </a:r>
            <a:r>
              <a:rPr b="1" i="1" lang="fr-CH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2004 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749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fr-CH" sz="2800" spc="-1" strike="noStrike">
                <a:solidFill>
                  <a:srgbClr val="ffff00"/>
                </a:solidFill>
                <a:latin typeface="Times New Roman"/>
              </a:rPr>
              <a:t>Global FRA 2005 developments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749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Former</a:t>
            </a:r>
            <a:r>
              <a:rPr b="1" i="1" lang="fr-CH" sz="2800" spc="-1" strike="noStrike">
                <a:solidFill>
                  <a:srgbClr val="ffff00"/>
                </a:solidFill>
                <a:latin typeface="Times New Roman"/>
              </a:rPr>
              <a:t> FRA Team of Specialists, Sept. 2004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749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fr-CH" sz="2800" spc="-1" strike="noStrike">
                <a:solidFill>
                  <a:srgbClr val="ffff00"/>
                </a:solidFill>
                <a:latin typeface="Times New Roman"/>
              </a:rPr>
              <a:t>New Team of Specialists, April 2005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749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Regional</a:t>
            </a:r>
            <a:r>
              <a:rPr b="1" i="1" lang="fr-CH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FRA and C&amp;I </a:t>
            </a:r>
            <a:r>
              <a:rPr b="1" i="1" lang="fr-CH" sz="2800" spc="-1" strike="noStrike">
                <a:solidFill>
                  <a:srgbClr val="ffff00"/>
                </a:solidFill>
                <a:latin typeface="Times New Roman"/>
              </a:rPr>
              <a:t> reporting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749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MCPFE </a:t>
            </a:r>
            <a:r>
              <a:rPr b="1" i="1" lang="fr-CH" sz="2800" spc="-1" strike="noStrike">
                <a:solidFill>
                  <a:srgbClr val="ffff00"/>
                </a:solidFill>
                <a:latin typeface="Times New Roman"/>
              </a:rPr>
              <a:t>reporting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 on SFM 2007/08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749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Future FRA- and CI- related work 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i="1" lang="en-GB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Road Map</a:t>
            </a:r>
            <a:r>
              <a:rPr b="1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” for the preparation of the MCPFE Report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160" y="15235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ckground for the MCPFE C&amp;I reporting - opt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R for the Enquiry elabor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curing (earmarking) financial resour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put from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he new UNECE/FAO ToS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tting up MCPFE Advisory Group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aft enquiry/ questionnaire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520" y="-36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Organisational aspects/ issues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47920" y="11426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U between UNECE/FAO and LUW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Formal plan (with budget) to GCC (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PB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pport from the Team of Specialists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fr-CH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0" i="1" lang="fr-CH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enda</a:t>
            </a:r>
            <a:r>
              <a:rPr b="0" lang="fr-CH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volving relevant institutions into the preparatory/implementation process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est use of existing networks and expertise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CPFE AG: to facilitate…, ensure credibilit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********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WP is invited to comment/ suggest/ propose…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00200" y="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echnical issues/ questions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1)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key question: 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cope and coverage of data collection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…, incl.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all quantitative indicators from MCPFE 2003 Report (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ose not changed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…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some new indicators (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ich ones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?..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improved quantitative indicators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fine the data providers for the specific indicators not to be included into the questionnaire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…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dalities of collaboration with partners…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00200" y="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echnical issues/ questions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fr-CH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Reference periods</a:t>
            </a:r>
            <a:r>
              <a:rPr b="1" lang="fr-CH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for SFM reporting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fr-CH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suggested: 1990, 2003, 2007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fr-CH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any other suggestions ?…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hanges</a:t>
            </a:r>
            <a:r>
              <a:rPr b="1" lang="fr-CH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i="1" lang="fr-CH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ea, GS, ownership, etc</a:t>
            </a:r>
            <a:r>
              <a:rPr b="1" lang="fr-CH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reporting format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fr-CH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calculation from the above data, 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fr-CH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direct repoting of changes…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arbon stock</a:t>
            </a:r>
            <a:r>
              <a:rPr b="1" lang="fr-CH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data: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directly from countries, or from the IPCC process ?…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echnical issues/ questions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fr-CH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to deal with the qualitative indicators….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Times New Roman"/>
                <a:ea typeface="PMingLiU"/>
              </a:rPr>
              <a:t>Part A.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 Overall policy approaches (institutions/ instruments for SF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Times New Roman"/>
                <a:ea typeface="PMingLiU"/>
              </a:rPr>
              <a:t>Part B.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Policies, institutions and instruments by policy area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ordination with the global level data specification (FRA 2005) – e.g. data on “naturalness”/ characteristics of forests…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7391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rms of Reference of the </a:t>
            </a:r>
            <a:r>
              <a:rPr b="1" i="1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1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en-GB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MCPFE Advisory Group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chnical and scientific guidance in the elaboration of a comprehensive report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mproved Pan-European Indicators for Sustainable Forest Management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” - basi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ther relating SFM reporting processes/ projects should be duly considere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ose cooperation with </a:t>
            </a:r>
            <a:r>
              <a:rPr b="1" lang="fr-CH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NECE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S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fr-CH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…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sure the best possible coherence with the work of other relevant processes/ institutions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MCPFE Advisory Group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1" lang="en-GB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Working steps</a:t>
            </a:r>
            <a:r>
              <a:rPr b="1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er alia)</a:t>
            </a:r>
            <a:r>
              <a:rPr b="1" i="1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General concept of the report and reporting forma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cope and coverage of data to be collecte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Terms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definitions applie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gagement of experts for data analysis and processing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rst draft 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port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pre-final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aft 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por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Reporting to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MCPFE governing bodies on the implementation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905120" y="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 u="sng">
                <a:solidFill>
                  <a:srgbClr val="ffff00"/>
                </a:solidFill>
                <a:uFillTx/>
                <a:latin typeface="Times New Roman"/>
              </a:rPr>
              <a:t>The Working Party is invited</a:t>
            </a:r>
            <a:r>
              <a:rPr b="1" lang="fr-CH" sz="4000" spc="-1" strike="noStrike">
                <a:solidFill>
                  <a:srgbClr val="ffff00"/>
                </a:solidFill>
                <a:latin typeface="Times New Roman"/>
              </a:rPr>
              <a:t> … 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90720" y="103176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1447920"/>
            <a:ext cx="7239240" cy="29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endorse the initial planning of the preparation for the countries’ reporting on C&amp;I for SFM to the next Ministerial Conference on the Protection of Forests in Europe, to be held in Warsaw in the year 2007 (or 2008);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47920" y="1810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 u="sng">
                <a:solidFill>
                  <a:srgbClr val="ffff00"/>
                </a:solidFill>
                <a:uFillTx/>
                <a:latin typeface="Times New Roman"/>
              </a:rPr>
              <a:t>The Working Party is invited</a:t>
            </a:r>
            <a:r>
              <a:rPr b="1" lang="fr-CH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(cont.)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90720" y="103176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1219320"/>
            <a:ext cx="7238880" cy="40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iscuss, comment and suggest on modalities of work of the MCPFE Advisory Group for the preparation and implementation of the MCPFE C&amp;I reporting;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put  foreword any ideas concerning the resources / funding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via GCC/ LUW, or directly UNECE/FAO)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? …  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447920" y="1810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 u="sng">
                <a:solidFill>
                  <a:srgbClr val="ffff00"/>
                </a:solidFill>
                <a:uFillTx/>
                <a:latin typeface="Times New Roman"/>
              </a:rPr>
              <a:t>The Working Party is invited</a:t>
            </a:r>
            <a:r>
              <a:rPr b="1" lang="fr-CH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(cont.)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90720" y="103176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76520" y="1219320"/>
            <a:ext cx="723888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iscuss proposals  for the elaboration of the questionnaire (enquiry) for countries’ reporting on SFM, including the issue of reconciling the (existing) current MCPFE and FRA 2005 classifications, terms and definitions;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fr-CH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fr-CH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consider the global FRA 2005 experience for the accomodation of its best features;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92280" y="0"/>
            <a:ext cx="729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UNECE/FAO Integrated Work Program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(Work Area 2)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00200" y="1066680"/>
            <a:ext cx="7315200" cy="67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PAST ……. -  2004-05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FRA 2005, Lessons learned …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Former ToS, Paving grounds 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PRESENT   -  March 2005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 -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on-going 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FRA 2005, new ToS …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MCPFE Report – getting started …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FUTURE    -  2005-07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MCPFE – Reporting 2007/08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Montreal – MCPFE “tuning…”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371600" y="2286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 u="sng">
                <a:solidFill>
                  <a:srgbClr val="ffff00"/>
                </a:solidFill>
                <a:uFillTx/>
                <a:latin typeface="Times New Roman"/>
              </a:rPr>
              <a:t>The Working Party is invited</a:t>
            </a:r>
            <a:r>
              <a:rPr b="1" lang="fr-CH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(cont.)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90720" y="103176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219320"/>
            <a:ext cx="723888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provide practical guidance with regard the time-table for preparation of the MCPFE reporting, and resources (financial) support availability for the preparation of the Report on  “State of Sustainable Forest Management in Europe 2007/2008”;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provide guidance on the organization and direction of future regional FRA-and C&amp;I- related work in general;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00"/>
                </a:solidFill>
                <a:uFillTx/>
                <a:latin typeface="Times New Roman"/>
              </a:rPr>
              <a:t>Forestry Country Profiles</a:t>
            </a:r>
            <a:r>
              <a:rPr b="1" i="1" lang="en-GB" sz="4000" spc="-1" strike="noStrike">
                <a:solidFill>
                  <a:srgbClr val="ffff00"/>
                </a:solidFill>
                <a:latin typeface="Times New Roman"/>
              </a:rPr>
              <a:t> */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828800" y="1066320"/>
            <a:ext cx="6934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-    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Georgia  – 2002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Ukraine  – 2003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Bulgaria – 2004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erbia &amp; Montenegro – 2004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Uzbekistan – 2005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Kazakhstan – 2005-2006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focus on CEEC …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*/</a:t>
            </a: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 availability of resources…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 u="sng">
                <a:solidFill>
                  <a:srgbClr val="ffff00"/>
                </a:solidFill>
                <a:uFillTx/>
                <a:latin typeface="Times New Roman"/>
              </a:rPr>
              <a:t>The Working Party is invited</a:t>
            </a:r>
            <a:r>
              <a:rPr b="1" lang="fr-CH" sz="4000" spc="-1" strike="noStrike">
                <a:solidFill>
                  <a:srgbClr val="ffff00"/>
                </a:solidFill>
                <a:latin typeface="Times New Roman"/>
              </a:rPr>
              <a:t> …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1295280"/>
            <a:ext cx="746748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take note of general direction of the Work Area 2, and indicate whether it endorses the modalities of the regional FRA- and C&amp;I – related  work;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take note of the well established coordination between regional and global FRA, and between UNECE/FAO and MCPFE activities;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449360" y="181080"/>
            <a:ext cx="773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 u="sng">
                <a:solidFill>
                  <a:srgbClr val="ffff00"/>
                </a:solidFill>
                <a:uFillTx/>
                <a:latin typeface="Times New Roman"/>
              </a:rPr>
              <a:t>The Working Party is invited</a:t>
            </a:r>
            <a:r>
              <a:rPr b="1" lang="fr-CH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(cont.)</a:t>
            </a:r>
            <a:r>
              <a:rPr b="1" lang="fr-CH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90720" y="103176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1447920"/>
            <a:ext cx="75438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recommend corresponding WA 2 activities on the harmonization of countries’ reporting on C&amp;I for SFM within the MCPFE and Montreal processes (workshops, meetings, also in conjunction with relating events…)….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057400" y="18108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 u="sng">
                <a:solidFill>
                  <a:srgbClr val="ffff00"/>
                </a:solidFill>
                <a:uFillTx/>
                <a:latin typeface="Times New Roman"/>
              </a:rPr>
              <a:t>The Working Party is invited</a:t>
            </a:r>
            <a:r>
              <a:rPr b="1" lang="fr-CH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90720" y="103176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76520" y="1600200"/>
            <a:ext cx="7238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i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confirm the necessity to maintain strong regional activities in this area in order to satisfy specific regional needs (reporting on C&amp;I  for SFM, etc), and for mobilising regional expertise for the future global FRA rounds.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TBFRAbackgrd1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7391520" cy="4146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600200" y="0"/>
            <a:ext cx="7238880" cy="14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unece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org/trade/timber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00"/>
                </a:solidFill>
                <a:uFillTx/>
                <a:latin typeface="Times New Roman"/>
              </a:rPr>
              <a:t>http:/www.fao.org/forestry/fra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00"/>
                </a:solidFill>
                <a:uFillTx/>
                <a:latin typeface="Times New Roman"/>
              </a:rPr>
              <a:t>http:/www.mspfe.org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 rot="20784000">
            <a:off x="1600200" y="914040"/>
            <a:ext cx="7723080" cy="10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21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Thank you very much for your attention !!! </a:t>
            </a:r>
            <a:endParaRPr b="1" i="1" lang="en-US" sz="3200" spc="1" strike="noStrike">
              <a:ln w="12600">
                <a:solidFill>
                  <a:srgbClr val="00ffff"/>
                </a:solidFill>
                <a:miter/>
              </a:ln>
              <a:solidFill>
                <a:srgbClr val="ffcc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2819520"/>
            <a:ext cx="5562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omments, </a:t>
            </a:r>
            <a:r>
              <a:rPr b="1" lang="fr-CH" sz="44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fr-CH" sz="4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Discussion …. </a:t>
            </a:r>
            <a:r>
              <a:rPr b="1" lang="fr-CH" sz="4400" spc="-1" strike="noStrike">
                <a:solidFill>
                  <a:srgbClr val="ffff00"/>
                </a:solidFill>
                <a:latin typeface="Times New Roman"/>
              </a:rPr>
              <a:t>Guidance …</a:t>
            </a: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!!!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(by 4 sections)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1" name="QuestionMark1" descr=""/>
          <p:cNvPicPr/>
          <p:nvPr/>
        </p:nvPicPr>
        <p:blipFill>
          <a:blip r:embed="rId1"/>
          <a:stretch/>
        </p:blipFill>
        <p:spPr>
          <a:xfrm>
            <a:off x="7086600" y="3581280"/>
            <a:ext cx="1752480" cy="1600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600200" y="228600"/>
            <a:ext cx="1103400" cy="1106640"/>
          </a:xfrm>
          <a:prstGeom prst="rect">
            <a:avLst/>
          </a:prstGeom>
          <a:ln w="0">
            <a:noFill/>
          </a:ln>
        </p:spPr>
      </p:pic>
      <p:pic>
        <p:nvPicPr>
          <p:cNvPr id="173" name="Globe%20-%20EFSOS-clear-gif" descr=""/>
          <p:cNvPicPr/>
          <p:nvPr/>
        </p:nvPicPr>
        <p:blipFill>
          <a:blip r:embed="rId3"/>
          <a:stretch/>
        </p:blipFill>
        <p:spPr>
          <a:xfrm>
            <a:off x="7162920" y="1523880"/>
            <a:ext cx="175248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057400" y="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JWP 2004 guidance for WA 2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838080"/>
            <a:ext cx="6400800" cy="50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200"/>
              </a:spcBef>
              <a:spcAft>
                <a:spcPts val="119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cessity to maintain strong </a:t>
            </a: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regional FRA-related activities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in the global context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spcAft>
                <a:spcPts val="119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 u="sng">
                <a:solidFill>
                  <a:srgbClr val="ffff00"/>
                </a:solidFill>
                <a:uFillTx/>
                <a:latin typeface="Times New Roman"/>
              </a:rPr>
              <a:t>Support to </a:t>
            </a:r>
            <a:r>
              <a:rPr b="1" i="1" lang="fr-CH" sz="3200" spc="-1" strike="noStrike" u="sng">
                <a:solidFill>
                  <a:srgbClr val="ffff00"/>
                </a:solidFill>
                <a:uFillTx/>
                <a:latin typeface="Times New Roman"/>
              </a:rPr>
              <a:t>regional </a:t>
            </a:r>
            <a:r>
              <a:rPr b="1" i="1" lang="en-GB" sz="3200" spc="-1" strike="noStrike" u="sng">
                <a:solidFill>
                  <a:srgbClr val="ffff00"/>
                </a:solidFill>
                <a:uFillTx/>
                <a:latin typeface="Times New Roman"/>
              </a:rPr>
              <a:t>FRA ToS</a:t>
            </a:r>
            <a:r>
              <a:rPr b="1" i="1" lang="fr-CH" sz="3200" spc="-1" strike="noStrike" u="sng">
                <a:solidFill>
                  <a:srgbClr val="ffff00"/>
                </a:solidFill>
                <a:uFillTx/>
                <a:latin typeface="Times New Roman"/>
              </a:rPr>
              <a:t> work</a:t>
            </a:r>
            <a:r>
              <a:rPr b="1" i="1" lang="en-GB" sz="32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801"/>
              </a:spcBef>
              <a:spcAft>
                <a:spcPts val="119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GB" sz="3200" spc="-1" strike="noStrike" u="sng">
                <a:solidFill>
                  <a:srgbClr val="ffff00"/>
                </a:solidFill>
                <a:uFillTx/>
                <a:latin typeface="Times New Roman"/>
              </a:rPr>
              <a:t>Recommendation to Strategic Review to set up New ToS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00"/>
              </a:spcBef>
              <a:spcAft>
                <a:spcPts val="119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GB" sz="3200" spc="-1" strike="noStrike" u="sng">
                <a:solidFill>
                  <a:srgbClr val="ffff00"/>
                </a:solidFill>
                <a:uFillTx/>
                <a:latin typeface="Times New Roman"/>
              </a:rPr>
              <a:t>Financial support and capacity building</a:t>
            </a: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 – FRA 2005 workshops, ToS meetings, consultancies, etc…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 u="sng">
                <a:solidFill>
                  <a:srgbClr val="ffff00"/>
                </a:solidFill>
                <a:uFillTx/>
                <a:latin typeface="Times New Roman"/>
              </a:rPr>
              <a:t>TC &amp; EFC Joint session 2004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990720"/>
            <a:ext cx="723888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i="1" lang="fr-CH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oint session adopted Integrated Work Programme: 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1. Indicators of SFM in the region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2  Regional contribution  to global FRA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3  Support to development of national systems for forest monitoring</a:t>
            </a:r>
            <a:r>
              <a:rPr b="1" i="1" lang="fr-CH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i="1" lang="fr-CH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dorsed settinig up the ToS on FRA and C&amp;I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i="1" lang="fr-CH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pproved the Mandate of new ToS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 u="sng">
                <a:solidFill>
                  <a:srgbClr val="ffff00"/>
                </a:solidFill>
                <a:uFillTx/>
                <a:latin typeface="Times New Roman"/>
              </a:rPr>
              <a:t>Global FRA 2005 development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520" y="11426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FRA 2005 implementation (</a:t>
            </a:r>
            <a:r>
              <a:rPr b="1" i="1" lang="fr-CH" sz="28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i="1" lang="fr-CH" sz="2400" spc="-1" strike="noStrike">
                <a:solidFill>
                  <a:srgbClr val="ffff00"/>
                </a:solidFill>
                <a:latin typeface="Times New Roman"/>
              </a:rPr>
              <a:t>ountries’ reporting; Network of FRA National Correspondents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…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Intensive communication, checking, validation, etc…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Sub-regional workshops (</a:t>
            </a:r>
            <a:r>
              <a:rPr b="1" i="1" lang="fr-CH" sz="2800" spc="-1" strike="noStrike">
                <a:solidFill>
                  <a:srgbClr val="ffff00"/>
                </a:solidFill>
                <a:latin typeface="Times New Roman"/>
              </a:rPr>
              <a:t>Hungary, Poland</a:t>
            </a: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AG meeting in January 2005, Rom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Proposals for finalising FRA 2005 docs …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Main Report is expected by end-2005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523520" y="9140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Or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ginally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established deadlines </a:t>
            </a: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???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… */ ,  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Times New Roman"/>
              </a:rPr>
              <a:t>BUT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"</a:t>
            </a: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Getting numbers right is important…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Not knowing the real size of issues migh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limit our ability to articulate what we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need to do to tackle them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”…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imes New Roman"/>
              </a:rPr>
              <a:t>____________________________________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*/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FRA 2005 scope and timetable were reported to the JWP at its previous session …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480" y="0"/>
            <a:ext cx="667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 u="sng">
                <a:solidFill>
                  <a:srgbClr val="ffff00"/>
                </a:solidFill>
                <a:uFillTx/>
                <a:latin typeface="Times New Roman"/>
              </a:rPr>
              <a:t>FRA 2005 developments</a:t>
            </a:r>
            <a:r>
              <a:rPr b="1" lang="fr-CH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fr-CH" sz="3200" spc="-1" strike="noStrike">
                <a:solidFill>
                  <a:srgbClr val="ffff00"/>
                </a:solidFill>
                <a:latin typeface="Times New Roman"/>
              </a:rPr>
              <a:t>(cont.)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 u="sng">
                <a:solidFill>
                  <a:srgbClr val="ffff00"/>
                </a:solidFill>
                <a:uFillTx/>
                <a:latin typeface="Times New Roman"/>
              </a:rPr>
              <a:t>Working Party is invited</a:t>
            </a:r>
            <a:r>
              <a:rPr b="1" lang="fr-CH" sz="4000" spc="-1" strike="noStrike">
                <a:solidFill>
                  <a:srgbClr val="ffff00"/>
                </a:solidFill>
                <a:latin typeface="Times New Roman"/>
              </a:rPr>
              <a:t> …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1295280"/>
            <a:ext cx="7162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take note of the current global and regional FRA and C&amp;I-related work, organizational and methodological aspects of carrying out the global FRA 2005, and the regional UNECE/FAO contribution to the project;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lessons to be learned from the on-going global FRA-2005 process ?…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 u="sng">
                <a:solidFill>
                  <a:srgbClr val="ffff00"/>
                </a:solidFill>
                <a:uFillTx/>
                <a:latin typeface="Times New Roman"/>
              </a:rPr>
              <a:t>Working Party is invited</a:t>
            </a:r>
            <a:r>
              <a:rPr b="1" lang="fr-CH" sz="4000" spc="-1" strike="noStrike">
                <a:solidFill>
                  <a:srgbClr val="ffff00"/>
                </a:solidFill>
                <a:latin typeface="Times New Roman"/>
              </a:rPr>
              <a:t> …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1143000"/>
            <a:ext cx="7162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articular:…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 comment/ discuss the lessons learned from the planning and timetable of the global FRA 2005, and modalities of its implementation;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advise how more resources might be made available for the implementation of projects of such magnitude as FRA 2005.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8T10:36:28Z</dcterms:created>
  <dc:creator>Huybrechts</dc:creator>
  <dc:description/>
  <dc:language>en-US</dc:language>
  <cp:lastModifiedBy>Korotkov Alexander</cp:lastModifiedBy>
  <cp:lastPrinted>2002-05-26T16:57:00Z</cp:lastPrinted>
  <dcterms:modified xsi:type="dcterms:W3CDTF">2005-03-23T07:03:29Z</dcterms:modified>
  <cp:revision>497</cp:revision>
  <dc:subject/>
  <dc:title>Define the Subject</dc:title>
</cp:coreProperties>
</file>