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oudyOlSt BT"/>
              </a:rPr>
              <a:t>Alex Korotko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E9A-F32B-461E-BD37-EE9CB9B148D1}" type="datetime">
              <a:rPr b="0" lang="en-US" sz="1200" spc="-1" strike="noStrike">
                <a:solidFill>
                  <a:srgbClr val="000000"/>
                </a:solidFill>
                <a:latin typeface="GoudyOlSt BT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oudyOlSt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oudyOlSt BT"/>
              </a:rPr>
              <a:t>&lt;footer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oudyOl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675-6E2F-44B4-9FE1-25C000F0E123}" type="slidenum">
              <a:rPr b="0" lang="en-GB" sz="1200" spc="-1" strike="noStrike">
                <a:solidFill>
                  <a:srgbClr val="000000"/>
                </a:solidFill>
                <a:latin typeface="GoudyOlSt BT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-goldt" descr=""/>
          <p:cNvPicPr/>
          <p:nvPr/>
        </p:nvPicPr>
        <p:blipFill>
          <a:blip r:embed="rId2"/>
          <a:stretch/>
        </p:blipFill>
        <p:spPr>
          <a:xfrm>
            <a:off x="1371600" y="57913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905120" y="5791320"/>
            <a:ext cx="72388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66880" y="597204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The Joint UNECE/FAO Working Party 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27th Session,Geneva, 22-24 March 2005</a:t>
            </a: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UN1-Dec01" descr=""/>
          <p:cNvPicPr/>
          <p:nvPr/>
        </p:nvPicPr>
        <p:blipFill>
          <a:blip r:embed="rId3"/>
          <a:stretch/>
        </p:blipFill>
        <p:spPr>
          <a:xfrm>
            <a:off x="0" y="0"/>
            <a:ext cx="140796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FAO-C" descr=""/>
          <p:cNvPicPr/>
          <p:nvPr/>
        </p:nvPicPr>
        <p:blipFill>
          <a:blip r:embed="rId4"/>
          <a:stretch/>
        </p:blipFill>
        <p:spPr>
          <a:xfrm>
            <a:off x="8001000" y="5805360"/>
            <a:ext cx="1143000" cy="1040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1"/>
          </p:nvPr>
        </p:nvSpPr>
        <p:spPr>
          <a:xfrm>
            <a:off x="137124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GB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&lt;footer&gt;</a:t>
            </a: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ECONOMIC COMMISSION FOR EUROPE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TIMBER COMMITTEE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Fifty-eighth session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ao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45" name="un-goldt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066680" cy="97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0" i="1" lang="en-GB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1000" spc="-1" strike="noStrike">
                <a:solidFill>
                  <a:srgbClr val="ffff00"/>
                </a:solidFill>
                <a:latin typeface="Arial"/>
              </a:rPr>
              <a:t>AND AGRICULTURE ORGANIZATION                                                                                       EUROPEAN FORESTRY COMMISSION                                                                                                      Thirtieth session</a:t>
            </a:r>
            <a:endParaRPr b="0" i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unece.org/trade/timber" TargetMode="External"/><Relationship Id="rId3" Type="http://schemas.openxmlformats.org/officeDocument/2006/relationships/hyperlink" Target="http://www.unece.org/trade/timber" TargetMode="External"/><Relationship Id="rId4" Type="http://schemas.openxmlformats.org/officeDocument/2006/relationships/hyperlink" Target="http://www.unece.org/trade/timber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4475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 u="sng">
                <a:solidFill>
                  <a:srgbClr val="ffff00"/>
                </a:solidFill>
                <a:uFillTx/>
                <a:latin typeface="Times New Roman"/>
              </a:rPr>
              <a:t>Forest Resource Assessment  and indicators of  SFM in the UNECE region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by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Times New Roman"/>
              </a:rPr>
              <a:t>Alexander V. Korotkov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Times New Roman"/>
              </a:rPr>
              <a:t>UNECE Timber Branch</a:t>
            </a: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4880" y="181080"/>
            <a:ext cx="72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UNECE/FAO Integrated Work Program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(Work Area 2 – FRA and C&amp;I for SFM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Team of Specialists</a:t>
            </a:r>
            <a:r>
              <a:rPr b="1" i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nal meeting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Washington DC, 15-17 September 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Outcome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ibution to FRA 2005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alysis of MCPFE and Montreal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ecommendation to the new 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artnership building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EU Forest Focus, ENFIN, EUROSTAT, EEA, …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2007/08 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 pro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ackground for C&amp;I reporting, etc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Team of Specialists</a:t>
            </a:r>
            <a:r>
              <a:rPr b="1" i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914400"/>
            <a:ext cx="754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ollow-up work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RA 2005 regional contribution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contin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laboration of MCPFE Report 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quiry elaboration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erms and Definitions issue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– Montreal C&amp;I: cont. coordin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CPFE Advisory Group setting up…  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1143000"/>
            <a:ext cx="678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mment / discuss: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was right …?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was wrong …?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lessons are to be learned ?…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om the previous ToS activities / experience …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9907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hank the outgoing ToS on the Forest Resources Assessment for its work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Team of Specialists’ reported recommendations, and acknowledge its contribution to the process of the preparation and implementation of the global FRA  2005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support the ToS proposals with regard to the future regional FRA- and C&amp;I- related work, including C&amp;I reporting aspects, and the co-ordination between MCPFE and Montreal processes in this area.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New ToS: FRA and C&amp;I for SF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GoudyOlSt BT"/>
              </a:rPr>
              <a:t>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762120"/>
            <a:ext cx="7543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i="1" lang="en-GB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meeting, 25-27 April 2005, Geneva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 Agenda focu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RA- and C&amp;I- related developments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eparation for reporting to MCPFE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lobal FRA 2005 implement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raft Enquiry for MCPFE reporting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Montreal – MCPFE cooperation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uture role of the regional ToS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14300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and comment on the New ToS setting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and comment on the Agenda items ;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initial planning of the new Team of Specialists activities,  and provide guidance for its future work in the global FRA and MCPFE 2007/08 context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guidance on the follow-up work to the recommendations of the former regional ToS on Forest Resources Assessment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21932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suggest any additional relevant issues to be addressed by the Team of Specialists in general, and during its first meeting, specifically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commend specific issues to be included on the agenda of the first meeting of the new Team of Specialists, and provide advice on the resource/ financial support of the ToS activities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62320" y="0"/>
            <a:ext cx="56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and C&amp;I for SF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838080"/>
            <a:ext cx="71629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st to recal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l., see MCPFE se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rest Resource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lobal Carbon Cycl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  (5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st Ecosystem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alth and Vitality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  (7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ductiv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wood and non-wood)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 (3) 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logical Diversity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Forest Ecosystems 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 (7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tectiv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Forest Management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 (2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cio-economic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nditions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de-DE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  (3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*****************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tal number of indicators</a:t>
            </a: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i="1" lang="de-DE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=35 (27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  qualitative indicators (A and B) 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371600" y="0"/>
          <a:ext cx="7772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751400" y="5127480"/>
            <a:ext cx="55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Source: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Dr. Aljoscha Requard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CPFE 2007/08 Report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GB" sz="3600" spc="-1" strike="noStrike">
                <a:solidFill>
                  <a:srgbClr val="ffff00"/>
                </a:solidFill>
                <a:latin typeface="Times New Roman"/>
              </a:rPr>
              <a:t>on “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 of Forests and Sustainable Forest Management in Europe”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ad Map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for the preparation of the MCPFE Report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IM/EFC/WP.2/2005/4, Annex I)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mendations of the Team of Specialists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 of the last meeting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alities decided by ELM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saw, Oct. 04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ms of Reference of the MCPFE Ad. Group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t of technical issues/ questions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33720" y="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4800" spc="-1" strike="noStrike" u="sng">
                <a:solidFill>
                  <a:srgbClr val="ffff00"/>
                </a:solidFill>
                <a:uFillTx/>
                <a:latin typeface="Times New Roman"/>
              </a:rPr>
              <a:t>Presentation outline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914400"/>
            <a:ext cx="731520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Introduction and background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llow-up to JWP guidance, March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2004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Global FRA 2005 development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rmer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FRA Team of Specialists, Sept. 2004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New Team of Specialists, April 2005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Regional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and C&amp;I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 reporting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reporting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on SFM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uture FRA- and CI- related work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ad Map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for the preparation of the MCPFE Report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ckground for the MCPFE C&amp;I reporting - op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R for the Enquiry elabo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uring (earmarking) financial resou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put fro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new UNECE/FAO T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tting up MCPFE Advisory Group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ft enquiry/ questionnair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ganisational aspects/ issu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U between UNECE/FAO and LU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mal plan (with budget) to GCC (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PB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 from the Team of Specialist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ing relevant institutions into the preparatory/implementation proces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 use of existing networks and expertis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PFE AG: to facilitate…, ensure credi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****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WP is invited to comment/ suggest/ propose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key question: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and coverage of data collec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, incl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ll quantitative indicators from MCPFE 2003 Report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ose not chang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ome new indicators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on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?..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mproved quantitative indicator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fine the data providers for the specific indicators not to be included into the questionnair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alities of collaboration with partners…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ference periods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or SFM reporting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uggested: 1990, 2003, 200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any other suggestions ?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nges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a, GS, ownership, etc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reporting format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alculation from the above data, 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direct repoting of changes…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rbon stock</a:t>
            </a:r>
            <a:r>
              <a:rPr b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ata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irectly from countries, or from the IPCC process ?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chnical issues/ question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eal with the qualitative indicators….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PMingLiU"/>
              </a:rPr>
              <a:t>Part A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Overall policy approaches (institutions/ instruments for SF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PMingLiU"/>
              </a:rPr>
              <a:t>Part B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olicies, institutions and instruments by policy are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ion with the global level data specification (FRA 2005) – e.g. data on “naturalness”/ characteristics of forests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ms of Reference of the </a:t>
            </a: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CPFE Advisory Group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chnical and scientific guidance in the elaboration of a comprehensive report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roved Pan-European Indicators for Sustainable Forest Management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- bas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relating SFM reporting processes/ projects should be duly considere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ose cooperation with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ECE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sure the best possible coherence with the work of other relevant processes/ institution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CPFE Advisory Group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GB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Working steps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 alia)</a:t>
            </a:r>
            <a:r>
              <a:rPr b="1" i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eneral concept of the report and reporting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and coverage of data to be collec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erm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finitions appli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ment of experts for data analysis and processing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draft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pre-final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ft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o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eporting to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CPFE governing bodies on the implement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05120" y="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 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447920"/>
            <a:ext cx="72392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endorse the initial planning of the preparation for the countries’ reporting on C&amp;I for SFM to the next Ministerial Conference on the Protection of Forests in Europe, to be held in Warsaw in the year 2007 (or 2008)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81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219320"/>
            <a:ext cx="723888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iscuss, comment and suggest on modalities of work of the MCPFE Advisory Group for the preparation and implementation of the MCPFE C&amp;I reporting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ut  foreword any ideas concerning the resources / fund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via GCC/ LUW, or directly UNECE/FAO)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? …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181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1219320"/>
            <a:ext cx="72388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iscuss proposals  for the elaboration of the questionnaire (enquiry) for countries’ reporting on SFM, including the issue of reconciling the (existing) current MCPFE and FRA 2005 classifications, terms and definition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nsider the global FRA 2005 experience for the accomodation of its best feature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92280" y="0"/>
            <a:ext cx="72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UNECE/FAO Integrated Work Program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(Work Area 2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066680"/>
            <a:ext cx="73152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PAST ……. -  2004-05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2005, Lessons learned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rmer ToS, Paving grounds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PRESENT   -  March 2005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n-going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RA 2005, new ToS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Report – getting started …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TURE    -  2005-07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CPFE – Reporting 2007/08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Montreal – MCPFE “tuning…”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219320"/>
            <a:ext cx="7238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practical guidance with regard the time-table for preparation of the MCPFE reporting, and resources (financial) support availability for the preparation of the Report on  “State of Sustainable Forest Management in Europe 2007/2008”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provide guidance on the organization and direction of future regional FRA-and C&amp;I- related work in general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Times New Roman"/>
              </a:rPr>
              <a:t>Forestry Country Profiles</a:t>
            </a: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 */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8800" y="10663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-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Georgia  – 200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Ukraine  – 200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Bulgaria –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rbia &amp; Montenegro –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Uzbekistan –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Kazakhstan – 2005-20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cus on CEEC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*/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 availability of resources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295280"/>
            <a:ext cx="74674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general direction of the Work Area 2, and indicate whether it endorses the modalities of the regional FRA- and C&amp;I – related  work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the well established coordination between regional and global FRA, and between UNECE/FAO and MCPFE activities;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9360" y="181080"/>
            <a:ext cx="77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447920"/>
            <a:ext cx="7543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commend corresponding WA 2 activities on the harmonization of countries’ reporting on C&amp;I for SFM within the MCPFE and Montreal processes (workshops, meetings, also in conjunction with relating events…)…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1810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Working Party is invited</a:t>
            </a:r>
            <a:r>
              <a:rPr b="1" lang="fr-CH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90720" y="10317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160020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confirm the necessity to maintain strong regional activities in this area in order to satisfy specific regional needs (reporting on C&amp;I  for SFM, etc), and for mobilising regional expertise for the future global FRA rounds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BFRAbackgrd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7391520" cy="4146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0"/>
            <a:ext cx="723888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unec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org/trade/timber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http:/www.fao.org/forestry/fra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http:/www.mspfe.org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 rot="20784000">
            <a:off x="1600200" y="914040"/>
            <a:ext cx="772308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 you very much for your attention !!! </a:t>
            </a:r>
            <a:endParaRPr b="1" i="1" lang="en-US" sz="3200" spc="1" strike="noStrike">
              <a:ln w="12600">
                <a:solidFill>
                  <a:srgbClr val="00ffff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819520"/>
            <a:ext cx="5562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omments, 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iscussion …. </a:t>
            </a:r>
            <a:r>
              <a:rPr b="1" lang="fr-CH" sz="4400" spc="-1" strike="noStrike">
                <a:solidFill>
                  <a:srgbClr val="ffff00"/>
                </a:solidFill>
                <a:latin typeface="Times New Roman"/>
              </a:rPr>
              <a:t>Guidance …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!!!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(by 4 sections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" name="QuestionMark1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1103400" cy="1106640"/>
          </a:xfrm>
          <a:prstGeom prst="rect">
            <a:avLst/>
          </a:prstGeom>
          <a:ln w="0">
            <a:noFill/>
          </a:ln>
        </p:spPr>
      </p:pic>
      <p:pic>
        <p:nvPicPr>
          <p:cNvPr id="173" name="Globe%20-%20EFSOS-clear-gif" descr=""/>
          <p:cNvPicPr/>
          <p:nvPr/>
        </p:nvPicPr>
        <p:blipFill>
          <a:blip r:embed="rId3"/>
          <a:stretch/>
        </p:blipFill>
        <p:spPr>
          <a:xfrm>
            <a:off x="7162920" y="15238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JWP 2004 guidance for WA 2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838080"/>
            <a:ext cx="6400800" cy="50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200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cessity to maintain strong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gional FRA-related activities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n the global contex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pport to </a:t>
            </a:r>
            <a:r>
              <a:rPr b="1" i="1" lang="fr-CH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RA ToS</a:t>
            </a:r>
            <a:r>
              <a:rPr b="1" i="1" lang="fr-CH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ork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801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mmendation to Strategic Review to set up New To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00"/>
              </a:spcBef>
              <a:spcAft>
                <a:spcPts val="11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nancial support and capacity building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– FRA 2005 workshops, ToS meetings, consultancies, etc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TC &amp; EFC Joint session 2004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990720"/>
            <a:ext cx="72388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int session adopted Integrated Work Programme: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. Indicators of SFM in the reg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2  Regional contribution  to global FRA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3  Support to development of national systems for forest monitoring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orsed settinig up the ToS on FRA and C&amp;I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roved the Mandate of new To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Global FRA 2005 develop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11426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FRA 2005 implementation (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fr-CH" sz="2400" spc="-1" strike="noStrike">
                <a:solidFill>
                  <a:srgbClr val="ffff00"/>
                </a:solidFill>
                <a:latin typeface="Times New Roman"/>
              </a:rPr>
              <a:t>ountries’ reporting; Network of FRA National Correspondent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…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Intensive communication, checking, validation, etc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Sub-regional workshops (</a:t>
            </a:r>
            <a:r>
              <a:rPr b="1" i="1" lang="fr-CH" sz="2800" spc="-1" strike="noStrike">
                <a:solidFill>
                  <a:srgbClr val="ffff00"/>
                </a:solidFill>
                <a:latin typeface="Times New Roman"/>
              </a:rPr>
              <a:t>Hungary, Poland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AG meeting in January 2005, Ro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Proposals for finalising FRA 2005 doc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Main Report is expected by end-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914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ginally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established deadlines </a:t>
            </a: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???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… */ ,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BUT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Getting numbers right is important…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Not knowing the real size of issues migh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limit our ability to articulate what w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need to do to tackle them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”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____________________________________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*/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RA 2005 scope and timetable were reported to the JWP at its previous session 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480" y="0"/>
            <a:ext cx="66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FRA 2005 developments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CH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9528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ake note of the current global and regional FRA and C&amp;I-related work, organizational and methodological aspects of carrying out the global FRA 2005, and the regional UNECE/FAO contribution to the project;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lessons to be learned from the on-going global FRA-2005 process ?…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 u="sng">
                <a:solidFill>
                  <a:srgbClr val="ffff00"/>
                </a:solidFill>
                <a:uFillTx/>
                <a:latin typeface="Times New Roman"/>
              </a:rPr>
              <a:t>Working Party is invited</a:t>
            </a:r>
            <a:r>
              <a:rPr b="1" lang="fr-CH" sz="40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14300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articular:…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 comment/ discuss the lessons learned from the planning and timetable of the global FRA 2005, and modalities of its implementation;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dvise how more resources might be made available for the implementation of projects of such magnitude as FRA 2005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8T10:36:28Z</dcterms:created>
  <dc:creator>Huybrechts</dc:creator>
  <dc:description/>
  <dc:language>en-US</dc:language>
  <cp:lastModifiedBy>Korotkov Alexander</cp:lastModifiedBy>
  <cp:lastPrinted>2002-05-26T16:57:00Z</cp:lastPrinted>
  <dcterms:modified xsi:type="dcterms:W3CDTF">2005-03-23T07:03:29Z</dcterms:modified>
  <cp:revision>497</cp:revision>
  <dc:subject/>
  <dc:title>Define the Subject</dc:title>
</cp:coreProperties>
</file>