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14560" y="6095880"/>
            <a:ext cx="795312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14600" y="6141960"/>
            <a:ext cx="54100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Working Party on Forest Economics and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Tahoma"/>
              </a:rPr>
              <a:t>22-24 March 2005, Gen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un-goldt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600200" y="6095880"/>
            <a:ext cx="762120" cy="6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8039160" y="613404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613404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7360" y="66135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hoto: B. Mich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Item 3. Guidance of Work Area 1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Tahoma"/>
              </a:rPr>
              <a:t>Markets and Statistics</a:t>
            </a:r>
            <a:endParaRPr b="0" lang="en-US" sz="36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4760" y="2895120"/>
            <a:ext cx="6476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e market side, b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Ed Pepk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rest Products Marketing Specialis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UNECE/FAO Timber Branch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4714920" y="53182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Document TIM/EFC/WP.2/2005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1.5 Forest fire statistic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llect through national correspond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issemina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atabase (internal Timber Branch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Former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, issue 4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ebsite with 2001 statistic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1.6” Teams of specialists, info network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upport above activit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tatistical correspondents network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ertification and certified forest products network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ovide advic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tudies by team(s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eetings and activit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Question for Working Party 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gramme of Work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o the activities adequately address the items in the Work Area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sider in light of current resour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ecretaria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Loaned exper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n-kind contribut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nter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I. Market-related activities of WA 1 =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rest Products Marketing Programm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nalysis of market developments and trend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llection of statistics and inform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issemination of market inform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nnual TC Market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apacity building in marketing in central and eastern European and CIS countri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eam of Specialists on Forest Products Markets and Market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ww.unece.org/trade/timber/mis/fpmp.ht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II.1. UNECE/FAO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m of Specialists on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rest Products Markets and Marketing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eam’s mandate: 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To contribute to the sustainable development of forest products markets in the UNECE region.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ovide a forum for discussion of forest products market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ntribute to the annual TC market discussions and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hereby advise the TC and EFC on market develop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dvise implementation of Work Area 1, its products and publications, and undertaking studies as appropria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rovide assistance in marketing in the UNECE region, especially to central and eastern European countries, through information collection, analysis and dissemination, including workshops.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eam’s terms of referenc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Approved by TC and EFC in October 200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Extended through 2008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port annually to Working Part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esentation b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r. Michael Buckle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puty Leader of the Tea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Annual report to the Working Party 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“</a:t>
            </a: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Accomplishments and Future Planned Activities.”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Team’s annual report topics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organization into 3 subgroup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sponsible trad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arket intelligenc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Emerging marke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ndate items, and their fulfilment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Responsible trade subgroup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Public procurement policies</a:t>
            </a: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Interactions of supply and demand between wood for bioenergy and traditional forest produc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Illegal logging in relation to trade, including definitions, scope and possible solutions, to eventually be presented in a workshop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Forecasting demand for forest products, including value-added products, in China and India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ntent of “market side” of WA1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ogramme of work through 2008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eam of Specialists on Forest Products Markets and Market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onitoring markets for certified forest products and certific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Forest Products Annual Market Review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imber Committee Market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untry-specific info on the Timber Committee/ European Forestry Commission web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rket intelligence subgroup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25146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rket-related outputs’ content, quality, format and timeliness. Are the outputs reaching all the clients who would benefit? A renewed survey on outputs to be completed for the WPFES in March 2005.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Country market reports for the TC Market Discussions, including timeliness, content, format.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  <a:ea typeface="Times New Roman"/>
              </a:rPr>
              <a:t>Emerging markets for forest products subgroup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Team’s website content to focus on global market dynamics, with a review of the site’s other content, form and functionalit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Sustainable forest products markets to include illegal logging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Wood and forest promotion campaign effectiveness surve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Marketing capacity building in CEECs and CI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Enhanced use of wood, including coordination with an EU conferenc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ndate item 1: Provide forum for discussion, advise TC and EFC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oviding speakers to TC Market Discuss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tribute to Discussions as exper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Expertise to workshops, e.g. illegal logging workshop in 2004, certification workshop planned for 200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uthors for chapters in Forest Products Annual Market Review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uthored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Geneva Timber and Forest Discussion Pap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ertification upda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Forest, wood and energy: Policy interact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ndate item 2. Advise on implementation of WA 1, undertake studi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28951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urveys of market-related outputs, 2004 and 200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Evaluation of effectiveness of wood and forest promotion campaig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urrent Issues Forum web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ndate item 3. Provide marketing assistance in central and eastern Europ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27432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ecured loan expertise for secretaria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arketing workshop for selected eastern European and CIS countries, hosted by Czech Republic, 200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ssisting in further fundrais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urvey of market-related output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Background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ummary of survey resul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nterpretation of results and commen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Recommendations of the Team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160080" y="511164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ee report: “UNECE/FAO Timber Branch Marke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related Outputs Survey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Market-related outputs in survey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rest Products Annual Market Review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tatus of Forest Certification in the UNECE reg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untry market profil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C Market Discussions: discuss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C Market Discussions: policy issue exchang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C Market Discussions: expert presentat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Market-related outputs in surve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C annual market forecas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C annual market state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untry market state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ebsite: TIMBER database 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ebsite: Market Discussion 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ebsite: Certification 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Working Party to consider 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3300"/>
                </a:solidFill>
                <a:latin typeface="Tahoma"/>
                <a:ea typeface="Times New Roman"/>
              </a:rPr>
              <a:t>Team of Specialists on Forest Products Markets and Marketing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2742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arket-outputs survey outcomes and recommendat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urvey of effectiveness of wood and forest promotion campaig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I.2 Monitoring markets for certified forest products and certifica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66652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tatus of Forest Certification in the UNECE region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hapter on the certified forest products marketplace in the “Forest Products Annual Market Review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ertification website on the TC/EFC web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orkshop on governments’ role in certific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Other speakers for Work Area 1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r. Michael Buckley, Deputy Leader, Team of Specialists on Forest Products Markets and Marketing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(sponsored by AF&amp;PA and AHEC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r. Alex McCusker, Statistician, UNECE/FAO Timber Branch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r. Adrian Whiteman, Forestry Officer, FA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r. J.P. Schmitt, Consultant, Lignacon DRS A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tatus of Forest Certification in the UNECE region, 2003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Last annual update (published 2005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Based on primary data from TC/EFC certification network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hapt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velopments of major system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utual recognition, conflicts, cooper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arketplac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Government poli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Outlook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ferenc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tatus of Forest Certification in the UNECE region, 2003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oblems perceived by administr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uplication with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Review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chapt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nsignificant contribution to policy deba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Workshop on governments’ role in certifica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ostponed until autumn 2005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Objective: neutral forum, clarify governments’ role in forest certifica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Focus on key issu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ate not set, venue not se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Lacking $70,000 budget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Questions for the Working Party 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Monitoring markets for certified forest products and certifica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o the 2 continuing activities adequately address the work area item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ertification status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Discussion Papers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hould they be continued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hat periodicity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mments on the proposed workshop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hould certification website be maintained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II.3 Forest Products Annual Market Review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2004 productio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2005 production pla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rest Products Annual Market Review, 2003-2004 (produced last year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25146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o forecasts, as opposed to 2003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ublished electronically in August, on paper in September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Executive summaries at TC Market Discussions in English, French and Russia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Highlighted policy develop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rest Products Annual Market Review,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2004-2005 (to be produced this year)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Earlier production for earlier TC sess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aintain policy focu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ore statistical info in electronic annex on web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ame chapt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ubregional comparis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sideration of Working Party 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Forest Products Annual Market Review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25146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sults of the 2004 production of the “Forest Products Annual Market Review, 2003-2004”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lans for 2005 produc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ith earlier production, consider 15 May 2005 deadline for submission of Joint Forest Sector Questionnair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II.4. TC Market Discussion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2004 resul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untry market statemen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ountry market forecast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Plans for 2005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Plans for 2006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Questions for the Working Party 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TC Market Discussio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re the Market Discussions achieving full potential and meeting needs of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current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participants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How could the Discussions better meet the needs of </a:t>
            </a: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potential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participants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s there a trade off between focusing on policy issues and attracting industry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How can we improve responses to annual country market statements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How can we improve countries’ forecasts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Overarching guidance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2057040"/>
            <a:ext cx="6553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Note developm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ahoma"/>
                <a:ea typeface="Times New Roman"/>
              </a:rPr>
              <a:t>Respond to specific and general question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I.5. Country-specific information on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e TC/EFC websit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25146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orking Party called for synergies between FAO site and TC/EFC 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urrently TC/EFC site sends users to FAO sit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hen transferred to FAO site, country-specific info on TC/EFC site is overlook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Question to the Working Party on country-specific information on the TC/EFC websit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How can the valuable country-specific info on the TC/EFC website be actualized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imber Branch has not prioritized this work, and not allocated resources. Are resources available elsewhere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I.6. Resourc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Loaned expert for marketing capacity building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Donor proposal: “Delivering improved marketing in the forest sector in central and eastern Europe”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Loaned expertise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Authors and contributor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Network of country correspondents on certification and certified forest produc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tatistical corresponden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eam of Specialists on Forest Products Markets and Marketing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C Market Discussion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nterns from University of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Helsinki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, Forest Econ Dept.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ntern through German Academic Exchange Service 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Questions for the Working Party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on resourc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here should the Forest Products Marketing Programme seek additional resources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hat donors and programmes might be interested in the marketing capacity building project?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81720" y="304920"/>
            <a:ext cx="574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Additional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before moving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statistics outpu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Next Work Area 1 presentations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tatistical outputs by Mr. Alex McCusker, Statistician, Timber Branch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r. Adrian Whiteman, Forestry Officer, FA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Mr. J.P. Schmitt, Consultant, Lignacon DRS A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75040" y="1708200"/>
            <a:ext cx="409572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Ed Pep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Forest Products Marketing Specia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UNECE/FAO Timber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448 Palais des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CH-1211 Geneva 10, Switzer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Telephone +41 22 917 28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Fax +41 22 917 00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Ed.Pepke@unece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www.unece.org/trade/t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I. Programme of work through 2008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2004 Strategic Review of the Integrated Programme of Work of the UNECE Timber Committee (TC) and the FAO European Forestry Commission (EFC)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Items under Work Area 1. Markets and statistic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1.1. Statistics on production, trade, consumption, price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1.2. Analysis of markets for forest products, notably topical and policy relevant aspec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1.3. Capacity building for forest products marketing in countries of CIS and south east Europe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1.4. Monitoring and analysis of markets for certified wood produc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1.5. Statistics on forest fires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  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1.1 Statistics on production, trade and pric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llect and disseminate through national corresponden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mprove quality and coverag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llect secondary data as necessar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Timber Bulletin 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ssue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IMBER database, FAOSTAT databas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Website info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1.2 Market analyses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nalyse markets and publish annually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nalyse and publish forecas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Timber Bulletin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(now only one issue printed)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Tahoma"/>
              </a:rPr>
              <a:t>Geneva Timber and Forest Discussion Paper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1.3 Marketing capacity building in CIS and south east Europe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apacity building for forest products marketing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Information network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pecific workshop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Workshops: Last in 2000, Next in 2005.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eeking funds via “Forest Sector Marketing Development” proposal.)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Loaned professional since June 2004 to work on this programme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1.4 Monitoring and analysis of markets for certified forest products 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Description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Monitor, analyse and disseminate info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Primary data: Informal network of officially-nominated country correspondents on certification and certified forest produc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Output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TC Market Discussion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Chapter in </a:t>
            </a:r>
            <a:r>
              <a:rPr b="0" i="1" lang="en-US" sz="2000" spc="-1" strike="noStrike">
                <a:solidFill>
                  <a:srgbClr val="663300"/>
                </a:solidFill>
                <a:latin typeface="Tahoma"/>
              </a:rPr>
              <a:t>FPAMA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Website with info and links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orest certification update for the UNECE region, a </a:t>
            </a:r>
            <a:r>
              <a:rPr b="0" i="1" lang="en-US" sz="2000" spc="-1" strike="noStrike">
                <a:solidFill>
                  <a:srgbClr val="663300"/>
                </a:solidFill>
                <a:latin typeface="Tahoma"/>
              </a:rPr>
              <a:t>Geneva Timber and Forest Discussion Paper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9:55:13Z</dcterms:created>
  <dc:creator>Timber Branch</dc:creator>
  <dc:description/>
  <dc:language>en-US</dc:language>
  <cp:lastModifiedBy>Ed Pepke</cp:lastModifiedBy>
  <dcterms:modified xsi:type="dcterms:W3CDTF">2005-03-22T08:07:32Z</dcterms:modified>
  <cp:revision>61</cp:revision>
  <dc:subject>Work Area 1</dc:subject>
  <dc:title>WPFES March 2004</dc:title>
</cp:coreProperties>
</file>