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97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84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782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84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782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52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97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114560" y="6095880"/>
            <a:ext cx="7953120" cy="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14600" y="6141960"/>
            <a:ext cx="541008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Tahoma"/>
              </a:rPr>
              <a:t>Working Party on Forest Economics and 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6633"/>
                </a:solidFill>
                <a:latin typeface="Tahoma"/>
              </a:rPr>
              <a:t>26</a:t>
            </a:r>
            <a:r>
              <a:rPr b="1" lang="en-US" sz="1400" spc="-1" strike="noStrike" baseline="30000">
                <a:solidFill>
                  <a:srgbClr val="996633"/>
                </a:solidFill>
                <a:latin typeface="Tahoma"/>
              </a:rPr>
              <a:t>th</a:t>
            </a:r>
            <a:r>
              <a:rPr b="1" lang="en-US" sz="1400" spc="-1" strike="noStrike">
                <a:solidFill>
                  <a:srgbClr val="996633"/>
                </a:solidFill>
                <a:latin typeface="Tahoma"/>
              </a:rPr>
              <a:t> Session, 15-17 March 2004, Gen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un-goldt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1600200" y="6095880"/>
            <a:ext cx="762120" cy="6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8039160" y="6134040"/>
          <a:ext cx="6476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9160" y="6134040"/>
                    <a:ext cx="647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ahoma"/>
              </a:rPr>
              <a:t>New Price Website</a:t>
            </a:r>
            <a:endParaRPr b="0" lang="en-US" sz="36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051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Noora Kettunen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Consultant UNECE/FAO Timber Branch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6673680" y="5318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hank you for your attention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ahoma"/>
              </a:rPr>
              <a:t>Background</a:t>
            </a:r>
            <a:endParaRPr b="0" lang="en-US" sz="36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</a:rPr>
              <a:t>UNECE/FAO has provided forest sector statistics since it </a:t>
            </a:r>
            <a:r>
              <a:rPr b="0" lang="fi-FI" sz="2400" spc="-1" strike="noStrike">
                <a:solidFill>
                  <a:srgbClr val="663300"/>
                </a:solidFill>
                <a:latin typeface="Tahoma"/>
              </a:rPr>
              <a:t>bega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291600" indent="-29160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</a:rPr>
              <a:t>Printed version:</a:t>
            </a:r>
            <a:r>
              <a:rPr b="0" i="1" lang="en-GB" sz="2400" spc="-1" strike="noStrike">
                <a:solidFill>
                  <a:srgbClr val="663300"/>
                </a:solidFill>
                <a:latin typeface="Tahoma"/>
              </a:rPr>
              <a:t> Forest Products Prices</a:t>
            </a:r>
            <a:r>
              <a:rPr b="0" lang="en-GB" sz="2400" spc="-1" strike="noStrike">
                <a:solidFill>
                  <a:srgbClr val="663300"/>
                </a:solidFill>
                <a:latin typeface="Tahoma"/>
              </a:rPr>
              <a:t> in the </a:t>
            </a:r>
            <a:r>
              <a:rPr b="0" i="1" lang="en-GB" sz="2400" spc="-1" strike="noStrike">
                <a:solidFill>
                  <a:srgbClr val="663300"/>
                </a:solidFill>
                <a:latin typeface="Tahoma"/>
              </a:rPr>
              <a:t>Timber Bulletin</a:t>
            </a:r>
            <a:r>
              <a:rPr b="0" lang="en-GB" sz="2400" spc="-1" strike="noStrike">
                <a:solidFill>
                  <a:srgbClr val="663300"/>
                </a:solidFill>
                <a:latin typeface="Tahoma"/>
              </a:rPr>
              <a:t> seri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291600" indent="-29160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</a:rPr>
              <a:t>Data has been used internally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</a:rPr>
              <a:t>Short-term analyses FPAMA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</a:rPr>
              <a:t>Long-term analyses EFSO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291600" indent="-29160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</a:rPr>
              <a:t>Purpose of the presentation: How to get prices from TC/EFC websi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29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29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5562720"/>
            <a:ext cx="175284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81280" y="3886200"/>
            <a:ext cx="17528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2438280" y="4419000"/>
            <a:ext cx="175284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00400" y="2362320"/>
            <a:ext cx="266688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4489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9:55:13Z</dcterms:created>
  <dc:creator>Timber Branch</dc:creator>
  <dc:description/>
  <dc:language>en-US</dc:language>
  <cp:lastModifiedBy>Consultant</cp:lastModifiedBy>
  <dcterms:modified xsi:type="dcterms:W3CDTF">2004-03-16T08:50:35Z</dcterms:modified>
  <cp:revision>62</cp:revision>
  <dc:subject>Price Statistics website</dc:subject>
  <dc:title>WPFES March 2004</dc:title>
</cp:coreProperties>
</file>