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97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8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782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8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782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97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14560" y="6095880"/>
            <a:ext cx="795312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14600" y="6141960"/>
            <a:ext cx="541008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Working Party on Forest Economics and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33"/>
                </a:solidFill>
                <a:latin typeface="Tahoma"/>
              </a:rPr>
              <a:t>26</a:t>
            </a:r>
            <a:r>
              <a:rPr b="1" lang="en-US" sz="1400" spc="-1" strike="noStrike" baseline="30000">
                <a:solidFill>
                  <a:srgbClr val="996633"/>
                </a:solidFill>
                <a:latin typeface="Tahoma"/>
              </a:rPr>
              <a:t>th</a:t>
            </a:r>
            <a:r>
              <a:rPr b="1" lang="en-US" sz="1400" spc="-1" strike="noStrike">
                <a:solidFill>
                  <a:srgbClr val="996633"/>
                </a:solidFill>
                <a:latin typeface="Tahoma"/>
              </a:rPr>
              <a:t> Session, 15-17 March 2004, Gen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un-goldt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1600200" y="6095880"/>
            <a:ext cx="762120" cy="6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8039160" y="6134040"/>
          <a:ext cx="6476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613404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ahoma"/>
              </a:rPr>
              <a:t>Item 3. Guidance of Work Area 1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Tahoma"/>
              </a:rPr>
              <a:t>Markets and Statistics</a:t>
            </a: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051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B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Ed Pepk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rest Products Marketing Specialis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4714920" y="53182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Document TIM/EFC/WP.2/2004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PAMReview </a:t>
            </a:r>
            <a:r>
              <a:rPr b="0" lang="en-US" sz="3200" spc="-1" strike="noStrike">
                <a:solidFill>
                  <a:srgbClr val="6633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FPAMAnalysis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ontent change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2001-2002 to 2002-2004 with forecas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olicy orientation throughout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New policy chapter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tatistical tables shifted to electronic annex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pecial chapters omitted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No current market issue chapter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No UNECE region country focus chapter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No UNECE region trading partner chapter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aintained same statistics-based chapt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aintained same non-statistics based chapt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PAMReview </a:t>
            </a:r>
            <a:r>
              <a:rPr b="0" lang="en-US" sz="3200" spc="-1" strike="noStrike">
                <a:solidFill>
                  <a:srgbClr val="6633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FPAMAnalysis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Production change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2 stage produc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raft based on statistics before TC Market Discussions on website only in August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Final with forecasts after TCMDs on website in December and submitted for printing and translation in December (still not available in print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Technical reviews x 2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py editing and proofreading x 2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Graphics with updating in October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Layout not quite twice as time consumin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PAMReview </a:t>
            </a:r>
            <a:r>
              <a:rPr b="0" lang="en-US" sz="3200" spc="-1" strike="noStrike">
                <a:solidFill>
                  <a:srgbClr val="6633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FPAMAnalysis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What does the reader see?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New policy chapter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No former special chapt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Less statistics tabl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horter chapt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art 1 based on statistic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art 2 based on forecasts, country market statements, TC Market Discuss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horter: 155 vs. 225 pag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PAMReview </a:t>
            </a:r>
            <a:r>
              <a:rPr b="0" lang="en-US" sz="3200" spc="-1" strike="noStrike">
                <a:solidFill>
                  <a:srgbClr val="6633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FPAMAnalysis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But do the readers </a:t>
            </a:r>
            <a:br>
              <a:rPr sz="3200"/>
            </a:br>
            <a:r>
              <a:rPr b="0" i="1" lang="en-US" sz="3200" spc="-1" strike="noStrike">
                <a:solidFill>
                  <a:srgbClr val="663300"/>
                </a:solidFill>
                <a:latin typeface="Tahoma"/>
              </a:rPr>
              <a:t>like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what they see?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2. </a:t>
            </a:r>
            <a:r>
              <a:rPr b="0" lang="en-GB" sz="3200" spc="-1" strike="noStrike">
                <a:solidFill>
                  <a:srgbClr val="663300"/>
                </a:solidFill>
                <a:latin typeface="Tahoma"/>
                <a:ea typeface="Times New Roman"/>
              </a:rPr>
              <a:t>Organisation of the annual Timber Committee Market Discussions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aintain current 1½ days devoted to market sector discussions to enable adequate discussion tim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ntinuing to collect, analyse, discuss and disseminate market forecasts, a key output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7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2003 were 1½ days, preceded by a half-day policy forum on “Forests, wood and energy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32 countries submitted responses to the TC (forecasting) Questionnaire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Replies to TC Questionnaire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19320" y="762120"/>
          <a:ext cx="79246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7924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200400" y="990720"/>
            <a:ext cx="4038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Percentage completion of TC Questionnaire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19320" y="11430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200400" y="1523880"/>
            <a:ext cx="3962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1371600"/>
            <a:ext cx="4343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Replies to Joint Forest Sector Questionnaire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19320" y="914400"/>
          <a:ext cx="79246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79246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038480" y="10666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Percentage completion of JFSQ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609480"/>
          <a:ext cx="792468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792468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581280" y="838080"/>
            <a:ext cx="3200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2. </a:t>
            </a:r>
            <a:r>
              <a:rPr b="0" lang="en-GB" sz="3200" spc="-1" strike="noStrike">
                <a:solidFill>
                  <a:srgbClr val="663300"/>
                </a:solidFill>
                <a:latin typeface="Tahoma"/>
                <a:ea typeface="Times New Roman"/>
              </a:rPr>
              <a:t>Organisation of the annual Timber Committee Market Discussions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rrelate closer country market statements and discuss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Bring more industry representa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Including policy dimensions and requesting countries to report on these in their country market statem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57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33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3300"/>
                </a:solidFill>
                <a:latin typeface="Tahoma"/>
                <a:ea typeface="Times New Roman"/>
              </a:rPr>
              <a:t>Sector introductions by the secretariat and members of the Team of Specialists incorporated relevant info from statements</a:t>
            </a:r>
            <a:endParaRPr b="0" lang="en-US" sz="2200" spc="-1" strike="noStrike">
              <a:solidFill>
                <a:srgbClr val="6633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33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3300"/>
                </a:solidFill>
                <a:latin typeface="Tahoma"/>
                <a:ea typeface="Times New Roman"/>
              </a:rPr>
              <a:t>Over 100 participants at the TC Market Discussions, ~1/3 industry representation</a:t>
            </a:r>
            <a:endParaRPr b="0" lang="en-US" sz="2200" spc="-1" strike="noStrike">
              <a:solidFill>
                <a:srgbClr val="6633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33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3300"/>
                </a:solidFill>
                <a:latin typeface="Tahoma"/>
                <a:ea typeface="Times New Roman"/>
              </a:rPr>
              <a:t>Requested policy dimensions in country market statements: results mixed</a:t>
            </a:r>
            <a:endParaRPr b="0" lang="en-US" sz="2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Key points for consideration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Policy relevance of market-related work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cheduling outpu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Disseminating price info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ountry info via websit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Priorities and resourc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Mandate of Team of Specialis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2. </a:t>
            </a:r>
            <a:r>
              <a:rPr b="0" lang="en-GB" sz="3200" spc="-1" strike="noStrike">
                <a:solidFill>
                  <a:srgbClr val="663300"/>
                </a:solidFill>
                <a:latin typeface="Tahoma"/>
                <a:ea typeface="Times New Roman"/>
              </a:rPr>
              <a:t>Organisation of the annual Timber Committee Market Discussions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aintain current market sectors in the discuss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Request comments on government procurement policies as a market driver for certified forest products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7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Same sectors  included in 2003, but 2004 shortened schedule to 1 da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Report format requested info, but few countries contributed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3. </a:t>
            </a:r>
            <a:r>
              <a:rPr b="0" lang="en-GB" sz="3200" spc="-1" strike="noStrike">
                <a:solidFill>
                  <a:srgbClr val="663300"/>
                </a:solidFill>
                <a:latin typeface="Tahoma"/>
                <a:ea typeface="Times New Roman"/>
              </a:rPr>
              <a:t>Price statistics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Update and disseminate timber price statistic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Timber Price Information Collection and Dissemination”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proposal by EFI accepted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aintain and update regularly price series, provided a satisfactory list of series is produced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57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rices updated for market analyses. Disseminated in </a:t>
            </a:r>
            <a:r>
              <a:rPr b="0" i="1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PAMA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. Consultant produced interface for TC/EFC website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EFI requested Eurostat fund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Only series for internal analyses maintained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4. Market information system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Implement to the extent  of resourc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Working with FAO Forestry Department to bring out each site’s advantag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Establishing a task force for MIS development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ntinue improving dissemination via an interactive system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cus on TC’s comparative advantag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866920" y="1066320"/>
            <a:ext cx="2971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1-5. Given low priority and no resources.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5. UNECE/FAO Team of Specialists on Forest Products Markets and Marketing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andate prolonged through October 2004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literature review on forest law enforcement governance and trade. Present at TC Market Discuss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llect info on government procurement policies for certified forest produc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easure effectiveness of market-related publications. Present findings to WPFES.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2880" y="10663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Continued work. Proposes mandate extension through October 2008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Presented discussion paper at the TC Market Discussions. Workshop in 2004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Contributions from few country market statements synthesized for presentation on CFP market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ECE/FAO Forest Products Market-Related Outputs. An evaluation by the UNECE/FAO Team of Specialists on Forest Products Markets and Marketing”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UNECE/FAO Forest Products Market-Related Outputs. An evaluation by the Team of Specialis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ore than half of recommendations for changes to TC and EFC market-related outputs made by the Subgroup were agreed on without objec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A few dissens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ncerns expressed about new </a:t>
            </a:r>
            <a:r>
              <a:rPr b="0" i="1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Annual Market Analysi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Authoritative” nature of the forecast data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Different forecasting methods used by countri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Availability of resourc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Timeliness in issuing a final publica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UNECE/FAO Forest Products Market-Related Outputs. An evaluation by the Team of Specialis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Team of Specialists recommends updating the questionnaire, distributing it to a wider audience of TC, EFC and Working Party delegates and presenting the results to the Working Party session in 2005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ethodology (covered in report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Results listed next (detail covered in report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nclusion (detail covered in report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Request authorisation from WPFES to conduct wider survey (WPFES, heads TC and EFC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resent results to WPFES in 2005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UNECE/FAO Forest Products Market-Related Outputs. An evaluation by the Team of Specialists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12 Resulting Recommendat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Markets: Prospects for 200x”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be discontinued, combined into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PAMA 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along with country market statem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New (2003) schedule for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PAMA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Prices” only on web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Statistics” only on web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PAMA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to include forecasts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Trade Flow Data” discontinued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UNECE/FAO Forest Products Market-Related Outputs. An evaluation by the Team of Specialists</a:t>
            </a:r>
            <a:br>
              <a:rPr sz="2800"/>
            </a:b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12 Resulting Recommendat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Geneva Timber and Forest Study Pap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High quality research repor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Secretariat to establish 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standard procedural guidelines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(topics, authors, peer review, technical quality control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Geneva Timber and Forest Discussion Pap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Technical pap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Secretariat to establish standard procedural guidelines (topics, authors, quality, reviews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UNECE/FAO Forest Products Market-Related Outputs. An evaluation by the Team of Specialists</a:t>
            </a:r>
            <a:br>
              <a:rPr sz="2800"/>
            </a:b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12 Resulting Recommendat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TIMBER database on TC/EFC website in format easier to read, download and upda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roposed Market Info System website to be user-friendly, up-to-date, with links to further info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Authors of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PAMA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serve terms of 4 years. Author selection guidelines to be established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Improve forecasting methods among country correspondents for TCQ and market statem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tatus of </a:t>
            </a:r>
            <a:r>
              <a:rPr b="0" i="1" lang="en-US" sz="3200" spc="-1" strike="noStrike">
                <a:solidFill>
                  <a:srgbClr val="663300"/>
                </a:solidFill>
                <a:latin typeface="Tahoma"/>
              </a:rPr>
              <a:t>Timber Bulletin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(Annex 3)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Overarching question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Do present activities support a useful and policy relevant discussion on market and trade issues?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Which outputs need to be given priority and which ones may be stopped? Which ones only published electronically?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ahoma"/>
              </a:rPr>
              <a:t>Timber Bulletin</a:t>
            </a: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 printing statu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1149480"/>
          <a:ext cx="7924680" cy="4630680"/>
        </p:xfrm>
        <a:graphic>
          <a:graphicData uri="http://schemas.openxmlformats.org/drawingml/2006/table">
            <a:tbl>
              <a:tblPr/>
              <a:tblGrid>
                <a:gridCol w="457200"/>
                <a:gridCol w="3504960"/>
                <a:gridCol w="190512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Title (200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Last prin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F.P. Pr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ance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F.P. Stat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Provisional on websi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F.P. Annual Market 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On website. Submit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Forest Fire Stat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On webs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F.P. Trade 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On website. Cance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F.P. Markets: Prospects for 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On website. Submit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UNECE/FAO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eam of Specialists on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rest Products Markets and Marketing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eam’s mandate (annex 2)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rovide a forum for discussion of forest products marketing in the UNECE reg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ntribute to the Committee's annual market discussions and thereby advise the TC and EFC on forest products market developm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Advise on implementation of Work Area 1, focusing on its products and publications and undertaking studies as appropria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rovide assistance in marketing in the UNECE region, especially to central and eastern European countries, through information collection, analysis and dissemination, including workshops.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eam’s terms of reference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Approved by office holders of the TC and EFC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Guided by Working Party of Forest Economics and Statistic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Report annually to the Working Part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Proposed extension until October 2008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(Note, proposed extended terms of reference in annex 2 has unchanged mandate from 2003, but has updated activities for 2004+, and of course extended duration until 2008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eam’s mandate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  <a:ea typeface="Times New Roman"/>
              </a:rPr>
              <a:t>Approved by office holders of the TC and EFC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  <a:ea typeface="Times New Roman"/>
              </a:rPr>
              <a:t>Guided by Working Party of Forest Economics and Statistic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Report annually to the Working Part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33"/>
                </a:solidFill>
                <a:latin typeface="Tahoma"/>
                <a:ea typeface="Times New Roman"/>
              </a:rPr>
              <a:t>Proposed extension until October 2008.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924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UNECE/FAO Team of Specialists on Forest Products Markets and Marketing. Support, Contributions, Accomplishments and Future Planned Activities. Annual report to the FAO/UNECE Working Party on Forest Economics and Statistics”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35049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ntributions and Support to the Timber Committe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Additional Contributions and Supporting Activiti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Work in Progress and Future Activiti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Summary and Conclusions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eam’s output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Annual TC Market Discuss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peakers, contribution to discuss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Paper on market effects of illegal logging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Forest Products Annual Market Analys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uthors on certified forest products, panels, paper &amp; pulp, sawnwood, value-added, etc.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Guidanc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Evaluation of market-related outpu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eam website for info sharing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EFSOS review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eam’s ongoing work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ontributing to </a:t>
            </a: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FPAMA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C Market Discuss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auses and extent of illegal logging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Effectiveness of wood promo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Market-related outputs—broader evalua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ssistance to central and eastern European countri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Bio-fuels info collection. Possible workshop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ssessment of market info need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6. Proposals for additional resources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Associate professional officer in forest products marketing in central and eastern European countries (CEECs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Sector Marketing Development proposal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57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New APO 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expected June 2004 to work on this programm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roposal presented to WPFES in 2003. Being revised by secretariat. Reconsidering partners, including CEECs. Approach donors in 2004.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7. Changes in </a:t>
            </a: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Timber Bulletin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 titles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annual market review” becomes “Forest products annual market analysis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markets for 200x and prospects for 200y” becomes “Forest Products Markets: Prospects for 200y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FPAMReview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became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FPAMA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markets for 200x and prospects for 200y” became “Forest Products Markets: Prospects for 200y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pecific questions--1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Should new </a:t>
            </a:r>
            <a:r>
              <a:rPr b="0" i="1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Annual Market Analysis</a:t>
            </a: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 (</a:t>
            </a:r>
            <a:r>
              <a:rPr b="0" i="1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FPAMA</a:t>
            </a: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) be repeated in 2004?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Is collection and dissemination of forest products prices information satisfactory?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How should country specific information be presented on the TC/EFC and FAO websites for maximum synergies?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2719440" y="4997520"/>
            <a:ext cx="64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C = Timber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EFC = European Forestry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8. Market-related </a:t>
            </a: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Geneva Timber and Forest Discussion Papers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(for consideration by WPFES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Serbia’s forest products markets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hina’s forest products markets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arket effects of wood energy policies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certification update for the UNECE region, 2003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7440" y="15998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raft completed July 2003. In editing.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ostponed—no resourc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Forests, wood and energy: Policy interactions. In editing.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Reconsidered mid 2003. Survey launched November, closed January. In analysis by consultant.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8960" y="2361960"/>
            <a:ext cx="3886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Trends in tropical timber trade, 2002-2003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Value-added wood products markets, 2001-2003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7440" y="2437920"/>
            <a:ext cx="3886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In printin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In printin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8. Market-related </a:t>
            </a: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Geneva Timber and Forest Discussion Papers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(for consideration by WPFES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18960" y="99072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irst in 1997 from Forest Communicators Network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rint and web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Each countr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66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resourc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66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marke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66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Link to FCN for more info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opular, valuable 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Not maintained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57440" y="990720"/>
            <a:ext cx="3886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Replaced on TC/EFC website by link to FAO Forestry Department country info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ecretariats exploring synergies to bring more country-specific info from TC/EFC site to both sites, including link to FCN for more info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9. Country fact sheets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(for consideration by WPFES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ontinuing forward in reverse order…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recap of presentation thus far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nex 4. Review of 2003 decisions and their statu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nex 3.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nex 2.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nex 1.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ontinuing forward in reverse order…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recap of presentation thus far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Annex 4. Review of 2003 decisions and their statu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nex 3. </a:t>
            </a: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Timber Bulletin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 statu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nex 2.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nex 1.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ontinuing forward in reverse order…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recap of presentation thus far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Annex 4. Review of 2003 decisions and their statu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Annex 3. </a:t>
            </a:r>
            <a:r>
              <a:rPr b="0" i="1" lang="en-US" sz="2800" spc="-1" strike="noStrike">
                <a:solidFill>
                  <a:srgbClr val="996633"/>
                </a:solidFill>
                <a:latin typeface="Tahoma"/>
              </a:rPr>
              <a:t>Timber Bulletin</a:t>
            </a: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 statu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nex 2. Mandate extension of Team of Specialis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nex 1.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ontinuing forward in reverse order…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recap of presentation thus far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Annex 4. Review of 2003 decisions and their statu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Annex 3. </a:t>
            </a:r>
            <a:r>
              <a:rPr b="0" i="1" lang="en-US" sz="2800" spc="-1" strike="noStrike">
                <a:solidFill>
                  <a:srgbClr val="996633"/>
                </a:solidFill>
                <a:latin typeface="Tahoma"/>
              </a:rPr>
              <a:t>Timber Bulletin</a:t>
            </a: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 statu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Annex 2. Mandate extension of Team of Specialis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nex 1. Programme of work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WA 1. Programme of work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tatistics on production, trade and pric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Market analys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apacity building for CEECs in marketing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Monitoring markets for certified forest produc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rest fire statistic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eam of specialists, info network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1.1 Statistics on production, trade and price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ollect and disseminate through national corresponden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Improve quality and coverag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ollect secondary data as necessar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Timber Bulletin 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IMBER database, FAOSTAT databas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Website info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1.2 Market analyses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Analyse markets and publish annuall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Publish forecas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Timber Bulletin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 issu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Geneva Timber and Forest Discussion Paper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Note: Special chapters in </a:t>
            </a: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FPAMA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 cut in 2003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pecific questions--2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Is proposed mandate for the UNECE/FAO Team of Specialists on Forest Products Markets and Marketing reflect the strategic priorities?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Could your country loan expertise to the Timber Branch in 2004?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1.3 Capacity building for CEECs in marketing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onduct workshop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Workshops (Last in 2000. Seeking funds via “Forest Sector Marketing Development” proposal.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New Junior/Associate/Loaned Professional Officer expected June 2004 to work on this programm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1.4 Monitoring markets for certified forest products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onitor, analyse and disseminate info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rimary data: Informal network of officially-nominated country correspondents on certification and certified forest produc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TC Market Discuss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hapter in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FPAMA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ebsite with info and link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P: “Forest certification update for the UNECE region”. 2003 vs. 2004. Future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1.5 Forest fire statistic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ollect through national corresponden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Disseminat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Databas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Tahoma"/>
              </a:rPr>
              <a:t>Timber Bulletin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, issue 4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Websit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1.6 Teams of specialists, info network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upport above activiti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rovide advic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tudies by team(s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eetings and activiti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National correspondents meetings (last in 2001); proposed capacity building for CIS (September 2004?) and for eastern and central Asia (June 2004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After discussion on former subjects,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Next Work Area 1 presentation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8960" y="23623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New price website by Ms. Noora Kettunen, Consultant for Timber Branch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Italian removals questionnaire by Mr. Antonio Macri, National Institute of Statistics, Ital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Outcomes of discussions (as previously stated)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Approve the detailed plan for Work Area 1 activities (annex 1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Recommend approval by the Bureaux of the TC and EFC of the proposed terms of reference of the Team of Specialists on Forest Products Markets and Marketing (annex 2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Guidance on specific quest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Overarching quest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Do present activities support a useful and policy relevant discussion on market and trade issues?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Which outputs need to be given priority and which ones may be stopped? Which ones only published electronically?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pecific questions--1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Should new </a:t>
            </a:r>
            <a:r>
              <a:rPr b="0" i="1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Forest Products Annual Market Analysis</a:t>
            </a: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 (</a:t>
            </a:r>
            <a:r>
              <a:rPr b="0" i="1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FPAMA</a:t>
            </a: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) be repeated in 2004?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Is collection and dissemination of forest products prices information satisfactory?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How should country specific information be presented on the TC/EFC and FAO websites for maximum synergies?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pecific questions--2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Is proposed mandate for the UNECE/FAO Team of Specialists on Forest Products Markets and Marketing reflect the strategic priorities?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Could your country loan expertise to the Timber Branch in 2004?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36560" y="1143000"/>
            <a:ext cx="29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Outcomes of discussion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Approve the detailed plan for Work Area 1 activities (annex 1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Recommend approval by the Bureaux of the TC and EFC of the proposed terms of reference of the Team of Specialists on Forest Products Markets and Marketing (annex 2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Guidance on specific quest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Next Work Area 1 presentation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8960" y="23623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New price website by Ms. Noora Kettunen, consultan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Italian removals questionnaire by Mr. Antonio Macri, National Institute of Statistics, Ital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8483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Review of WPFES recommendations in 2003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(Annex 4 of document)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3300"/>
                </a:solidFill>
                <a:latin typeface="Tahoma"/>
                <a:ea typeface="Times New Roman"/>
              </a:rPr>
              <a:t>1. Change in scope and timing of major output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olicy issues should be linked to market aspec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Separate publication or special chapter on an important policy-related issu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Reducing length of current analys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erging 1. FPAMR and 2. post-TC forecasting Bulletin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nsidered consistently and covered as appropria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Special chapter on policy-related issues in FPAMA;  Wood energy was discussed at a policy forum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150 vs 225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1 + 2 =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FPAMA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3300"/>
                </a:solidFill>
                <a:latin typeface="Tahoma"/>
                <a:ea typeface="Times New Roman"/>
              </a:rPr>
              <a:t>1. Change in scope and timing of major output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ntinue producing a market analysis as the basis of the TC Market Discuss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Disseminate outputs via TC website. Notify users via listserver and eventually an automated “webminder”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7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Draft market analysis was uploaded to website in August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72960" indent="-37296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Outputs uploaded to the TC/EFC website when completed. Users notified through direct e-mail announcements and listservers. The site does not yet have a webminder.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9:55:13Z</dcterms:created>
  <dc:creator>Timber Branch</dc:creator>
  <dc:description/>
  <dc:language>en-US</dc:language>
  <cp:lastModifiedBy>Consultant</cp:lastModifiedBy>
  <dcterms:modified xsi:type="dcterms:W3CDTF">2004-03-16T08:48:21Z</dcterms:modified>
  <cp:revision>54</cp:revision>
  <dc:subject>Work Area 1</dc:subject>
  <dc:title>WPFES March 2004</dc:title>
</cp:coreProperties>
</file>