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aper of Unido will elaborate on the statistical package R end show us that we could well do withouth costly licences of specialist packages for the statistical 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arching the internet will learn that there is much more software in the public domain than we tend to think. However the internet is not especially a place with a clean reputation (it somehow feels like gathering food from the streets) Eurostat will show in their paper a way to get arou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aper of Unido will elaborate on the statistical package R end show us that we could well do withouth costly licences of specialist packages for the statistical 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arching the internet will learn that there is much more software in the public domain than we tend to think. However the internet is not especially a place with a clean reputation (it somehow feels like gathering food from the streets) Eurostat will show in their paper a way to get arou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see different models of sharing and discover that there is no uinity 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meet some of the legal and logistic issues that hinder thi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get information of generally available software for specific statistical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86A-8C94-4CFE-876C-8A89B260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AF4-2F9D-4AAA-B998-65907DA9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695-8D8C-4301-817E-4ECA854A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A50-B95E-46E4-AAE0-8CC5F52B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BBDD-38FA-42F2-BD82-FC1D16F7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AFD6-AB54-43D7-988C-3DD84C1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34E5-A7AF-462E-A4F0-0E38A5A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D67B-2ED4-4EB9-93E7-6C746DB1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8D2B-86BF-47FE-A963-05867D6E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7992-FAE7-4AFE-9A21-528BD49E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7652-9EF6-43E1-98B6-7D28EFC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6C5-B51B-45F3-8FE8-D3117A4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332F-8064-4BB1-BF75-ADDBD4F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529-41E7-44C6-9809-3172F1F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1F87-85DD-4D92-8A59-362B1873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2380-A7C5-4833-BD33-B2A5C73E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83C7-B27E-4E44-850C-7F2463F8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85E-9238-48A1-A15D-71B6903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DDB-D1BA-41DA-BC91-257BBEB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623-8613-43F7-89E9-043592F5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3C3-5C95-491F-9D83-16E252F1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4BE-1C49-4932-9ABA-880203C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B8E-791E-47DA-A2A1-AC7352F6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DCF-D919-4BD8-B093-3A67C00D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D2F1-F5A4-418F-9884-EBD6C43B468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C792-A841-4802-AC79-AFD0D335CE4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50840"/>
            <a:ext cx="777240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opic ii: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haring/exchange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f components etc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issues and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SI’s are cautious to “give away”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e fear legal consequen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uld a common accepted licence help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es, there is also public domain software in vertical marke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is could amount to large savings, vertical licences are expensi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intenance of this software, is it an issu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 we dare to trust open source for our publica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re is more than we think there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re will no open source salesman be knocking at your door, so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 web is not a trusted place for finding software, how to proce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The proposal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Tahoma"/>
              </a:rPr>
              <a:t>Aspects and subj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fferent models of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egal and logistic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 software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ctions to be undertaken (proposal!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operation in projects (SOS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es it wor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hy are we all not doing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hat are the most prominent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lassic open source (GPL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cceptance is growing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U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isk or 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rtun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at cost based fee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s there a future for this mod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s there real benefit? (small vertical mark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Legal and Logistic issu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 multitude as disab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re is almost no platform independence, will a common architecture help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re is too much dependence on local process logistics and thus adaptation c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hoehorning </a:t>
            </a:r>
            <a:r>
              <a:rPr b="0" lang="nl-NL" sz="2800" spc="-1" strike="noStrike">
                <a:solidFill>
                  <a:srgbClr val="ffff00"/>
                </a:solidFill>
                <a:latin typeface="Tahoma"/>
              </a:rPr>
              <a:t>their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solution in </a:t>
            </a:r>
            <a:r>
              <a:rPr b="0" lang="nl-NL" sz="2800" spc="-1" strike="noStrike">
                <a:solidFill>
                  <a:srgbClr val="66ccff"/>
                </a:solidFill>
                <a:latin typeface="Tahoma"/>
              </a:rPr>
              <a:t>your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infrastructu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w to facilitate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ould a framework help? Common procedures for giving software to the commun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0:55:59Z</dcterms:created>
  <dc:creator>M.H.J. Vucsan</dc:creator>
  <dc:description/>
  <dc:language>en-US</dc:language>
  <cp:lastModifiedBy>estat-ampere</cp:lastModifiedBy>
  <cp:lastPrinted>2001-02-12T13:21:21Z</cp:lastPrinted>
  <dcterms:modified xsi:type="dcterms:W3CDTF">2008-04-08T13:46:57Z</dcterms:modified>
  <cp:revision>65</cp:revision>
  <dc:subject/>
  <dc:title>Msit StatisticsNetherlands </dc:title>
</cp:coreProperties>
</file>