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see different models of sharing and discover that there is no uinity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meet some of the legal and logistic issues that hinder thi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get information of generally available software for specific statistical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594-CEAE-439F-B4F7-49D9E891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6AC-298D-4D61-BE85-8E0C9D5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692-7D29-48D6-B052-1CFB5CC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4BD-0460-40C4-9A66-CC58746B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6C79-86A0-4CEF-84D3-E0E08341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BA8-A1DB-439D-B2D0-D67FFFE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B813-A34D-45C2-8516-40AC7C3C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CD5-D009-4B63-9BF6-7BE92846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E721-5F0E-4DAC-83D1-B636972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E9D-D38F-4A6B-B0F3-5EED1D9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05EE-E8AE-4331-88FD-4BDF346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DE1-C1D7-4875-8EAA-14DCC2A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0856-1388-41D5-805F-CDF2999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46C8-908E-4976-A4AD-E3094274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FCC-194A-426A-A633-5F30888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0B7-4DE3-47B5-9E69-DAE82C67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CDF-4109-4410-8DCF-C0E3E0A1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92F-3EEC-4318-913A-9438D42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AF9-EBE3-4E2F-A4A9-049CBEF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9A0-70E4-49D0-BA0C-A0A3423A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683-5A57-4EA3-AD93-21AD67A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E71-6CA0-4C32-9242-B180676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431-8BF0-4EF0-8ADE-31586840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934-2116-4B96-BEB0-6A3ABC3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642-E62B-4F3D-8E8F-6A35FB0CA82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DFF-6A00-46EB-BF68-478C97F1CFE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50840"/>
            <a:ext cx="777240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opic ii: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aring/exchange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f components etc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issues and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SI’s are cautious to “give away”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e fear legal consequen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uld a common accepted licence hel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es, there is also public domain software in vertical marke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is could amount to large savings, vertical licences are expensi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intenance of this software, is it an issu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 we dare to trust open source for our publica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re is more than we think there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will no open source salesman be knocking at your door, so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 web is not a trusted place for finding software, how to proce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The proposa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Tahoma"/>
              </a:rPr>
              <a:t>Aspects and subj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fferent models of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gal and logistic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software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ctions to be undertaken (proposal!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operation in projects (SOS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es it wo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hy are we all not doing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hat are the most prominent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lassic open source (GPL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cceptance is growing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U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isk or 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rtun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at cost based fe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s there a future for this mod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s there real benefit? (small vertical mark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cc"/>
                </a:solidFill>
                <a:latin typeface="Tahoma"/>
              </a:rPr>
              <a:t>Legal and Logistic issu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 multitude as disa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is almost no platform independence, will a common architecture hel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here is too much dependence on local process logistics and thus adaptation c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hoehorning </a:t>
            </a:r>
            <a:r>
              <a:rPr b="0" lang="nl-NL" sz="2800" spc="-1" strike="noStrike">
                <a:solidFill>
                  <a:srgbClr val="ffff00"/>
                </a:solidFill>
                <a:latin typeface="Tahoma"/>
              </a:rPr>
              <a:t>their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solution in </a:t>
            </a:r>
            <a:r>
              <a:rPr b="0" lang="nl-NL" sz="2800" spc="-1" strike="noStrike">
                <a:solidFill>
                  <a:srgbClr val="66ccff"/>
                </a:solidFill>
                <a:latin typeface="Tahoma"/>
              </a:rPr>
              <a:t>your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infrastructu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w to facilitat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ould a framework help? Common procedures for giving software to the commun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0:55:59Z</dcterms:created>
  <dc:creator>M.H.J. Vucsan</dc:creator>
  <dc:description/>
  <dc:language>en-US</dc:language>
  <cp:lastModifiedBy>estat-ampere</cp:lastModifiedBy>
  <cp:lastPrinted>2001-02-12T13:21:21Z</cp:lastPrinted>
  <dcterms:modified xsi:type="dcterms:W3CDTF">2008-04-08T13:46:57Z</dcterms:modified>
  <cp:revision>65</cp:revision>
  <dc:subject/>
  <dc:title>Msit StatisticsNetherlands </dc:title>
</cp:coreProperties>
</file>