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will see different models of sharing and discover that there is no uinity i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will meet some of the legal and logistic issues that hinder this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will get information of generally available software for specific statistical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work on too low a level, our functions and other software should not be platform dependant. (U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haring is not a spontaneous action, we will hear from Eurostat some proposal for a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cencing is always a delicate problem, no NSI want s to end up in court or be involved in irregularities. (GPL was invented out of necessety, EUP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aper of Unido will elaborate on the statistical package R end show us that we could well do withouth costly licences of specialist packages for the statistical 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arching the internet will learn that there is much more software in the public domain than we tend to think. However the internet is not especially a place with a clean reputation (it somehow feels like gathering food from the streets) Eurostat will show in their paper a way to get around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AFF2-4250-42CC-939B-4A408F8A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2BA8-CAE4-41F8-B632-2CD5DC0C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112-7F30-448B-BB0D-82C10C99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EB8A-C731-4FED-BEFE-74B303AD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0785-3ABE-4DB7-910C-D4A38509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4043-04EC-44DB-B109-0FB0466A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E10E-A4CD-4C7D-8FBC-8B30DD63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FFDC-BFF4-4859-9A0A-71B2EBEE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BCD1-46BA-469E-A6C2-A3C4ABD7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0AD9-9C7B-4CC3-8025-482BC59D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BF41-90F4-4058-9FE7-D4B72420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633-42BD-4226-8D06-D2BA4973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EA09-5A28-42D1-8AF6-A3A1E281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6B27-1BED-4859-B4FD-9BC837E6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BC7A-6441-4695-B98C-14C5D695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8BFB-9BCC-463F-A6EE-A497975C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7FF1-EC53-4363-94C4-732F7767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6ED-D4D7-4DE2-A028-C029FB5C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0DF-B05D-4821-8E49-CBE303EE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C51A-3E4F-4B8F-9B04-CD67F90A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EDF-37D8-4ED7-8BE7-5DA955E4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BBFF-FCF8-4CE9-9128-F638F380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D28-ED3D-466F-AA88-6634DD20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8B8-93BD-4542-9B16-7E966B84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FA53-BE5F-4BBB-92AB-FA463651A39A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90CC-2CB6-4A5D-8FC9-2B574B7A1D87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50840"/>
            <a:ext cx="7772400" cy="13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opic ii: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haring/exchange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of components etc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is that so difficul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Tahoma"/>
              </a:rPr>
              <a:t>Aspects and subje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fferent models of sha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Legal and logistic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he software it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Different models of shar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Cooperation in projects (SOS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Classic open source (GPL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Licencing at cost based fee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Norway, United Kingd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Legal and Logistic issues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T multitude as disab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w to facilitate Sha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Licencing issues and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nited Kingdom, Eurost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The software itself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Yes, there is also public domain software in vertical marke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here is more than we think there i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nido, Eurost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10:55:59Z</dcterms:created>
  <dc:creator>M.H.J. Vucsan</dc:creator>
  <dc:description/>
  <dc:language>en-US</dc:language>
  <cp:lastModifiedBy>M.H.J. Vucsan</cp:lastModifiedBy>
  <cp:lastPrinted>2001-02-12T13:21:21Z</cp:lastPrinted>
  <dcterms:modified xsi:type="dcterms:W3CDTF">2008-04-07T21:27:45Z</dcterms:modified>
  <cp:revision>60</cp:revision>
  <dc:subject/>
  <dc:title>Msit StatisticsNetherlands </dc:title>
</cp:coreProperties>
</file>