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see different models of sharing and discover that there is no uinity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meet some of the legal and logistic issues that hinder thi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ill get information of generally available software for specific statistical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work on too low a level, our functions and other software should not be platform dependant.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ing is not a spontaneous action, we will hear from Eurostat some proposal for a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cencing is always a delicate problem, no NSI want s to end up in court or be involved in irregularities. (GPL was invented out of necessety, EU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aper of Unido will elaborate on the statistical package R end show us that we could well do withouth costly licences of specialist packages for the statistical 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arching the internet will learn that there is much more software in the public domain than we tend to think. However the internet is not especially a place with a clean reputation (it somehow feels like gathering food from the streets) Eurostat will show in their paper a way to get arou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C6A-E755-4383-8FD5-A44DAB89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F83-8FD9-42DA-A6F7-0FDE097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2A3-14DE-4CBA-9B63-E7504058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1E5-693B-4BC5-8B90-C40F0B34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5DAB-FD8E-487C-97FA-816EA217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816-EE01-4C5C-9723-483F614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A51-7BB3-4E49-92CE-836C16C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D74B-03BD-4E0F-95BC-D047C9EA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D6D-A2CC-4DF9-8CCF-2C25D12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F824-68F8-43B8-9BA2-6FBEABFA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D19C-EF14-4F71-8A3F-2205959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B0E-218D-4676-B648-FE3811F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A31-46A9-4C51-A2FF-6B63E51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5C9-9C20-43E4-8C6A-7D33776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6F8-3EE6-49B6-AEED-966ABA1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E473-ED2B-4D32-B3EF-3D455762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A0E-A798-43F8-92ED-5361E0F1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4A8-8442-4450-B608-4CEB986A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049-74D6-4E59-A975-03998EC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6B9-A5AE-4D14-820E-B126ADB1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1C3-8FA0-4BFD-A17C-78E4E1A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9C0-A86F-41E6-AA1F-3D5A9DF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966-8423-49D7-B24D-01033E7D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7B7-E941-4913-8B4B-168CA32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AFD0-188D-464C-B1C7-73EEA5682AA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3189-487C-4F0E-BB48-6A9E68343A7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50840"/>
            <a:ext cx="777240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opic ii: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aring/exchange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f components etc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at so difficu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Tahoma"/>
              </a:rPr>
              <a:t>Aspects and subj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fferent models of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gal and logistic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 software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Different models of shar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operation in projects (SOS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lassic open source (GPL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at cost based fe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Norway, United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Legal and Logistic issue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 multitude as disa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w to facilitat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encing issues and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nited Kingdom, Euros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The software itsel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es, there is also public domain software in vertical marke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re is more than we think there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nido, Euros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0:55:59Z</dcterms:created>
  <dc:creator>M.H.J. Vucsan</dc:creator>
  <dc:description/>
  <dc:language>en-US</dc:language>
  <cp:lastModifiedBy>M.H.J. Vucsan</cp:lastModifiedBy>
  <cp:lastPrinted>2001-02-12T13:21:21Z</cp:lastPrinted>
  <dcterms:modified xsi:type="dcterms:W3CDTF">2008-04-07T21:27:45Z</dcterms:modified>
  <cp:revision>60</cp:revision>
  <dc:subject/>
  <dc:title>Msit StatisticsNetherlands </dc:title>
</cp:coreProperties>
</file>