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35D5D-E790-4D47-A186-724B0F18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3D2B2-D56D-47FC-91B1-FBB355E1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F3E20-8A21-40B2-890F-831977BC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C9865-FC89-4583-BB8F-180FC98F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9B7D4-2D96-4CD3-B005-30954524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78146-0979-4E15-BC77-4E64E8C3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D5DA9-FCC7-4B9E-B89B-C5E9BFF8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8107D-FC48-4969-9DF1-22EB8D77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EB1CF-1932-4165-B1CA-AE531E3F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A1C50-BD6E-4D82-A7DC-E73725B8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07F0F-102E-4AC4-9B5A-40AAD9F3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BC2A0-15AC-4BB5-833D-5FE3A792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3171960"/>
            <a:ext cx="9161640" cy="3686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a03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7858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7-Apr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71640" y="6524640"/>
            <a:ext cx="5184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200" spc="-1" strike="noStrike">
                <a:solidFill>
                  <a:srgbClr val="3e7126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e7126"/>
                </a:solidFill>
                <a:latin typeface="Arial"/>
                <a:ea typeface="ＭＳ Ｐゴシック"/>
              </a:rPr>
              <a:t>Panel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8120" y="6524640"/>
            <a:ext cx="78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63D5-3670-499C-B72E-1242A95FBCEF}" type="slidenum">
              <a: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-1440" y="2209680"/>
            <a:ext cx="9145440" cy="419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4680" y="-3240"/>
            <a:ext cx="915516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712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e71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178920" y="644832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07-Apr-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907640" y="642132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305920" y="63864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45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Suggestion for discussion 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3277"/>
                </a:solidFill>
                <a:latin typeface="Arial"/>
              </a:rPr>
              <a:t>Specific governance issues in your organisation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3277"/>
                </a:solidFill>
                <a:latin typeface="Arial"/>
              </a:rPr>
              <a:t>Issues raised in the papers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spcAft>
                <a:spcPts val="275"/>
              </a:spcAft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e-government and statistic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752480" indent="-419040"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impact on NSI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3" marL="1752480" indent="-419040"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how e-gov can profit from NSI experience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3" marL="1752480" indent="-419040"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collection related issue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3" marL="1752480" indent="-419040"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dissemination related issues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3" marL="1752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spcAft>
                <a:spcPts val="275"/>
              </a:spcAft>
              <a:buClr>
                <a:srgbClr val="0f327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3277"/>
                </a:solidFill>
                <a:latin typeface="Arial"/>
              </a:rPr>
              <a:t>Profiting from others experienc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26920" y="188640"/>
            <a:ext cx="7490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f327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Participation of business users 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ranslating core business activities (incl. methodology) into IT language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f327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Involvement of top management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mperative of organisational change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taff in the new structure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governance more complex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f327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Availability of skilled / appropriate staff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f327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Anticipation of performance issues 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application speed and service quality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f327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Transitions from old to new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perception of burden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generic software perceived not as fit as custom-made one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f327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</a:rPr>
              <a:t>Long development time / delays for large project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perception issues, anticipation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availability of resource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45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a032"/>
                </a:solidFill>
                <a:latin typeface="Arial"/>
              </a:rPr>
              <a:t>The panellists</a:t>
            </a:r>
            <a:endParaRPr b="1" lang="en-US" sz="28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63280" y="836280"/>
            <a:ext cx="547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Margaret McLoughlin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CSO Ireland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Matjaz Jug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Statistics New Zealand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Paul Woobey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UK Office of National Statistics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Jola Stefanska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Shahbaz Khan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IMF 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Pedro Diaz Muñoz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f3277"/>
                </a:solidFill>
                <a:latin typeface="Arial"/>
              </a:rPr>
              <a:t>Eurostat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49360"/>
            <a:ext cx="754560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a032"/>
                </a:solidFill>
                <a:latin typeface="Arial"/>
              </a:rPr>
              <a:t>How we are going to proceed </a:t>
            </a:r>
            <a:endParaRPr b="1" lang="en-US" sz="4000" spc="-1" strike="noStrike">
              <a:solidFill>
                <a:srgbClr val="55a0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3277"/>
                </a:solidFill>
                <a:latin typeface="Arial"/>
              </a:rPr>
              <a:t>Introductory presentation by each member of the panel </a:t>
            </a:r>
            <a:endParaRPr b="0" lang="en-US" sz="3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3277"/>
                </a:solidFill>
                <a:latin typeface="Arial"/>
              </a:rPr>
              <a:t>5 minutes maximum per panellist</a:t>
            </a: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3277"/>
                </a:solidFill>
                <a:latin typeface="Arial"/>
              </a:rPr>
              <a:t>Questions from the floor </a:t>
            </a:r>
            <a:endParaRPr b="0" lang="en-US" sz="30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9:28:21Z</dcterms:created>
  <dc:creator>pongage</dc:creator>
  <dc:description/>
  <dc:language>en-US</dc:language>
  <cp:lastModifiedBy>Wronsad</cp:lastModifiedBy>
  <dcterms:modified xsi:type="dcterms:W3CDTF">2008-04-03T07:32:39Z</dcterms:modified>
  <cp:revision>51</cp:revision>
  <dc:subject/>
  <dc:title>Slide 1</dc:title>
</cp:coreProperties>
</file>