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24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856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628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24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856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8B61E-F893-494F-97E5-9421874B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CB732-CDDA-4D98-91E9-D3027F44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6A966-0F2A-4E51-A334-0119AB97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26CC4-FFEB-4D0F-A6F3-8D7E5072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A2B35-052A-43D5-8F6C-728DAAD9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847440"/>
            <a:ext cx="7545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CFF77-C9A9-4295-9214-63096484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4C34B-46FA-4291-94D1-DD1115F1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4703E-90E3-4FFF-AD8D-F9E66A95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54199-81F6-493E-B57C-A8FAFE39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74B1A-7BCB-4ED6-B94E-BFBA93E6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403F6-280F-4DC9-B9B4-72430A1B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8724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3856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628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8724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3856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CA7BA-F4AD-4053-A3B8-C0E9F627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847440"/>
            <a:ext cx="7545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7640" y="3171960"/>
            <a:ext cx="9161640" cy="3686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a032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7858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7-Apr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71640" y="6524640"/>
            <a:ext cx="5184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200" spc="-1" strike="noStrike">
                <a:solidFill>
                  <a:srgbClr val="3e7126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3e7126"/>
                </a:solidFill>
                <a:latin typeface="Arial"/>
                <a:ea typeface="ＭＳ Ｐゴシック"/>
              </a:rPr>
              <a:t>Panel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8120" y="6524640"/>
            <a:ext cx="7858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75640" y="6524640"/>
            <a:ext cx="468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670C-733B-47B4-B1DD-90893301B0D7}" type="slidenum">
              <a:rPr b="0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-1440" y="2209680"/>
            <a:ext cx="9145440" cy="4197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4680" y="-3240"/>
            <a:ext cx="9155160" cy="6864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712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e71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178920" y="6448320"/>
            <a:ext cx="158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07-Apr-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907640" y="6421320"/>
            <a:ext cx="518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305920" y="63864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545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a032"/>
                </a:solidFill>
                <a:latin typeface="Arial"/>
              </a:rPr>
              <a:t>Suggestion for discussion </a:t>
            </a:r>
            <a:endParaRPr b="1" lang="en-US" sz="40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3277"/>
                </a:solidFill>
                <a:latin typeface="Arial"/>
              </a:rPr>
              <a:t>Specific governance issues in your organisation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3277"/>
                </a:solidFill>
                <a:latin typeface="Arial"/>
              </a:rPr>
              <a:t>Issues raised in the papers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spcAft>
                <a:spcPts val="275"/>
              </a:spcAft>
              <a:buClr>
                <a:srgbClr val="0f327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e-government and statistics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3" marL="1752480" indent="-419040">
              <a:spcBef>
                <a:spcPts val="249"/>
              </a:spcBef>
              <a:spcAft>
                <a:spcPts val="249"/>
              </a:spcAft>
              <a:buClr>
                <a:srgbClr val="0f3277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3277"/>
                </a:solidFill>
                <a:latin typeface="Arial"/>
              </a:rPr>
              <a:t>impact on NSI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3" marL="1752480" indent="-419040">
              <a:spcBef>
                <a:spcPts val="249"/>
              </a:spcBef>
              <a:spcAft>
                <a:spcPts val="249"/>
              </a:spcAft>
              <a:buClr>
                <a:srgbClr val="0f3277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3277"/>
                </a:solidFill>
                <a:latin typeface="Arial"/>
              </a:rPr>
              <a:t>how e-gov can profit from NSI experience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3" marL="1752480" indent="-419040">
              <a:spcBef>
                <a:spcPts val="249"/>
              </a:spcBef>
              <a:spcAft>
                <a:spcPts val="249"/>
              </a:spcAft>
              <a:buClr>
                <a:srgbClr val="0f3277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3277"/>
                </a:solidFill>
                <a:latin typeface="Arial"/>
              </a:rPr>
              <a:t>collection related issue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3" marL="1752480" indent="-419040">
              <a:spcBef>
                <a:spcPts val="249"/>
              </a:spcBef>
              <a:spcAft>
                <a:spcPts val="249"/>
              </a:spcAft>
              <a:buClr>
                <a:srgbClr val="0f3277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3277"/>
                </a:solidFill>
                <a:latin typeface="Arial"/>
              </a:rPr>
              <a:t>dissemination related issues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3" marL="17524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spcAft>
                <a:spcPts val="275"/>
              </a:spcAft>
              <a:buClr>
                <a:srgbClr val="0f327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Profiting from others experience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26920" y="188640"/>
            <a:ext cx="7490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f327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Participation of business users 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translating core business activities (incl. methodology) into IT language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f327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Involvement of top management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imperative of organisational changes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staff in the new structure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governance more complex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f327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Availability of skilled / appropriate staff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f327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Anticipation of performance issues 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application speed and service quality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f327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Transitions from old to new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perception of burden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generic software perceived not as fit as custom-made one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f327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Long development time / delays for large projects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perception issues, anticipation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availability of resources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545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a032"/>
                </a:solidFill>
                <a:latin typeface="Arial"/>
              </a:rPr>
              <a:t>The panellists</a:t>
            </a: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63280" y="836280"/>
            <a:ext cx="5472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Margaret McLoughlin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CSO Ireland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414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414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Matjaz Jug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Statistics New Zealand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414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Paul Woobey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UK Office of National Statistics 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414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Jola Stefanska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414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Shahbaz Khan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IMF 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414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Pedro Diaz Muñoz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Eurostat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549360"/>
            <a:ext cx="754560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a032"/>
                </a:solidFill>
                <a:latin typeface="Arial"/>
              </a:rPr>
              <a:t>How we are going to proceed </a:t>
            </a:r>
            <a:endParaRPr b="1" lang="en-US" sz="40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3277"/>
                </a:solidFill>
                <a:latin typeface="Arial"/>
              </a:rPr>
              <a:t>Introductory presentation by each member of the panel </a:t>
            </a:r>
            <a:endParaRPr b="0" lang="en-US" sz="30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5 minutes maximum per panellist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3277"/>
                </a:solidFill>
                <a:latin typeface="Arial"/>
              </a:rPr>
              <a:t>Questions from the floor </a:t>
            </a:r>
            <a:endParaRPr b="0" lang="en-US" sz="30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09:28:21Z</dcterms:created>
  <dc:creator>pongage</dc:creator>
  <dc:description/>
  <dc:language>en-US</dc:language>
  <cp:lastModifiedBy>Wronsad</cp:lastModifiedBy>
  <dcterms:modified xsi:type="dcterms:W3CDTF">2008-04-03T07:32:39Z</dcterms:modified>
  <cp:revision>51</cp:revision>
  <dc:subject/>
  <dc:title>Slide 1</dc:title>
</cp:coreProperties>
</file>