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24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3856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628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24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3856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C8F8A-D40A-4F27-8E01-004BB958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A3A5E-FB34-45AA-B98A-36F5D3E4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A757A-859B-4E5A-9DF8-84BD34A3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608BC-C9E6-4143-AEE3-4E276A6E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4DBC4-9FD4-41E6-8816-DD2E1AE3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8080" y="847440"/>
            <a:ext cx="75456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E02A9-164B-474B-98D2-7CC1AE8C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EF328-18FC-44B8-89C3-E37350A4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09E4D-7A25-4790-B814-C2B46451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23927-D3BF-4B8A-8AEE-C1586A76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A73BA-BF0A-466D-B265-0A0FD56A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69B04-04E4-4866-A311-46523D080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724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856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3628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724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856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1EB28-45CF-4D3B-B26B-F8DACDFB1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847440"/>
            <a:ext cx="75456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7640" y="3171960"/>
            <a:ext cx="9161640" cy="3686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a032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3" marL="156204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4" marL="198108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5" marL="198108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6" marL="198108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524640"/>
            <a:ext cx="7858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 Narrow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7-Apr-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71640" y="6524640"/>
            <a:ext cx="5184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200" spc="-1" strike="noStrike">
                <a:solidFill>
                  <a:srgbClr val="3e7126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3e7126"/>
                </a:solidFill>
                <a:latin typeface="Times New Roman"/>
                <a:ea typeface="ＭＳ Ｐゴシック"/>
              </a:rPr>
              <a:t>Metadata use in the Statistical Value Ch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358120" y="6524640"/>
            <a:ext cx="7858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675640" y="6524640"/>
            <a:ext cx="468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9C55-14CD-4DD3-8177-EBA96DD8552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>
            <a:lum bright="-4000"/>
          </a:blip>
          <a:stretch/>
        </p:blipFill>
        <p:spPr>
          <a:xfrm>
            <a:off x="-1440" y="2209680"/>
            <a:ext cx="9145440" cy="4197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-4680" y="-3240"/>
            <a:ext cx="9155160" cy="6864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712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e712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178920" y="6448320"/>
            <a:ext cx="158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07-Apr-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907640" y="6421320"/>
            <a:ext cx="518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8305920" y="638640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f327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4" marL="1752480" algn="ctr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5" marL="17524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6" marL="17524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77724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7126"/>
                </a:solidFill>
                <a:latin typeface="Arial"/>
              </a:rPr>
              <a:t>Metadata use in the Statistical Value Chain</a:t>
            </a:r>
            <a:endParaRPr b="1" lang="en-US" sz="4000" spc="-1" strike="noStrike">
              <a:solidFill>
                <a:srgbClr val="3e712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42920" y="1844280"/>
            <a:ext cx="6400800" cy="26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UNECE-Eurostat-OECD Meeting 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on 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Management of Statistical Information Systems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MSIS 2008 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Luxembourg, 7-9 April 2008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f327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f327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"/>
              </a:rPr>
              <a:t>Georges Pongas 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"/>
              </a:rPr>
              <a:t>Adam Wroński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545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55a032"/>
                </a:solidFill>
                <a:latin typeface="Arial"/>
              </a:rPr>
              <a:t>Examples of SMEs</a:t>
            </a:r>
            <a:endParaRPr b="1" lang="en-US" sz="44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03160" y="1752480"/>
            <a:ext cx="667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SDDS documents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Dublin Core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Classifications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Keywords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Administrative entities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Programs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Publications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545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a032"/>
                </a:solidFill>
                <a:latin typeface="Arial"/>
              </a:rPr>
              <a:t>Binary Relationships (BR)</a:t>
            </a:r>
            <a:endParaRPr b="1" lang="en-US" sz="36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Two types: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Between two different entities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correspondence tables, access rights definitions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Inside the same entity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thesauri, classification hierarchies, links between regulations, statistical documents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Relationship id 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UN thesaurus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First entity id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EUROPE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First entity role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Parent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Second entity id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FR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Second entity role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Child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Reason of link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Broader term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5a032"/>
                </a:solidFill>
                <a:latin typeface="Arial"/>
              </a:rPr>
              <a:t>Clustered Metadata Entities (CME)</a:t>
            </a:r>
            <a:endParaRPr b="1" lang="en-US" sz="40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545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Complex entities characterised by variable keys’ cardinality and references to other entities of type CME, SME and BR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Description techniques  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XML schema is appropriate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545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a032"/>
                </a:solidFill>
                <a:latin typeface="Arial"/>
              </a:rPr>
              <a:t>Examples</a:t>
            </a:r>
            <a:endParaRPr b="1" lang="en-US" sz="44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3277"/>
                </a:solidFill>
                <a:latin typeface="Arial"/>
              </a:rPr>
              <a:t>SDMX, Gesmes definitions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3277"/>
                </a:solidFill>
                <a:latin typeface="Arial"/>
              </a:rPr>
              <a:t>Dataset definitions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3277"/>
                </a:solidFill>
                <a:latin typeface="Arial"/>
              </a:rPr>
              <a:t>Annotations to dataset cells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3277"/>
                </a:solidFill>
                <a:latin typeface="Arial"/>
              </a:rPr>
              <a:t>Confidentiality definitions linked to datasets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a032"/>
                </a:solidFill>
                <a:latin typeface="Arial"/>
              </a:rPr>
              <a:t>Metadata in the various steps of the SVC</a:t>
            </a:r>
            <a:endParaRPr b="1" lang="en-US" sz="4400" spc="-1" strike="noStrike">
              <a:solidFill>
                <a:srgbClr val="55a03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75452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5a032"/>
                </a:solidFill>
                <a:latin typeface="Arial"/>
              </a:rPr>
              <a:t>Collection Metadata</a:t>
            </a:r>
            <a:endParaRPr b="1" lang="en-US" sz="40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Mostly of type BR and SME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Among others they contain: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source agencies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data files descriptions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codelists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validation rules linked to initial data checks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545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5a032"/>
                </a:solidFill>
                <a:latin typeface="Arial"/>
              </a:rPr>
              <a:t>Editing, Imputation and Processing Metadata</a:t>
            </a:r>
            <a:endParaRPr b="1" lang="en-US" sz="40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754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More complex than the collection metadata (more CME entities needed)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39480" indent="-339480"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Among others they contain: 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lvl="1" marL="735480" indent="-282960"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Dataset definitions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Formulas, programs, scripts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Conditional and ordinary annotations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Dissemination feeding information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545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a032"/>
                </a:solidFill>
                <a:latin typeface="Arial"/>
              </a:rPr>
              <a:t>Dissemination Metadata</a:t>
            </a:r>
            <a:endParaRPr b="1" lang="en-US" sz="44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545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The most complex metadata types are located here. 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They contain almost all the previously described metadata plus their own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Reasons for this complexity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f327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3277"/>
                </a:solidFill>
                <a:latin typeface="Arial"/>
              </a:rPr>
              <a:t>Dissemination contains all the statistical domains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f327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3277"/>
                </a:solidFill>
                <a:latin typeface="Arial"/>
              </a:rPr>
              <a:t>It must cover all user types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f327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3277"/>
                </a:solidFill>
                <a:latin typeface="Arial"/>
              </a:rPr>
              <a:t>It has tight delivery deadlines 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f327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3277"/>
                </a:solidFill>
                <a:latin typeface="Arial"/>
              </a:rPr>
              <a:t>It must offer navigation presentation and extraction facilities of great friendliness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545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5a032"/>
                </a:solidFill>
                <a:latin typeface="Arial"/>
              </a:rPr>
              <a:t>Among others dissemination metadata contain</a:t>
            </a:r>
            <a:endParaRPr b="1" lang="en-US" sz="40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6920" y="2060640"/>
            <a:ext cx="754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Sitemap description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Release calendars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Dataset links to publication tables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Questionnaires definitions linked to datasets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Units of measurement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Ready made queries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5452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a032"/>
                </a:solidFill>
                <a:latin typeface="Arial"/>
              </a:rPr>
              <a:t>Conclusion</a:t>
            </a:r>
            <a:endParaRPr b="1" lang="en-US" sz="44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137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Separation of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statistical notions (context) and structure (functionality) of metadata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gives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minimisation of structural metadata types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consequently it makes easier to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build and implement a complex statistical (metadata and data) system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545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5a032"/>
                </a:solidFill>
                <a:latin typeface="Arial"/>
              </a:rPr>
              <a:t>Content</a:t>
            </a:r>
            <a:endParaRPr b="1" lang="en-US" sz="40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4725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spcAft>
                <a:spcPts val="876"/>
              </a:spcAft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spcAft>
                <a:spcPts val="876"/>
              </a:spcAft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Operational Characteristics of Metadata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spcAft>
                <a:spcPts val="876"/>
              </a:spcAft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Technical Characteristics of the Metadata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spcAft>
                <a:spcPts val="876"/>
              </a:spcAft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Metadata types needed in the various steps of the SVC (statistical value chain)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spcAft>
                <a:spcPts val="876"/>
              </a:spcAft>
              <a:buClr>
                <a:srgbClr val="0f327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545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a032"/>
                </a:solidFill>
                <a:latin typeface="Arial"/>
              </a:rPr>
              <a:t>Seven SVC steps</a:t>
            </a:r>
            <a:endParaRPr b="1" lang="en-US" sz="44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6280" y="1267920"/>
            <a:ext cx="7545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f327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Expression of the need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f327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Data collection design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f327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Specification and development of the tools needed for the data collection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f327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Data collection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f327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Data editing and imputation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f327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Data processing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f327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Data dissemination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545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a032"/>
                </a:solidFill>
                <a:latin typeface="Arial"/>
              </a:rPr>
              <a:t>Basics</a:t>
            </a:r>
            <a:endParaRPr b="1" lang="en-US" sz="44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Leave out the statistical notions from the technical (implementation oriented) characteristics of the metadata.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Design metadata technical characteristics so the same metadata structures can cover both statistical and non-statistical requirements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545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5a032"/>
                </a:solidFill>
                <a:latin typeface="Arial"/>
              </a:rPr>
              <a:t>Operational Characteristics </a:t>
            </a:r>
            <a:br>
              <a:rPr sz="4000"/>
            </a:br>
            <a:r>
              <a:rPr b="1" lang="en-US" sz="4000" spc="-1" strike="noStrike">
                <a:solidFill>
                  <a:srgbClr val="55a032"/>
                </a:solidFill>
                <a:latin typeface="Arial"/>
              </a:rPr>
              <a:t>of Metadata</a:t>
            </a:r>
            <a:endParaRPr b="1" lang="en-US" sz="40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6327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Static nature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Long production process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Located in various places (resources)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Critical link with statistical data 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3277"/>
                </a:solidFill>
                <a:latin typeface="Arial"/>
              </a:rPr>
              <a:t>depends on statistical data changes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Strong coupling of structural metadata with the statistical data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Large number of metadata entities needed in SVC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847800"/>
            <a:ext cx="75456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5a032"/>
                </a:solidFill>
                <a:latin typeface="Arial"/>
              </a:rPr>
              <a:t>Technical Characteristics </a:t>
            </a:r>
            <a:br>
              <a:rPr sz="4000"/>
            </a:br>
            <a:r>
              <a:rPr b="1" lang="en-US" sz="4000" spc="-1" strike="noStrike">
                <a:solidFill>
                  <a:srgbClr val="55a032"/>
                </a:solidFill>
                <a:latin typeface="Arial"/>
              </a:rPr>
              <a:t>of Metadata</a:t>
            </a:r>
            <a:endParaRPr b="1" lang="en-US" sz="40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6920" y="2852280"/>
            <a:ext cx="7545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Terminology often complex 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Technical characteristics and statistical notions frequently mixed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45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a032"/>
                </a:solidFill>
                <a:latin typeface="Arial"/>
              </a:rPr>
              <a:t>Statistical Notions and Metadata</a:t>
            </a:r>
            <a:endParaRPr b="1" lang="en-US" sz="36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196640"/>
            <a:ext cx="7561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3277"/>
                </a:solidFill>
                <a:latin typeface="Arial"/>
              </a:rPr>
              <a:t>Classification, keyword list and set of information related to the SDDS standard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3277"/>
                </a:solidFill>
                <a:latin typeface="Arial"/>
              </a:rPr>
              <a:t>Correspondence table between two classifications &amp; table containing the links (access rights) between the user names and the statistical datasets of a database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f3277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The only difference is the context, i.e., the user interface 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f3277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Thus develop separately: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3277"/>
                </a:solidFill>
                <a:latin typeface="Arial"/>
              </a:rPr>
              <a:t>a common set of functionalities and 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3277"/>
                </a:solidFill>
                <a:latin typeface="Arial"/>
              </a:rPr>
              <a:t>the interface layer for an application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5456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5a032"/>
                </a:solidFill>
                <a:latin typeface="Arial"/>
              </a:rPr>
              <a:t>Metadata Technical Structure Categories</a:t>
            </a:r>
            <a:endParaRPr b="1" lang="en-US" sz="40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545600" cy="23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3277"/>
                </a:solidFill>
                <a:latin typeface="Arial"/>
              </a:rPr>
              <a:t>Three categories proposed: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f327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Simple Metadata Entities (SME)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f327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Binary Relationships (BR)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f327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Clustered Metadata Entities (CME)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a032"/>
                </a:solidFill>
                <a:latin typeface="Arial"/>
              </a:rPr>
              <a:t>Simple Metadata Entities (SME)</a:t>
            </a:r>
            <a:endParaRPr b="1" lang="en-US" sz="36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1280" y="1773000"/>
            <a:ext cx="8316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3277"/>
                </a:solidFill>
                <a:latin typeface="Arial"/>
              </a:rPr>
              <a:t>simple key 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3277"/>
                </a:solidFill>
                <a:latin typeface="Arial"/>
              </a:rPr>
              <a:t>variable number of attributes appropriate for vertical type storage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3277"/>
                </a:solidFill>
                <a:latin typeface="Arial"/>
              </a:rPr>
              <a:t>Example 1</a:t>
            </a:r>
            <a:r>
              <a:rPr b="1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3277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3277"/>
                </a:solidFill>
                <a:latin typeface="Arial"/>
              </a:rPr>
              <a:t>Entity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NACE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user name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3277"/>
                </a:solidFill>
                <a:latin typeface="Arial"/>
              </a:rPr>
              <a:t>Entity element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2122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gpongas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3277"/>
                </a:solidFill>
                <a:latin typeface="Arial"/>
              </a:rPr>
              <a:t>Attribute name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English label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phone no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3277"/>
                </a:solidFill>
                <a:latin typeface="Arial"/>
              </a:rPr>
              <a:t>Attribute value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“Mining”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f3277"/>
                </a:solidFill>
                <a:latin typeface="Arial"/>
              </a:rPr>
              <a:t>430139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09:28:21Z</dcterms:created>
  <dc:creator>pongage</dc:creator>
  <dc:description/>
  <dc:language>en-US</dc:language>
  <cp:lastModifiedBy>Wronsad</cp:lastModifiedBy>
  <dcterms:modified xsi:type="dcterms:W3CDTF">2008-04-02T11:44:32Z</dcterms:modified>
  <cp:revision>44</cp:revision>
  <dc:subject/>
  <dc:title>Slide 1</dc:title>
</cp:coreProperties>
</file>