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1B2C2-E7EA-486C-A88D-DCA780E5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BEC6B-0A26-4F5A-9193-6934A23B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EA6EA-B2E6-4F30-8E39-9794E32E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5E711-549D-4C58-BCAA-D655CE2B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CC687-E77E-4153-9921-0C37892B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0BD33-3481-4089-86CC-3275AF8F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119A5-702F-47E4-9F45-10A605A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12F33-708E-416D-93BF-39C1FAF0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75994-3738-451C-86F4-1E6904CF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A2253-2870-43B8-8EDF-5E118C9A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92FBA-0153-4140-97CA-CE05E478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96EE5-3F36-40DB-B8D6-351D547D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3171960"/>
            <a:ext cx="9161640" cy="368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a03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7858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7-Apr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71640" y="6524640"/>
            <a:ext cx="5184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3e7126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e7126"/>
                </a:solidFill>
                <a:latin typeface="Times New Roman"/>
                <a:ea typeface="ＭＳ Ｐゴシック"/>
              </a:rPr>
              <a:t>Metadata use in the Statistical Value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8120" y="6524640"/>
            <a:ext cx="78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39B9-472B-4D2B-9591-C7199498E3F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-1440" y="2209680"/>
            <a:ext cx="9145440" cy="419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4680" y="-3240"/>
            <a:ext cx="915516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712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e71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178920" y="644832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07-Apr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907640" y="64213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305920" y="6386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7126"/>
                </a:solidFill>
                <a:latin typeface="Arial"/>
              </a:rPr>
              <a:t>Metadata use in the Statistical Value Chain</a:t>
            </a:r>
            <a:endParaRPr b="1" lang="en-US" sz="4000" spc="-1" strike="noStrike">
              <a:solidFill>
                <a:srgbClr val="3e71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184428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UNECE-Eurostat-OECD Meeting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on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Management of Statistical Information System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MSIS 2008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Luxembourg, 7-9 April 2008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Georges Pongas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Adam Wroński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5a032"/>
                </a:solidFill>
                <a:latin typeface="Arial"/>
              </a:rPr>
              <a:t>Examples of SMEs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03160" y="1752480"/>
            <a:ext cx="667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SDDS documen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Dublin Core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Classification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Keyword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Administrative entitie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Program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5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a032"/>
                </a:solidFill>
                <a:latin typeface="Arial"/>
              </a:rPr>
              <a:t>Binary Relationships (BR)</a:t>
            </a:r>
            <a:endParaRPr b="1" lang="en-US" sz="36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wo types: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Between two different entitie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correspondence tables, access rights definition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side the same entity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esauri, classification hierarchies, links between regulations, statistical document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Relationship id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UN thesauru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First entity id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First entity role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Second entity id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FR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Second entity role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Child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Reason of link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Broader term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Clustered Metadata Entities (CME)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545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Complex entities characterised by variable keys’ cardinality and references to other entities of type CME, SME and BR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Description techniques 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XML schema is appropriate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Examples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3277"/>
                </a:solidFill>
                <a:latin typeface="Arial"/>
              </a:rPr>
              <a:t>SDMX, Gesmes definition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3277"/>
                </a:solidFill>
                <a:latin typeface="Arial"/>
              </a:rPr>
              <a:t>Dataset definition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3277"/>
                </a:solidFill>
                <a:latin typeface="Arial"/>
              </a:rPr>
              <a:t>Annotations to dataset cell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3277"/>
                </a:solidFill>
                <a:latin typeface="Arial"/>
              </a:rPr>
              <a:t>Confidentiality definitions linked to datase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Metadata in the various steps of the SVC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545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Collection Metadata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Mostly of type BR and SME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Among others they contain: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ource agencie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files description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odelist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validation rules linked to initial data check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545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Editing, Imputation and Processing Metadata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54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More complex than the collection metadata (more CME entities needed)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Among others they contain: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735480" indent="-28296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set definition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Formulas, programs, script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onditional and ordinary annotation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issemination feeding informa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545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Dissemination Metadata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545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he most complex metadata types are located here.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hey contain almost all the previously described metadata plus their own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Reasons for this complexity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Dissemination contains all the statistical domain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t must cover all user type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t has tight delivery deadlines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t must offer navigation presentation and extraction facilities of great friendlines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545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Among others dissemination metadata contain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54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Sitemap description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Release calendar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Dataset links to publication table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Questionnaires definitions linked to datase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Units of measurement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Ready made querie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52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37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eparation of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tatistical notions (context) and structure (functionality) of metadata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give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minimisation of structural metadata type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onsequently it makes easier to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build and implement a complex statistical (metadata and data) system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Content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472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Operational Characteristics of Metadata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Technical Characteristics of the Metadata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Metadata types needed in the various steps of the SVC (statistical value chain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Seven SVC steps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6280" y="1267920"/>
            <a:ext cx="7545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Expression of the need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collection desig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pecification and development of the tools needed for the data collec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editing and imputa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processing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dissemina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Basics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Leave out the statistical notions from the technical (implementation oriented) characteristics of the metadata.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Design metadata technical characteristics so the same metadata structures can cover both statistical and non-statistical requiremen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45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Operational Characteristics </a:t>
            </a:r>
            <a:br>
              <a:rPr sz="4000"/>
            </a:b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of Metadata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632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tatic nature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Long production proces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Located in various places (resources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ritical link with statistical data 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depends on statistical data change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trong coupling of structural metadata with the statistical data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Large number of metadata entities needed in SVC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847800"/>
            <a:ext cx="7545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Technical Characteristics </a:t>
            </a:r>
            <a:br>
              <a:rPr sz="4000"/>
            </a:b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of Metadata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2852280"/>
            <a:ext cx="7545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erminology often complex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echnical characteristics and statistical notions frequently mixed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45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a032"/>
                </a:solidFill>
                <a:latin typeface="Arial"/>
              </a:rPr>
              <a:t>Statistical Notions and Metadata</a:t>
            </a:r>
            <a:endParaRPr b="1" lang="en-US" sz="36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56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Classification, keyword list and set of information related to the SDDS standard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Correspondence table between two classifications &amp; table containing the links (access rights) between the user names and the statistical datasets of a database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f3277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The only difference is the context, i.e., the user interface 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f3277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Thus develop separately: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a common set of functionalities and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the interface layer for an application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545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Metadata Technical Structure Categories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4560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hree categories proposed: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imple Metadata Entities (SME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Binary Relationships (BR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lustered Metadata Entities (CME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a032"/>
                </a:solidFill>
                <a:latin typeface="Arial"/>
              </a:rPr>
              <a:t>Simple Metadata Entities (SME)</a:t>
            </a:r>
            <a:endParaRPr b="1" lang="en-US" sz="36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280" y="1773000"/>
            <a:ext cx="83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3277"/>
                </a:solidFill>
                <a:latin typeface="Arial"/>
              </a:rPr>
              <a:t>simple key 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3277"/>
                </a:solidFill>
                <a:latin typeface="Arial"/>
              </a:rPr>
              <a:t>variable number of attributes appropriate for vertical type storage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Example 1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Entity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NACE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user name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Entity element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2122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gponga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Attribute name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English label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phone no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Attribute value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“Mining”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430139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9:28:21Z</dcterms:created>
  <dc:creator>pongage</dc:creator>
  <dc:description/>
  <dc:language>en-US</dc:language>
  <cp:lastModifiedBy>Wronsad</cp:lastModifiedBy>
  <dcterms:modified xsi:type="dcterms:W3CDTF">2008-04-02T11:44:32Z</dcterms:modified>
  <cp:revision>44</cp:revision>
  <dc:subject/>
  <dc:title>Slide 1</dc:title>
</cp:coreProperties>
</file>