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10018713"/>
</p:presentation>
</file>

<file path=ppt/commentAuthors.xml><?xml version="1.0" encoding="utf-8"?>
<p:cmAuthorLst xmlns:p="http://schemas.openxmlformats.org/presentationml/2006/main">
  <p:cmAuthor id="0" name="tabanell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03-21T15:10:08.268000000" idx="1">
    <p:pos x="5494" y="4080"/>
    <p:text>posizione logo: 21,90 - 18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AF9-2F6F-4965-9BE4-7CE9A08A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A46-5ECE-491B-8A93-8061E3E3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A5D-5F14-4A8F-90C0-20AEC35C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49B-67B9-4410-A509-FFAE52CB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CB3-DE03-4870-93F3-360CDD3E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0F5-C215-47A5-85C8-336084A9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D55-6849-450F-BD42-F9738968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E58-0D7B-4BD2-B39F-A6487BB4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44C-930F-414F-B4F8-990A842E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06A-0F5C-4696-9FFC-96382498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282-1381-47A9-954B-A172347B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664-B04C-4B43-A240-0EBD041C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6720-C823-489A-A5BD-15802AB2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32472" t="18527" r="0" b="6009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8200" y="5073480"/>
            <a:ext cx="66211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8200" y="65689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uxembourg, 07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2160" y="1581120"/>
            <a:ext cx="600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993333"/>
                </a:solidFill>
                <a:latin typeface="Arial"/>
              </a:rPr>
              <a:t>UNECE-Eurostat-OECD Meeting on Management of Statistical Information Systems, MSIS 2008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67160" y="16192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tegrate architecture using SDMX - A framework for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348160"/>
            <a:ext cx="67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dddddd"/>
                </a:solidFill>
                <a:latin typeface="Arial"/>
              </a:rPr>
              <a:t>Laura Vigno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dddddd"/>
                </a:solidFill>
                <a:latin typeface="Arial"/>
              </a:rPr>
              <a:t>National Statistical Institute – Italy (Ist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Client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889280" y="955800"/>
            <a:ext cx="689904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Client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765440" y="932040"/>
            <a:ext cx="709272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SDMX Data Wher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71560" y="1247760"/>
            <a:ext cx="709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5880" y="871560"/>
            <a:ext cx="7305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ataWhe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A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ataFlow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STSIND_PROD_M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ataFlow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FREQUENCY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INDICATOR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PROD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A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ADJUSTMENT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STS_ACTIVITY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N100DA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STS_ACTIVITY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N100C0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STS_ACTIVITY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N100D0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StartTime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2000-01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Start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EndTime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2006-01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End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A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A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Dimension name="STS_ACTIVITY"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N100C0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im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StartTime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1995-01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Start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query:EndTime&gt;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2003-01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End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A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   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A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:DataWhe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  </a:t>
            </a:r>
            <a:r>
              <a:rPr b="1" lang="it-IT" sz="1000" spc="-1" strike="noStrike">
                <a:solidFill>
                  <a:srgbClr val="993333"/>
                </a:solidFill>
                <a:latin typeface="Verdana"/>
              </a:rPr>
              <a:t>&lt;/Quer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The query par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76320" y="1531800"/>
            <a:ext cx="70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StartTime&gt;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Date 1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Start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EndTime&gt;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Date 2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End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993333"/>
                </a:solidFill>
                <a:latin typeface="Verdana"/>
              </a:rPr>
              <a:t>&lt;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41400" y="110808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b independent side of web services - rewriting the xm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62000" y="4157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Cond 1, Cond 2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14480" y="2690640"/>
            <a:ext cx="70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StartTime&gt;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Date 1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Start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EndTime&gt;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Date 2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End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62000" y="5133960"/>
            <a:ext cx="70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Con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Co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The query par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57240" y="120492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O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Or&gt;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Cond 4, Cond 5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993333"/>
                </a:solidFill>
                <a:latin typeface="Verdana"/>
              </a:rPr>
              <a:t>&lt;/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76320" y="3414600"/>
            <a:ext cx="70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Con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Or&gt;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Cond 2, Cond 3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76320" y="2019240"/>
            <a:ext cx="70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O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Con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Co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993333"/>
                </a:solidFill>
                <a:latin typeface="Verdana"/>
              </a:rPr>
              <a:t>&lt;/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4687920"/>
            <a:ext cx="70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Cond 1, Cond 2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    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And&gt;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Cond 1, Cond 3 </a:t>
            </a: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33"/>
                </a:solidFill>
                <a:latin typeface="Verdana"/>
              </a:rPr>
              <a:t>&lt;/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SDMX Data file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71560" y="1247760"/>
            <a:ext cx="709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22320" y="111744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b dependent side of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933560" y="2000160"/>
          <a:ext cx="6759720" cy="1063440"/>
        </p:xfrm>
        <a:graphic>
          <a:graphicData uri="http://schemas.openxmlformats.org/drawingml/2006/table">
            <a:tbl>
              <a:tblPr/>
              <a:tblGrid>
                <a:gridCol w="847800"/>
                <a:gridCol w="781200"/>
                <a:gridCol w="1123920"/>
                <a:gridCol w="895320"/>
                <a:gridCol w="857160"/>
                <a:gridCol w="981000"/>
                <a:gridCol w="12733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START_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END_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DATAFLO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AJUST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FREQUEN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INDICATOR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993333"/>
                          </a:solidFill>
                          <a:latin typeface="Times New Roman"/>
                        </a:rPr>
                        <a:t>STS_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-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TSIND_PROD_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00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-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TSIND_PROD_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00D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-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TSIND_PROD_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00C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-0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-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TSIND_PROD_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00C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914480" y="3600360"/>
            <a:ext cx="68454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SELECT METADATI_STS.*,SSTSIND_PROD.* FROM METADATI_STS,SSTSIND_PROD WHERE ADJUSTMENT=‘S’ AND FREQUENCY=‘M’ AND INDICATOR=‘PROD’ AND STS_ACTIVITY=N100DA AND TIME_PERIOD BETWEEN 2000-01 AND 2006-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SELECT METADATI_STS.*,SSTSIND_PROD.* FROM METADATI_STS,SSTSIND_PROD WHERE ADJUSTMENT=‘S’ AND FREQUENCY=‘M’ AND INDICATOR=‘PROD’ AND STS_ACTIVITY=N100D0 AND TIME_PERIOD BETWEEN 2000-01 AND 2006-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32472" t="18527" r="0" b="6009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78200" y="5073480"/>
            <a:ext cx="66211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8200" y="65689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uxembourg, 07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2160" y="1581120"/>
            <a:ext cx="600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993333"/>
                </a:solidFill>
                <a:latin typeface="Arial"/>
              </a:rPr>
              <a:t>UNECE-Eurostat-OECD Meeting on Management of Statistical Information Systems, MSIS 2008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0573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uture develop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44640" y="1978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- Introduce new features on the existing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60480" y="33274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- Make available some of this modules as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2640" y="1285920"/>
            <a:ext cx="57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STAT situation of data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2473200"/>
            <a:ext cx="66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lot of sub - system web with data stored in different db server and with differen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65240" y="360360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ables excel, Gesmes files, other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74800" y="38736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Istat situation of data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30520" y="343080"/>
            <a:ext cx="6621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First phase of exchange data in SDMX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0160" y="226368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) Mapping between metadata alredy present in CONISTAT and the DSD done by Eur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84440" y="3508200"/>
            <a:ext cx="62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) Realizing a WS who accept an SDMXquery and retrive an SDMX co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5880" y="123192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hort term indicators database - CONI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30520" y="343080"/>
            <a:ext cx="7259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Second phase of exchange data in SDMX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46160" y="3632040"/>
            <a:ext cx="6962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hort terms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mplement a registry/repository accessible from a single web service. A set of re-usable modules that drive the data flow from the reporting to dissemina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98640" y="129852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4480" y="2152800"/>
            <a:ext cx="696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ng terms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mplement a registry/hub, will let end - user to access all data, now distribuited in different database and data warehouse, from a single 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7920" y="3295800"/>
            <a:ext cx="1104840" cy="1361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30520" y="343080"/>
            <a:ext cx="72993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Second phase of exchange data in SDMX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13120" y="1308240"/>
            <a:ext cx="68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short term solution – a framework for S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3280" y="3343320"/>
            <a:ext cx="399960" cy="4762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58920" y="3549600"/>
            <a:ext cx="399960" cy="4860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4920" y="3765600"/>
            <a:ext cx="399960" cy="48564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57440" y="1914480"/>
            <a:ext cx="400320" cy="4860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1440" y="2124000"/>
            <a:ext cx="399960" cy="4860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8040" y="3362400"/>
            <a:ext cx="409680" cy="9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0080" y="3359160"/>
            <a:ext cx="409680" cy="89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29040" y="3419640"/>
            <a:ext cx="257040" cy="790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424320" y="3376440"/>
            <a:ext cx="218880" cy="857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352680" y="5067360"/>
            <a:ext cx="981360" cy="110484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3184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4080" y="3370320"/>
            <a:ext cx="37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03480" y="3586320"/>
            <a:ext cx="49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86080" y="3801960"/>
            <a:ext cx="37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68600" y="196056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92600" y="2189160"/>
            <a:ext cx="3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t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4686480"/>
            <a:ext cx="1543320" cy="1428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1800" y="5324400"/>
            <a:ext cx="11998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DMX Data g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7920" y="4749840"/>
            <a:ext cx="1200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Query 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57440" y="559116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DMX 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1360" y="39146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33600" y="4305240"/>
            <a:ext cx="8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10040" y="2619360"/>
            <a:ext cx="9360" cy="75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0520" y="465768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72080" y="580068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58280" y="3362400"/>
            <a:ext cx="1123920" cy="476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86720" y="3505320"/>
            <a:ext cx="8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URO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00640" y="3638520"/>
            <a:ext cx="3257640" cy="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86440" y="3371760"/>
            <a:ext cx="7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48280" y="3857760"/>
            <a:ext cx="942840" cy="11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114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362120" y="558180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5705640"/>
            <a:ext cx="98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endCxn id="112" idx="2"/>
          </p:cNvCxnSpPr>
          <p:nvPr/>
        </p:nvCxnSpPr>
        <p:spPr>
          <a:xfrm flipH="1" flipV="1" rot="5400000">
            <a:off x="6705720" y="4104720"/>
            <a:ext cx="1781640" cy="1248480"/>
          </a:xfrm>
          <a:prstGeom prst="bentConnector3">
            <a:avLst>
              <a:gd name="adj1" fmla="val -2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585120" y="416556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SDMX 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67520" y="5686560"/>
            <a:ext cx="90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DMX data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1619280" cy="1144440"/>
          </a:xfrm>
          <a:prstGeom prst="rect">
            <a:avLst/>
          </a:prstGeom>
          <a:solidFill>
            <a:srgbClr val="99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82872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tructure of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32472" t="88020" r="0" b="6123"/>
          <a:stretch/>
        </p:blipFill>
        <p:spPr>
          <a:xfrm>
            <a:off x="0" y="6343560"/>
            <a:ext cx="1619280" cy="533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33888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36880" y="6568920"/>
            <a:ext cx="47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880" y="1671480"/>
            <a:ext cx="1209600" cy="43884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K_DATA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DESCRI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K_KEY_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3800" y="1468440"/>
            <a:ext cx="100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33"/>
                </a:solidFill>
                <a:latin typeface="Verdana"/>
              </a:rPr>
              <a:t>DATA_FL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89080" y="3800520"/>
            <a:ext cx="1362240" cy="1255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F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REF_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ADJUST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INDIC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IN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BASE_Y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TIME_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FK_DATA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59120" y="3570120"/>
            <a:ext cx="17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333399"/>
                </a:solidFill>
                <a:latin typeface="Verdana"/>
              </a:rPr>
              <a:t>METADATI_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 flipV="1">
            <a:off x="3484440" y="4223520"/>
            <a:ext cx="232560" cy="118440"/>
          </a:xfrm>
          <a:prstGeom prst="bentConnector3">
            <a:avLst>
              <a:gd name="adj1" fmla="val 49922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2441520" y="1333440"/>
            <a:ext cx="1209600" cy="84708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KEY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G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ISFI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FLAG_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78160" y="1093680"/>
            <a:ext cx="100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33"/>
                </a:solidFill>
                <a:latin typeface="Verdana"/>
              </a:rPr>
              <a:t>KEYFAMIL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38640" y="1130400"/>
            <a:ext cx="1676520" cy="57492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K_DESCRIP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K_KEY_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DESCRIPTOR_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GROUP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56200" y="919080"/>
            <a:ext cx="100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33"/>
                </a:solidFill>
                <a:latin typeface="Verdana"/>
              </a:rPr>
              <a:t>DESCRIP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1368360"/>
            <a:ext cx="2219040" cy="57492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K_DESCRIOP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K_KEY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K_COMPON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MPONENT_DESCRIPTOR_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18360" y="109044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33"/>
                </a:solidFill>
                <a:latin typeface="Verdana"/>
              </a:rPr>
              <a:t>COMPONENT_DESCRIP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73400" y="2270160"/>
            <a:ext cx="1676520" cy="111924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PK_COMPON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FK_KEY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FK_CODE_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OMPONENT_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ORDE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USAGE_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TTACHMENT_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U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43440" y="200196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33"/>
                </a:solidFill>
                <a:latin typeface="Verdana"/>
              </a:rPr>
              <a:t>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67080" y="2620800"/>
            <a:ext cx="1174680" cy="57492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K_CODE_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K_KEY_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G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73200" y="2360520"/>
            <a:ext cx="9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993333"/>
                </a:solidFill>
                <a:latin typeface="Verdana"/>
              </a:rPr>
              <a:t>CODE_L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1360" y="2846520"/>
            <a:ext cx="1174680" cy="57492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PK_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FK_KEY_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FK_CODE_L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2720" y="2624040"/>
            <a:ext cx="9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33"/>
                </a:solidFill>
                <a:latin typeface="Verdana"/>
              </a:rPr>
              <a:t>C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12040" y="2346480"/>
            <a:ext cx="2352600" cy="847080"/>
          </a:xfrm>
          <a:prstGeom prst="rect">
            <a:avLst/>
          </a:prstGeom>
          <a:noFill/>
          <a:ln w="28440">
            <a:solidFill>
              <a:srgbClr val="ff6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PK_COMPON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FK_KEY_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ROSSSECTIONALATTACHDATAS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ROSSSECTIONALATTACH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ROSSSECTIONALATTACHS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ROSSSECTIONALATTACHO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29240" y="210672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993333"/>
                </a:solidFill>
                <a:latin typeface="Verdana"/>
              </a:rPr>
              <a:t>CROSSSECTIONAL_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/>
          <p:nvPr/>
        </p:nvCxnSpPr>
        <p:spPr>
          <a:xfrm flipV="1">
            <a:off x="1830240" y="1463400"/>
            <a:ext cx="597600" cy="535680"/>
          </a:xfrm>
          <a:prstGeom prst="bentConnector3">
            <a:avLst>
              <a:gd name="adj1" fmla="val 49969"/>
            </a:avLst>
          </a:prstGeom>
          <a:ln w="9360">
            <a:solidFill>
              <a:srgbClr val="ff6b6b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 flipV="1">
            <a:off x="3665160" y="1336680"/>
            <a:ext cx="578520" cy="70200"/>
          </a:xfrm>
          <a:prstGeom prst="bentConnector3">
            <a:avLst>
              <a:gd name="adj1" fmla="val 50000"/>
            </a:avLst>
          </a:prstGeom>
          <a:ln w="9360">
            <a:solidFill>
              <a:srgbClr val="ff6b6b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>
            <a:off x="5922720" y="1185480"/>
            <a:ext cx="425880" cy="244800"/>
          </a:xfrm>
          <a:prstGeom prst="bentConnector3">
            <a:avLst>
              <a:gd name="adj1" fmla="val 50000"/>
            </a:avLst>
          </a:prstGeom>
          <a:ln w="9360">
            <a:solidFill>
              <a:srgbClr val="ff6b6b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endCxn id="147" idx="3"/>
          </p:cNvCxnSpPr>
          <p:nvPr/>
        </p:nvCxnSpPr>
        <p:spPr>
          <a:xfrm flipV="1" rot="10800000">
            <a:off x="1899360" y="2705760"/>
            <a:ext cx="531000" cy="440280"/>
          </a:xfrm>
          <a:prstGeom prst="bentConnector3">
            <a:avLst>
              <a:gd name="adj1" fmla="val 51153"/>
            </a:avLst>
          </a:prstGeom>
          <a:ln w="9360">
            <a:solidFill>
              <a:srgbClr val="ff6b6b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5762520" y="2409840"/>
            <a:ext cx="704880" cy="0"/>
          </a:xfrm>
          <a:prstGeom prst="line">
            <a:avLst/>
          </a:prstGeom>
          <a:ln w="936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2666880"/>
            <a:ext cx="371160" cy="9720"/>
          </a:xfrm>
          <a:prstGeom prst="line">
            <a:avLst/>
          </a:prstGeom>
          <a:ln w="936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endCxn id="141" idx="1"/>
          </p:cNvCxnSpPr>
          <p:nvPr/>
        </p:nvCxnSpPr>
        <p:spPr>
          <a:xfrm flipH="1" flipV="1" rot="5400000">
            <a:off x="5798880" y="1850400"/>
            <a:ext cx="741960" cy="376920"/>
          </a:xfrm>
          <a:prstGeom prst="bentConnector2">
            <a:avLst/>
          </a:prstGeom>
          <a:ln w="9360">
            <a:solidFill>
              <a:srgbClr val="ff2727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371520" y="3968640"/>
            <a:ext cx="1361880" cy="1799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F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REF_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ADJUST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INDIC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IN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BASE_Y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TIME_PERI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OBS_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OBS_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BS_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BS_CO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BS_PRE_BRE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200" y="3738600"/>
            <a:ext cx="173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Verdana"/>
              </a:rPr>
              <a:t>SSTSIND_ORD_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40040" y="3917880"/>
            <a:ext cx="1362240" cy="1663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F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REF_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ADJUST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INDIC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IN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TS_BASE_Y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TIME_PERI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OBS_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OBS_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BS_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BS_CO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10080" y="3687840"/>
            <a:ext cx="17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Verdana"/>
              </a:rPr>
              <a:t>SSTSIND_PROD_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34" idx="1"/>
          </p:cNvCxnSpPr>
          <p:nvPr/>
        </p:nvCxnSpPr>
        <p:spPr>
          <a:xfrm rot="10800000">
            <a:off x="1747080" y="4198320"/>
            <a:ext cx="327960" cy="238680"/>
          </a:xfrm>
          <a:prstGeom prst="bentConnector3">
            <a:avLst>
              <a:gd name="adj1" fmla="val 47472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600880" y="3873600"/>
            <a:ext cx="1361880" cy="15274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F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TAB_N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REV_N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UNIT_M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DE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TIME_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UN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FK_DATA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70560" y="3643200"/>
            <a:ext cx="17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8000"/>
                </a:solidFill>
                <a:latin typeface="Verdana"/>
              </a:rPr>
              <a:t>METADATI_DEMOGRA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2600" y="4070520"/>
            <a:ext cx="1361880" cy="9831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F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TIME_PERI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Verdana"/>
              </a:rPr>
              <a:t>OBS_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BS_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72280" y="3840120"/>
            <a:ext cx="173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Verdana"/>
              </a:rPr>
              <a:t>DEMOGRAPHY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72480" y="4305240"/>
            <a:ext cx="30456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46360" y="1170000"/>
            <a:ext cx="7207200" cy="4916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Client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Client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757600" y="1009800"/>
            <a:ext cx="500040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32451" t="18532" r="0" b="6004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Verdana"/>
              </a:rPr>
              <a:t>Client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8480" y="6467400"/>
            <a:ext cx="475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uxembourg, 07-09/04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238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UNECE-Eurostat-OECD Meeting on Management of Statistical Information Systems,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MSIS 2008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066760" y="847800"/>
            <a:ext cx="60771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32:42Z</dcterms:created>
  <dc:creator>Laura Vignola</dc:creator>
  <dc:description/>
  <dc:language>en-US</dc:language>
  <cp:lastModifiedBy>Administrator</cp:lastModifiedBy>
  <dcterms:modified xsi:type="dcterms:W3CDTF">2008-04-07T09:38:04Z</dcterms:modified>
  <cp:revision>180</cp:revision>
  <dc:subject/>
  <dc:title>Diapositiva 1</dc:title>
</cp:coreProperties>
</file>