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commentAuthors.xml><?xml version="1.0" encoding="utf-8"?>
<p:cmAuthorLst xmlns:p="http://schemas.openxmlformats.org/presentationml/2006/main">
  <p:cmAuthor id="0" name="tabanell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3-21T15:10:08.268000000" idx="1">
    <p:pos x="5494" y="4080"/>
    <p:text>posizione logo: 21,90 - 18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FE7-CD3C-4113-8AE7-137C2173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238-22A2-4E65-941C-E0871DD0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00E-53DE-4509-BE61-355B9991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B34-BD61-4A2C-B8C8-8796B95E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21F-E19B-4F75-8822-C56DB387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996-41A9-48B4-821F-9E9E885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39A-C290-46BA-B766-579F0E37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048-0EE3-448C-877F-D1A47E5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DE2-5FEB-4156-A267-1E93FB61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737-05B4-4FC9-A69A-053E6FA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718-CE75-42A9-8197-06AF7D2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55C-99B6-46B1-AF92-12589CA7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9AD-970C-467D-AB14-1EE22930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5073480"/>
            <a:ext cx="6621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8200" y="65689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uxembourg, 07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2160" y="1581120"/>
            <a:ext cx="600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993333"/>
                </a:solidFill>
                <a:latin typeface="Arial"/>
              </a:rPr>
              <a:t>UNECE-Eurostat-OECD Meeting on Management of Statistical Information Systems, MSIS 20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67160" y="1619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grate architecture using SDMX - A framework for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348160"/>
            <a:ext cx="67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dddddd"/>
                </a:solidFill>
                <a:latin typeface="Arial"/>
              </a:rPr>
              <a:t>Laura Vign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dddddd"/>
                </a:solidFill>
                <a:latin typeface="Arial"/>
              </a:rPr>
              <a:t>National Statistical Institute – Italy (Is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889280" y="955800"/>
            <a:ext cx="689904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765440" y="932040"/>
            <a:ext cx="70927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DMX Data Wher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71560" y="1247760"/>
            <a:ext cx="70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5880" y="871560"/>
            <a:ext cx="7305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ataWhe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ataFlow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TSIND_PROD_M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ataFlow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FREQUENC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INDICATOR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PROD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ADJUSTMENT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DA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C0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D0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Start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2000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Start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End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2006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End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C0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Start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1995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Start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End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2003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End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ataWhe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The query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76320" y="153180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Start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1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Start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End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2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End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41400" y="110808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b independent side of web services - rewriting the 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62000" y="4157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1, Cond 2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14480" y="269064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Start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1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Start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End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2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End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62000" y="513396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The query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57240" y="120492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4, Cond 5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76320" y="341460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2, Cond 3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76320" y="201924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4687920"/>
            <a:ext cx="70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1, Cond 2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1, Cond 3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DMX Data file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71560" y="1247760"/>
            <a:ext cx="70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22320" y="111744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b dependent side of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933560" y="2000160"/>
          <a:ext cx="6759720" cy="1063440"/>
        </p:xfrm>
        <a:graphic>
          <a:graphicData uri="http://schemas.openxmlformats.org/drawingml/2006/table">
            <a:tbl>
              <a:tblPr/>
              <a:tblGrid>
                <a:gridCol w="847800"/>
                <a:gridCol w="781200"/>
                <a:gridCol w="1123920"/>
                <a:gridCol w="895320"/>
                <a:gridCol w="857160"/>
                <a:gridCol w="981000"/>
                <a:gridCol w="12733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START_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END_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DATAFLO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AJUS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INDICATO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STS_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D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C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-0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-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C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914480" y="3600360"/>
            <a:ext cx="6845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SELECT METADATI_STS.*,SSTSIND_PROD.* FROM METADATI_STS,SSTSIND_PROD WHERE ADJUSTMENT=‘S’ AND FREQUENCY=‘M’ AND INDICATOR=‘PROD’ AND STS_ACTIVITY=N100DA AND TIME_PERIOD BETWEEN 2000-01 AND 2006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SELECT METADATI_STS.*,SSTSIND_PROD.* FROM METADATI_STS,SSTSIND_PROD WHERE ADJUSTMENT=‘S’ AND FREQUENCY=‘M’ AND INDICATOR=‘PROD’ AND STS_ACTIVITY=N100D0 AND TIME_PERIOD BETWEEN 2000-01 AND 2006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8200" y="5073480"/>
            <a:ext cx="6621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8200" y="65689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uxembourg, 07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2160" y="1581120"/>
            <a:ext cx="600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993333"/>
                </a:solidFill>
                <a:latin typeface="Arial"/>
              </a:rPr>
              <a:t>UNECE-Eurostat-OECD Meeting on Management of Statistical Information Systems, MSIS 20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057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uture develo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44640" y="1978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- Introduce new features on the exist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60480" y="33274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- Make available some of this modules as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2640" y="128592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TAT situation of data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473200"/>
            <a:ext cx="66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ot of sub - system web with data stored in different db server and with differen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5240" y="360360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ables excel, Gesmes files, other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4800" y="38736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Istat situation of data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30520" y="343080"/>
            <a:ext cx="6621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First phase of exchange data in SDMX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0160" y="226368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Mapping between metadata alredy present in CONISTAT and the DSD done by Eur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84440" y="3508200"/>
            <a:ext cx="62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Realizing a WS who accept an SDMXquery and retrive an SDMX co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5880" y="12319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hort term indicators database - CONI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30520" y="343080"/>
            <a:ext cx="7259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econd phase of exchange data in SDMX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6160" y="3632040"/>
            <a:ext cx="6962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ort terms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lement a registry/repository accessible from a single web service. A set of re-usable modules that drive the data flow from the reporting to dissemina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98640" y="12985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4480" y="2152800"/>
            <a:ext cx="69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ng terms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lement a registry/hub, will let end - user to access all data, now distribuited in different database and data warehouse, from a single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7920" y="3295800"/>
            <a:ext cx="1104840" cy="1361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30520" y="343080"/>
            <a:ext cx="7299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econd phase of exchange data in SDMX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13120" y="1308240"/>
            <a:ext cx="68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short term solution – a framework for S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3280" y="3343320"/>
            <a:ext cx="399960" cy="4762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58920" y="3549600"/>
            <a:ext cx="399960" cy="4860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4920" y="3765600"/>
            <a:ext cx="399960" cy="4856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57440" y="1914480"/>
            <a:ext cx="400320" cy="486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1440" y="2124000"/>
            <a:ext cx="399960" cy="486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8040" y="3362400"/>
            <a:ext cx="409680" cy="9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0080" y="3359160"/>
            <a:ext cx="409680" cy="89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9040" y="3419640"/>
            <a:ext cx="257040" cy="790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424320" y="3376440"/>
            <a:ext cx="218880" cy="857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2680" y="5067360"/>
            <a:ext cx="981360" cy="110484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318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4080" y="3370320"/>
            <a:ext cx="37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3480" y="3586320"/>
            <a:ext cx="49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86080" y="3801960"/>
            <a:ext cx="37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68600" y="19605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92600" y="2189160"/>
            <a:ext cx="3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4686480"/>
            <a:ext cx="1543320" cy="1428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1800" y="5324400"/>
            <a:ext cx="11998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DMX Data g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7920" y="4749840"/>
            <a:ext cx="1200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7440" y="559116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MX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1360" y="39146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33600" y="4305240"/>
            <a:ext cx="8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10040" y="2619360"/>
            <a:ext cx="936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0520" y="465768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72080" y="580068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58280" y="3362400"/>
            <a:ext cx="1123920" cy="476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86720" y="350532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URO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00640" y="3638520"/>
            <a:ext cx="325764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86440" y="337176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48280" y="3857760"/>
            <a:ext cx="94284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114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362120" y="558180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570564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endCxn id="112" idx="2"/>
          </p:cNvCxnSpPr>
          <p:nvPr/>
        </p:nvCxnSpPr>
        <p:spPr>
          <a:xfrm flipH="1" flipV="1" rot="5400000">
            <a:off x="6705720" y="4104720"/>
            <a:ext cx="1781640" cy="1248480"/>
          </a:xfrm>
          <a:prstGeom prst="bentConnector3">
            <a:avLst>
              <a:gd name="adj1" fmla="val -2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85120" y="416556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SDMX 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7520" y="5686560"/>
            <a:ext cx="90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MX data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1619280" cy="1144440"/>
          </a:xfrm>
          <a:prstGeom prst="rect">
            <a:avLst/>
          </a:prstGeom>
          <a:solidFill>
            <a:srgbClr val="99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82872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tructure of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32472" t="88020" r="0" b="6123"/>
          <a:stretch/>
        </p:blipFill>
        <p:spPr>
          <a:xfrm>
            <a:off x="0" y="6343560"/>
            <a:ext cx="1619280" cy="533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33888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36880" y="65689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880" y="1671480"/>
            <a:ext cx="1209600" cy="43884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K_DATA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ESCRI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800" y="146844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DATA_FL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080" y="3800520"/>
            <a:ext cx="1362240" cy="1255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F_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ADJUS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BASE_Y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FK_DATA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59120" y="3570120"/>
            <a:ext cx="17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333399"/>
                </a:solidFill>
                <a:latin typeface="Verdana"/>
              </a:rPr>
              <a:t>METADATI_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flipV="1">
            <a:off x="3484440" y="4223520"/>
            <a:ext cx="232560" cy="118440"/>
          </a:xfrm>
          <a:prstGeom prst="bentConnector3">
            <a:avLst>
              <a:gd name="adj1" fmla="val 49922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2441520" y="1333440"/>
            <a:ext cx="1209600" cy="84708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KEY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ISFI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FLAG_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78160" y="109368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KEYFAMIL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38640" y="1130400"/>
            <a:ext cx="167652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K_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ESCRIPTOR_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GROUP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56200" y="91908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DESCRIP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1368360"/>
            <a:ext cx="221904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DESCRIO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KEY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COMPON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MPONENT_DESCRIPTOR_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18360" y="109044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COMPONENT_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73400" y="2270160"/>
            <a:ext cx="1676520" cy="111924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PK_COMPON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KEY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FK_CODE_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MPONENT_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ORDE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USAGE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ACHMENT_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U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43440" y="200196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7080" y="2620800"/>
            <a:ext cx="117468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K_CODE_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73200" y="2360520"/>
            <a:ext cx="9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993333"/>
                </a:solidFill>
                <a:latin typeface="Verdana"/>
              </a:rPr>
              <a:t>CODE_L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360" y="2846520"/>
            <a:ext cx="117468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PK_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CODE_L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2624040"/>
            <a:ext cx="9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C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2346480"/>
            <a:ext cx="2352600" cy="84708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PK_COMPON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DATA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S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29240" y="210672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993333"/>
                </a:solidFill>
                <a:latin typeface="Verdana"/>
              </a:rPr>
              <a:t>CROSSSECTIONAL_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 flipV="1">
            <a:off x="1830240" y="1463400"/>
            <a:ext cx="597600" cy="535680"/>
          </a:xfrm>
          <a:prstGeom prst="bentConnector3">
            <a:avLst>
              <a:gd name="adj1" fmla="val 49969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V="1">
            <a:off x="3665160" y="1336680"/>
            <a:ext cx="578520" cy="70200"/>
          </a:xfrm>
          <a:prstGeom prst="bentConnector3">
            <a:avLst>
              <a:gd name="adj1" fmla="val 50000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>
            <a:off x="5922720" y="1185480"/>
            <a:ext cx="425880" cy="244800"/>
          </a:xfrm>
          <a:prstGeom prst="bentConnector3">
            <a:avLst>
              <a:gd name="adj1" fmla="val 50000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endCxn id="147" idx="3"/>
          </p:cNvCxnSpPr>
          <p:nvPr/>
        </p:nvCxnSpPr>
        <p:spPr>
          <a:xfrm flipV="1" rot="10800000">
            <a:off x="1899360" y="2705760"/>
            <a:ext cx="531000" cy="440280"/>
          </a:xfrm>
          <a:prstGeom prst="bentConnector3">
            <a:avLst>
              <a:gd name="adj1" fmla="val 51153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762520" y="2409840"/>
            <a:ext cx="704880" cy="0"/>
          </a:xfrm>
          <a:prstGeom prst="line">
            <a:avLst/>
          </a:prstGeom>
          <a:ln w="936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2666880"/>
            <a:ext cx="371160" cy="9720"/>
          </a:xfrm>
          <a:prstGeom prst="line">
            <a:avLst/>
          </a:prstGeom>
          <a:ln w="936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41" idx="1"/>
          </p:cNvCxnSpPr>
          <p:nvPr/>
        </p:nvCxnSpPr>
        <p:spPr>
          <a:xfrm flipH="1" flipV="1" rot="5400000">
            <a:off x="5798880" y="1850400"/>
            <a:ext cx="741960" cy="376920"/>
          </a:xfrm>
          <a:prstGeom prst="bentConnector2">
            <a:avLst/>
          </a:prstGeom>
          <a:ln w="9360">
            <a:solidFill>
              <a:srgbClr val="ff2727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71520" y="3968640"/>
            <a:ext cx="1361880" cy="1799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F_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ADJUS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BASE_Y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PERI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PRE_BRE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200" y="3738600"/>
            <a:ext cx="173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Verdana"/>
              </a:rPr>
              <a:t>SSTSIND_ORD_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40040" y="3917880"/>
            <a:ext cx="1362240" cy="1663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F_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ADJUS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BASE_Y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PERI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10080" y="3687840"/>
            <a:ext cx="17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Verdana"/>
              </a:rPr>
              <a:t>SSTSIND_PROD_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34" idx="1"/>
          </p:cNvCxnSpPr>
          <p:nvPr/>
        </p:nvCxnSpPr>
        <p:spPr>
          <a:xfrm rot="10800000">
            <a:off x="1747080" y="4198320"/>
            <a:ext cx="327960" cy="238680"/>
          </a:xfrm>
          <a:prstGeom prst="bentConnector3">
            <a:avLst>
              <a:gd name="adj1" fmla="val 47472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600880" y="3873600"/>
            <a:ext cx="1361880" cy="1527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AB_N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V_N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UNIT_M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DE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UN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FK_DATA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0560" y="3643200"/>
            <a:ext cx="17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8000"/>
                </a:solidFill>
                <a:latin typeface="Verdana"/>
              </a:rPr>
              <a:t>METADATI_DEM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2600" y="4070520"/>
            <a:ext cx="1361880" cy="9831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PERI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2280" y="3840120"/>
            <a:ext cx="173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Verdana"/>
              </a:rPr>
              <a:t>DEMOGRAPHY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2480" y="4305240"/>
            <a:ext cx="30456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46360" y="1170000"/>
            <a:ext cx="7207200" cy="4916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57600" y="1009800"/>
            <a:ext cx="50004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066760" y="847800"/>
            <a:ext cx="60771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Laura Vignola</dc:creator>
  <dc:description/>
  <dc:language>en-US</dc:language>
  <cp:lastModifiedBy>Administrator</cp:lastModifiedBy>
  <dcterms:modified xsi:type="dcterms:W3CDTF">2008-04-07T09:38:04Z</dcterms:modified>
  <cp:revision>180</cp:revision>
  <dc:subject/>
  <dc:title>Diapositiva 1</dc:title>
</cp:coreProperties>
</file>