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894B-224D-4AE9-A4B5-C33B712A0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E1BC-7C73-4883-826A-1DC1D57C3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654B-932D-41AF-9DFD-C1519DCFF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D458-F354-4AF8-BAC0-9264B5FF4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D276-28A5-4A5C-93B6-F7059B5FBB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F58F-8BD6-44C3-A6BB-494C11AD97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E18D-82BD-42B4-9E0C-6273E16F86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5B66-6F75-4E08-8F6D-84445700AA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0D60-9018-4C45-BD6E-158E29D24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DEC9-B29A-4715-92CA-E2910A45B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32FF-0A9F-47AB-8171-911801434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5BF3-5A5C-4A4D-A8D2-92E7AB5DE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FF9F-E4AB-4DE2-A75E-293B90E975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88D5-DC43-4D0C-B83D-0840C870A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29E0-FC77-48A3-A6F2-F43E13572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5F84-F1AE-406C-ABFC-1D9DE1ADC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8617-70ED-434C-BF8A-B515866A6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B04C-3416-4E88-ACAE-99C875AA7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171D-285A-404A-AF62-81D67DB63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73EA-1FC1-40F2-AD31-9719D7DE6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6FE5-0C13-45CD-A99D-0DC770823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B741-AAD8-47DA-9BB6-15B1AE6D9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4BFB-3F72-4821-A8F2-9A4F768C7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BF13-6943-49EE-983C-E8AA83686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62864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AEED-8887-4B04-9C16-2E64D61B5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24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0" t="-359" r="0" b="-359"/>
          <a:stretch/>
        </p:blipFill>
        <p:spPr>
          <a:xfrm>
            <a:off x="755640" y="476280"/>
            <a:ext cx="82548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3581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868-F6C7-46F0-A20B-06AD0C29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6453360"/>
            <a:ext cx="971640" cy="26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06072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008000" cy="7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4360" y="6453360"/>
            <a:ext cx="2016000" cy="24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0" t="-359" r="0" b="-359"/>
          <a:stretch/>
        </p:blipFill>
        <p:spPr>
          <a:xfrm>
            <a:off x="971640" y="1484280"/>
            <a:ext cx="100152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628280"/>
            <a:ext cx="570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etadata Architecture </a:t>
            </a:r>
            <a:br>
              <a:rPr sz="4000"/>
            </a:b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at StatCan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945040" cy="16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SIS 2008</a:t>
            </a:r>
            <a:br>
              <a:rPr sz="2000"/>
            </a:br>
            <a:r>
              <a:rPr b="0" lang="en-CA" sz="2000" spc="-1" strike="noStrike">
                <a:solidFill>
                  <a:srgbClr val="0033cc"/>
                </a:solidFill>
                <a:latin typeface="Arial"/>
              </a:rPr>
              <a:t>Luxembourg,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April 7-9, 2008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Karen Doherty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irector General Informatics Branch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tatistics Canada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 11179 data element defini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 class: type of object being described (person, establishment, househol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ty: attribute that describes the object (sex, ag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ual Domain: list of possible settings (value meanings) for a property (property Sex has two possible meanings Male and 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Domain: code set used to represent the value meanings (1 = Male, 2 = Femal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CF63-D6E7-4E8A-9403-FBD372DE47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Data Warehouse </a:t>
            </a:r>
            <a:br>
              <a:rPr sz="4000"/>
            </a:b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Framework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development framework for data warehouses at Stat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sed on Microsoft .net / SQL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rs can access metadata from within the wareho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1EA9-30D7-48A0-8A42-3B9AB19EF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EZWeb &amp; STCwiki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68492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z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velop Intranet sites in a very standardize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tes MS Excel pivot tables to allow users to view data in a warehouse via O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avigate easily from one OLAP report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C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isplay metadata from the I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sers to collaborate and to submit proposed changes to the I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ediaWiki (used by Wikip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739E-9875-41DB-B5DC-1DA77F069D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Access from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a Data Warehouse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" y="2276640"/>
            <a:ext cx="18716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user viewing data in a warehouse by age range and year can see the associate metadata by clicking on the Metadata icon (top men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844640"/>
          <a:ext cx="5905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844640"/>
                    <a:ext cx="5905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979640" y="2536920"/>
            <a:ext cx="569880" cy="288720"/>
          </a:xfrm>
          <a:prstGeom prst="rightArrow">
            <a:avLst>
              <a:gd name="adj1" fmla="val 50000"/>
              <a:gd name="adj2" fmla="val 49345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3625-3FE9-4EA6-96E8-E939BF195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etadata Browsing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in STCwiki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52640" y="1844640"/>
            <a:ext cx="5256000" cy="447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77080" y="2565360"/>
            <a:ext cx="187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user can view any of the metadata associated with the table they were looking at – in this case the definitions of the age range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8B97-936C-47CD-9051-859A1571CD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etadata Browsing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in STCwiki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56536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user can view any metadata stored in IMDB – all is accessible from STCwi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1876320"/>
            <a:ext cx="491508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D386-C48B-4AAF-891A-2AD6A07CC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Put it All Together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68492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 now we have the building blocks, how do we put it together into a coherent architec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0A31-471D-4CBF-B0BC-67DCD02DB5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68492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verage investment in IMDB to describe not only statistical metadata but also metadata on IT systems and the enterpris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 user-friendly interfaces to metadata from within 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rove support for coding activities and classifications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 users to submit proposed changes to the metadata in the 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35E3-4B96-4BD0-B2EB-64ABD36468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The IMDB is Expanding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068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pansion plans for this year are highlighted in b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655344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85C7-EC39-4E92-951C-8AC760638B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ultiple Formats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2997360"/>
            <a:ext cx="172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arehouse data and IMDB metadata can be combined and rendered in any format via converter mod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048360" cy="429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7CD7-2F64-4B04-8230-1838305D22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Table of Contents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Bl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ewing Metadata Via STC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adata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FE02-2A47-469A-825A-9482EB6288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Metadata Architecture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1922400"/>
            <a:ext cx="1944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arge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ake data and metadata and render/publish it in a variety of modes via software based format conve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st of this architecture exists today at StatC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400720" cy="42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928C-1B9C-44C0-9BAB-58EA1AAEFB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Conclusion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DB has the design required to support a full range of metadata functionality at Stat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significant amount of variable-related information already exists in the 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for 2008/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pleting the process for reviewing and approving metadata changes from wiki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pleting the Classification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pping out a proposal for funding to develop a format converter (DDI or SD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BFD3-CBD4-459D-83D1-9917186030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llection of data offerings led to the need for metadata on the surveys and administrative data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effort was spent initially on defining the surveys to support the dissemination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has shifted to the descriptions of the variables and code sets 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1A4A-1CD2-4640-A7A5-F33F2CA1A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Business Driver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rograms now load their data into warehouses to support analysis and data confro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ere asking for the supporting metadata to be available from within the ware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anted to be able to submit corrections to the metadata as they were working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5CA6-8EE0-4406-B706-3F44D1A511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Building Blocks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Metadata Base (IM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and data display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Warehous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C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53A4-1373-4370-AAFE-9CEB4E255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s information on our 590 activ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s the interpretability of our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sts in assuring the coherence of ou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motes knowledge sharing within StatCan and with extern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eserves corpor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motes the reuse and standardization of metadata assets including definitions and cod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0155-2964-4AD6-B099-0254E9803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Original Vision </a:t>
            </a:r>
            <a:br>
              <a:rPr sz="4000"/>
            </a:br>
            <a:r>
              <a:rPr b="0" i="1" lang="en-CA" sz="4000" spc="-1" strike="noStrike">
                <a:solidFill>
                  <a:srgbClr val="0033cc"/>
                </a:solidFill>
                <a:latin typeface="Arial"/>
              </a:rPr>
              <a:t>for the IMDB 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208720" cy="40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B0B7-32EB-4EB6-9634-9EE47D5EE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chite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del based on ISO/IEC 11179 Metadata Registries and the Corporate Metadata Repository (CMR) from the US Census Bur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CC7E-BE3A-48AF-8A5F-46DDD39AB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33cc"/>
                </a:solidFill>
                <a:latin typeface="Arial"/>
              </a:rPr>
              <a:t>Integrated Metadata Base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ta dimension mode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s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ISO/IEC 111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ta elements (variables) specified by an object class with properties and values (code sets, classif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used to describe any set of objects not just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1CD1-9B11-4B61-ACEE-B867B04491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1:53:38Z</dcterms:created>
  <dc:creator>Karen Doherty</dc:creator>
  <dc:description/>
  <dc:language>en-US</dc:language>
  <cp:lastModifiedBy>Karen Doherty</cp:lastModifiedBy>
  <cp:lastPrinted>2003-02-03T13:21:46Z</cp:lastPrinted>
  <dcterms:modified xsi:type="dcterms:W3CDTF">2008-03-31T21:53:23Z</dcterms:modified>
  <cp:revision>159</cp:revision>
  <dc:subject/>
  <dc:title>MSIS 2008 - Metadata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publicht\strateg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425974245</vt:r8>
  </property>
  <property fmtid="{D5CDD505-2E9C-101B-9397-08002B2CF9AE}" pid="23" name="_AuthorEmail">
    <vt:lpwstr>Karen.Doherty@a.statcan.ca</vt:lpwstr>
  </property>
  <property fmtid="{D5CDD505-2E9C-101B-9397-08002B2CF9AE}" pid="24" name="_AuthorEmailDisplayName">
    <vt:lpwstr>Doherty, Karen - IT HQ/BC TI</vt:lpwstr>
  </property>
  <property fmtid="{D5CDD505-2E9C-101B-9397-08002B2CF9AE}" pid="25" name="_EmailSubject">
    <vt:lpwstr>Presentations from Canada</vt:lpwstr>
  </property>
</Properties>
</file>