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994929-DBB9-46C6-BC47-B43AFE9269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E65D97-8EF5-4B36-8C03-3EBB9C2FA4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CE461F-90BF-485D-8750-4E658DEB85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298562-C7EA-4022-BF18-2BE10E8ACC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0A3C08-B87B-4188-A35E-AF6A528A727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E43AB0-C623-43BB-BADA-813CCC6D6BD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01BAEF-178D-43A6-9E6B-66D5296D46C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451F1A-8B6F-4289-96FB-F49D8B9672A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14EF20-9C31-4F79-912D-3658C086F15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375B87-128F-4ACB-9619-D779B3F3511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9F033E-D675-423E-B7E0-999F42170E6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04E1F6-C41B-47E2-9E9E-38985BD947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6FBE24-BF40-401D-B042-5D38CF7FECD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1451AF-7D0B-46B3-BE63-5345CE4941D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F11529-41E3-4E13-9EF5-1A5AFB4A0A4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C31839-487A-42A1-8760-9E659C923BA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ADAC45-025C-4C44-BE4C-DF5BE16DA7A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87D5BC-5F5A-4220-B168-1D529F97B1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6A17F0-05DB-4E9B-97FF-174D57A5E1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C6CD83-20BE-4F88-A902-368267F00D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DA8D78-1A0E-4364-A198-2F433735C6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B62358-42CA-4971-B1A7-DFDEE73F26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BC158C-C935-4D38-8FA0-6B2B77CC1D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99B0BC-3D7D-4A89-BA8C-8D3ECE19FF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2.png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57200" y="1628640"/>
            <a:ext cx="7918560" cy="15264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33cc"/>
                </a:solidFill>
                <a:latin typeface="Arial"/>
              </a:rPr>
              <a:t>Click to edit the title text format</a:t>
            </a:r>
            <a:endParaRPr b="0" i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3504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B5E35-9A01-4667-AA39-705BEA214C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524720" y="6453360"/>
            <a:ext cx="971640" cy="266400"/>
          </a:xfrm>
          <a:prstGeom prst="rect">
            <a:avLst/>
          </a:prstGeom>
          <a:ln w="0">
            <a:noFill/>
          </a:ln>
        </p:spPr>
      </p:pic>
      <p:sp>
        <p:nvSpPr>
          <p:cNvPr id="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684360" y="6453360"/>
            <a:ext cx="2016000" cy="24264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4"/>
          <a:srcRect l="0" t="-359" r="0" b="-359"/>
          <a:stretch/>
        </p:blipFill>
        <p:spPr>
          <a:xfrm>
            <a:off x="755640" y="476280"/>
            <a:ext cx="825480" cy="100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269800" y="1638000"/>
            <a:ext cx="6334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33cc"/>
                </a:solidFill>
                <a:latin typeface="Arial"/>
              </a:rPr>
              <a:t>Click to edit the title text format</a:t>
            </a:r>
            <a:endParaRPr b="0" i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ldNum" idx="2"/>
          </p:nvPr>
        </p:nvSpPr>
        <p:spPr>
          <a:xfrm>
            <a:off x="35812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F6BAA-D75B-4B97-A3C3-573844933F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7740720" y="6453360"/>
            <a:ext cx="971640" cy="2664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685800" y="3060720"/>
            <a:ext cx="7918560" cy="15228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900000" y="4292640"/>
            <a:ext cx="1008000" cy="7588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684360" y="6453360"/>
            <a:ext cx="2016000" cy="242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5"/>
          <a:srcRect l="0" t="-359" r="0" b="-359"/>
          <a:stretch/>
        </p:blipFill>
        <p:spPr>
          <a:xfrm>
            <a:off x="971640" y="1484280"/>
            <a:ext cx="1001520" cy="12240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626920" y="1628280"/>
            <a:ext cx="5708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000" spc="-1" strike="noStrike">
                <a:solidFill>
                  <a:srgbClr val="0033cc"/>
                </a:solidFill>
                <a:latin typeface="Arial"/>
              </a:rPr>
              <a:t>M</a:t>
            </a:r>
            <a:r>
              <a:rPr b="0" i="1" lang="en-US" sz="4000" spc="-1" strike="noStrike">
                <a:solidFill>
                  <a:srgbClr val="0033cc"/>
                </a:solidFill>
                <a:latin typeface="Arial"/>
              </a:rPr>
              <a:t>etadata Architecture </a:t>
            </a:r>
            <a:br>
              <a:rPr sz="4000"/>
            </a:br>
            <a:r>
              <a:rPr b="0" i="1" lang="en-US" sz="4000" spc="-1" strike="noStrike">
                <a:solidFill>
                  <a:srgbClr val="0033cc"/>
                </a:solidFill>
                <a:latin typeface="Arial"/>
              </a:rPr>
              <a:t>at StatCan</a:t>
            </a:r>
            <a:endParaRPr b="0" i="1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195640" y="3500280"/>
            <a:ext cx="5945040" cy="164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MSIS 2008</a:t>
            </a:r>
            <a:br>
              <a:rPr sz="2000"/>
            </a:br>
            <a:r>
              <a:rPr b="0" lang="en-CA" sz="2000" spc="-1" strike="noStrike">
                <a:solidFill>
                  <a:srgbClr val="0033cc"/>
                </a:solidFill>
                <a:latin typeface="Arial"/>
              </a:rPr>
              <a:t>Luxembourg, </a:t>
            </a: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April 7-9, 2008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Karen Doherty</a:t>
            </a:r>
            <a:br>
              <a:rPr sz="1600"/>
            </a:b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Director General Informatics Branch</a:t>
            </a:r>
            <a:br>
              <a:rPr sz="1600"/>
            </a:b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Statistics Canada</a:t>
            </a: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4400" spc="-1" strike="noStrike">
                <a:solidFill>
                  <a:srgbClr val="0033cc"/>
                </a:solidFill>
                <a:latin typeface="Arial"/>
              </a:rPr>
              <a:t>Integrated Metadata Base</a:t>
            </a:r>
            <a:endParaRPr b="0" i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90360" y="1905120"/>
            <a:ext cx="7391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SO 11179 data element definition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Object class: type of object being described (person, establishment, household, etc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Property: attribute that describes the object (sex, age, etc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Conceptual Domain: list of possible settings (value meanings) for a property (property Sex has two possible meanings Male and Fema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Value Domain: code set used to represent the value meanings (1 = Male, 2 = Female, etc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BCEF79-0BE0-4735-8499-4046BF5D8FF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33cc"/>
                </a:solidFill>
                <a:latin typeface="Arial"/>
              </a:rPr>
              <a:t>Data Warehouse </a:t>
            </a:r>
            <a:br>
              <a:rPr sz="4000"/>
            </a:br>
            <a:r>
              <a:rPr b="0" i="1" lang="en-US" sz="4000" spc="-1" strike="noStrike">
                <a:solidFill>
                  <a:srgbClr val="0033cc"/>
                </a:solidFill>
                <a:latin typeface="Arial"/>
              </a:rPr>
              <a:t>Framework</a:t>
            </a:r>
            <a:endParaRPr b="0" i="1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90360" y="1905120"/>
            <a:ext cx="7391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tandard development framework for data warehouses at Statc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Based on Microsoft .net / SQL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Users can access metadata from within the warehous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01FA67-5058-43C9-9169-19F504600ED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33cc"/>
                </a:solidFill>
                <a:latin typeface="Arial"/>
              </a:rPr>
              <a:t>EZWeb &amp; STCwiki</a:t>
            </a:r>
            <a:endParaRPr b="0" i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90360" y="1904760"/>
            <a:ext cx="7684920" cy="426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EzWe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 to develop Intranet sites in a very standardized 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orporates MS Excel pivot tables to allow users to view data in a warehouse via OL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navigate easily from one OLAP report to ano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Cwik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 to display metadata from the IMD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ows users to collaborate and to submit proposed changes to the IMD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ed on MediaWiki (used by Wikipedi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147AE0-3901-483F-BCE0-C12A8414916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4000" spc="-1" strike="noStrike">
                <a:solidFill>
                  <a:srgbClr val="0033cc"/>
                </a:solidFill>
                <a:latin typeface="Arial"/>
              </a:rPr>
              <a:t>Access from </a:t>
            </a:r>
            <a:br>
              <a:rPr sz="4000"/>
            </a:br>
            <a:r>
              <a:rPr b="0" i="1" lang="en-CA" sz="4000" spc="-1" strike="noStrike">
                <a:solidFill>
                  <a:srgbClr val="0033cc"/>
                </a:solidFill>
                <a:latin typeface="Arial"/>
              </a:rPr>
              <a:t>a Data Warehouse</a:t>
            </a:r>
            <a:endParaRPr b="0" i="1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8600" y="2276640"/>
            <a:ext cx="1871640" cy="32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A user viewing data in a warehouse by age range and year can see the associate metadata by clicking on the Metadata icon (top menu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2484360" y="1844640"/>
          <a:ext cx="5905440" cy="440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84360" y="1844640"/>
                    <a:ext cx="5905440" cy="440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"/>
          <p:cNvSpPr/>
          <p:nvPr/>
        </p:nvSpPr>
        <p:spPr>
          <a:xfrm>
            <a:off x="1979640" y="2536920"/>
            <a:ext cx="569880" cy="288720"/>
          </a:xfrm>
          <a:prstGeom prst="rightArrow">
            <a:avLst>
              <a:gd name="adj1" fmla="val 50000"/>
              <a:gd name="adj2" fmla="val 49345"/>
            </a:avLst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A90927-7A67-4E4A-BD1C-278F5F854CE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4000" spc="-1" strike="noStrike">
                <a:solidFill>
                  <a:srgbClr val="0033cc"/>
                </a:solidFill>
                <a:latin typeface="Arial"/>
              </a:rPr>
              <a:t>Metadata Browsing </a:t>
            </a:r>
            <a:br>
              <a:rPr sz="4000"/>
            </a:br>
            <a:r>
              <a:rPr b="0" i="1" lang="en-CA" sz="4000" spc="-1" strike="noStrike">
                <a:solidFill>
                  <a:srgbClr val="0033cc"/>
                </a:solidFill>
                <a:latin typeface="Arial"/>
              </a:rPr>
              <a:t>in STCwiki </a:t>
            </a:r>
            <a:endParaRPr b="0" i="1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052640" y="1844640"/>
            <a:ext cx="5256000" cy="447696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6877080" y="2565360"/>
            <a:ext cx="1871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The user can view any of the metadata associated with the table they were looking at – in this case the definitions of the age range variabl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97A7EA-A0F1-45F8-8FBE-3D5AED1709C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4000" spc="-1" strike="noStrike">
                <a:solidFill>
                  <a:srgbClr val="0033cc"/>
                </a:solidFill>
                <a:latin typeface="Arial"/>
              </a:rPr>
              <a:t>Metadata Browsing </a:t>
            </a:r>
            <a:br>
              <a:rPr sz="4000"/>
            </a:br>
            <a:r>
              <a:rPr b="0" i="1" lang="en-CA" sz="4000" spc="-1" strike="noStrike">
                <a:solidFill>
                  <a:srgbClr val="0033cc"/>
                </a:solidFill>
                <a:latin typeface="Arial"/>
              </a:rPr>
              <a:t>in STCwiki </a:t>
            </a:r>
            <a:endParaRPr b="0" i="1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77080" y="2565360"/>
            <a:ext cx="1871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The user can view any metadata stored in IMDB – all is accessible from STCwik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143000" y="1876320"/>
            <a:ext cx="4915080" cy="4410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7B7DBB-6842-4341-971B-97945821CC4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33cc"/>
                </a:solidFill>
                <a:latin typeface="Arial"/>
              </a:rPr>
              <a:t>Put it All Together</a:t>
            </a:r>
            <a:endParaRPr b="0" i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90360" y="1904760"/>
            <a:ext cx="7684920" cy="426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o now we have the building blocks, how do we put it together into a coherent architectur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648CEA-3817-4D6B-AF5E-D00BB569681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33cc"/>
                </a:solidFill>
                <a:latin typeface="Arial"/>
              </a:rPr>
              <a:t>Objectives</a:t>
            </a:r>
            <a:endParaRPr b="0" i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90360" y="1904760"/>
            <a:ext cx="7684920" cy="426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Leverage investment in IMDB to describe not only statistical metadata but also metadata on IT systems and the enterprise archite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Develop user-friendly interfaces to metadata from within a wareho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mprove support for coding activities and classifications syst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llow users to submit proposed changes to the metadata in the IMD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4B8D14-8597-4E7D-8C37-E19563B60D4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4000" spc="-1" strike="noStrike">
                <a:solidFill>
                  <a:srgbClr val="0033cc"/>
                </a:solidFill>
                <a:latin typeface="Arial"/>
              </a:rPr>
              <a:t>The IMDB is Expanding </a:t>
            </a:r>
            <a:endParaRPr b="0" i="1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380360" y="3068640"/>
            <a:ext cx="1368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Expansion plans for this year are highlighted in blu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539640" y="2060640"/>
            <a:ext cx="6553440" cy="3684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7B007E-3367-4BC2-97C8-D77CF2AEB19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4000" spc="-1" strike="noStrike">
                <a:solidFill>
                  <a:srgbClr val="0033cc"/>
                </a:solidFill>
                <a:latin typeface="Arial"/>
              </a:rPr>
              <a:t>Multiple Formats </a:t>
            </a:r>
            <a:endParaRPr b="0" i="1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020000" y="2997360"/>
            <a:ext cx="172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Warehouse data and IMDB metadata can be combined and rendered in any format via converter modul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755640" y="1989000"/>
            <a:ext cx="6048360" cy="4297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17D94D-2C4F-4D58-977B-A8DDA95B914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4400" spc="-1" strike="noStrike">
                <a:solidFill>
                  <a:srgbClr val="0033cc"/>
                </a:solidFill>
                <a:latin typeface="Arial"/>
              </a:rPr>
              <a:t>Table of Contents</a:t>
            </a:r>
            <a:endParaRPr b="0" i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Building Block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Viewing Metadata Via STCWik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etadata Archite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EDE555-845E-48A9-B8D4-713B21C30A6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4000" spc="-1" strike="noStrike">
                <a:solidFill>
                  <a:srgbClr val="0033cc"/>
                </a:solidFill>
                <a:latin typeface="Arial"/>
              </a:rPr>
              <a:t>Metadata Architecture </a:t>
            </a:r>
            <a:endParaRPr b="0" i="1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804000" y="1922400"/>
            <a:ext cx="1944720" cy="422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Target 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Take data and metadata and render/publish it in a variety of modes via software based format converter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Most of this architecture exists today at StatCa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1258920" y="1916280"/>
            <a:ext cx="5400720" cy="4209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D0189D-8A95-4749-8B9B-600D55615F4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4400" spc="-1" strike="noStrike">
                <a:solidFill>
                  <a:srgbClr val="0033cc"/>
                </a:solidFill>
                <a:latin typeface="Arial"/>
              </a:rPr>
              <a:t>Conclusion</a:t>
            </a:r>
            <a:endParaRPr b="0" i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MDB has the design required to support a full range of metadata functionality at StatC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 significant amount of variable-related information already exists in the IMD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ork for 2008/0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Completing the process for reviewing and approving metadata changes from wiki us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Completing the Classification Management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Mapping out a proposal for funding to develop a format converter (DDI or SDM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56D9EC-AFAC-4E7D-9A91-A3F7F7EDD2A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33cc"/>
                </a:solidFill>
                <a:latin typeface="Arial"/>
              </a:rPr>
              <a:t>Background</a:t>
            </a:r>
            <a:endParaRPr b="0" i="1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90360" y="1905120"/>
            <a:ext cx="7391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rge collection of data offerings led to the need for metadata on the surveys and administrative data sour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lot of effort was spent initially on defining the surveys to support the dissemination fun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cus has shifted to the descriptions of the variables and code sets use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F7C654-B458-4238-A640-335DBB19914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33cc"/>
                </a:solidFill>
                <a:latin typeface="Arial"/>
              </a:rPr>
              <a:t>Business Drivers</a:t>
            </a:r>
            <a:endParaRPr b="0" i="1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8360" y="1905120"/>
            <a:ext cx="8136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y programs now load their data into warehouses to support analysis and data confro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rs were asking for the supporting metadata to be available from within the warehou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rs wanted to be able to submit corrections to the metadata as they were working on the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6F0F90-4734-4052-975E-55FB8608B4B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33cc"/>
                </a:solidFill>
                <a:latin typeface="Arial"/>
              </a:rPr>
              <a:t>Building Blocks</a:t>
            </a:r>
            <a:endParaRPr b="0" i="1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68360" y="1905120"/>
            <a:ext cx="8136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tadata colle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grated Metadata Base (IMDB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 manipulation and data display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 Warehouse Frame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zWe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Cwik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365848-FFBC-444A-92A5-86B2A2090AE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4400" spc="-1" strike="noStrike">
                <a:solidFill>
                  <a:srgbClr val="0033cc"/>
                </a:solidFill>
                <a:latin typeface="Arial"/>
              </a:rPr>
              <a:t>Integrated Metadata Base</a:t>
            </a:r>
            <a:endParaRPr b="0" i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90360" y="1905120"/>
            <a:ext cx="7391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ontains information on our 590 active surve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Benefit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Improves the interpretability of our surve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ssists in assuring the coherence of our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Promotes knowledge sharing within StatCan and with external us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Preserves corporate mem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Promotes the reuse and standardization of metadata assets including definitions and code s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249866-596D-45BD-8AAA-B62C5F11660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4000" spc="-1" strike="noStrike">
                <a:solidFill>
                  <a:srgbClr val="0033cc"/>
                </a:solidFill>
                <a:latin typeface="Arial"/>
              </a:rPr>
              <a:t>Original Vision </a:t>
            </a:r>
            <a:br>
              <a:rPr sz="4000"/>
            </a:br>
            <a:r>
              <a:rPr b="0" i="1" lang="en-CA" sz="4000" spc="-1" strike="noStrike">
                <a:solidFill>
                  <a:srgbClr val="0033cc"/>
                </a:solidFill>
                <a:latin typeface="Arial"/>
              </a:rPr>
              <a:t>for the IMDB </a:t>
            </a:r>
            <a:endParaRPr b="0" i="1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324000" y="1989000"/>
            <a:ext cx="8208720" cy="4051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ACB07D-699A-40B7-B99B-D81F1D7450F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4400" spc="-1" strike="noStrike">
                <a:solidFill>
                  <a:srgbClr val="0033cc"/>
                </a:solidFill>
                <a:latin typeface="Arial"/>
              </a:rPr>
              <a:t>Integrated Metadata Base</a:t>
            </a:r>
            <a:endParaRPr b="0" i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90360" y="1905120"/>
            <a:ext cx="7391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Architectu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Oracle Data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Jav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odel based on ISO/IEC 11179 Metadata Registries and the Corporate Metadata Repository (CMR) from the US Census Burea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9B2540-E93C-44FE-96D6-068FB77F8BC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4400" spc="-1" strike="noStrike">
                <a:solidFill>
                  <a:srgbClr val="0033cc"/>
                </a:solidFill>
                <a:latin typeface="Arial"/>
              </a:rPr>
              <a:t>Integrated Metadata Base</a:t>
            </a:r>
            <a:endParaRPr b="0" i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90360" y="1905120"/>
            <a:ext cx="7391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Data dimension model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Describes the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Based on ISO/IEC 1117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Data elements (variables) specified by an object class with properties and values (code sets, classification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an be used to describe any set of objects not just meta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701C55-D346-4D58-B59A-78CE81B0DC7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19T11:53:38Z</dcterms:created>
  <dc:creator>Karen Doherty</dc:creator>
  <dc:description/>
  <dc:language>en-US</dc:language>
  <cp:lastModifiedBy>Karen Doherty</cp:lastModifiedBy>
  <cp:lastPrinted>2003-02-03T13:21:46Z</cp:lastPrinted>
  <dcterms:modified xsi:type="dcterms:W3CDTF">2008-03-31T21:53:23Z</dcterms:modified>
  <cp:revision>159</cp:revision>
  <dc:subject/>
  <dc:title>MSIS 2008 - Metadata Architectur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F:\publicht\strategic</vt:lpwstr>
  </property>
  <property fmtid="{D5CDD505-2E9C-101B-9397-08002B2CF9AE}" pid="14" name="ScreenSize">
    <vt:r8>2</vt:r8>
  </property>
  <property fmtid="{D5CDD505-2E9C-101B-9397-08002B2CF9AE}" pid="15" name="ScreenUsage">
    <vt:r8>3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  <property fmtid="{D5CDD505-2E9C-101B-9397-08002B2CF9AE}" pid="22" name="_AdHocReviewCycleID">
    <vt:r8>-425974245</vt:r8>
  </property>
  <property fmtid="{D5CDD505-2E9C-101B-9397-08002B2CF9AE}" pid="23" name="_AuthorEmail">
    <vt:lpwstr>Karen.Doherty@a.statcan.ca</vt:lpwstr>
  </property>
  <property fmtid="{D5CDD505-2E9C-101B-9397-08002B2CF9AE}" pid="24" name="_AuthorEmailDisplayName">
    <vt:lpwstr>Doherty, Karen - IT HQ/BC TI</vt:lpwstr>
  </property>
  <property fmtid="{D5CDD505-2E9C-101B-9397-08002B2CF9AE}" pid="25" name="_EmailSubject">
    <vt:lpwstr>Presentations from Canada</vt:lpwstr>
  </property>
</Properties>
</file>