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754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A77-C2B1-48A3-A73E-A572C2FB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36E-D770-4C30-9025-27E49C65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42994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22C7-E65C-411D-972F-FBE9F6C7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17521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17521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42994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42994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C19A-0239-4A17-8F7A-80899698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7521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7521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DD7-1709-4F1A-9325-C02669DC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42994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42994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7521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7521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42994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42994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14E-C34D-4F71-86C7-BDFA84C4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17521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F744-28A1-4BB2-814F-9AE2EB18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923-1B0A-4F21-A4CB-459E5160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7C2-D477-42D4-A22A-380D55C2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17521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CDFE-A22D-4822-9653-A2684E3A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42994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11BA-A40E-41CD-88DD-ECB14655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F01-CC49-4933-9609-1E1AF71B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001000" y="4568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5715000" y="456840"/>
            <a:ext cx="2209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305560" y="76320"/>
            <a:ext cx="685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68BE-55B3-4551-AED3-64376BABCDF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26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6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6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6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5120" y="12600"/>
            <a:ext cx="2090880" cy="43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5120" y="12600"/>
            <a:ext cx="2090880" cy="436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4572000" y="624852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761760" y="18288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05920" y="76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579A-32AE-47E5-A8E5-2C296E54C1F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algn="ctr">
              <a:buClr>
                <a:srgbClr val="000000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buClr>
                <a:srgbClr val="000000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184464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Implementation of IT strategy</a:t>
            </a:r>
            <a:br>
              <a:rPr sz="3200"/>
            </a:b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Follow up on the IT strategy released in 2007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5564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MSIS meeting, Luxembourg, 7-9 Ap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Rune Gløer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Director of IT and Data Col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Statistics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27640" y="3500280"/>
            <a:ext cx="233388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03280" y="3068640"/>
            <a:ext cx="1441440" cy="15843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99"/>
                </a:solidFill>
                <a:latin typeface="Comic Sans MS"/>
              </a:rPr>
              <a:t>   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Develop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and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desig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3068640"/>
            <a:ext cx="1441440" cy="15843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Buil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51280" y="3068640"/>
            <a:ext cx="1441440" cy="15843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Comic Sans MS"/>
              </a:rPr>
              <a:t>  </a:t>
            </a: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Collec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Comic Sans MS"/>
              </a:rPr>
              <a:t>   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76720" y="3068640"/>
            <a:ext cx="1441440" cy="15843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Proces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00720" y="3068640"/>
            <a:ext cx="1441440" cy="15843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Comic Sans MS"/>
              </a:rPr>
              <a:t>   </a:t>
            </a: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Comic Sans MS"/>
              </a:rPr>
              <a:t>      </a:t>
            </a: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Comic Sans MS"/>
              </a:rPr>
              <a:t>       </a:t>
            </a:r>
            <a:r>
              <a:rPr b="1" lang="nb-NO" sz="1600" spc="-1" strike="noStrike">
                <a:solidFill>
                  <a:srgbClr val="003399"/>
                </a:solidFill>
                <a:latin typeface="Comic Sans MS"/>
              </a:rPr>
              <a:t>Analys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3068640"/>
            <a:ext cx="1441440" cy="15843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99"/>
                </a:solidFill>
                <a:latin typeface="Comic Sans MS"/>
              </a:rPr>
              <a:t>      </a:t>
            </a:r>
            <a:r>
              <a:rPr b="1" lang="nb-NO" sz="1400" spc="-1" strike="noStrike">
                <a:solidFill>
                  <a:srgbClr val="003399"/>
                </a:solidFill>
                <a:latin typeface="Comic Sans MS"/>
              </a:rPr>
              <a:t>Disseminate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Comic Sans MS"/>
              </a:rPr>
              <a:t>    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476280"/>
            <a:ext cx="835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99"/>
                </a:solidFill>
                <a:latin typeface="Arial"/>
              </a:rPr>
              <a:t>The FOSS Programme: </a:t>
            </a:r>
            <a:r>
              <a:rPr b="0" lang="nb-NO" sz="2000" spc="-1" strike="noStrike">
                <a:solidFill>
                  <a:srgbClr val="003399"/>
                </a:solidFill>
                <a:latin typeface="Arial"/>
              </a:rPr>
              <a:t>A coherent production system based upon the Statistical Business Process Mod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5013360"/>
            <a:ext cx="856944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Methodology and infrastructur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1484280"/>
            <a:ext cx="4754520" cy="1366920"/>
          </a:xfrm>
          <a:custGeom>
            <a:avLst/>
            <a:gdLst>
              <a:gd name="textAreaLeft" fmla="*/ 0 w 4754520"/>
              <a:gd name="textAreaRight" fmla="*/ 4754880 w 4754520"/>
              <a:gd name="textAreaTop" fmla="*/ 0 h 1366920"/>
              <a:gd name="textAreaBottom" fmla="*/ 1367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178920" y="1483560"/>
            <a:ext cx="6193080" cy="1366920"/>
          </a:xfrm>
          <a:custGeom>
            <a:avLst/>
            <a:gdLst>
              <a:gd name="textAreaLeft" fmla="*/ 0 w 6193080"/>
              <a:gd name="textAreaRight" fmla="*/ 6193440 w 6193080"/>
              <a:gd name="textAreaTop" fmla="*/ 0 h 1366920"/>
              <a:gd name="textAreaBottom" fmla="*/ 1367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6000" y="1916280"/>
            <a:ext cx="46083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Quality assessment and contro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Comic Sans MS"/>
              </a:rPr>
              <a:t>                     </a:t>
            </a:r>
            <a:r>
              <a:rPr b="1" lang="en-US" sz="1000" spc="-1" strike="noStrike">
                <a:solidFill>
                  <a:srgbClr val="003399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3068640"/>
            <a:ext cx="1441440" cy="15843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Nee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840" y="3063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2852640"/>
            <a:ext cx="287640" cy="18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63280" y="2852640"/>
            <a:ext cx="23036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692000" y="1484280"/>
            <a:ext cx="237492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79280" y="1484280"/>
            <a:ext cx="1513080" cy="649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2133720"/>
            <a:ext cx="1584360" cy="718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Current FOSS project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59738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High-level mod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Handbooks and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Questionnaire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ystem for Sample Surveys (Intervi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General Data Editing and Estimation System (IS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cro data for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etadat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Qualit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93080" y="2060640"/>
            <a:ext cx="13935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0" y="2577960"/>
            <a:ext cx="2879640" cy="1800360"/>
          </a:xfrm>
          <a:prstGeom prst="rect">
            <a:avLst/>
          </a:prstGeom>
          <a:solidFill>
            <a:srgbClr val="eeeeee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2577960"/>
            <a:ext cx="2879640" cy="1785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4365720"/>
            <a:ext cx="5761080" cy="1511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IT Opera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3399"/>
                </a:solidFill>
                <a:latin typeface="Arial"/>
              </a:rPr>
              <a:t>Reorganisastion of IT:</a:t>
            </a:r>
            <a:br>
              <a:rPr sz="2800"/>
            </a:br>
            <a:r>
              <a:rPr b="1" lang="nb-NO" sz="2000" spc="-1" strike="noStrike">
                <a:solidFill>
                  <a:srgbClr val="003399"/>
                </a:solidFill>
                <a:latin typeface="Arial"/>
              </a:rPr>
              <a:t>Define the roles and responsibilities, and the competence needed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3399"/>
                </a:solidFill>
                <a:latin typeface="Arial"/>
              </a:rPr>
              <a:t>Reorganisation of IT:</a:t>
            </a:r>
            <a:br>
              <a:rPr sz="2800"/>
            </a:br>
            <a:r>
              <a:rPr b="1" lang="nb-NO" sz="2000" spc="-1" strike="noStrike">
                <a:solidFill>
                  <a:srgbClr val="003399"/>
                </a:solidFill>
                <a:latin typeface="Arial"/>
              </a:rPr>
              <a:t>Defining a new overall governance model, and defining new roles and ground rules in the organisation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8:59:45Z</dcterms:created>
  <dc:creator>Hans Viggo Sæbø</dc:creator>
  <dc:description/>
  <dc:language>en-US</dc:language>
  <cp:lastModifiedBy>Rune Gløersen</cp:lastModifiedBy>
  <dcterms:modified xsi:type="dcterms:W3CDTF">2008-04-06T12:17:36Z</dcterms:modified>
  <cp:revision>350</cp:revision>
  <dc:subject/>
  <dc:title>   Kvalitetsbegrepet: Totalkvalit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