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7545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2B7B-ABAC-4F1C-95C6-DB4774C76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0F48-2645-4761-821C-5CE3D788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2840" y="17521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2840" y="42994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93C7-040A-4E32-B33A-44DE3F48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8240" y="17521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0680" y="17521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8240" y="42994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0680" y="42994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5C8D-75AF-43FA-8491-D7788FD71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2840" y="17521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17521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D993-1F40-4516-9878-48F6ABF7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17521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2840" y="42994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2840" y="17521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17521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2840" y="42994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8240" y="17521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0680" y="17521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8240" y="42994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0680" y="42994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6538-75A8-47E8-8D42-F6912E4A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2840" y="17521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F8FD-1435-42BF-9D18-F4740636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AC03-5999-43DF-BA3A-1C956643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6742-E0C3-4A7D-95DE-8A3DCF52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2840" y="17521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0C94-E5EF-479E-B73B-63F790CB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2840" y="17521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2840" y="42994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73ED-B90F-4B91-A74C-85C1776D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2840" y="17521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A582-BAA7-4BEF-8130-DF84229E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8001000" y="45684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5715000" y="456840"/>
            <a:ext cx="22096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8305560" y="76320"/>
            <a:ext cx="6858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3F47-1B0E-4FF2-BB9F-8CCF38DF8E7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858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6040" indent="-2826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2840" indent="-228600">
              <a:spcBef>
                <a:spcPts val="6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2840" indent="-228600">
              <a:spcBef>
                <a:spcPts val="6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2840" indent="-228600">
              <a:spcBef>
                <a:spcPts val="6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5120" y="12600"/>
            <a:ext cx="2090880" cy="43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95120" y="12600"/>
            <a:ext cx="2090880" cy="436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4572000" y="624852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761760" y="18288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05920" y="763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DA09-8559-4AF0-AE33-927D81AC46E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66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algn="ctr">
              <a:buClr>
                <a:srgbClr val="000000"/>
              </a:buClr>
              <a:buSzPct val="90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buClr>
                <a:srgbClr val="000000"/>
              </a:buClr>
              <a:buSzPct val="9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544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 indent="55440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 indent="55440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280" y="184464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Implementation of IT strategy</a:t>
            </a:r>
            <a:br>
              <a:rPr sz="3200"/>
            </a:b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Follow up on the IT strategy released in 2007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5564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MSIS meeting, Luxembourg, 7-9 Apri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Rune Gløer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Director of IT and Data Col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Statistics No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227640" y="3500280"/>
            <a:ext cx="233388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03280" y="3068640"/>
            <a:ext cx="1441440" cy="158436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99"/>
                </a:solidFill>
                <a:latin typeface="Comic Sans MS"/>
              </a:rPr>
              <a:t>   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1" lang="nb-NO" sz="1800" spc="-1" strike="noStrike">
                <a:solidFill>
                  <a:srgbClr val="003399"/>
                </a:solidFill>
                <a:latin typeface="Comic Sans MS"/>
              </a:rPr>
              <a:t>Develop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nb-NO" sz="1800" spc="-1" strike="noStrike">
                <a:solidFill>
                  <a:srgbClr val="003399"/>
                </a:solidFill>
                <a:latin typeface="Comic Sans MS"/>
              </a:rPr>
              <a:t>and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3399"/>
                </a:solidFill>
                <a:latin typeface="Comic Sans MS"/>
              </a:rPr>
              <a:t>desig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3068640"/>
            <a:ext cx="1441440" cy="158436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3399"/>
                </a:solidFill>
                <a:latin typeface="Comic Sans MS"/>
              </a:rPr>
              <a:t>Buil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51280" y="3068640"/>
            <a:ext cx="1441440" cy="158436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Comic Sans MS"/>
              </a:rPr>
              <a:t>  </a:t>
            </a:r>
            <a:endParaRPr b="0" lang="en-US" sz="10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3399"/>
                </a:solidFill>
                <a:latin typeface="Comic Sans MS"/>
              </a:rPr>
              <a:t>  </a:t>
            </a:r>
            <a:r>
              <a:rPr b="1" lang="nb-NO" sz="1800" spc="-1" strike="noStrike">
                <a:solidFill>
                  <a:srgbClr val="003399"/>
                </a:solidFill>
                <a:latin typeface="Comic Sans MS"/>
              </a:rPr>
              <a:t>Collec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Comic Sans MS"/>
              </a:rPr>
              <a:t>   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76720" y="3068640"/>
            <a:ext cx="1441440" cy="158436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nb-NO" sz="1800" spc="-1" strike="noStrike">
                <a:solidFill>
                  <a:srgbClr val="003399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3399"/>
                </a:solidFill>
                <a:latin typeface="Comic Sans MS"/>
              </a:rPr>
              <a:t>     </a:t>
            </a:r>
            <a:r>
              <a:rPr b="1" lang="nb-NO" sz="1800" spc="-1" strike="noStrike">
                <a:solidFill>
                  <a:srgbClr val="003399"/>
                </a:solidFill>
                <a:latin typeface="Comic Sans MS"/>
              </a:rPr>
              <a:t>Proces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00720" y="3068640"/>
            <a:ext cx="1441440" cy="158436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Comic Sans MS"/>
              </a:rPr>
              <a:t>   </a:t>
            </a:r>
            <a:endParaRPr b="0" lang="en-US" sz="10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Comic Sans MS"/>
              </a:rPr>
              <a:t>      </a:t>
            </a:r>
            <a:endParaRPr b="0" lang="en-US" sz="10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Comic Sans MS"/>
              </a:rPr>
              <a:t>       </a:t>
            </a:r>
            <a:r>
              <a:rPr b="1" lang="nb-NO" sz="1600" spc="-1" strike="noStrike">
                <a:solidFill>
                  <a:srgbClr val="003399"/>
                </a:solidFill>
                <a:latin typeface="Comic Sans MS"/>
              </a:rPr>
              <a:t>Analys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Comic Sans MS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24720" y="3068640"/>
            <a:ext cx="1441440" cy="158436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99"/>
                </a:solidFill>
                <a:latin typeface="Comic Sans MS"/>
              </a:rPr>
              <a:t>      </a:t>
            </a:r>
            <a:r>
              <a:rPr b="1" lang="nb-NO" sz="1400" spc="-1" strike="noStrike">
                <a:solidFill>
                  <a:srgbClr val="003399"/>
                </a:solidFill>
                <a:latin typeface="Comic Sans MS"/>
              </a:rPr>
              <a:t>Disseminate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Comic Sans MS"/>
              </a:rPr>
              <a:t>    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476280"/>
            <a:ext cx="835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99"/>
                </a:solidFill>
                <a:latin typeface="Arial"/>
              </a:rPr>
              <a:t>The FOSS Programme: </a:t>
            </a:r>
            <a:r>
              <a:rPr b="0" lang="nb-NO" sz="2000" spc="-1" strike="noStrike">
                <a:solidFill>
                  <a:srgbClr val="003399"/>
                </a:solidFill>
                <a:latin typeface="Arial"/>
              </a:rPr>
              <a:t>A coherent production system based upon the Statistical Business Process Mod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5013360"/>
            <a:ext cx="856944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3399"/>
                </a:solidFill>
                <a:latin typeface="Comic Sans MS"/>
              </a:rPr>
              <a:t>Methodology and infrastructur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1484280"/>
            <a:ext cx="4754520" cy="1366920"/>
          </a:xfrm>
          <a:custGeom>
            <a:avLst/>
            <a:gdLst>
              <a:gd name="textAreaLeft" fmla="*/ 0 w 4754520"/>
              <a:gd name="textAreaRight" fmla="*/ 4754880 w 4754520"/>
              <a:gd name="textAreaTop" fmla="*/ 0 h 1366920"/>
              <a:gd name="textAreaBottom" fmla="*/ 1367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178920" y="1483560"/>
            <a:ext cx="6193080" cy="1366920"/>
          </a:xfrm>
          <a:custGeom>
            <a:avLst/>
            <a:gdLst>
              <a:gd name="textAreaLeft" fmla="*/ 0 w 6193080"/>
              <a:gd name="textAreaRight" fmla="*/ 6193440 w 6193080"/>
              <a:gd name="textAreaTop" fmla="*/ 0 h 1366920"/>
              <a:gd name="textAreaBottom" fmla="*/ 1367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6000" y="1916280"/>
            <a:ext cx="46083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3399"/>
                </a:solidFill>
                <a:latin typeface="Comic Sans MS"/>
              </a:rPr>
              <a:t>Quality assessment and contro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Comic Sans MS"/>
              </a:rPr>
              <a:t>                     </a:t>
            </a:r>
            <a:r>
              <a:rPr b="1" lang="en-US" sz="1000" spc="-1" strike="noStrike">
                <a:solidFill>
                  <a:srgbClr val="003399"/>
                </a:solidFill>
                <a:latin typeface="Comic Sans MS"/>
              </a:rPr>
              <a:t>	</a:t>
            </a:r>
            <a:endParaRPr b="0" lang="en-US" sz="1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3068640"/>
            <a:ext cx="1441440" cy="158436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Comic Sans MS"/>
              </a:rPr>
              <a:t>     </a:t>
            </a:r>
            <a:r>
              <a:rPr b="1" lang="nb-NO" sz="1800" spc="-1" strike="noStrike">
                <a:solidFill>
                  <a:srgbClr val="003399"/>
                </a:solidFill>
                <a:latin typeface="Comic Sans MS"/>
              </a:rPr>
              <a:t>Nee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1840" y="3063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27640" y="2852640"/>
            <a:ext cx="287640" cy="180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763280" y="2852640"/>
            <a:ext cx="2303640" cy="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692000" y="1484280"/>
            <a:ext cx="2374920" cy="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79280" y="1484280"/>
            <a:ext cx="1513080" cy="64944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2133720"/>
            <a:ext cx="1584360" cy="71892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3399"/>
                </a:solidFill>
                <a:latin typeface="Arial"/>
              </a:rPr>
              <a:t>Current FOSS project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59738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High-level mod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Handbooks and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Questionnaire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ystem for Sample Surveys (Intervie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General Data Editing and Estimation System (IS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cro data for resear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etadata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Qualit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093080" y="2060640"/>
            <a:ext cx="139356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0" y="2577960"/>
            <a:ext cx="2879640" cy="1800360"/>
          </a:xfrm>
          <a:prstGeom prst="rect">
            <a:avLst/>
          </a:prstGeom>
          <a:solidFill>
            <a:srgbClr val="eeeeee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2577960"/>
            <a:ext cx="2879640" cy="1785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92360" y="4365720"/>
            <a:ext cx="5761080" cy="1511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IT Operation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3399"/>
                </a:solidFill>
                <a:latin typeface="Arial"/>
              </a:rPr>
              <a:t>Reorganisastion of IT:</a:t>
            </a:r>
            <a:br>
              <a:rPr sz="2800"/>
            </a:br>
            <a:r>
              <a:rPr b="1" lang="nb-NO" sz="2000" spc="-1" strike="noStrike">
                <a:solidFill>
                  <a:srgbClr val="003399"/>
                </a:solidFill>
                <a:latin typeface="Arial"/>
              </a:rPr>
              <a:t>Define the roles and responsibilities, and the competence needed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3399"/>
                </a:solidFill>
                <a:latin typeface="Arial"/>
              </a:rPr>
              <a:t>Reorganisation of IT:</a:t>
            </a:r>
            <a:br>
              <a:rPr sz="2800"/>
            </a:br>
            <a:r>
              <a:rPr b="1" lang="nb-NO" sz="2000" spc="-1" strike="noStrike">
                <a:solidFill>
                  <a:srgbClr val="003399"/>
                </a:solidFill>
                <a:latin typeface="Arial"/>
              </a:rPr>
              <a:t>Defining a new overall governance model, and defining new roles and ground rules in the organisation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68360" y="24922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08:59:45Z</dcterms:created>
  <dc:creator>Hans Viggo Sæbø</dc:creator>
  <dc:description/>
  <dc:language>en-US</dc:language>
  <cp:lastModifiedBy>Rune Gløersen</cp:lastModifiedBy>
  <dcterms:modified xsi:type="dcterms:W3CDTF">2008-04-06T12:17:36Z</dcterms:modified>
  <cp:revision>350</cp:revision>
  <dc:subject/>
  <dc:title>   Kvalitetsbegrepet: Totalkvalit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