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2D0-27DC-4939-B6C7-FED2C2B8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524-CDA8-43AD-AA2C-121EA087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DBF-240A-45CA-AF7A-FFFB813F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105-1032-4041-9BF5-48D6BF74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380-0D5A-4BB9-B52F-C8B6839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BA7-CF52-4B6B-93E6-62C680F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289-41D9-4940-B5AC-2652D3C7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B81-9987-4293-BF33-1A02BDC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4A6-345B-4E8B-94D9-B8DD371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DC9-D164-41BF-BB15-0FCE103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001-3B8F-4E73-9210-A6ACD32E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ADD-8C0F-43A9-9151-F18BB1B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CBC-9743-4911-B396-C05F64C61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857160" cy="409680"/>
          </a:xfrm>
          <a:prstGeom prst="rect">
            <a:avLst/>
          </a:prstGeom>
          <a:ln w="0">
            <a:noFill/>
          </a:ln>
        </p:spPr>
      </p:pic>
      <p:pic>
        <p:nvPicPr>
          <p:cNvPr id="5" name="image004" descr=""/>
          <p:cNvPicPr/>
          <p:nvPr/>
        </p:nvPicPr>
        <p:blipFill>
          <a:blip r:embed="rId3"/>
          <a:stretch/>
        </p:blipFill>
        <p:spPr>
          <a:xfrm>
            <a:off x="8244000" y="476280"/>
            <a:ext cx="33336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velopment of e-Statistics in the context of e-Governance in Moldov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on Cosuleanu, Project manager, UNDP 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tefan Novac, Chief of IT Department, 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ational Bureau of Statist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ry of Inform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ortal – ac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 to the statistical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admini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system – major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of statistical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of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sing of the diseminatio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for the regional offices modern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of the regional offices for the movement to the new web bas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velopment of the unified data warehouse for statistical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of the retrospective data into centralised ware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development of the  internal reg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changes in the IT Departmen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dovan eSociety – major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rategy on Information Society Technologies for Development –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ational Committee on Building an Information Society --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ckage of fiscal and other facilities for IC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Moldovan Development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Development Strategy 2008-20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Strategy e-Moldov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-Moldova Action Pl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Strategy for Building of Information Society in the Republic of Moldova (2005-20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Government Project Supported by UN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Strategy eMold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eGovernance in Moldova -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tarting projec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overnance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overnance Portal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lot eServices (eTax Declaration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and tools for training of public serv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Governance in Mol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79640" y="2133720"/>
            <a:ext cx="5616720" cy="3742920"/>
            <a:chOff x="1979640" y="2133720"/>
            <a:chExt cx="5616720" cy="3742920"/>
          </a:xfrm>
        </p:grpSpPr>
        <p:sp>
          <p:nvSpPr>
            <p:cNvPr id="53" name=""/>
            <p:cNvSpPr/>
            <p:nvPr/>
          </p:nvSpPr>
          <p:spPr>
            <a:xfrm>
              <a:off x="3902040" y="2175480"/>
              <a:ext cx="1830960" cy="1018080"/>
            </a:xfrm>
            <a:prstGeom prst="cloudCallout">
              <a:avLst>
                <a:gd name="adj1" fmla="val 787"/>
                <a:gd name="adj2" fmla="val 28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4615560" y="3829680"/>
              <a:ext cx="455040" cy="494280"/>
            </a:xfrm>
            <a:prstGeom prst="leftRightArrow">
              <a:avLst>
                <a:gd name="adj1" fmla="val 50000"/>
                <a:gd name="adj2" fmla="val 377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5440" y="2944800"/>
              <a:ext cx="395640" cy="691560"/>
            </a:xfrm>
            <a:prstGeom prst="upArrow">
              <a:avLst>
                <a:gd name="adj1" fmla="val 50000"/>
                <a:gd name="adj2" fmla="val 4369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9488600">
              <a:off x="3505680" y="2941200"/>
              <a:ext cx="396000" cy="691560"/>
            </a:xfrm>
            <a:prstGeom prst="upArrow">
              <a:avLst>
                <a:gd name="adj1" fmla="val 50000"/>
                <a:gd name="adj2" fmla="val 436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2111400">
              <a:off x="5675760" y="2941200"/>
              <a:ext cx="395640" cy="691560"/>
            </a:xfrm>
            <a:prstGeom prst="upArrow">
              <a:avLst>
                <a:gd name="adj1" fmla="val 50000"/>
                <a:gd name="adj2" fmla="val 4369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4120" y="5471280"/>
              <a:ext cx="148536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Citize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4760" y="5471280"/>
              <a:ext cx="148428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Busines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75200" y="2381040"/>
              <a:ext cx="1182960" cy="812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Ministries, other central public author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5320" y="2381040"/>
              <a:ext cx="1187640" cy="812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Public administrative author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7480" y="3444120"/>
              <a:ext cx="2672280" cy="405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Governmental Gatewa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6120" y="4304880"/>
              <a:ext cx="2474640" cy="8110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e-Governance Portal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Official Web P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00120" y="2381040"/>
              <a:ext cx="1286280" cy="506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Governmental Intran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7869800">
              <a:off x="3340800" y="4933440"/>
              <a:ext cx="560520" cy="495360"/>
            </a:xfrm>
            <a:prstGeom prst="leftRightArrow">
              <a:avLst>
                <a:gd name="adj1" fmla="val 50000"/>
                <a:gd name="adj2" fmla="val 2252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3730200">
              <a:off x="5783760" y="4934160"/>
              <a:ext cx="560520" cy="494280"/>
            </a:xfrm>
            <a:prstGeom prst="leftRightArrow">
              <a:avLst>
                <a:gd name="adj1" fmla="val 50000"/>
                <a:gd name="adj2" fmla="val 2257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8520" y="2460240"/>
              <a:ext cx="744840" cy="405360"/>
            </a:xfrm>
            <a:prstGeom prst="leftRightArrow">
              <a:avLst>
                <a:gd name="adj1" fmla="val 50000"/>
                <a:gd name="adj2" fmla="val 3657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3520" y="2486880"/>
              <a:ext cx="636480" cy="405360"/>
            </a:xfrm>
            <a:prstGeom prst="leftRightArrow">
              <a:avLst>
                <a:gd name="adj1" fmla="val 50000"/>
                <a:gd name="adj2" fmla="val 312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2133720"/>
              <a:ext cx="5616720" cy="1817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Governance in Moldova – building of administrative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of the Concepts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f the necesity to generate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structure of the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processes for statistics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chnical Assistance Solicitation was addressed by NBS to UNDP in the I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1301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previous developments and present nee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necessary resources to fulfil the strategic objecti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he Concept of the e-Reporting system and the technical specific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n action plan within the NBS strategy, including priorities and steps for implementation and possible available fun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investment plans for the next 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BS IT systems main drawb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9947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analyses of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Human resources problem – lack of IT specialists, because of low, uncompetitive  salary level in N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ck of  centralised statistical indicators data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ck of IT system Development Concep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olete park of comput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olete and multiple types of  software platforms us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ck of standardised and compatible software used in all statistical appl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1844640"/>
            <a:ext cx="6697800" cy="34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 of I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1989000"/>
            <a:ext cx="396072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tistics Port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2205000"/>
            <a:ext cx="2448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2:43:39Z</dcterms:created>
  <dc:creator>Utilizator</dc:creator>
  <dc:description/>
  <dc:language>en-US</dc:language>
  <cp:lastModifiedBy>Novac</cp:lastModifiedBy>
  <dcterms:modified xsi:type="dcterms:W3CDTF">2008-04-07T04:19:42Z</dcterms:modified>
  <cp:revision>27</cp:revision>
  <dc:subject/>
  <dc:title>RAPORT despre sistemul informaţional şi sistemul de rapoarte existent la Biroul Naţional de Statistică a Republicii Moldova</dc:title>
</cp:coreProperties>
</file>