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A641-4F56-4D36-ACDC-7F9D7E5B1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930C-4DAD-47D2-A8D3-F19C42D5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EB5B-5F8A-4B37-88BF-580AE529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77BF-C3E6-4219-BB46-08F0951AC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6FEE-ECF6-4483-BCA1-B6297562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7EAC-02F8-4EBE-9776-218C2A1E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95A5-A109-4C2D-A516-47E34F9A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29DE-882B-4423-A6EA-E3BBB289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0DDD-81BB-4BAA-8E05-0F0E277D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0471-7A10-4A88-9B69-C9275B38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9837-141E-4E6E-92E2-43661F8C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F5E2-360D-4AD3-805C-5D34E1D8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283B-8C0D-4FF5-8901-A60DE6F48B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857160" cy="409680"/>
          </a:xfrm>
          <a:prstGeom prst="rect">
            <a:avLst/>
          </a:prstGeom>
          <a:ln w="0">
            <a:noFill/>
          </a:ln>
        </p:spPr>
      </p:pic>
      <p:pic>
        <p:nvPicPr>
          <p:cNvPr id="5" name="image004" descr=""/>
          <p:cNvPicPr/>
          <p:nvPr/>
        </p:nvPicPr>
        <p:blipFill>
          <a:blip r:embed="rId3"/>
          <a:stretch/>
        </p:blipFill>
        <p:spPr>
          <a:xfrm>
            <a:off x="8244000" y="476280"/>
            <a:ext cx="333360" cy="4474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evelopment of e-Statistics in the context of e-Governance in Moldov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4508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Ion Cosuleanu, Project manager, UNDP </a:t>
            </a:r>
            <a:br>
              <a:rPr sz="2000"/>
            </a:b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tefan Novac, Chief of IT Department, </a:t>
            </a:r>
            <a:br>
              <a:rPr sz="2000"/>
            </a:b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National Bureau of Statistic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Port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al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stry of Informatio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stry of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Portal – acc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 to the statistical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per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al e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administ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organis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ormation system – major t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ion of statistical surv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ng of meta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ising of the disemination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ing for the regional offices modern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ation of the regional offices for the movement to the new web based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evelopment of the unified data warehouse for statistical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ntration of the retrospective data into centralised ware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The development of the  internal reg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ing the changes in the IT Department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ldovan eSociety – major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trategy on Information Society Technologies for Development – 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National Committee on Building an Information Society --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ackage of fiscal and other facilities for IC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rent Moldovan Development Strate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tional Development Strategy 2008-201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tional Strategy e-Moldov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-Moldova Action Pla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tional Strategy for Building of Information Society in the Republic of Moldova (2005-2010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Government Project Supported by UN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Strategy eMoldo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ing eGovernance in Moldova - 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tarting project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Governance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Governance Portal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lot eServices (eTax Declaration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work and tools for training of public serv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Governance in Mold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979640" y="2133720"/>
            <a:ext cx="5616720" cy="3742920"/>
            <a:chOff x="1979640" y="2133720"/>
            <a:chExt cx="5616720" cy="3742920"/>
          </a:xfrm>
        </p:grpSpPr>
        <p:sp>
          <p:nvSpPr>
            <p:cNvPr id="53" name=""/>
            <p:cNvSpPr/>
            <p:nvPr/>
          </p:nvSpPr>
          <p:spPr>
            <a:xfrm>
              <a:off x="3902040" y="2175480"/>
              <a:ext cx="1830960" cy="1018080"/>
            </a:xfrm>
            <a:prstGeom prst="cloudCallout">
              <a:avLst>
                <a:gd name="adj1" fmla="val 787"/>
                <a:gd name="adj2" fmla="val 2834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6200000">
              <a:off x="4615560" y="3829680"/>
              <a:ext cx="455040" cy="494280"/>
            </a:xfrm>
            <a:prstGeom prst="leftRightArrow">
              <a:avLst>
                <a:gd name="adj1" fmla="val 50000"/>
                <a:gd name="adj2" fmla="val 3777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645440" y="2944800"/>
              <a:ext cx="395640" cy="691560"/>
            </a:xfrm>
            <a:prstGeom prst="upArrow">
              <a:avLst>
                <a:gd name="adj1" fmla="val 50000"/>
                <a:gd name="adj2" fmla="val 4369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9488600">
              <a:off x="3505680" y="2941200"/>
              <a:ext cx="396000" cy="691560"/>
            </a:xfrm>
            <a:prstGeom prst="upArrow">
              <a:avLst>
                <a:gd name="adj1" fmla="val 50000"/>
                <a:gd name="adj2" fmla="val 4365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rot="2111400">
              <a:off x="5675760" y="2941200"/>
              <a:ext cx="395640" cy="691560"/>
            </a:xfrm>
            <a:prstGeom prst="upArrow">
              <a:avLst>
                <a:gd name="adj1" fmla="val 50000"/>
                <a:gd name="adj2" fmla="val 4369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14120" y="5471280"/>
              <a:ext cx="1485360" cy="4053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Citize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684760" y="5471280"/>
              <a:ext cx="1484280" cy="4053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Business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275200" y="2381040"/>
              <a:ext cx="1182960" cy="812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Ministries, other central public authoriti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15320" y="2381040"/>
              <a:ext cx="1187640" cy="812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Public administrative authoriti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07480" y="3444120"/>
              <a:ext cx="2672280" cy="40536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Governmental Gatewa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06120" y="4304880"/>
              <a:ext cx="2474640" cy="8110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Arial"/>
                </a:rPr>
                <a:t>e-Governance Portal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Arial"/>
                </a:rPr>
                <a:t>Official Web Pag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200120" y="2381040"/>
              <a:ext cx="1286280" cy="506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Governmental Intran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7869800">
              <a:off x="3340800" y="4933440"/>
              <a:ext cx="560520" cy="495360"/>
            </a:xfrm>
            <a:prstGeom prst="leftRightArrow">
              <a:avLst>
                <a:gd name="adj1" fmla="val 50000"/>
                <a:gd name="adj2" fmla="val 22526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rot="3730200">
              <a:off x="5783760" y="4934160"/>
              <a:ext cx="560520" cy="494280"/>
            </a:xfrm>
            <a:prstGeom prst="leftRightArrow">
              <a:avLst>
                <a:gd name="adj1" fmla="val 50000"/>
                <a:gd name="adj2" fmla="val 2257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58520" y="2460240"/>
              <a:ext cx="744840" cy="405360"/>
            </a:xfrm>
            <a:prstGeom prst="leftRightArrow">
              <a:avLst>
                <a:gd name="adj1" fmla="val 50000"/>
                <a:gd name="adj2" fmla="val 3657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83520" y="2486880"/>
              <a:ext cx="636480" cy="405360"/>
            </a:xfrm>
            <a:prstGeom prst="leftRightArrow">
              <a:avLst>
                <a:gd name="adj1" fmla="val 50000"/>
                <a:gd name="adj2" fmla="val 3125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979640" y="2133720"/>
              <a:ext cx="5616720" cy="18176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Governance in Moldova – building of administrative reg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ion of the Concepts of reg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of the necesity to generate statis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the structure of the reg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processes for statistics gen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66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chnical Assistance Solicitation was addressed by NBS to UNDP in the IT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213012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ss the previous developments and present need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imate the necessary resources to fulfil the strategic objectiv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ign the Concept of the e-Reporting system and the technical specificatio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ign an action plan within the NBS strategy, including priorities and steps for implementation and possible available fund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ss the investment plans for the next yea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BS IT systems main drawba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199476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the analyses of th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Human resources problem – lack of IT specialists, because of low, uncompetitive  salary level in NB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Lack of  centralised statistical indicators databa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Lack of IT system Development Concep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Obsolete park of computer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Obsolete and multiple types of  software platforms used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Lack of standardised and compatible software used in all statistical application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58920" y="1844640"/>
            <a:ext cx="6697800" cy="34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y of IT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24000" y="1989000"/>
            <a:ext cx="3960720" cy="201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tistics Portal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87640" y="2205000"/>
            <a:ext cx="244800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12:43:39Z</dcterms:created>
  <dc:creator>Utilizator</dc:creator>
  <dc:description/>
  <dc:language>en-US</dc:language>
  <cp:lastModifiedBy>Novac</cp:lastModifiedBy>
  <dcterms:modified xsi:type="dcterms:W3CDTF">2008-04-07T04:19:42Z</dcterms:modified>
  <cp:revision>27</cp:revision>
  <dc:subject/>
  <dc:title>RAPORT despre sistemul informaţional şi sistemul de rapoarte existent la Biroul Naţional de Statistică a Republicii Moldova</dc:title>
</cp:coreProperties>
</file>