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4FB2-E70E-4253-A30C-C1236CC4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E131-6935-435B-9502-15EE333E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2B72-687D-44D8-B080-A855F15A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F2DE-F6F4-424C-AE79-DEA70FE1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7E55-E5FD-4799-B539-78DDE0EA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C0F6-9946-4F04-A1CF-32365DF9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4CD9-01CD-4014-B275-FA54D6F2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73EA-E1B8-4AEF-9924-53CF654C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697B-2016-491C-8A59-E6DFBCF6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514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EED1-C7DD-4F1D-86B4-4020DA80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DB6A-0AF2-4588-AD57-21A4A80D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B36B-236C-403C-95B8-236D983C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2E2B-3762-49F5-9CA5-E6DF1B3D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3E26-0B83-4A73-96E7-F1129A8E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D69E-E53D-4F41-8E4B-24810F6D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6DB4-2790-4BD9-A2F4-045CD1B6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6401-FBEE-4C33-99A0-DF1F9970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6F4E-DE3E-4253-873D-8C72BFCF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67B2-1D86-4D63-AA1D-61BC469F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2B03-4196-4B71-B805-230231CB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514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98E7-B163-4F7B-9B51-054DDBA2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96BC-829A-41BC-A2FD-A9AF1066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F0B5-075E-4997-B8CE-2722910D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7280-8976-4C8F-ABC9-8CE827C3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8400" cy="6872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37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81360"/>
            <a:ext cx="19051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3333"/>
                </a:solidFill>
                <a:latin typeface="Times New Roman"/>
              </a:rPr>
              <a:t> </a:t>
            </a:r>
            <a:r>
              <a:rPr b="0" lang="en-NZ" sz="1200" spc="-1" strike="noStrike">
                <a:solidFill>
                  <a:srgbClr val="003333"/>
                </a:solidFill>
                <a:latin typeface="Times New Roman"/>
              </a:rPr>
              <a:t>v1 </a:t>
            </a:r>
            <a:r>
              <a:rPr b="0" lang="en-NZ" sz="1200" spc="-1" strike="noStrike">
                <a:solidFill>
                  <a:srgbClr val="0033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33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81360"/>
            <a:ext cx="19051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A51E-6272-43A1-8E10-C10D46F30057}" type="slidenum">
              <a:rPr b="0" lang="en-US" sz="1200" spc="-1" strike="noStrike">
                <a:solidFill>
                  <a:srgbClr val="00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8400" cy="6872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2920-40DC-4434-88DB-BAD434070A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372360" y="5445000"/>
            <a:ext cx="2387520" cy="1000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33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33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333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stats.govt.nz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ocess-based IT Organisation at Statistics New Zea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Arial"/>
              </a:rPr>
              <a:t>Prepared by Matjaž Jug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37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PMF, SDLC &amp; ITIL in Context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95280" y="512640"/>
            <a:ext cx="6123240" cy="615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37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999933"/>
                </a:solidFill>
                <a:latin typeface="Arial"/>
              </a:rPr>
              <a:t>Introduction of Functional Roles and Specialized Teams (2004 - 2006)</a:t>
            </a:r>
            <a:endParaRPr b="0" lang="en-US" sz="28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Functional roles in Application Services: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Business Analyst (BA)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Project Manager (PM)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Developer/Designer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Tester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Architect (Data, Solutions)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Specialized teams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Application Support team (separate from development)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Architecture team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Testing team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BA team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Delivery model changed to resource management mode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37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999933"/>
                </a:solidFill>
                <a:latin typeface="Arial"/>
              </a:rPr>
              <a:t>Centralization and Consolidation of IT as Part of Wider Restructuring (2007)</a:t>
            </a:r>
            <a:endParaRPr b="0" lang="en-US" sz="28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New IT organisational structure in place: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Centralized Vendor Management &amp; Procurement unit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New Quality Assurance Division acting as a Single Stop Shop for business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Centralized Demand/Delivery Management &amp; Process team within established within QA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Small Technology / output -based development teams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Resource Model replaced by Output Delivery Mode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All IT units centralized in IT Solutions Group (Architecture, Project Services)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IT Solutions Group part of new Organisation Development Group, combining IT, Finance, HR, Corporate Support and PMO.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3276720" y="1989000"/>
          <a:ext cx="5684760" cy="15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989000"/>
                    <a:ext cx="568476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79280" y="189000"/>
          <a:ext cx="4824360" cy="23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482436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1258920" y="3386160"/>
          <a:ext cx="6769080" cy="334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8920" y="3386160"/>
                    <a:ext cx="676908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1619280" y="2781360"/>
            <a:ext cx="792000" cy="64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4360" y="3213000"/>
            <a:ext cx="792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435640" y="981000"/>
            <a:ext cx="2190240" cy="961920"/>
            <a:chOff x="5435640" y="981000"/>
            <a:chExt cx="2190240" cy="961920"/>
          </a:xfrm>
        </p:grpSpPr>
        <p:sp>
          <p:nvSpPr>
            <p:cNvPr id="168" name="_s1034"/>
            <p:cNvSpPr/>
            <p:nvPr/>
          </p:nvSpPr>
          <p:spPr>
            <a:xfrm>
              <a:off x="5435640" y="981000"/>
              <a:ext cx="1037880" cy="414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Arial"/>
                </a:rPr>
                <a:t>Appl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34"/>
            <p:cNvSpPr/>
            <p:nvPr/>
          </p:nvSpPr>
          <p:spPr>
            <a:xfrm>
              <a:off x="5435640" y="1528560"/>
              <a:ext cx="1037880" cy="414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Arial"/>
                </a:rPr>
                <a:t>IT Operation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Arial"/>
                </a:rPr>
                <a:t>&amp; Serv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034"/>
            <p:cNvSpPr/>
            <p:nvPr/>
          </p:nvSpPr>
          <p:spPr>
            <a:xfrm>
              <a:off x="6588000" y="995400"/>
              <a:ext cx="1037880" cy="4140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Arial"/>
                </a:rPr>
                <a:t>Other uni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034"/>
            <p:cNvSpPr/>
            <p:nvPr/>
          </p:nvSpPr>
          <p:spPr>
            <a:xfrm>
              <a:off x="6588000" y="1528560"/>
              <a:ext cx="1037880" cy="4143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37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Lessons learned - challenges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Adoption of new processes is often seen (and usually  is!) a new administrative burden;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New policy and adoption of templates is not enough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Governance &amp; engagement become more complex;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Process from the vision to the delivery can be time consuming comparing to previous praxis.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Increased focus on building things on the right way rather then building right things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Challenge how to find and retain skilled staff has increased with the introduction of standard functional roles introduced in many other organizations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565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999933"/>
                </a:solidFill>
                <a:latin typeface="Arial"/>
              </a:rPr>
              <a:t>Ishikawa FISHBONE diagram - ELECTRICITY</a:t>
            </a:r>
            <a:br>
              <a:rPr sz="2400"/>
            </a:br>
            <a:r>
              <a:rPr b="0" lang="en-NZ" sz="2400" spc="-1" strike="noStrike">
                <a:solidFill>
                  <a:srgbClr val="999933"/>
                </a:solidFill>
                <a:latin typeface="Arial"/>
              </a:rPr>
              <a:t>Usually a lot of potential reasons for a problem!</a:t>
            </a:r>
            <a:endParaRPr b="0" lang="en-US" sz="2400" spc="-1" strike="noStrike">
              <a:solidFill>
                <a:srgbClr val="999933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042920" y="907920"/>
          <a:ext cx="7272360" cy="54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907920"/>
                    <a:ext cx="7272360" cy="54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372360" y="5445000"/>
            <a:ext cx="2387520" cy="1000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911680" y="3573360"/>
            <a:ext cx="32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stats.govt.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Times New Roman"/>
              </a:rPr>
              <a:t>matjaz.jug@stats.govt.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37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Drivers for the introduction of process-based organisation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Main three methodologies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Project Management Framework (PMF);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Software Development Lifecycle (SDLC);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IT Infrastructure Library (ITIL)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Changes in organizational structure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Introduction of functional roles and teams specialization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Centralization and consolidation of IT within new IT Solutions Group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I&amp;T Strategy 2006 - 2010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55640" y="1268280"/>
          <a:ext cx="7129440" cy="496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268280"/>
                    <a:ext cx="712944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37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Project Management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Revised Project Management Framework (PMF) introducued in 2004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Project Governance structures support Framework and provide accountability for Outcomes and Outputs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Formal structures include stakeholder input through Steering Committee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Framework includes a formalised process for stage approvals and sign off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Framework provides standardised documentation throughout life-cycle of project – organisation-wide implementation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PMF Governance Model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984960" y="1484280"/>
            <a:ext cx="5039640" cy="4896720"/>
            <a:chOff x="984960" y="1484280"/>
            <a:chExt cx="5039640" cy="4896720"/>
          </a:xfrm>
        </p:grpSpPr>
        <p:sp>
          <p:nvSpPr>
            <p:cNvPr id="96" name=""/>
            <p:cNvSpPr/>
            <p:nvPr/>
          </p:nvSpPr>
          <p:spPr>
            <a:xfrm>
              <a:off x="2843280" y="2390760"/>
              <a:ext cx="3168720" cy="2236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76720" y="3441600"/>
              <a:ext cx="2160360" cy="368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Spon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87640" y="2521080"/>
              <a:ext cx="2952720" cy="785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Steering Committ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(key stakeholder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19280" y="3716280"/>
              <a:ext cx="1079640" cy="64260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dvisory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03640" y="4100400"/>
              <a:ext cx="2374920" cy="36828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Project Ow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35280" y="4956120"/>
              <a:ext cx="1511280" cy="642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Project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78560" y="6073920"/>
              <a:ext cx="1241280" cy="307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Project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43280" y="33764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56000" y="5548320"/>
              <a:ext cx="0" cy="52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56000" y="377208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84960" y="5349960"/>
              <a:ext cx="1500480" cy="642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Sub Projec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Manager (I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13840" y="6073920"/>
              <a:ext cx="1183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r>
                <a:rPr b="0" lang="en-NZ" sz="1400" spc="-1" strike="noStrike">
                  <a:solidFill>
                    <a:srgbClr val="ccecff"/>
                  </a:solidFill>
                  <a:latin typeface="Arial"/>
                </a:rPr>
                <a:t> </a:t>
              </a: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11280" y="5745240"/>
              <a:ext cx="194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19280" y="5942160"/>
              <a:ext cx="0" cy="13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56000" y="4429080"/>
              <a:ext cx="0" cy="52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27280" y="422100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87640" y="4653000"/>
              <a:ext cx="273672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48000" y="4653000"/>
              <a:ext cx="19400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NZ" sz="1200" spc="-1" strike="noStrike">
                  <a:solidFill>
                    <a:srgbClr val="003333"/>
                  </a:solidFill>
                  <a:latin typeface="Arial"/>
                </a:rPr>
                <a:t>Programme    Manager</a:t>
              </a:r>
              <a:r>
                <a:rPr b="0" i="1" lang="en-NZ" sz="1200" spc="-1" strike="noStrike">
                  <a:solidFill>
                    <a:srgbClr val="003333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57680" y="1484280"/>
              <a:ext cx="3166920" cy="360360"/>
            </a:xfrm>
            <a:prstGeom prst="rect">
              <a:avLst/>
            </a:prstGeom>
            <a:solidFill>
              <a:srgbClr val="afef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400" spc="-1" strike="noStrike">
                  <a:solidFill>
                    <a:srgbClr val="003333"/>
                  </a:solidFill>
                  <a:latin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48000" y="184464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37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Software Development LifeCycle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In 2004 an audit was carried out into the capability of the software development process within Statistics New Zealand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Result – CMMI Capability 1 (Management by Heroics)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A software development lifecycle (SDLC) was introduced within Application Services to improve this rating and therefore increase credibility of IT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SDLC-fit V1.0 was updated to SDLC-fit V2.0 in 2006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37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“</a:t>
            </a: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V” for Validation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19640" y="1341360"/>
            <a:ext cx="0" cy="493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015640" y="1341360"/>
            <a:ext cx="2303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319280" y="1341360"/>
            <a:ext cx="2305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16000" y="1341360"/>
            <a:ext cx="2303640" cy="493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319640" y="1341000"/>
            <a:ext cx="2305080" cy="493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66560" y="382428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555640" y="2492280"/>
            <a:ext cx="35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2000" y="2235240"/>
            <a:ext cx="21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38200" y="357336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Software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82920" y="504360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Application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0000" y="6237360"/>
            <a:ext cx="10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98920" y="5145120"/>
            <a:ext cx="16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Unit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84720" y="3668760"/>
            <a:ext cx="19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0360" y="2336760"/>
            <a:ext cx="25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User Acceptance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84360" y="2146320"/>
            <a:ext cx="37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UAT verifies the solution meets Business Re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3284640"/>
            <a:ext cx="22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ystem Test verifies the system meets Software Re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887280" y="5300640"/>
            <a:ext cx="90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35280" y="4473720"/>
            <a:ext cx="140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Unit Test verifies the application meets Application Re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16000" y="1341360"/>
            <a:ext cx="792360" cy="16923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28720" y="2792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CO</a:t>
            </a:r>
            <a:r>
              <a:rPr b="0" lang="en-NZ" sz="2400" spc="-1" strike="noStrike">
                <a:solidFill>
                  <a:srgbClr val="66ccff"/>
                </a:solidFill>
                <a:latin typeface="Wingdings 3"/>
                <a:ea typeface="Wingdings 3"/>
              </a:rPr>
              <a:t>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08360" y="3033720"/>
            <a:ext cx="684000" cy="15112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48000" y="4303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CA</a:t>
            </a:r>
            <a:r>
              <a:rPr b="0" lang="en-NZ" sz="2400" spc="-1" strike="noStrike">
                <a:solidFill>
                  <a:srgbClr val="66ccff"/>
                </a:solidFill>
                <a:latin typeface="Wingdings 3"/>
                <a:ea typeface="Wingdings 3"/>
              </a:rPr>
              <a:t>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92360" y="4508640"/>
            <a:ext cx="825480" cy="176508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319280" y="2960640"/>
            <a:ext cx="1547640" cy="3313080"/>
          </a:xfrm>
          <a:prstGeom prst="line">
            <a:avLst/>
          </a:prstGeom>
          <a:ln w="57240">
            <a:solidFill>
              <a:srgbClr val="66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81800" y="2781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ccff"/>
                </a:solidFill>
                <a:latin typeface="Wingdings 3"/>
                <a:ea typeface="Wingdings 3"/>
              </a:rPr>
              <a:t>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867280" y="1341360"/>
            <a:ext cx="757440" cy="1619280"/>
          </a:xfrm>
          <a:prstGeom prst="line">
            <a:avLst/>
          </a:prstGeom>
          <a:ln w="572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00720" y="11001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ccff"/>
                </a:solidFill>
                <a:latin typeface="Wingdings 3"/>
                <a:ea typeface="Wingdings 3"/>
              </a:rPr>
              <a:t>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6360" y="159228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ffcc00"/>
                </a:solidFill>
                <a:latin typeface="Arial"/>
              </a:rPr>
              <a:t>In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87280" y="3176640"/>
            <a:ext cx="21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8000"/>
                </a:solidFill>
                <a:latin typeface="Arial"/>
              </a:rPr>
              <a:t>Elab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35280" y="471312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3366cc"/>
                </a:solidFill>
                <a:latin typeface="Arial"/>
              </a:rPr>
              <a:t>Co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32360" y="1940040"/>
            <a:ext cx="21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66"/>
                </a:solidFill>
                <a:latin typeface="Arial"/>
              </a:rPr>
              <a:t>Tran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37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IT Service Support &amp; Delivery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Statistics New Zealand has organized IT service support and service delivery processes by using ITIL (IT Infrastructure Library) framework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Starting with the Service Desk and following with other processes like incident management, problem management etc. most of the processes have been successfully implemented within IT Operations and Services Division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Introduction of ITIL-based Change &amp; Release policies, approved by Board in May and deployed in November 2007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0400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6:04:39Z</dcterms:created>
  <dc:creator>Matjaz Jug</dc:creator>
  <dc:description/>
  <dc:language>en-US</dc:language>
  <cp:lastModifiedBy>Services</cp:lastModifiedBy>
  <dcterms:modified xsi:type="dcterms:W3CDTF">2008-03-31T08:47:26Z</dcterms:modified>
  <cp:revision>87</cp:revision>
  <dc:subject/>
  <dc:title>Process-based IT Organisation at Statistics New Zealand</dc:title>
</cp:coreProperties>
</file>