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DA2-48C3-4DBE-B225-15B84760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A93-193B-454D-A118-EE7F411E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F0D-62FF-466B-9A83-19FF5E5B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44D-42D8-4CD2-A5DD-4527B0BE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B356-1528-4D55-AD19-7C166C29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A986-95FA-4B66-B5A3-72582F9A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1A3B-B14B-46B7-957D-BC9CD96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D47F-BD39-4DA8-9F93-2CE9B24F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970B-582F-4B43-A27C-9647BEA1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BD31-F307-45F1-825B-DF2CB072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76A6-4303-47A3-9C8A-BB4CCC0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CBD-36DD-4D0D-A65A-A0ADB1DE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066A-CF1E-47EC-B560-6FD79E9A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5A32-BF95-4420-8D42-B932934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F08C-20A6-49AD-9C35-E780FDDF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3E55-60DC-44E3-BFDE-249363EB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BDBF-88CF-4181-B09B-074408DF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66E-8576-48BD-A004-100F5ECF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8A4-11EE-45CE-A779-5623CF51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8B9-D635-4813-9EF6-B3EB500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2D7-86D8-48B2-87AA-66327A79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B00-1123-4D8A-BEA4-6DDB944D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2F5-CE31-4652-A8D9-489DA8F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084-8541-4CE5-9ADC-CD5199C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81360"/>
            <a:ext cx="19051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3333"/>
                </a:solidFill>
                <a:latin typeface="Times New Roman"/>
              </a:rPr>
              <a:t> </a:t>
            </a:r>
            <a:r>
              <a:rPr b="0" lang="en-NZ" sz="1200" spc="-1" strike="noStrike">
                <a:solidFill>
                  <a:srgbClr val="003333"/>
                </a:solidFill>
                <a:latin typeface="Times New Roman"/>
              </a:rPr>
              <a:t>v1 </a:t>
            </a:r>
            <a:r>
              <a:rPr b="0" lang="en-NZ" sz="1200" spc="-1" strike="noStrike">
                <a:solidFill>
                  <a:srgbClr val="0033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81360"/>
            <a:ext cx="19051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BE27-9CF0-49B5-B96E-F771811494F8}" type="slidenum">
              <a:rPr b="0" lang="en-US" sz="1200" spc="-1" strike="noStrike">
                <a:solidFill>
                  <a:srgbClr val="00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A838-F99C-40FE-B384-759D2C335C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tats.govt.nz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cess-based IT Organisation at Statistics New Zea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Prepared by Matjaž Ju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MF, SDLC &amp; ITIL in Context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95280" y="512640"/>
            <a:ext cx="6123240" cy="615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9933"/>
                </a:solidFill>
                <a:latin typeface="Arial"/>
              </a:rPr>
              <a:t>Introduction of Functional Roles and Specialized Teams (2004 - 2006)</a:t>
            </a:r>
            <a:endParaRPr b="0" lang="en-US" sz="28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Functional roles in Application Services: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Business Analyst (BA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Project Manager (PM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Developer/Designer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ester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Architect (Data, Solutions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Specialized team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Application Support team (separate from development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Architecture team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esting team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BA team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Delivery model changed to resource management mod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9933"/>
                </a:solidFill>
                <a:latin typeface="Arial"/>
              </a:rPr>
              <a:t>Centralization and Consolidation of IT as Part of Wider Restructuring (2007)</a:t>
            </a:r>
            <a:endParaRPr b="0" lang="en-US" sz="28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New IT organisational structure in place: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Centralized Vendor Management &amp; Procurement unit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New Quality Assurance Division acting as a Single Stop Shop for busines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Centralized Demand/Delivery Management &amp; Process team within established within QA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Small Technology / output -based development team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Resource Model replaced by Output Delivery Mod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All IT units centralized in IT Solutions Group (Architecture, Project Services)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IT Solutions Group part of new Organisation Development Group, combining IT, Finance, HR, Corporate Support and PMO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76720" y="1989000"/>
          <a:ext cx="568476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9000"/>
                    <a:ext cx="568476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79280" y="189000"/>
          <a:ext cx="482436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482436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258920" y="3386160"/>
          <a:ext cx="6769080" cy="33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3386160"/>
                    <a:ext cx="67690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619280" y="2781360"/>
            <a:ext cx="79200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3213000"/>
            <a:ext cx="792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435640" y="981000"/>
            <a:ext cx="2190240" cy="961920"/>
            <a:chOff x="5435640" y="981000"/>
            <a:chExt cx="2190240" cy="961920"/>
          </a:xfrm>
        </p:grpSpPr>
        <p:sp>
          <p:nvSpPr>
            <p:cNvPr id="168" name="_s1034"/>
            <p:cNvSpPr/>
            <p:nvPr/>
          </p:nvSpPr>
          <p:spPr>
            <a:xfrm>
              <a:off x="5435640" y="981000"/>
              <a:ext cx="103788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5435640" y="1528560"/>
              <a:ext cx="1037880" cy="41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IT Oper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&amp;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34"/>
            <p:cNvSpPr/>
            <p:nvPr/>
          </p:nvSpPr>
          <p:spPr>
            <a:xfrm>
              <a:off x="6588000" y="995400"/>
              <a:ext cx="1037880" cy="4140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Other un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34"/>
            <p:cNvSpPr/>
            <p:nvPr/>
          </p:nvSpPr>
          <p:spPr>
            <a:xfrm>
              <a:off x="6588000" y="1528560"/>
              <a:ext cx="1037880" cy="414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Lessons learned - challenge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Adoption of new processes is often seen (and usually  is!) a new administrative burden;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New policy and adoption of templates is not enough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Governance &amp; engagement become more complex;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Process from the vision to the delivery can be time consuming comparing to previous praxis.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Increased focus on building things on the right way rather then building right thing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Challenge how to find and retain skilled staff has increased with the introduction of standard functional roles introduced in many other organization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565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9933"/>
                </a:solidFill>
                <a:latin typeface="Arial"/>
              </a:rPr>
              <a:t>Ishikawa FISHBONE diagram - ELECTRICITY</a:t>
            </a:r>
            <a:br>
              <a:rPr sz="2400"/>
            </a:br>
            <a:r>
              <a:rPr b="0" lang="en-NZ" sz="2400" spc="-1" strike="noStrike">
                <a:solidFill>
                  <a:srgbClr val="999933"/>
                </a:solidFill>
                <a:latin typeface="Arial"/>
              </a:rPr>
              <a:t>Usually a lot of potential reasons for a problem!</a:t>
            </a:r>
            <a:endParaRPr b="0" lang="en-US" sz="24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42920" y="907920"/>
          <a:ext cx="7272360" cy="54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727236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911680" y="3573360"/>
            <a:ext cx="32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stats.govt.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Times New Roman"/>
              </a:rPr>
              <a:t>matjaz.jug@stats.govt.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Drivers for the introduction of process-based organisa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Main three methodologie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Project Management Framework (PMF);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Software Development Lifecycle (SDLC);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IT Infrastructure Library (ITIL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Changes in organizational structure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Introduction of functional roles and teams specialization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Centralization and consolidation of IT within new IT Solutions Group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I&amp;T Strategy 2006 - 2010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5640" y="1268280"/>
          <a:ext cx="712944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712944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roject Management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Revised Project Management Framework (PMF) introducued in 2004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Project Governance structures support Framework and provide accountability for Outcomes and Output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Formal structures include stakeholder input through Steering Committee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Framework includes a formalised process for stage approvals and sign off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Framework provides standardised documentation throughout life-cycle of project – organisation-wide implementa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MF Governance Model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84960" y="1484280"/>
            <a:ext cx="5039640" cy="4896720"/>
            <a:chOff x="984960" y="1484280"/>
            <a:chExt cx="5039640" cy="4896720"/>
          </a:xfrm>
        </p:grpSpPr>
        <p:sp>
          <p:nvSpPr>
            <p:cNvPr id="96" name=""/>
            <p:cNvSpPr/>
            <p:nvPr/>
          </p:nvSpPr>
          <p:spPr>
            <a:xfrm>
              <a:off x="2843280" y="2390760"/>
              <a:ext cx="3168720" cy="2236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6720" y="3441600"/>
              <a:ext cx="216036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po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87640" y="2521080"/>
              <a:ext cx="2952720" cy="785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teering 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(key stakeholde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19280" y="3716280"/>
              <a:ext cx="1079640" cy="6426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visory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03640" y="4100400"/>
              <a:ext cx="2374920" cy="36828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Project Ow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35280" y="4956120"/>
              <a:ext cx="1511280" cy="642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Project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78560" y="6073920"/>
              <a:ext cx="124128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Project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43280" y="3376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56000" y="5548320"/>
              <a:ext cx="0" cy="52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56000" y="377208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84960" y="5349960"/>
              <a:ext cx="150048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ub Proj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Manager (I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13840" y="6073920"/>
              <a:ext cx="1183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r>
                <a:rPr b="0" lang="en-NZ" sz="1400" spc="-1" strike="noStrike">
                  <a:solidFill>
                    <a:srgbClr val="ccecff"/>
                  </a:solidFill>
                  <a:latin typeface="Arial"/>
                </a:rPr>
                <a:t> </a:t>
              </a: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11280" y="574524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19280" y="5942160"/>
              <a:ext cx="0" cy="13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56000" y="4429080"/>
              <a:ext cx="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7280" y="422100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7640" y="46530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8000" y="4653000"/>
              <a:ext cx="1940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NZ" sz="1200" spc="-1" strike="noStrike">
                  <a:solidFill>
                    <a:srgbClr val="003333"/>
                  </a:solidFill>
                  <a:latin typeface="Arial"/>
                </a:rPr>
                <a:t>Programme    Manager</a:t>
              </a:r>
              <a:r>
                <a:rPr b="0" i="1" lang="en-NZ" sz="1200" spc="-1" strike="noStrike">
                  <a:solidFill>
                    <a:srgbClr val="00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57680" y="1484280"/>
              <a:ext cx="3166920" cy="360360"/>
            </a:xfrm>
            <a:prstGeom prst="rect">
              <a:avLst/>
            </a:prstGeom>
            <a:solidFill>
              <a:srgbClr val="afe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3333"/>
                  </a:solidFill>
                  <a:latin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8000" y="18446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Software Development LifeCycle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In 2004 an audit was carried out into the capability of the software development process within Statistics New Zealand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Result – CMMI Capability 1 (Management by Heroics)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A software development lifecycle (SDLC) was introduced within Application Services to improve this rating and therefore increase credibility of I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SDLC-fit V1.0 was updated to SDLC-fit V2.0 in 2006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“</a:t>
            </a: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V” for Validation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19640" y="1341360"/>
            <a:ext cx="0" cy="493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015640" y="1341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319280" y="1341360"/>
            <a:ext cx="23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16000" y="1341360"/>
            <a:ext cx="2303640" cy="49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319640" y="1341000"/>
            <a:ext cx="2305080" cy="49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66560" y="3824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55640" y="2492280"/>
            <a:ext cx="35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2000" y="2235240"/>
            <a:ext cx="21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3820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2920" y="504360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pplic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6237360"/>
            <a:ext cx="10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8920" y="5145120"/>
            <a:ext cx="16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4720" y="3668760"/>
            <a:ext cx="19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233676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User Acceptance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146320"/>
            <a:ext cx="37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UAT verifies the solution meets Business 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284640"/>
            <a:ext cx="22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ystem Test verifies the system meets Software 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87280" y="530064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4473720"/>
            <a:ext cx="14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Unit Test verifies the application meets Application 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16000" y="1341360"/>
            <a:ext cx="792360" cy="1692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28720" y="2792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CO</a:t>
            </a:r>
            <a:r>
              <a:rPr b="0" lang="en-NZ" sz="2400" spc="-1" strike="noStrike">
                <a:solidFill>
                  <a:srgbClr val="66ccff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08360" y="3033720"/>
            <a:ext cx="684000" cy="1511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48000" y="4303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CA</a:t>
            </a:r>
            <a:r>
              <a:rPr b="0" lang="en-NZ" sz="2400" spc="-1" strike="noStrike">
                <a:solidFill>
                  <a:srgbClr val="66ccff"/>
                </a:solidFill>
                <a:latin typeface="Wingdings 3"/>
                <a:ea typeface="Wingdings 3"/>
              </a:rPr>
              <a:t>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4508640"/>
            <a:ext cx="825480" cy="17650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19280" y="2960640"/>
            <a:ext cx="1547640" cy="3313080"/>
          </a:xfrm>
          <a:prstGeom prst="line">
            <a:avLst/>
          </a:prstGeom>
          <a:ln w="57240">
            <a:solidFill>
              <a:srgbClr val="66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1800" y="27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Wingdings 3"/>
                <a:ea typeface="Wingdings 3"/>
              </a:rPr>
              <a:t>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867280" y="1341360"/>
            <a:ext cx="757440" cy="1619280"/>
          </a:xfrm>
          <a:prstGeom prst="line">
            <a:avLst/>
          </a:prstGeom>
          <a:ln w="572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00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Wingdings 3"/>
                <a:ea typeface="Wingdings 3"/>
              </a:rPr>
              <a:t>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59228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cc00"/>
                </a:solidFill>
                <a:latin typeface="Arial"/>
              </a:rPr>
              <a:t>In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176640"/>
            <a:ext cx="21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8000"/>
                </a:solidFill>
                <a:latin typeface="Arial"/>
              </a:rPr>
              <a:t>E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471312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66cc"/>
                </a:solidFill>
                <a:latin typeface="Arial"/>
              </a:rPr>
              <a:t>Co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32360" y="1940040"/>
            <a:ext cx="21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66"/>
                </a:solidFill>
                <a:latin typeface="Arial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3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IT Service Support &amp; Delivery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Statistics New Zealand has organized IT service support and service delivery processes by using ITIL (IT Infrastructure Library) framework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Starting with the Service Desk and following with other processes like incident management, problem management etc. most of the processes have been successfully implemented within IT Operations and Services Divis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Introduction of ITIL-based Change &amp; Release policies, approved by Board in May and deployed in November 2007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040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6:04:39Z</dcterms:created>
  <dc:creator>Matjaz Jug</dc:creator>
  <dc:description/>
  <dc:language>en-US</dc:language>
  <cp:lastModifiedBy>Services</cp:lastModifiedBy>
  <dcterms:modified xsi:type="dcterms:W3CDTF">2008-03-31T08:47:26Z</dcterms:modified>
  <cp:revision>87</cp:revision>
  <dc:subject/>
  <dc:title>Process-based IT Organisation at Statistics New Zealand</dc:title>
</cp:coreProperties>
</file>