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23760" y="750600"/>
            <a:ext cx="50104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512280"/>
            <a:ext cx="297180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9512280"/>
            <a:ext cx="297180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EF9C81-D894-4DBE-AC55-3321A9D156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itull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7BF-FBAA-4B0D-90A6-79F970B1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4AF-B6A9-4169-9416-FF51E59A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10D-3768-4955-A178-EEEEBD3F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9A2-FD15-47A8-90FF-81287B89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7AD-E92C-4049-8C23-2A781CAC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8C0-896F-428F-9861-0141272F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E96-F686-419F-AF9C-AAAE45EB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047-9777-46F2-962B-92682E5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482-F85B-403B-965D-46003ED9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2D7-6BD4-42A4-9691-D2F464B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E41-0187-47F1-9CD0-BF0A2FC4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4A6-3E27-413B-A243-16AD0C8A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15D2-970F-4E53-B051-A23AB84557E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9495-368E-4C92-B788-F8367D613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c9c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839080" y="609480"/>
            <a:ext cx="0" cy="6248520"/>
          </a:xfrm>
          <a:prstGeom prst="line">
            <a:avLst/>
          </a:prstGeom>
          <a:ln w="19080">
            <a:solidFill>
              <a:srgbClr val="c9c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762120" y="6244920"/>
            <a:ext cx="8076960" cy="8640"/>
          </a:xfrm>
          <a:prstGeom prst="line">
            <a:avLst/>
          </a:prstGeom>
          <a:ln w="19080">
            <a:solidFill>
              <a:srgbClr val="c9c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Karlis.Zeila@csb.gov.l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75640" y="6370560"/>
            <a:ext cx="468360" cy="48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370560"/>
            <a:ext cx="8678880" cy="487440"/>
          </a:xfrm>
          <a:prstGeom prst="rect">
            <a:avLst/>
          </a:prstGeom>
          <a:gradFill rotWithShape="0">
            <a:gsLst>
              <a:gs pos="0">
                <a:srgbClr val="61708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87520" y="609480"/>
            <a:ext cx="6384960" cy="323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Metadata Driven Integrated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r>
              <a:rPr b="1" lang="lv-LV" sz="3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of CSB of LATVI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Version 2008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425600" y="4886280"/>
            <a:ext cx="669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9440" y="4632480"/>
            <a:ext cx="644832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entral Statistical Bureau of Latv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pril 5 – 9, 2008</a:t>
            </a:r>
            <a:r>
              <a:rPr b="0" lang="lv-LV" sz="2100" spc="-1" strike="noStrike">
                <a:solidFill>
                  <a:srgbClr val="000000"/>
                </a:solidFill>
                <a:latin typeface="Times New Roman"/>
              </a:rPr>
              <a:t> / Luxembour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esentation on UN ECE/Eurostat/OECD work session on M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640" y="153036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Successful implementation formed bases for the CSB regional restructuring ( 5 Data </a:t>
            </a: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entres(115) instead of 26 Regional Offices (180)</a:t>
            </a: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3300"/>
                </a:solidFill>
                <a:latin typeface="Arial Unicode MS"/>
              </a:rPr>
              <a:t> completed in 2004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ystem implemented in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ugust yea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urveys described in Metadata base from 2002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102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urveys in active use in 2008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urveys available for electronic submission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lassifications for usage in metadata base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129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Unicode MS"/>
              </a:rPr>
              <a:t>Rate of electronically submitted dat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Maximal for supplied surveys up to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lv-LV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Average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in 2007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23,1%</a:t>
            </a: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KEY INFORMATION of MD ISDMS usa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22A-6801-4B08-BD51-C34EB5EFBB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3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SDMS architecture</a:t>
            </a:r>
            <a:r>
              <a:rPr b="1" lang="lv-LV" sz="2000" spc="-1" strike="noStrike">
                <a:solidFill>
                  <a:srgbClr val="808080"/>
                </a:solidFill>
                <a:latin typeface="Arial"/>
              </a:rPr>
              <a:t> - Versions 1 , 2 &amp; 3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620640" y="487440"/>
            <a:ext cx="7932960" cy="583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480" y="487440"/>
            <a:ext cx="52070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grated statistical data management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5600" y="792000"/>
            <a:ext cx="3224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rporative data Wareho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03840" y="974880"/>
            <a:ext cx="309600" cy="109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838080"/>
            <a:ext cx="1922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SB Web Si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29120" y="1038240"/>
            <a:ext cx="1301760" cy="9730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29120" y="1401840"/>
            <a:ext cx="123984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54080" y="1038240"/>
            <a:ext cx="1301760" cy="9730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1401840"/>
            <a:ext cx="11160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9120" y="2135160"/>
            <a:ext cx="1301760" cy="9730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1040" y="2498760"/>
            <a:ext cx="123984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cro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54080" y="2133720"/>
            <a:ext cx="1301760" cy="974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2438280"/>
            <a:ext cx="11160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s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1600" y="2133720"/>
            <a:ext cx="1301760" cy="974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5440" y="2438280"/>
            <a:ext cx="11160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AP 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41600" y="1036800"/>
            <a:ext cx="1301760" cy="974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41600" y="974880"/>
            <a:ext cx="1301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er adminis- tration 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1066680"/>
            <a:ext cx="1303200" cy="7621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32640" y="1096920"/>
            <a:ext cx="13651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semi-nation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6400" y="6400800"/>
            <a:ext cx="7253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29160" bIns="2916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Windows 2000 Server Advanced        MS Internet Information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SQL server 2000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39840" y="3352680"/>
            <a:ext cx="68817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SDMS Business application Software Modu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0200" y="3597120"/>
            <a:ext cx="1371600" cy="1295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08160" y="3597120"/>
            <a:ext cx="1487520" cy="1295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597120"/>
            <a:ext cx="1487520" cy="1295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07040" y="3597120"/>
            <a:ext cx="1623960" cy="1295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72400" y="3597120"/>
            <a:ext cx="1600200" cy="1295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6960" y="364176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ore metadata base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08320" y="3641760"/>
            <a:ext cx="99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isters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95680" y="3597120"/>
            <a:ext cx="14968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entry and validation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5880" y="3597120"/>
            <a:ext cx="16002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aggregation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01000" y="3597120"/>
            <a:ext cx="11160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analysis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2800" y="1523880"/>
            <a:ext cx="311040" cy="122400"/>
          </a:xfrm>
          <a:prstGeom prst="rightArrow">
            <a:avLst>
              <a:gd name="adj1" fmla="val 50000"/>
              <a:gd name="adj2" fmla="val 635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5360" y="1523880"/>
            <a:ext cx="309600" cy="122400"/>
          </a:xfrm>
          <a:prstGeom prst="rightArrow">
            <a:avLst>
              <a:gd name="adj1" fmla="val 50000"/>
              <a:gd name="adj2" fmla="val 632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147280" y="1410480"/>
            <a:ext cx="1339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0200" y="4130640"/>
            <a:ext cx="137160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 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7760" y="4130640"/>
            <a:ext cx="144792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95680" y="4130640"/>
            <a:ext cx="15238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TADATA MICRODATA</a:t>
            </a:r>
            <a:r>
              <a:rPr b="1" lang="lv-LV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GIST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SER 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95880" y="413064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48360" y="4130640"/>
            <a:ext cx="1524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ACRO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53440" y="4740120"/>
            <a:ext cx="1054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41920" y="2255760"/>
            <a:ext cx="1303560" cy="74628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2498760"/>
            <a:ext cx="13654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Raw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0880" y="2620800"/>
            <a:ext cx="311040" cy="138240"/>
          </a:xfrm>
          <a:prstGeom prst="rightArrow">
            <a:avLst>
              <a:gd name="adj1" fmla="val 50000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0880" y="2438280"/>
            <a:ext cx="304920" cy="122400"/>
          </a:xfrm>
          <a:prstGeom prst="leftArrow">
            <a:avLst>
              <a:gd name="adj1" fmla="val 50000"/>
              <a:gd name="adj2" fmla="val 622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0200" y="4937040"/>
            <a:ext cx="1371600" cy="13413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08160" y="4937040"/>
            <a:ext cx="1487520" cy="134136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937040"/>
            <a:ext cx="1487520" cy="134136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07040" y="4937040"/>
            <a:ext cx="1623960" cy="134136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200" y="4968720"/>
            <a:ext cx="12952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dissemination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499896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WEB entry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19520" y="505944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mass entry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68960" y="5059440"/>
            <a:ext cx="1419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sed data imputation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880" y="550224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TADATA M</a:t>
            </a:r>
            <a:r>
              <a:rPr b="1" lang="lv-LV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RODATA REGIST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9520" y="5546880"/>
            <a:ext cx="1363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32000" y="5425920"/>
            <a:ext cx="1301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8640" bIns="864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W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07040" y="554688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IMPUTATION SOFTWA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81760" y="4937040"/>
            <a:ext cx="1600200" cy="13413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81760" y="4998960"/>
            <a:ext cx="150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 administration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GB" sz="10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3680" y="554688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ADATA MICRODATA MACRO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ADMINIST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6400" y="79200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6400" y="792000"/>
            <a:ext cx="0" cy="250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6400" y="3292560"/>
            <a:ext cx="619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18080" y="792000"/>
            <a:ext cx="0" cy="14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18080" y="2193840"/>
            <a:ext cx="14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4800" y="2193840"/>
            <a:ext cx="682560" cy="109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05600" y="2193840"/>
            <a:ext cx="0" cy="10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29440" y="2193840"/>
            <a:ext cx="309600" cy="109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634080" y="2691000"/>
            <a:ext cx="1341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19840" y="2682720"/>
            <a:ext cx="311040" cy="136800"/>
          </a:xfrm>
          <a:prstGeom prst="rightArrow">
            <a:avLst>
              <a:gd name="adj1" fmla="val 50000"/>
              <a:gd name="adj2" fmla="val 568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9040" y="2378160"/>
            <a:ext cx="304920" cy="120600"/>
          </a:xfrm>
          <a:prstGeom prst="leftArrow">
            <a:avLst>
              <a:gd name="adj1" fmla="val 50000"/>
              <a:gd name="adj2" fmla="val 632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7360" y="2560680"/>
            <a:ext cx="304920" cy="122040"/>
          </a:xfrm>
          <a:prstGeom prst="leftArrow">
            <a:avLst>
              <a:gd name="adj1" fmla="val 50000"/>
              <a:gd name="adj2" fmla="val 62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2743200"/>
            <a:ext cx="311040" cy="122400"/>
          </a:xfrm>
          <a:prstGeom prst="rightArrow">
            <a:avLst>
              <a:gd name="adj1" fmla="val 50000"/>
              <a:gd name="adj2" fmla="val 635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55040" y="2378160"/>
            <a:ext cx="371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6960" y="2378160"/>
            <a:ext cx="309600" cy="669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9840" y="2498760"/>
            <a:ext cx="304920" cy="122040"/>
          </a:xfrm>
          <a:prstGeom prst="leftArrow">
            <a:avLst>
              <a:gd name="adj1" fmla="val 50000"/>
              <a:gd name="adj2" fmla="val 62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39040" y="2925720"/>
            <a:ext cx="311040" cy="138240"/>
          </a:xfrm>
          <a:prstGeom prst="rightArrow">
            <a:avLst>
              <a:gd name="adj1" fmla="val 50000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283-EA26-47F3-9F27-96845691DF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30280" y="1413000"/>
          <a:ext cx="826272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413000"/>
                    <a:ext cx="826272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71600" y="663480"/>
            <a:ext cx="808344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Statistics Structuring in CSB based on the Process Oriented data processing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191-10C8-44E9-9B3E-C65BC10A4C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REENGINEERING - MAIN GOAL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1342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ove from Microsoft SQL Server 2000 to version 200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ystem adaptation towards Social statistics data processing, analysis and dissemination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thus moving from MD ISDMS to MDII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troduce transition of the data elder than three years from ISDMS micro and macro data bases to active archive stora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mprove e-Survey subsystem by introducing usage of different Internet browsing Software packag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mplementation of SDMX standard requirements within data dissemination process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A46-10C5-4002-BFF0-DB495A59C5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755640" y="1484280"/>
          <a:ext cx="77724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7724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71640" y="404640"/>
            <a:ext cx="74390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SSES Covered by MD ISDMS</a:t>
            </a: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 + in Business &amp; Soc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Statistics Doma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534-212C-4ED2-86B2-8BCEC5FF0F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 Unicode MS"/>
              </a:rPr>
              <a:t>MD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IIS</a:t>
            </a:r>
            <a:r>
              <a:rPr b="1" lang="lv-LV" sz="2800" spc="-1" strike="noStrike">
                <a:solidFill>
                  <a:srgbClr val="000000"/>
                </a:solidFill>
                <a:latin typeface="Arial Unicode MS"/>
              </a:rPr>
              <a:t> as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CSB </a:t>
            </a:r>
            <a:r>
              <a:rPr b="1" lang="lv-LV" sz="2800" spc="-1" strike="noStrike">
                <a:solidFill>
                  <a:srgbClr val="000000"/>
                </a:solidFill>
                <a:latin typeface="Arial Unicode MS"/>
              </a:rPr>
              <a:t>Cooporative Data Warehou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857680"/>
          <a:ext cx="38275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57680"/>
                    <a:ext cx="38275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809960" y="1905120"/>
          <a:ext cx="3467160" cy="200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9960" y="1905120"/>
                    <a:ext cx="346716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5640" y="1190520"/>
          <a:ext cx="8064360" cy="504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190520"/>
                    <a:ext cx="806436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9ED-D3B0-40A4-A429-BD5EE22556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90480" y="692280"/>
          <a:ext cx="7977240" cy="56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692280"/>
                    <a:ext cx="797724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817-AC36-480F-84F3-8E6D696220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2560" y="2316240"/>
            <a:ext cx="77486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Thank you for attention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63680" y="3902040"/>
            <a:ext cx="63849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t">
            <a:noAutofit/>
          </a:bodyPr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 Unicode MS"/>
              </a:rPr>
              <a:t>Karlis Zeila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v-LV" sz="28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is.Zeila@csb.gov.l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 Unicode MS"/>
              </a:rPr>
              <a:t>http://www.csb.l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DB5-A98C-428E-880E-7D13E6A9B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1:48:27Z</dcterms:created>
  <dc:creator>csb</dc:creator>
  <dc:description/>
  <dc:language>en-US</dc:language>
  <cp:lastModifiedBy>Karlis Zeila</cp:lastModifiedBy>
  <dcterms:modified xsi:type="dcterms:W3CDTF">2008-03-28T11:28:23Z</dcterms:modified>
  <cp:revision>88</cp:revision>
  <dc:subject/>
  <dc:title>PowerPoint Presentation</dc:title>
</cp:coreProperties>
</file>