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23760" y="750600"/>
            <a:ext cx="50104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48EE58-A589-4F58-B211-763BD2BE05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72B-DED2-459A-ACBA-BEE4982E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704-34CB-495B-8E8D-B0B4627F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B6F-CF72-4E48-B940-FD88996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41-9995-49A1-8159-223966A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EBE-B4B1-4E7B-9032-109D927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C88-4C80-4556-A6C3-ACD92E73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5C6-1499-417A-857C-9C84922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2C7-EDA9-4D2F-BE1B-D6B6407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A8C-4EBA-4C9F-B4EA-78FBDC2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B30-381A-4A5C-B5AC-2098B96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D5E-9C21-4216-9024-B7102F0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707-A890-4EB9-9DC6-7A2B04B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FEC-B697-48FC-85B1-C0D07188A5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5A68-E171-4E28-AB59-9D77B629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c9c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839080" y="609480"/>
            <a:ext cx="0" cy="624852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762120" y="6244920"/>
            <a:ext cx="8076960" cy="864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Karlis.Zeila@csb.gov.l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75640" y="6370560"/>
            <a:ext cx="46836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370560"/>
            <a:ext cx="8678880" cy="4874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87520" y="609480"/>
            <a:ext cx="6384960" cy="32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Metadata Driven Integrate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1" lang="lv-LV" sz="3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of CSB of LATVI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ersion 2008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425600" y="4886280"/>
            <a:ext cx="669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9440" y="4632480"/>
            <a:ext cx="64483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entral Statistical Bureau of Latv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ril 5 – 9, 2008</a:t>
            </a:r>
            <a:r>
              <a:rPr b="0" lang="lv-LV" sz="2100" spc="-1" strike="noStrike">
                <a:solidFill>
                  <a:srgbClr val="000000"/>
                </a:solidFill>
                <a:latin typeface="Times New Roman"/>
              </a:rPr>
              <a:t> / Luxembour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esentation on UN ECE/Eurostat/OECD work session on M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640" y="1530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Successful implementation formed bases for the CSB regional restructuring ( 5 Data 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entres(115) instead of 26 Regional Offices (180)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 completed in 2004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ystem implemented in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ugust yea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described in Metadata base from 2002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in active use in 2008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available for electronic submission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assifications for usage in metadata bas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Unicode MS"/>
              </a:rPr>
              <a:t>Rate of electronically submitted dat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Maximal for supplied surveys up to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lv-LV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Average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in 2007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3,1%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KEY INFORMATION of MD ISDMS usa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920-B308-4CCD-817C-AF98EE01D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3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SDMS architecture</a:t>
            </a:r>
            <a:r>
              <a:rPr b="1" lang="lv-LV" sz="2000" spc="-1" strike="noStrike">
                <a:solidFill>
                  <a:srgbClr val="808080"/>
                </a:solidFill>
                <a:latin typeface="Arial"/>
              </a:rPr>
              <a:t> - Versions 1 , 2 &amp; 3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20640" y="487440"/>
            <a:ext cx="7932960" cy="583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480" y="487440"/>
            <a:ext cx="52070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5600" y="792000"/>
            <a:ext cx="3224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3840" y="974880"/>
            <a:ext cx="309600" cy="109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838080"/>
            <a:ext cx="1922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29120" y="103824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9120" y="1401840"/>
            <a:ext cx="123984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103824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40184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9120" y="213516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1040" y="2498760"/>
            <a:ext cx="123984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4080" y="213372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243828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1600" y="213372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440" y="243828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1600" y="103680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1600" y="974880"/>
            <a:ext cx="1301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1066680"/>
            <a:ext cx="1303200" cy="7621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2640" y="1096920"/>
            <a:ext cx="13651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6400" y="6400800"/>
            <a:ext cx="7253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29160" bIns="2916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39840" y="3352680"/>
            <a:ext cx="68817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597120"/>
            <a:ext cx="137160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08160" y="3597120"/>
            <a:ext cx="148752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97120"/>
            <a:ext cx="148752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7040" y="3597120"/>
            <a:ext cx="162396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72400" y="3597120"/>
            <a:ext cx="160020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6960" y="364176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8320" y="3641760"/>
            <a:ext cx="99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95680" y="3597120"/>
            <a:ext cx="14968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5880" y="3597120"/>
            <a:ext cx="16002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1000" y="3597120"/>
            <a:ext cx="1116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2800" y="1523880"/>
            <a:ext cx="311040" cy="1224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5360" y="1523880"/>
            <a:ext cx="309600" cy="122400"/>
          </a:xfrm>
          <a:prstGeom prst="rightArrow">
            <a:avLst>
              <a:gd name="adj1" fmla="val 50000"/>
              <a:gd name="adj2" fmla="val 632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147280" y="1410480"/>
            <a:ext cx="1339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0200" y="4130640"/>
            <a:ext cx="13716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7760" y="4130640"/>
            <a:ext cx="144792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95680" y="4130640"/>
            <a:ext cx="15238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5880" y="413064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4130640"/>
            <a:ext cx="1524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53440" y="4740120"/>
            <a:ext cx="105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41920" y="2255760"/>
            <a:ext cx="1303560" cy="74628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2498760"/>
            <a:ext cx="13654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0880" y="2620800"/>
            <a:ext cx="311040" cy="13824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0880" y="2438280"/>
            <a:ext cx="304920" cy="122400"/>
          </a:xfrm>
          <a:prstGeom prst="leftArrow">
            <a:avLst>
              <a:gd name="adj1" fmla="val 50000"/>
              <a:gd name="adj2" fmla="val 622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200" y="4937040"/>
            <a:ext cx="1371600" cy="1341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8160" y="4937040"/>
            <a:ext cx="148752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37040"/>
            <a:ext cx="148752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07040" y="4937040"/>
            <a:ext cx="162396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200" y="4968720"/>
            <a:ext cx="12952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499896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19520" y="505944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68960" y="5059440"/>
            <a:ext cx="141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880" y="550224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9520" y="5546880"/>
            <a:ext cx="1363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2000" y="5425920"/>
            <a:ext cx="1301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8640" bIns="864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7040" y="55468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81760" y="4937040"/>
            <a:ext cx="1600200" cy="1341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1760" y="4998960"/>
            <a:ext cx="150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3680" y="55468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6400" y="79200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6400" y="79200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6400" y="3292560"/>
            <a:ext cx="61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8080" y="792000"/>
            <a:ext cx="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8080" y="2193840"/>
            <a:ext cx="14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4800" y="2193840"/>
            <a:ext cx="682560" cy="109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05600" y="2193840"/>
            <a:ext cx="0" cy="10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9440" y="2193840"/>
            <a:ext cx="309600" cy="109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634080" y="2691000"/>
            <a:ext cx="1341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19840" y="2682720"/>
            <a:ext cx="311040" cy="136800"/>
          </a:xfrm>
          <a:prstGeom prst="rightArrow">
            <a:avLst>
              <a:gd name="adj1" fmla="val 50000"/>
              <a:gd name="adj2" fmla="val 568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9040" y="2378160"/>
            <a:ext cx="304920" cy="120600"/>
          </a:xfrm>
          <a:prstGeom prst="leftArrow">
            <a:avLst>
              <a:gd name="adj1" fmla="val 50000"/>
              <a:gd name="adj2" fmla="val 632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2560680"/>
            <a:ext cx="304920" cy="122040"/>
          </a:xfrm>
          <a:prstGeom prst="leftArrow">
            <a:avLst>
              <a:gd name="adj1" fmla="val 50000"/>
              <a:gd name="adj2" fmla="val 62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2743200"/>
            <a:ext cx="311040" cy="1224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55040" y="2378160"/>
            <a:ext cx="371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6960" y="2378160"/>
            <a:ext cx="309600" cy="669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9840" y="2498760"/>
            <a:ext cx="304920" cy="122040"/>
          </a:xfrm>
          <a:prstGeom prst="leftArrow">
            <a:avLst>
              <a:gd name="adj1" fmla="val 50000"/>
              <a:gd name="adj2" fmla="val 62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39040" y="2925720"/>
            <a:ext cx="311040" cy="13824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991-75F3-4F00-B8BD-0218C9FF85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30280" y="1413000"/>
          <a:ext cx="8262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3000"/>
                    <a:ext cx="8262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71600" y="663480"/>
            <a:ext cx="808344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Statistics Structuring in CSB based on the Process Oriented data processing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CEA-F56F-4DB2-854E-3043CDEC7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ENGINEERING - MAIN GOAL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1342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ove from Microsoft SQL Server 2000 to version 200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ystem adaptation towards Social statistics data processing, analysis and dissemination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thus moving from MD ISDMS to MDI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troduce transition of the data elder than three years from ISDMS micro and macro data bases to active archive sto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rove e-Survey subsystem by introducing usage of different Internet browsing Software packag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lementation of SDMX standard requirements within data dissemination process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40F-83B6-4CC2-AC34-871E83A11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55640" y="1484280"/>
          <a:ext cx="77724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7724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1640" y="404640"/>
            <a:ext cx="74390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ES Covered by MD ISDMS</a:t>
            </a: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 + in Business &amp; Soc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Statistics Dom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86-4C67-45DF-B718-D6E89C073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MD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IS</a:t>
            </a: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 as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CSB </a:t>
            </a: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Cooporative Data Warehou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857680"/>
          <a:ext cx="38275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57680"/>
                    <a:ext cx="3827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09960" y="1905120"/>
          <a:ext cx="3467160" cy="200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9960" y="1905120"/>
                    <a:ext cx="346716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1190520"/>
          <a:ext cx="8064360" cy="504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190520"/>
                    <a:ext cx="80643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62C-E465-4502-845C-AB5762EB3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90480" y="692280"/>
          <a:ext cx="797724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692280"/>
                    <a:ext cx="79772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745-6E1E-4879-A375-C74D375EE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2560" y="2316240"/>
            <a:ext cx="7748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Thank you for attenti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3680" y="3902040"/>
            <a:ext cx="63849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noAutofit/>
          </a:bodyPr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Karlis Zeila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v-LV" sz="28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is.Zeila@csb.gov.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http://www.csb.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176-030B-4FAA-8315-C1DD6B63C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1:48:27Z</dcterms:created>
  <dc:creator>csb</dc:creator>
  <dc:description/>
  <dc:language>en-US</dc:language>
  <cp:lastModifiedBy>Karlis Zeila</cp:lastModifiedBy>
  <dcterms:modified xsi:type="dcterms:W3CDTF">2008-03-28T11:28:23Z</dcterms:modified>
  <cp:revision>88</cp:revision>
  <dc:subject/>
  <dc:title>PowerPoint Presentation</dc:title>
</cp:coreProperties>
</file>