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1D92-B2B7-4084-8BBF-2C54B84A45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F613-1B65-43AE-9D20-6568D6AB2D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presentation of highl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8ACF-46F9-4274-B4D5-098562F42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A4AB-3900-418B-9E7C-A17AD96EB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85DB-A27D-494E-962D-C423A0BE5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.1Is it sufficient to say Million national currency or should it be differentiated between countr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32E3-92B3-4BBE-8E1E-4B4492914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.1Is it sufficient to say Million national currency or should it be differentiated between countr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1D3D-4C15-44AB-86ED-4A2E11541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637B-23A2-4322-A464-14C4B5541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F9BE-18FF-4B7D-8CA2-01F193A87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66C7-4900-4206-90E1-9866E61CD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5B3B-DFD9-4074-A44E-60A53B8D6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1766-21A2-4EB9-8AB0-45224FB30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E315-754D-4704-A23E-75B01C971E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4796-8ADD-4A2B-AD76-4BC2B3D753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23BC-6BEA-4399-82C9-2E99E5839B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CF46-1017-425B-AEFE-CB57998E59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9013-9D47-4403-B4E7-6031D02A45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C4A7-850B-44CD-805D-9CC34EAF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CCC95A-BBFF-4BE4-B7AB-83B1BD88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97E6F-2F1E-4681-AA42-46C37C1C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9B84B8-7D45-419C-9241-D96D6C9F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760E16-64E4-4261-AA02-F2112E27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03D79-896F-4581-BA0A-27185EA2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D8D178-F326-493C-BCB3-BC72C516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89FE7-9763-4A74-A980-08FFAEA6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1F69E-1E85-460C-BFE9-B5DE8FF9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554AF-02C2-4A4A-B7FC-86DCEB7EE8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1EC869-A7E6-4D29-893B-326EC7CC0A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CDEC-28A6-4032-82F2-A1AAB2E4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27F3B3-5B79-4DBD-8EF1-9870A8E6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079880-FA37-419C-B544-15519A0A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030C06-E05E-4746-B9E2-20E92700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9E194F-36AF-4037-A162-E1713926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93AC08-ACB7-4E4E-A5FA-5E150A3F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FF2A1D-4F89-4DA3-9A8F-D607D792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899598-B188-457F-AE02-EEF3C0C8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9FDA52-C258-4D23-BDB0-5DE4EEFE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FB4E74-EBD8-47EE-8195-D20632DF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77FEA5-92ED-4128-A8A3-9BBA2197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2C14-923A-4619-AB08-242C27BEEF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7BBE84-26BD-47ED-8722-6434182EB5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B39E4-373B-4612-8040-CB2B663248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1B904-7239-4FC5-BB4E-DA9BA0F0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1C37A-22DB-4B4B-A57A-F87533EA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A3313-1E07-4528-AFFE-80482C74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FB682-A914-491C-883E-BB0F3997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C0ED1-6AB8-496A-A414-A845E0F0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ECF96-AEE3-42E5-9323-12F52C46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29DC3-5A28-4D57-8556-BDBBB666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6399C-AA39-49D3-9903-A9538E28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A6BF5-8846-48D1-8972-4532224B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00533-D80C-4572-BA67-F29C6EBE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32007-0CEA-41B5-AFD0-B4337C0FAE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7A0C0-CAF8-4137-8DEA-81C46BE6DB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E92E63-DF79-404B-B4EE-3261D979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FC2FD8-2395-48EF-BAFA-B3FF4A8B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7F0322-2488-471D-8636-EA8FC3EF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5FEC70-DC1C-42FB-8C9C-9D1C5752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22E368-E299-442E-BEDE-3EC50DAA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01CE0F-0B55-458F-9F9B-F2FA8CDF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0450F9-86AA-43E7-9C28-99212A00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1A6F08-AA98-44FD-939E-EB07B0A5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3A2C44-9004-4BF1-A04C-AA62CC5D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7016D3-0D37-4687-9FF2-E77AE6AE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0C931A-FD60-46F6-B89E-A359BC8AC8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A9E924-A22C-433E-9ED4-D9D821CC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65872E-C308-42ED-BB47-5043E7E8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0CE572-9B15-4A9B-A5B9-C7F00B68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C8931C-91F1-4249-93C2-80831CB0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AA0CD4-8F54-46EB-B812-D80C5F2D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6CA5E9-9817-437D-8621-4B94F6EC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F00181-0F8A-4CFA-83AA-4A60E5F9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6F75C6-909B-4000-BA52-8882F6F8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113663-CB18-4770-9D95-C642982C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4B23EE-1A54-4387-B47D-45ACC790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D9F124-D025-4010-8076-BE4C6E47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5FDA4C-C808-4B9B-B613-1BABEDD7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A86B-2A44-499E-8F0F-C00DF7A3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D0C82-479D-4B07-96F4-DEE4EE434C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7A96D-D55B-4E71-B8FD-7AC8F5A3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830FE-A612-4D09-A682-A6E82342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DF30A-9D5B-463C-80F7-E4ED68AE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4A4BD-C5CB-42F6-B691-92499615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57034-EB26-427F-BD63-164A3A69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44B73-E31C-4A59-A2C8-0AB6B710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5EF74-5D64-4DF4-B43C-8B4C8C6E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2D187-0F15-4663-819D-38F472B7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3A090-3D2E-4B0A-8DB3-E92D7FBE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3024C-D6AD-40F9-AE7A-B3FB4ED2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A8DED-E37C-4A61-8978-EAD1D3DE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AC338-7E4B-4A15-835C-ACCF701550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4F728E-81BE-4378-BE0F-6C7C6246E3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4A8248-16DB-464A-8AE1-ADE2115E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CB20B8-0EDA-481B-BF9C-CE524321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5BC4C-A2AD-4930-ADA6-E2568D68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AC2D6F-643B-4191-8DF4-4E080724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DBAD02-585C-4AEF-BCDE-E687B148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3164A2-3DC9-4955-84BD-44911239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BA0C9E-9A8F-4965-8C89-20FA8E20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67578-AA82-4F2A-A09E-1D1B06CA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5C53A0-E6E0-4D27-8326-44A0EEDB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3C2402-58BA-41EF-9F71-4ECEE4CF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07B8C8-E4A5-4855-8D50-3418D7F2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54AA55-46B1-4410-937D-1830858FD4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D7053-FE89-49B6-B018-DDD6D403A9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A22D-7004-4188-BEF4-AB742D98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11273-6252-4BE3-B6BB-E4AFB182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0B6A-A79A-4F61-8FC7-71BDC553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5F98-6778-4E10-A6FD-9A29E8A6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1EE1-D40D-463B-A210-A57A5A7F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BD6E-F978-4FDA-9077-86C6ECC0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AFE36-0E28-4E28-8B3B-5ED23E8D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3DD6-E123-466D-B252-842BB61B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F7CEB-32EA-4281-9421-C726A7E7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5C21A-876A-4310-9353-DD960E14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8F46A-E946-4229-803F-2B78731C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5F95B-8E90-4CCF-B74A-A7B269F6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D8795-99CD-46A0-A5EA-504ED87F57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0AB804-3DED-4D84-9E86-8349FE8894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37ACE-7677-496B-A1DF-E1FA932E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90422-D0C1-4580-B9F7-75A397F4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B643C-2486-4307-980C-BECB7CA6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02EBC-92AE-453A-9F0D-F24B73C8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0DCD9-9199-47F0-AE86-588D445A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E9685D-FDCE-436F-B374-FBF9442E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5889A9-B563-4556-9561-5502452F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06B74-771C-4E00-A7B8-2FC1BD09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C087-9E34-48F4-A521-A9B9D494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7C1E0-A8CD-4701-AC91-B5D7281A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DD6689-DA87-425F-B7C5-29D0D876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868427-E42A-4FD0-BF5B-A8D20A1C25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6E274D-5AB3-49AC-BBDA-DD35F812E4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DA1D9C-8550-497E-B8FD-5EAD172D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9EF1B6-29F4-46DD-87C6-18F5F6E9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A6C6C2-4A73-4D07-AD24-6B70769C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7A4C64-CEEB-4D59-8634-7AD0868D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513F67-471E-4EEC-8588-79589B68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22A240-BC0D-4D6E-ABE3-9C150C6F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9867-D661-4193-A718-366A632A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2CD744-2A23-4FC9-B590-A35F3551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AC509C-2D2C-4237-A1B3-B573F02F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9C45E9-C303-428E-AA48-314AEF96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3AE00D-FAD0-496B-8BF3-376CE918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56E523-E236-44D9-B140-AA6C84370E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4A7D2-C75C-4B3D-A566-1696CAA63E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3E534-4F52-4B94-8845-5E4F3270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2C08F-27A9-4097-9FA7-39EE7263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52C30-871A-436C-8465-5EB6980A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C3320-13F7-4656-9316-0406E744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BE1AD-4676-4C93-B4B9-367FEA40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7627E-5D9B-4471-AB6F-AC1DA659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8BD75-759E-4015-AD63-9B1FD735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1B001-6903-499D-AFA3-13A5BEC5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00FDF-85C8-4D77-99B0-DD63DDF8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00000" y="3945240"/>
            <a:ext cx="76327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20464-B654-406D-B3CE-C833B4A7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11040" y="148428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0000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811040" y="3945240"/>
            <a:ext cx="37245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D2CFE-F58D-49B1-AC44-B0FCFBFB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48048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61320" y="148428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0000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48048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61320" y="3945240"/>
            <a:ext cx="2457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28776-94FE-4D9E-919B-0676DAB111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8A2CAB-4689-4031-A59C-6A31D350D4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E5BE1A-A0BB-41BC-8D11-1D353143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1C0D73-7036-4AE5-9A74-2EB71B19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1 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FB29-9A7C-41DC-B479-2DAFAA0A7C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7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18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19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CB49-20F3-4F07-9D05-3B15413BAD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0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1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9F51-1588-4B87-ACFA-855BBBCD1A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3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2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23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62CD-6871-4D27-93D7-012E45B814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4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26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4177-EF36-4702-A63E-21DE45D3875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35"/>
          <p:cNvSpPr/>
          <p:nvPr/>
        </p:nvSpPr>
        <p:spPr>
          <a:xfrm>
            <a:off x="-104472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1040"/>
          <p:cNvGraphicFramePr/>
          <p:nvPr/>
        </p:nvGraphicFramePr>
        <p:xfrm>
          <a:off x="3276720" y="907920"/>
          <a:ext cx="2190600" cy="22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104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907920"/>
                    <a:ext cx="21906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 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5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5943-0F3B-4C13-B7B5-509AC4B842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7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93CF-02A9-44C0-B22B-B5499FD364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9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C713-AAA9-444D-8845-39FAB2D9A1C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1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7F40-4E0D-4B80-ADA4-FBBBEF5544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2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3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87AE-9903-478F-BBD8-5AEE885366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5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9FEE-3D58-4917-AE27-34BAC987B4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7" descr="logo"/>
          <p:cNvPicPr/>
          <p:nvPr/>
        </p:nvPicPr>
        <p:blipFill>
          <a:blip r:embed="rId2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Object 13"/>
          <p:cNvGraphicFramePr/>
          <p:nvPr/>
        </p:nvGraphicFramePr>
        <p:xfrm>
          <a:off x="8101080" y="5805360"/>
          <a:ext cx="952560" cy="9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805360"/>
                    <a:ext cx="9525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6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7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C00D-4223-4AE8-9460-8030DBA6F9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45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45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4360" y="3642840"/>
            <a:ext cx="7772400" cy="264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Units in OECD.Stat</a:t>
            </a:r>
            <a:br>
              <a:rPr sz="18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 Sundgren &amp; Lars Thygesen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5"/>
          <p:cNvSpPr/>
          <p:nvPr/>
        </p:nvSpPr>
        <p:spPr>
          <a:xfrm>
            <a:off x="5003640" y="170028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7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8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9"/>
          <p:cNvSpPr/>
          <p:nvPr/>
        </p:nvSpPr>
        <p:spPr>
          <a:xfrm>
            <a:off x="4356000" y="1727280"/>
            <a:ext cx="184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7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8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9"/>
          <p:cNvSpPr/>
          <p:nvPr/>
        </p:nvSpPr>
        <p:spPr>
          <a:xfrm>
            <a:off x="4173120" y="1727280"/>
            <a:ext cx="51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Unit of measuremen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pends on the dimension Count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8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9"/>
          <p:cNvSpPr/>
          <p:nvPr/>
        </p:nvSpPr>
        <p:spPr>
          <a:xfrm>
            <a:off x="4192200" y="1700280"/>
            <a:ext cx="48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national curr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10" descr="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1"/>
          <p:cNvSpPr/>
          <p:nvPr/>
        </p:nvSpPr>
        <p:spPr>
          <a:xfrm>
            <a:off x="3203640" y="1700280"/>
            <a:ext cx="183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9"/>
          <p:cNvSpPr/>
          <p:nvPr/>
        </p:nvSpPr>
        <p:spPr>
          <a:xfrm>
            <a:off x="4192200" y="1700280"/>
            <a:ext cx="48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national curr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10" descr="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11"/>
          <p:cNvSpPr/>
          <p:nvPr/>
        </p:nvSpPr>
        <p:spPr>
          <a:xfrm>
            <a:off x="3024000" y="1700280"/>
            <a:ext cx="52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Unit of measuremen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pends on the dimension Variab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9"/>
          <p:cNvSpPr/>
          <p:nvPr/>
        </p:nvSpPr>
        <p:spPr>
          <a:xfrm>
            <a:off x="4192200" y="1700280"/>
            <a:ext cx="48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national curr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10" descr="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11"/>
          <p:cNvSpPr/>
          <p:nvPr/>
        </p:nvSpPr>
        <p:spPr>
          <a:xfrm>
            <a:off x="3024000" y="1700280"/>
            <a:ext cx="52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Unit of measuremen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pends on the dimension Variab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2" descr=""/>
          <p:cNvPicPr/>
          <p:nvPr/>
        </p:nvPicPr>
        <p:blipFill>
          <a:blip r:embed="rId6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3"/>
          <p:cNvSpPr/>
          <p:nvPr/>
        </p:nvSpPr>
        <p:spPr>
          <a:xfrm>
            <a:off x="4716360" y="16286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7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8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9"/>
          <p:cNvSpPr/>
          <p:nvPr/>
        </p:nvSpPr>
        <p:spPr>
          <a:xfrm>
            <a:off x="4192200" y="1700280"/>
            <a:ext cx="48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national curr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0" descr="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1"/>
          <p:cNvSpPr/>
          <p:nvPr/>
        </p:nvSpPr>
        <p:spPr>
          <a:xfrm>
            <a:off x="3024000" y="1700280"/>
            <a:ext cx="52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Unit of measuremen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pends on the dimension Variab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12" descr=""/>
          <p:cNvPicPr/>
          <p:nvPr/>
        </p:nvPicPr>
        <p:blipFill>
          <a:blip r:embed="rId6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3"/>
          <p:cNvSpPr/>
          <p:nvPr/>
        </p:nvSpPr>
        <p:spPr>
          <a:xfrm>
            <a:off x="4567320" y="162864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Units of measurement: Click i for member of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mension Subject to see un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7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8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9"/>
          <p:cNvSpPr/>
          <p:nvPr/>
        </p:nvSpPr>
        <p:spPr>
          <a:xfrm>
            <a:off x="4192200" y="1700280"/>
            <a:ext cx="48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national curr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" descr="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11"/>
          <p:cNvSpPr/>
          <p:nvPr/>
        </p:nvSpPr>
        <p:spPr>
          <a:xfrm>
            <a:off x="3024000" y="1700280"/>
            <a:ext cx="52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Unit of measuremen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pends on the dimension Variab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2" descr=""/>
          <p:cNvPicPr/>
          <p:nvPr/>
        </p:nvPicPr>
        <p:blipFill>
          <a:blip r:embed="rId6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13"/>
          <p:cNvSpPr/>
          <p:nvPr/>
        </p:nvSpPr>
        <p:spPr>
          <a:xfrm>
            <a:off x="4567320" y="162864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Units of measurement: Click i for member of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mension Subject to see un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4" descr=""/>
          <p:cNvPicPr/>
          <p:nvPr/>
        </p:nvPicPr>
        <p:blipFill>
          <a:blip r:embed="rId7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5"/>
          <p:cNvSpPr/>
          <p:nvPr/>
        </p:nvSpPr>
        <p:spPr>
          <a:xfrm>
            <a:off x="4859280" y="18446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5"/>
          <p:cNvSpPr/>
          <p:nvPr/>
        </p:nvSpPr>
        <p:spPr>
          <a:xfrm>
            <a:off x="4910400" y="170028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US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7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8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9"/>
          <p:cNvSpPr/>
          <p:nvPr/>
        </p:nvSpPr>
        <p:spPr>
          <a:xfrm>
            <a:off x="4192200" y="1700280"/>
            <a:ext cx="48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 - Unit of measuremen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lion national curr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10" descr="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11"/>
          <p:cNvSpPr/>
          <p:nvPr/>
        </p:nvSpPr>
        <p:spPr>
          <a:xfrm>
            <a:off x="3024000" y="1700280"/>
            <a:ext cx="52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Unit of measuremen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pends on the dimension Variab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12" descr=""/>
          <p:cNvPicPr/>
          <p:nvPr/>
        </p:nvPicPr>
        <p:blipFill>
          <a:blip r:embed="rId6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13"/>
          <p:cNvSpPr/>
          <p:nvPr/>
        </p:nvSpPr>
        <p:spPr>
          <a:xfrm>
            <a:off x="4567320" y="162864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Units of measurement: Click i for member of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mension Subject to see un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14" descr=""/>
          <p:cNvPicPr/>
          <p:nvPr/>
        </p:nvPicPr>
        <p:blipFill>
          <a:blip r:embed="rId7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15"/>
          <p:cNvSpPr/>
          <p:nvPr/>
        </p:nvSpPr>
        <p:spPr>
          <a:xfrm>
            <a:off x="4859280" y="1428840"/>
            <a:ext cx="438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Units of measurement: Please see explanation i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etadata 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tandardising decentralised data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ften based on paper pub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ueeze in as much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x apples and 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eneralised format: The hypercu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ey certai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ean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(or more) parameter(s) (meas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429F-1BE0-4ACC-9BC0-930E9117257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ep Unit clean – as separate from mea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gree on unit codes (adapt to SDM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taset owners think that even pragmatic solutions are too rad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EDF8-575E-4FBD-B0FF-68FB193CC8F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entative time 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75B4-C301-476E-8A2A-FD895FE68FE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632720" cy="47116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2" descr=""/>
          <p:cNvPicPr/>
          <p:nvPr/>
        </p:nvPicPr>
        <p:blipFill>
          <a:blip r:embed="rId2"/>
          <a:stretch/>
        </p:blipFill>
        <p:spPr>
          <a:xfrm>
            <a:off x="714240" y="2071800"/>
            <a:ext cx="813780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re these problems recogniz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re similar solutions appli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51A9-DBBF-4A29-BFE8-20FC942BBDF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re is nothing more practical than a good theory”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Hilb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0D25-C02A-4D4B-8ED5-DC2CF829EB5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900000" y="1214280"/>
            <a:ext cx="76327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Residents in OECD countries 1990-2005 by Country, Time, Sex, and AgeGroup: Count, SumOfIncome, and AverageOfIn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mension 1: Country (Member countries of the OEC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imension 2: Time (1990-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imension 3: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imension 4: Age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mension 5: Parameters (Count, Sum(Income), Average(Income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66A1-2002-414F-89AF-7F09B66EF23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Organisation of OECD.St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number of relatively independen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datasets,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ulti-dimensional tab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mon dimensions” (e.g. country, time, frequency, age) provide links between the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patible with Statistical Data and Metadata Exchange standards (SDM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erarchical thematic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AE0B-CE9D-4204-A0AA-E82C1BFD899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56840" y="456840"/>
            <a:ext cx="717732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rregular statistical hypercub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everal classification variables concatenated in one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Different parameters for different dimension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r wo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CF84-03E5-4956-AA49-E02E3365371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s a result unit can be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mon to 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 a dimens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ffer for different members of one dimension in a datase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ffers for different combinations of members of more than one dimension in a datase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t mentioned at 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7039-2D99-4D82-A55C-BA2C3045C09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ossible solu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The radical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: Restructure 500 datasets to become reg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The pragmati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: Keep datasets and rep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C7BD-D623-4AAF-B3A5-A8513CF8E53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posal for a sol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900000" y="1484280"/>
            <a:ext cx="76327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roduce common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Unit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ttached to any observation in any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Unit multiplier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Unit position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d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ataset with only one un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ataset with unit in a separate dim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ataset where unit depends on only one dimen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ataset where unit differs for different combinations of members of more than one dim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p unit texts to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391A-86DF-43F2-8991-D73D3C801EB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ranslation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Date Placeholder 3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147636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FA0A-FFC6-48B7-BD20-E3353349753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632720" cy="47116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"/>
          <p:cNvPicPr/>
          <p:nvPr/>
        </p:nvPicPr>
        <p:blipFill>
          <a:blip r:embed="rId2"/>
          <a:stretch/>
        </p:blipFill>
        <p:spPr>
          <a:xfrm>
            <a:off x="662040" y="1285920"/>
            <a:ext cx="11677680" cy="657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9:48:40Z</dcterms:created>
  <dc:creator>Peter Lübkert</dc:creator>
  <dc:description/>
  <dc:language>en-US</dc:language>
  <cp:lastModifiedBy>thygesen_l</cp:lastModifiedBy>
  <cp:lastPrinted>2001-10-12T08:11:06Z</cp:lastPrinted>
  <dcterms:modified xsi:type="dcterms:W3CDTF">2008-04-09T06:16:19Z</dcterms:modified>
  <cp:revision>282</cp:revision>
  <dc:subject/>
  <dc:title>2000 SDS Objectives</dc:title>
</cp:coreProperties>
</file>