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5DCB-5690-414D-9919-CF5E835DE9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AFF6-0862-4F35-8C8B-350F412769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rt presentation of highl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62FD-1B59-4911-9B57-7CC8868FD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2773-B290-4C87-AD5A-8924FCF22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6B72-57DA-4B9A-9589-922051369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2.1Is it sufficient to say Million national currency or should it be differentiated between countr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E0B9-BC9F-4617-A749-67D637C94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2.1Is it sufficient to say Million national currency or should it be differentiated between countr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BD9F-0973-4FFE-8AB5-18F550699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4D1C-DDD7-43F0-BC34-1402FBEA0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9A96-ED82-43F7-B3D8-088E7FC1B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5D41-1FC5-4257-B591-36EACFBCA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18BD-DAC5-4EC6-978F-B78EB3E1A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ECE0-B257-4DD7-AD73-93BE37D80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6FEF-9180-4616-AE5C-7B180981E4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1855-6539-4C4C-9A39-54A4BB83FF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49D4-7855-4136-BCDA-985E9C5259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2E24-1371-4A46-8860-3BE4451271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6C5CC-67E9-4AAA-9CF3-19213E3B8D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2144B-79C3-4E7C-838A-33DD98D9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8DFFC2-A60E-43D9-8FEA-8E49FEC2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214DC6-0FD8-4409-9539-E87D160C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4C853-8012-4463-8955-3E24CEBD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DEF969-5263-4399-9FBF-14B7317C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526211-4500-4E95-8D1B-87C11EE8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40C4CD-8A0A-40A1-8FA0-38FE19EA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0A3B19-D9A9-4DDC-BCBC-7020062E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FBDC21-1830-43EC-AFFE-E12F43C9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346AD3-92EA-4BEF-A9C6-4077857FAC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42DC74-DB70-4E5A-B646-7E3ACCA8D0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D907D-41D6-40C6-B3A7-9362298A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001BDB-258D-4B5A-8752-2F827D81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E5672E-8D6A-459C-AE98-CD574254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D46B75-77D5-41A2-B56A-6F238708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91D9FC-9C9C-4DD0-880C-F97C8FBE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026E56-3CDE-422C-AEC8-4CF564AC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F50300-0BDD-4129-8E5A-9FDBB65B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1652C9-E5E1-4026-AC51-36B0EF9B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13E0B6-F728-4176-8B97-85B39748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8947AD-27AA-4831-8ECD-8D8B43A1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99F586-AA03-4C50-9B40-B7FFB3F1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CF8E0-0AA4-4434-9249-48817D056C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334C5E-9D5F-407D-888B-ED84CFE8A6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30FE2-4690-464A-AB50-0EFF81E92C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AFD52-5543-4B0A-9565-94AD7491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3F227-7979-4887-BB8B-1FD35933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6BAB8-33FE-4D8A-818F-0136DE2E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15E88-618D-4B1B-874D-76FE4CB2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5AE57-010B-446C-BAA8-D5B4D8CD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62D65-AD43-4255-A33B-78F5E923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B20C0-0F35-4E1D-86BD-ED6F3987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1C60A-D7B0-4ED6-8A41-F9C19585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E66DD-3B33-468B-9EB1-6FBE25B3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2BAF7-C95D-4F2B-848E-D703A8A6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14C9D-22E6-4492-88C6-B2B82BAAFA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35AEDA-3164-4DC3-8B76-D26E85C979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F5C1DA-BFB5-46B7-8AD9-41717538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DE7E2A-E9EA-4527-AD55-9F6BDB9C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0F9253-976F-42D8-9719-08D1DACD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43D88A-8196-4281-B097-DA7F3273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FF3B18-3D37-4BC1-8250-9BAE70DB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33A9BB-6F69-42FE-AE7A-C3B9CB9E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3F697D-A2D2-4EBD-99E1-B40BED3E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40FC80-0C45-41A6-8142-0A4AE71B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C4A32C-8896-432D-9A4A-695F3E41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8E5096-2B9F-4600-9BC1-487A610A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A4420A-032C-4099-963B-6B28D6D164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8B47F6-F54A-4242-A44C-FCCA6BF5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EC1490-6B28-453C-BF92-50F5875A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1F48FA-E3CB-49A5-971D-365A558A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283E1A-5277-4D22-8FF9-D3D23869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D7F489-FA47-4B82-9AAD-FC51F424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E4ADC5-11FD-4610-9205-0C7EF7A3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C28E7B-6D86-4C71-B5FA-DCA5C53C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37FA2C-925A-4ADE-9BDC-A4C39000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1B7FC0-047D-47FB-9AF1-8D819153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DEE533-C29E-4EE4-A3DA-616986DA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882C87-531B-4747-A34F-9315D1C1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7B9545-415D-4B20-874C-ADC53FBB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9B412-5C6A-4465-A2FF-2A48E706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845DC-2131-433D-9AFC-0B5E040230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94F8C-504E-449F-9893-BA10CD29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B4288-05AD-4026-9445-E5C8D605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48E16-D858-4159-81C9-3415563F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0CAFA-EA88-413A-8595-B71EC08B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36447-6CCA-43E3-BA83-DF4BE928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FC4DA-9095-4FF6-BBAB-D8F9BBF9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F7897-6057-462A-BAD9-2B8C6004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60604-4C41-43E6-B9A5-0C9E45A6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B584A-31D1-4A3C-BB3F-57B84893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A85E4-50E7-4D1E-858C-68DD60FA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974F6-F1EE-4E81-AABE-A9B88760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78786-8A4D-4B16-BBFB-4C07031269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FC213B-C307-4AD8-8140-3504282663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64EFAF-FDD5-40CF-A88B-B092EAB6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D4E929-8147-41A6-A1E3-7B248A6A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50807-3C91-4F6E-A8EE-34C03833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630022-DC01-44E6-87AF-58FF12B2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C77D89-41B4-4358-B269-FF9DC125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33F931-6358-4958-8155-843E6C46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578156-33B7-46D9-BD8F-17E15CA9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A377B3-4D15-409D-A9DF-AE998C0F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ADEDC9-4C0F-4DCD-9B3C-A3FFBED6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7DBC49-A859-4956-A77C-A32C6E06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D5C272-7AF9-4380-9AB3-959D830F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62293A-1748-4030-8DA4-66EBA602FF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A2D39-F261-492B-87FD-F8EDB48C13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712CC-6E4C-486B-B241-B282577A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001E2-B608-4F28-8E4B-7A4D23EB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8D477-8155-47B8-A3FE-67961A72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587EA-1F7A-441E-A0D9-EC1DE740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F092A-6D08-4FFE-B43E-F5BD2BE4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7CFFB-530C-4C3C-8FFF-073D2312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9455A-9A34-4415-BFF9-35B0A752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11B13-CAE4-4444-B875-13CB28F0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55B22-5C0B-402D-99C2-289268BA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C8DDB-E167-4F76-A1B2-D2A93DE6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EF842-2511-4CD2-9D94-0E32F902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8A92F-2BE0-44EA-8540-F93576F1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B1FEC-EF54-4477-B47F-552C39A096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21A065-F423-478B-A6FB-581EF0E585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C40461-32F1-4EC5-99A3-9675D65A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D74B57-B16D-446D-970C-FA05ACC2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9F3B30-91B5-4D3A-82FC-107CEFB7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2A6AB3-8FFB-46CB-AAA1-72D1C5B9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2196A1-7324-48E7-9503-8A8B8843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FC033D-587B-4BF8-859F-9F40E27D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A555FE-C467-47AD-92F5-E0F80A5E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26C924-253E-4F4C-9D16-89C20F5A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ED986-39A0-4DB1-8935-53618A41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40BB7F-C901-48EF-BE49-65C3CB49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EDC314-A9FA-4505-B661-0ACA1635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E44BF3-A1DC-4EAB-BA5A-A36C0BCE7E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E044E7-0D89-45DB-8DF3-D639C85135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AB6BDF-9699-4980-8657-F59706E5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D9F2DE-3778-4F1F-A0B4-BF33E3C0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221E52-3F9E-41D7-AA65-CF5655B8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E3627C-9005-4F93-B644-B69EA40A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0E442C-E713-4C87-AA84-B02BDFCC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B269E8-9722-4732-AA89-DECA2CD6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6529E-F835-41D3-8B1F-BA9F89A8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A11BA3-8DC2-4ABE-9B5E-7DC713C4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D398E2-C69F-42FB-A517-4679CCD0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500685-31FE-48CC-9B96-DCF4DE33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2D1933-8DE2-4718-A000-12D8EA67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72419E-6D09-48FA-BA2C-9E7BAF4E9A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E5EDF-9125-401A-8702-81131F503E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F42B2-C313-49AE-930C-647E0F4E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1E1B8-9F3C-4840-85C6-75A10B82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45926-E0DD-4E14-B5C2-F4469677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46AB5-29FF-43C8-ADF0-22E22EBB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1D703-9F02-4CF4-8F9C-589BABA9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F6046-08EF-45E4-BCAE-B78A5F20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49B41-E423-441E-9642-0D22CFA2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D99FF-DC94-4865-9F0D-E4308E80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41450-AE08-44E4-A897-AE2A6C97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09D9F-660B-49E6-9A37-1C7BCF7C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19C0C-2B43-46C8-BF4D-0E506A69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2F4CC-B154-4CD9-8F19-BF271B9D16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1E97FA-7003-4247-9679-81B9A692A1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2E3188-F74F-4146-894B-F5890C64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BA0106-E67A-46C4-A2DD-70FA7E3A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1 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2C11-2E9C-42E5-A542-9EDDDB7CAD7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7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18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19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62C0-552B-4400-B3C6-D8EA47E5FB5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0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0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1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7AB7-58B4-4451-9D63-783731082FF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3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2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23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C37E-A9A3-4A67-91E3-DBD215F3CE3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6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4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26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1EAC-60D0-4488-9752-5964B998220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035"/>
          <p:cNvSpPr/>
          <p:nvPr/>
        </p:nvSpPr>
        <p:spPr>
          <a:xfrm>
            <a:off x="-104472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1040"/>
          <p:cNvGraphicFramePr/>
          <p:nvPr/>
        </p:nvGraphicFramePr>
        <p:xfrm>
          <a:off x="3276720" y="907920"/>
          <a:ext cx="2190600" cy="221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104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907920"/>
                    <a:ext cx="219060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 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5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AF53-F826-456C-AEE5-931536DD2AE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7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9AE9-5555-4A9D-B862-1D916181CBC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8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9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C181-48FA-4D42-B7D2-E51742D2637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1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B5CB-4675-431B-965A-84B441C3A79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2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3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0CCF-B127-4504-95B7-A94E118BB0C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4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15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E138-1C0C-43E6-93EF-4A1DB04218C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4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6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17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335B-57FC-42ED-9B12-6BD4A0B35D0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45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45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3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4360" y="3642840"/>
            <a:ext cx="7772400" cy="264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Units in OECD.Stat</a:t>
            </a:r>
            <a:br>
              <a:rPr sz="18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 Sundgren &amp; Lars Thygesen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5"/>
          <p:cNvSpPr/>
          <p:nvPr/>
        </p:nvSpPr>
        <p:spPr>
          <a:xfrm>
            <a:off x="5003640" y="1700280"/>
            <a:ext cx="184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5"/>
          <p:cNvSpPr/>
          <p:nvPr/>
        </p:nvSpPr>
        <p:spPr>
          <a:xfrm>
            <a:off x="4910400" y="1700280"/>
            <a:ext cx="36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US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5"/>
          <p:cNvSpPr/>
          <p:nvPr/>
        </p:nvSpPr>
        <p:spPr>
          <a:xfrm>
            <a:off x="4910400" y="1700280"/>
            <a:ext cx="36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US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6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7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8" descr=""/>
          <p:cNvPicPr/>
          <p:nvPr/>
        </p:nvPicPr>
        <p:blipFill>
          <a:blip r:embed="rId4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9"/>
          <p:cNvSpPr/>
          <p:nvPr/>
        </p:nvSpPr>
        <p:spPr>
          <a:xfrm>
            <a:off x="4356000" y="1727280"/>
            <a:ext cx="184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5"/>
          <p:cNvSpPr/>
          <p:nvPr/>
        </p:nvSpPr>
        <p:spPr>
          <a:xfrm>
            <a:off x="4910400" y="1700280"/>
            <a:ext cx="36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US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6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7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8" descr=""/>
          <p:cNvPicPr/>
          <p:nvPr/>
        </p:nvPicPr>
        <p:blipFill>
          <a:blip r:embed="rId4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9"/>
          <p:cNvSpPr/>
          <p:nvPr/>
        </p:nvSpPr>
        <p:spPr>
          <a:xfrm>
            <a:off x="4173120" y="1727280"/>
            <a:ext cx="514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Unit of measuremen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pends on the dimension Count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5"/>
          <p:cNvSpPr/>
          <p:nvPr/>
        </p:nvSpPr>
        <p:spPr>
          <a:xfrm>
            <a:off x="4910400" y="1700280"/>
            <a:ext cx="36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US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6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7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8" descr=""/>
          <p:cNvPicPr/>
          <p:nvPr/>
        </p:nvPicPr>
        <p:blipFill>
          <a:blip r:embed="rId4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9"/>
          <p:cNvSpPr/>
          <p:nvPr/>
        </p:nvSpPr>
        <p:spPr>
          <a:xfrm>
            <a:off x="4192200" y="1700280"/>
            <a:ext cx="48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national curr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10" descr="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1"/>
          <p:cNvSpPr/>
          <p:nvPr/>
        </p:nvSpPr>
        <p:spPr>
          <a:xfrm>
            <a:off x="3203640" y="1700280"/>
            <a:ext cx="183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5"/>
          <p:cNvSpPr/>
          <p:nvPr/>
        </p:nvSpPr>
        <p:spPr>
          <a:xfrm>
            <a:off x="4910400" y="1700280"/>
            <a:ext cx="36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US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6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"/>
          <p:cNvPicPr/>
          <p:nvPr/>
        </p:nvPicPr>
        <p:blipFill>
          <a:blip r:embed="rId4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9"/>
          <p:cNvSpPr/>
          <p:nvPr/>
        </p:nvSpPr>
        <p:spPr>
          <a:xfrm>
            <a:off x="4192200" y="1700280"/>
            <a:ext cx="48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national curr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10" descr="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11"/>
          <p:cNvSpPr/>
          <p:nvPr/>
        </p:nvSpPr>
        <p:spPr>
          <a:xfrm>
            <a:off x="3024000" y="1700280"/>
            <a:ext cx="52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Unit of measuremen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pends on the dimension Variab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5"/>
          <p:cNvSpPr/>
          <p:nvPr/>
        </p:nvSpPr>
        <p:spPr>
          <a:xfrm>
            <a:off x="4910400" y="1700280"/>
            <a:ext cx="36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US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6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8" descr=""/>
          <p:cNvPicPr/>
          <p:nvPr/>
        </p:nvPicPr>
        <p:blipFill>
          <a:blip r:embed="rId4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9"/>
          <p:cNvSpPr/>
          <p:nvPr/>
        </p:nvSpPr>
        <p:spPr>
          <a:xfrm>
            <a:off x="4192200" y="1700280"/>
            <a:ext cx="48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national curr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10" descr="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11"/>
          <p:cNvSpPr/>
          <p:nvPr/>
        </p:nvSpPr>
        <p:spPr>
          <a:xfrm>
            <a:off x="3024000" y="1700280"/>
            <a:ext cx="52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Unit of measuremen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pends on the dimension Variab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2" descr=""/>
          <p:cNvPicPr/>
          <p:nvPr/>
        </p:nvPicPr>
        <p:blipFill>
          <a:blip r:embed="rId6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13"/>
          <p:cNvSpPr/>
          <p:nvPr/>
        </p:nvSpPr>
        <p:spPr>
          <a:xfrm>
            <a:off x="4716360" y="16286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5"/>
          <p:cNvSpPr/>
          <p:nvPr/>
        </p:nvSpPr>
        <p:spPr>
          <a:xfrm>
            <a:off x="4910400" y="1700280"/>
            <a:ext cx="36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US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6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7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8" descr=""/>
          <p:cNvPicPr/>
          <p:nvPr/>
        </p:nvPicPr>
        <p:blipFill>
          <a:blip r:embed="rId4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9"/>
          <p:cNvSpPr/>
          <p:nvPr/>
        </p:nvSpPr>
        <p:spPr>
          <a:xfrm>
            <a:off x="4192200" y="1700280"/>
            <a:ext cx="48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national curr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0" descr="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11"/>
          <p:cNvSpPr/>
          <p:nvPr/>
        </p:nvSpPr>
        <p:spPr>
          <a:xfrm>
            <a:off x="3024000" y="1700280"/>
            <a:ext cx="52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Unit of measuremen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pends on the dimension Variab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12" descr=""/>
          <p:cNvPicPr/>
          <p:nvPr/>
        </p:nvPicPr>
        <p:blipFill>
          <a:blip r:embed="rId6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13"/>
          <p:cNvSpPr/>
          <p:nvPr/>
        </p:nvSpPr>
        <p:spPr>
          <a:xfrm>
            <a:off x="4567320" y="1628640"/>
            <a:ext cx="398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Units of measurement: Click i for member of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mension Subject to see un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5"/>
          <p:cNvSpPr/>
          <p:nvPr/>
        </p:nvSpPr>
        <p:spPr>
          <a:xfrm>
            <a:off x="4910400" y="1700280"/>
            <a:ext cx="36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US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6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7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8" descr=""/>
          <p:cNvPicPr/>
          <p:nvPr/>
        </p:nvPicPr>
        <p:blipFill>
          <a:blip r:embed="rId4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9"/>
          <p:cNvSpPr/>
          <p:nvPr/>
        </p:nvSpPr>
        <p:spPr>
          <a:xfrm>
            <a:off x="4192200" y="1700280"/>
            <a:ext cx="48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national curr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" descr="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11"/>
          <p:cNvSpPr/>
          <p:nvPr/>
        </p:nvSpPr>
        <p:spPr>
          <a:xfrm>
            <a:off x="3024000" y="1700280"/>
            <a:ext cx="52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Unit of measuremen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pends on the dimension Variab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12" descr=""/>
          <p:cNvPicPr/>
          <p:nvPr/>
        </p:nvPicPr>
        <p:blipFill>
          <a:blip r:embed="rId6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13"/>
          <p:cNvSpPr/>
          <p:nvPr/>
        </p:nvSpPr>
        <p:spPr>
          <a:xfrm>
            <a:off x="4567320" y="1628640"/>
            <a:ext cx="398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Units of measurement: Click i for member of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mension Subject to see un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14" descr=""/>
          <p:cNvPicPr/>
          <p:nvPr/>
        </p:nvPicPr>
        <p:blipFill>
          <a:blip r:embed="rId7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5"/>
          <p:cNvSpPr/>
          <p:nvPr/>
        </p:nvSpPr>
        <p:spPr>
          <a:xfrm>
            <a:off x="4859280" y="18446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5"/>
          <p:cNvSpPr/>
          <p:nvPr/>
        </p:nvSpPr>
        <p:spPr>
          <a:xfrm>
            <a:off x="4910400" y="1700280"/>
            <a:ext cx="36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US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6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7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8" descr=""/>
          <p:cNvPicPr/>
          <p:nvPr/>
        </p:nvPicPr>
        <p:blipFill>
          <a:blip r:embed="rId4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0" name="Text Box 9"/>
          <p:cNvSpPr/>
          <p:nvPr/>
        </p:nvSpPr>
        <p:spPr>
          <a:xfrm>
            <a:off x="4192200" y="1700280"/>
            <a:ext cx="48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national curr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10" descr="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2" name="Text Box 11"/>
          <p:cNvSpPr/>
          <p:nvPr/>
        </p:nvSpPr>
        <p:spPr>
          <a:xfrm>
            <a:off x="3024000" y="1700280"/>
            <a:ext cx="52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Unit of measuremen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pends on the dimension Variab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12" descr=""/>
          <p:cNvPicPr/>
          <p:nvPr/>
        </p:nvPicPr>
        <p:blipFill>
          <a:blip r:embed="rId6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4" name="Text Box 13"/>
          <p:cNvSpPr/>
          <p:nvPr/>
        </p:nvSpPr>
        <p:spPr>
          <a:xfrm>
            <a:off x="4567320" y="1628640"/>
            <a:ext cx="398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Units of measurement: Click i for member of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mension Subject to see un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14" descr=""/>
          <p:cNvPicPr/>
          <p:nvPr/>
        </p:nvPicPr>
        <p:blipFill>
          <a:blip r:embed="rId7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15"/>
          <p:cNvSpPr/>
          <p:nvPr/>
        </p:nvSpPr>
        <p:spPr>
          <a:xfrm>
            <a:off x="4859280" y="1428840"/>
            <a:ext cx="438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Units of measurement: Please see explanation i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etadata 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tandardising decentralised data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ften based on paper pub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ueeze in as much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x apples and 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eneralised format: The hypercu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ey certai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ean 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(or more) parameter(s) (meas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D276-067A-40FD-A3D2-1A2095C0598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eep Unit clean – as separate from mea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gree on unit codes (adapt to SDM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ataset owners think that even pragmatic solutions are too rad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D942-1804-47A8-9BF9-3A9A3F5F05D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entative time 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CEEF-65A7-481B-8417-806C9180696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632720" cy="47116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2" descr=""/>
          <p:cNvPicPr/>
          <p:nvPr/>
        </p:nvPicPr>
        <p:blipFill>
          <a:blip r:embed="rId2"/>
          <a:stretch/>
        </p:blipFill>
        <p:spPr>
          <a:xfrm>
            <a:off x="714240" y="2071800"/>
            <a:ext cx="813780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re these problems recognizab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re similar solutions appli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17DB-58B6-42DB-9E15-540C0E8AB39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re is nothing more practical than a good theory”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. Hilb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8CCC-7F0D-41FB-B90E-92913EA5F84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900000" y="1214280"/>
            <a:ext cx="763272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Residents in OECD countries 1990-2005 by Country, Time, Sex, and AgeGroup: Count, SumOfIncome, and AverageOfIn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mension 1: Country (Member countries of the OEC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imension 2: Time (1990-200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imension 3: S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imension 4: Age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mension 5: Parameters (Count, Sum(Income), Average(Income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6A8A-E065-43E7-809E-E7299D1F661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Organisation of OECD.St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number of relatively independent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datasets,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ulti-dimensional tab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mon dimensions” (e.g. country, time, frequency, age) provide links between the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patible with Statistical Data and Metadata Exchange standards (SDM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erarchical thematic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9E94-F0AD-403E-899B-5A9A82169DE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56840" y="456840"/>
            <a:ext cx="717732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rregular statistical hypercub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everal classification variables concatenated in one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Different parameters for different dimension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r wor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F883-F60D-4E10-8D39-A2B2FCB9AA8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s a result unit can be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mon to 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 a dimensio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ffer for different members of one dimension in a datase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ffers for different combinations of members of more than one dimension in a datase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t mentioned at 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FAC5-0C74-456D-8D69-4C503B71B49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ossible solu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The radical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: Restructure 500 datasets to become reg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The pragmatic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: Keep datasets and repa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3ABE-F5CD-44EC-A3CB-1CFC5AADFAA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posal for a sol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troduce common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Unit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ttached to any observation in any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Unit multiplier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Unit position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d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ataset with only one un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ataset with unit in a separate dimen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ataset where unit depends on only one dimens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ataset where unit differs for different combinations of members of more than one dimen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p unit texts to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8425-7D51-4570-96CF-07651DF2311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ranslation t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D87A-3272-4AC1-90C4-2F0DAE5DBCF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632720" cy="47116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"/>
          <p:cNvPicPr/>
          <p:nvPr/>
        </p:nvPicPr>
        <p:blipFill>
          <a:blip r:embed="rId2"/>
          <a:stretch/>
        </p:blipFill>
        <p:spPr>
          <a:xfrm>
            <a:off x="662040" y="1285920"/>
            <a:ext cx="11677680" cy="6572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9:48:40Z</dcterms:created>
  <dc:creator>Peter Lübkert</dc:creator>
  <dc:description/>
  <dc:language>en-US</dc:language>
  <cp:lastModifiedBy>thygesen_l</cp:lastModifiedBy>
  <cp:lastPrinted>2001-10-12T08:11:06Z</cp:lastPrinted>
  <dcterms:modified xsi:type="dcterms:W3CDTF">2008-04-09T06:16:19Z</dcterms:modified>
  <cp:revision>282</cp:revision>
  <dc:subject/>
  <dc:title>2000 SDS Objectives</dc:title>
</cp:coreProperties>
</file>