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0756-574A-42CA-8071-C9DF961B9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CDD1-4EE6-451D-9ACF-587A8C544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6573-B09E-440A-BF9F-4199BDC8B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F721-1F53-4499-8DA5-A67D9C965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FB41-E7BA-4E66-BDB3-789A57769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C512-7927-450B-8626-CAC245996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4927-EB8D-41A5-BAC9-D04CBAAE7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3DBD-FA5F-4762-BF66-87FF7BF89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F728-207F-46C8-93F4-04F86DD6E8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7076-D707-4D8C-8C84-B060AB21C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4966-C3DC-40E0-BD08-9803A67BA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B2F5-39F3-490B-B504-CD940EB29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04C4-8198-4571-9B12-2A613F9E8A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8CFE-8FB7-4DF7-8C9C-CCD33539BD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6DB4-5CC3-49B2-9585-37F111C71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0588-CB3D-48B9-BBB4-725E6BEDA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D109-2C4D-467C-8864-7C5A149A0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4BE2-71DB-448F-A273-F82FC1772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0C43-8B4D-4C36-9027-DC43D1386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A624-41B7-4131-98BD-06CC53DE8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630F-C767-47C9-BB2C-ABCC3352C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9BC7-5AC2-4EBA-B5B5-E41AC73FF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C73E-26AE-4C22-805A-7F3DEDF11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EC42-32D5-4055-91B4-4E5AC56DF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62864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330-95EC-41E8-8FB0-EA182C44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24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122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3581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F7D-099E-4131-95C5-B9E0D928E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06072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008000" cy="7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920" y="1700280"/>
            <a:ext cx="122400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628280"/>
            <a:ext cx="570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33cc"/>
                </a:solidFill>
                <a:latin typeface="Arial"/>
              </a:rPr>
              <a:t>Canada</a:t>
            </a: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’s 2006 Census Online Experience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945040" cy="16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SIS 2008</a:t>
            </a:r>
            <a:br>
              <a:rPr sz="2000"/>
            </a:br>
            <a:r>
              <a:rPr b="0" lang="en-CA" sz="2000" spc="-1" strike="noStrike">
                <a:solidFill>
                  <a:srgbClr val="0033cc"/>
                </a:solidFill>
                <a:latin typeface="Arial"/>
              </a:rPr>
              <a:t>Luxembourg,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April 7-9, 2008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Karen Doherty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irector General Informatics Branch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tatistics Canada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Drivers for Chang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local enumerators raised issues around priv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Revenue Agency could no longer perform the data capture (Canadians largely submit their tax returns electron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er and harder to hire 22,000 enum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overnment policy is to offer all services 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0F7A-696C-4C47-B89E-D340771D6D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New Methodology 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radical change since 19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uestionnaires delivered by Canada Post to about 70% of 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umerators delivered the remaining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turns made by mail or via online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98% self enumerators, 2% enumerated by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 returns processed in one highly secure data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velopment of the online option and processing applications contract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3A75-E4D8-4369-AFE4-CDB3BB50AB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Preconditions for an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Internet Response Option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ell designed collection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entral repository of all house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ood tracking and communications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 level of Internet connec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blic trust in onlin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ture security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ience with online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3288-9066-481B-9BA4-E3D1EA21F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Web Application Feature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friendly web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in client application (no large down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lligent skip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ft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ve and resum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oth officia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ibility options for the visually im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ort for a large range of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BB76-BF56-4EC7-BCE9-AE715DD2AB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Security Feature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ally designed PKI encryption solution delivered by the Canadian Government’s Secure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a standard industry provided Java applet on the workstatio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earch indicated that about 6% of PCs would not have the Java applet pre-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gin only required that the user enter the 16-digit access code provided on their Censu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0F8B-504F-4A99-8F1D-8142E70C35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0E53-7F1F-40A7-813A-EC73B3ABC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44560" y="2057400"/>
            <a:ext cx="5654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00C5-2C20-403A-A572-6AC20B38ED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Online Questionnair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2640" y="2057400"/>
            <a:ext cx="5778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DDF2-BD05-4762-AF29-DF291DB650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88000" cy="46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76720" y="4653000"/>
            <a:ext cx="3598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2% of those who responded prior to non-response follow-up responded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8.5% in all responded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CF44-FBD3-4F5E-8321-9B6E5E44D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Online Response Pattern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ay 06 - Planned VS Actual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985080" cy="471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73520" y="53290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33cc"/>
                </a:solidFill>
                <a:latin typeface="Arial"/>
              </a:rPr>
              <a:t>Census Day</a:t>
            </a:r>
            <a:br>
              <a:rPr sz="1400"/>
            </a:br>
            <a:r>
              <a:rPr b="0" lang="en-CA" sz="1400" spc="-1" strike="noStrike">
                <a:solidFill>
                  <a:srgbClr val="0033cc"/>
                </a:solidFill>
                <a:latin typeface="Arial"/>
              </a:rPr>
              <a:t>May 1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0D67-367C-46AF-81BB-865211D6CF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Table of Conten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vironmental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Censu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conditions for Online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ensus Online Application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18FB-455D-4E67-8A77-D0B98EAF0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Census Day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Logins Per Second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452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27280" y="227664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cc"/>
                </a:solidFill>
                <a:latin typeface="Arial"/>
              </a:rPr>
              <a:t>Graceful</a:t>
            </a:r>
            <a:r>
              <a:rPr b="0" lang="en-CA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33cc"/>
                </a:solidFill>
                <a:latin typeface="Arial"/>
              </a:rPr>
              <a:t>deferral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3445560" y="2904120"/>
            <a:ext cx="863280" cy="328680"/>
          </a:xfrm>
          <a:prstGeom prst="leftArrow">
            <a:avLst>
              <a:gd name="adj1" fmla="val 50000"/>
              <a:gd name="adj2" fmla="val 65663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BA80-39ED-4E02-9CB3-08810AE66B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Results Breakdow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rate of use by larger househo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5 or more occupants: 2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2-4 occupants: 19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1 occupant: 13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difference in response rates between the short and long form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ver 20% response rate in Alberta, BC, Ontario and the Yu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E96A-C14A-4A66-AB36-BCEFE680DE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Benefi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tter quality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dit failure rates much lower for online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em non-response r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hort form – Paper forms have 102x high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ong form – Paper forms have 10x high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costs for paper-handling, mail-back postage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lieves the pressure to find 20,000 increasingly scarce enum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BAF5-73DB-458F-8468-32EA645C56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Observation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to test the wide range of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easy to use online questionn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 pointed to the need for a special questionnaire layout for the Help Line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strong partnership with network provider (in this case Secure Channel t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a back up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40E9-DC86-40AF-B4F4-93D49AED1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Lessons Learned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me testing was harder and took longer than pl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industry expertise in modelling volume testing using P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ed to monitor and limit access in Census Day – respondents were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ill work to do to handle the Java ap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B08D-C92A-4FB1-9AB9-F987D6972F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Onwards and Upward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rget for 2006 was 15-20% via Internet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rget for 2011 is 40% via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mail out strategy based on results of test groups during 2006 Census and subsequent follow-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jority of households will receive a letter asking them to respond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y will be able to order a paper questionnaire via the Help Line if they can’t or choose not to respond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FCB7-032F-4F30-97A8-691A26055E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anada’s Geography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416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0143-AA6D-4200-BC24-30B2CFDDB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anada Overview 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10M km² and 5½ time zones (8 hours non-stop by plane from St John’s Nfld to Victoria 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wo official languages, many other languages due to multi-cultural nature of th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ery low unemployment rate especially in the booming west (Alberta and 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rge tracts of very sparsely populated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A625-65CB-4745-9520-E46769E133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Population by Provinc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8894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242100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cc"/>
                </a:solidFill>
                <a:latin typeface="Arial"/>
              </a:rPr>
              <a:t>Population average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ada=3.5/km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=31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K=246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adian urban centres=245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5F8C-6604-493B-BEBA-105586D64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Population Distributio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481800" cy="43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C5ED-F06E-4422-B58F-478180D79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Population Distributio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21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0511-1BB3-4A55-857B-BD9403D2F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ensus Distric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24720" cy="47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12E8-5CD6-4ABA-BC1D-DB1B101E29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The Canadian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Census Program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requirement every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ensus of Population and Census of Agriculture run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wo main form types for Census of P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ort form (8 questions) – 80% of house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ng form (53 questions) – 20% of house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ng confidentiality is par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1DB5-9C03-433E-A8A4-C9EFE92CEA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1:53:38Z</dcterms:created>
  <dc:creator>Karen Doherty</dc:creator>
  <dc:description/>
  <dc:language>en-US</dc:language>
  <cp:lastModifiedBy>Karen Doherty</cp:lastModifiedBy>
  <cp:lastPrinted>2003-02-03T13:21:46Z</cp:lastPrinted>
  <dcterms:modified xsi:type="dcterms:W3CDTF">2008-03-31T19:30:42Z</dcterms:modified>
  <cp:revision>161</cp:revision>
  <dc:subject/>
  <dc:title>MSIS 2008 - Canadian Census Online Op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publicht\strateg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1825198958</vt:r8>
  </property>
  <property fmtid="{D5CDD505-2E9C-101B-9397-08002B2CF9AE}" pid="23" name="_AuthorEmail">
    <vt:lpwstr>Karen.Doherty@a.statcan.ca</vt:lpwstr>
  </property>
  <property fmtid="{D5CDD505-2E9C-101B-9397-08002B2CF9AE}" pid="24" name="_AuthorEmailDisplayName">
    <vt:lpwstr>Doherty, Karen - IT HQ/BC TI</vt:lpwstr>
  </property>
  <property fmtid="{D5CDD505-2E9C-101B-9397-08002B2CF9AE}" pid="25" name="_EmailSubject">
    <vt:lpwstr>Presentations from Canada</vt:lpwstr>
  </property>
</Properties>
</file>