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857F-6E4C-4F48-9EB3-46C989269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07BA-E986-4374-9678-193C56E44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C24A-658E-422B-BB6D-390FFFAE8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1D2D-7556-4B17-84D7-0F61C3902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2220-EF14-4982-9CAC-EBF9A4F28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E44F-0A90-42BD-891E-732D215F9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C854-E589-4DA2-A8A0-26334339E2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4FD3-3981-40BD-8E18-BECCF2CEF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0F5A-CEEE-4DAA-8D43-546E70DBDA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DD3F-AE27-4909-AFCE-53152C9DC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A191-85B8-4B98-A57C-B448E7A89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C390-5292-43FA-A33D-4E58FAB4C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69EB-8875-4434-AD84-71B22669D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0030-098D-48A8-9C9D-24640FE32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95FD-BD24-423A-AAA6-B455A2AC3C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DBCC-CEAB-475A-BB8F-BA0BE6FBE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1D2D-12D1-47B6-B474-F64D06F11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0549-523C-4332-A7CC-A716509AA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CD29-F606-46C0-885E-CEA062956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EEFB-8953-4647-A053-3886D304B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2CF3-9DB7-4519-B833-897E57BF9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61E6-9CEF-489A-8F45-BEC225B1B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7E8-AD3B-4609-B4E7-6F93F93C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AE05-84F1-48C2-92CB-2B7EAB280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62864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3EA-F649-4DD3-877C-36922657B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24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122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36D-BA46-4493-A3B2-6796F698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6072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008000" cy="7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920" y="170028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62828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33cc"/>
                </a:solidFill>
                <a:latin typeface="Arial"/>
              </a:rPr>
              <a:t>Canada</a:t>
            </a: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’s 2006 Census Online Experience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945040" cy="16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SIS 2008</a:t>
            </a:r>
            <a:br>
              <a:rPr sz="2000"/>
            </a:b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Luxembourg,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pril 7-9, 2008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Karen Dohert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irector General Informatics Branch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Drivers for Chang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local enumerators raised issues around priv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Revenue Agency could no longer perform the data capture (Canadians largely submit their tax returns electron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er and harder to hire 22,000 enum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overnment policy is to offer all services 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3F62-C0A7-43BA-AF42-40EB3305FE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New Methodology 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radical change since 19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estionnaires delivered by Canada Post to about 70% of 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umerators delivered the remaining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turns made by mail or via onlin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98% self enumerators, 2% enumerated by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 returns processed in one highly secure data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elopment of the online option and processing applications contract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735F-D30C-4163-A32A-519F5E1FE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Preconditions for a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ternet Response Option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ell designed collection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entral repository of all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ood tracking and communications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 level of Internet connec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blic trust in onlin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ture security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ience with online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8853-472B-419A-9D96-D492BC9CC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Web Application Feature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friendly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n client application (no large down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lligent skip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ft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ve and resum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officia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ibility options for the visually im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ort for a large range of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9809-BC15-4409-BD9D-17F7308B1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Security Feature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ally designed PKI encryption solution delivered by the Canadian Government’s Secure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a standard industry provided Java applet on the workstatio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earch indicated that about 6% of PCs would not have the Java applet pre-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gin only required that the user enter the 16-digit access code provided on their Censu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185-2BC6-46BF-8618-CFC9277BC5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4C5A-BE45-495C-9C8B-4C7BB12D0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44560" y="2057400"/>
            <a:ext cx="5654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4DA9-85D9-438B-90C5-6C4A651748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nline Questionnair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2640" y="2057400"/>
            <a:ext cx="5778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3681-07DC-4B7D-A6ED-A3757164A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88000" cy="46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76720" y="4653000"/>
            <a:ext cx="3598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2% of those who responded prior to non-response follow-up responded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8.5% in all responded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66BD-237D-4B49-94C6-C052ADFB65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Online Response Pattern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ay 06 - Planned VS Actual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985080" cy="471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73520" y="53290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cc"/>
                </a:solidFill>
                <a:latin typeface="Arial"/>
              </a:rPr>
              <a:t>Census Day</a:t>
            </a:r>
            <a:br>
              <a:rPr sz="1400"/>
            </a:br>
            <a:r>
              <a:rPr b="0" lang="en-CA" sz="1400" spc="-1" strike="noStrike">
                <a:solidFill>
                  <a:srgbClr val="0033cc"/>
                </a:solidFill>
                <a:latin typeface="Arial"/>
              </a:rPr>
              <a:t>May 1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4E03-2700-490A-9B2F-72084753B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vironmenta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Censu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conditions for Online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nsus Online Applicatio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FC5C-3B6E-44EA-A445-7A76DCE31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Census Day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Logins Per Second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452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27280" y="227664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cc"/>
                </a:solidFill>
                <a:latin typeface="Arial"/>
              </a:rPr>
              <a:t>Graceful</a:t>
            </a:r>
            <a:r>
              <a:rPr b="0" lang="en-CA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33cc"/>
                </a:solidFill>
                <a:latin typeface="Arial"/>
              </a:rPr>
              <a:t>deferral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3445560" y="2904120"/>
            <a:ext cx="863280" cy="328680"/>
          </a:xfrm>
          <a:prstGeom prst="leftArrow">
            <a:avLst>
              <a:gd name="adj1" fmla="val 50000"/>
              <a:gd name="adj2" fmla="val 65663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F426-C1C1-4EDC-97A7-0684951CD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Results Breakdow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rate of use by larger househo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5 or more occupants: 2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-4 occupants: 19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 occupant: 13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difference in response rates between the short and long form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ver 20% response rate in Alberta, BC, Ontario and the Yu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0031-0769-4DA9-BC08-167E58AAE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Benefi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tter quality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dit failure rates much lower for online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em non-response r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hort form – Paper forms have 102x high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ong form – Paper forms have 10x high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costs for paper-handling, mail-back postage an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lieves the pressure to find 20,000 increasingly scarce enum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4B22-4830-4261-B3EE-F8DCA605B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bservation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to test the wide range of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easy to use online question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 pointed to the need for a special questionnaire layout for the Help Line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strong partnership with network provider (in this case Secure Channel t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a back up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708B-0F7B-42EC-B96A-E6692FA664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Lessons Learned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me testing was harder and took longer than pl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industry expertise in modelling volume testing using P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ed to monitor and limit access in Census Day – respondents were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ill work to do to handle the Java ap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C3D0-A7A4-47AB-B5AE-7870565CF7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Onwards and Upward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rget for 2006 was 15-20% via Internet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rget for 2011 is 40% vi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mail out strategy based on results of test groups during 2006 Census and subsequent follow-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jority of households will receive a letter asking them to respond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y will be able to order a paper questionnaire via the Help Line if they can’t or choose not to respond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EBF7-5966-4046-A8C4-566EEA5DA1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anada’s Geography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416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02C0-6EBD-48C2-973F-1058A7F8A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anada Overview 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0M km² and 5½ time zones (8 hours non-stop by plane from St John’s Nfld to Victoria 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wo official languages, many other languages due to multi-cultural nature of th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ery low unemployment rate especially in the booming west (Alberta and 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rge tracts of very sparsely populated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F975-C9E8-4EBD-BB35-5A9B8052A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by Provinc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889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242100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cc"/>
                </a:solidFill>
                <a:latin typeface="Arial"/>
              </a:rPr>
              <a:t>Population average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ada=3.5/km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=31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K=246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adian urban centres=245/k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4C6C-EB08-4FAC-9B14-036CBCE9F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Distribut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1800" cy="43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7CAF-3FBA-4ED3-889A-952C57AF6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Population Distribut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1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AB7B-AAE1-47EA-9416-9A54621AB8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ensus Distric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24720" cy="47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E8EE-55CA-4641-8A75-3A75092BF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The Canadia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Census Program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requirement every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nsus of Population and Census of Agriculture run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wo main form types for Census of P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rt form (8 questions) – 80% of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ng form (53 questions) – 20% of house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ng confidentiality is par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3CBD-ADB6-4A12-8AE1-1CB3CA1CC5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1:53:38Z</dcterms:created>
  <dc:creator>Karen Doherty</dc:creator>
  <dc:description/>
  <dc:language>en-US</dc:language>
  <cp:lastModifiedBy>Karen Doherty</cp:lastModifiedBy>
  <cp:lastPrinted>2003-02-03T13:21:46Z</cp:lastPrinted>
  <dcterms:modified xsi:type="dcterms:W3CDTF">2008-03-31T19:30:42Z</dcterms:modified>
  <cp:revision>161</cp:revision>
  <dc:subject/>
  <dc:title>MSIS 2008 - Canadian Census Online O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publicht\strateg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1825198958</vt:r8>
  </property>
  <property fmtid="{D5CDD505-2E9C-101B-9397-08002B2CF9AE}" pid="23" name="_AuthorEmail">
    <vt:lpwstr>Karen.Doherty@a.statcan.ca</vt:lpwstr>
  </property>
  <property fmtid="{D5CDD505-2E9C-101B-9397-08002B2CF9AE}" pid="24" name="_AuthorEmailDisplayName">
    <vt:lpwstr>Doherty, Karen - IT HQ/BC TI</vt:lpwstr>
  </property>
  <property fmtid="{D5CDD505-2E9C-101B-9397-08002B2CF9AE}" pid="25" name="_EmailSubject">
    <vt:lpwstr>Presentations from Canada</vt:lpwstr>
  </property>
</Properties>
</file>