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82360" y="744120"/>
            <a:ext cx="4895640" cy="366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7040" y="4664160"/>
            <a:ext cx="4886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9C6A-73BA-45D5-BD50-F73EC6D15AC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2E7-DA09-4034-9FC8-AFD8B9809C7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1ACB-AFF0-4A7D-9E6E-C8F6368C157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F5A-9278-433C-A65D-89509796618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2B3C-5E7B-4173-BBC0-6BDB045B271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180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180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66720" y="4664160"/>
            <a:ext cx="5329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617-8FB6-4842-9046-A6FB95ED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520" y="40546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D61-A414-4116-A887-D46A6B6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70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C97-9036-4D46-B202-6C33249C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82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0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5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82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0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731-2420-4940-90BC-D85DDCC9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658-2BF4-4843-B3E4-8993CC9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A52-D064-4C36-8237-6D129FD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989-1330-45D0-B821-2A060A0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888-F189-444C-928F-B49BADF8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990360"/>
            <a:ext cx="716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A9B-5427-4E07-BE94-8798F8EC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465-97DE-473D-95B2-B8E159A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70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9FA-DF4B-49B3-A2B7-3939DF22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974520"/>
            <a:ext cx="71625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0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520" y="40546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252-C7C0-42A8-BCF8-86A1352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30AE15-FB73-494F-98E5-E72F5E005DC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sinuwbuurt.nl/" TargetMode="External"/><Relationship Id="rId2" Type="http://schemas.openxmlformats.org/officeDocument/2006/relationships/hyperlink" Target="http://www.cbsinuwbuurt.nl/" TargetMode="External"/><Relationship Id="rId3" Type="http://schemas.openxmlformats.org/officeDocument/2006/relationships/hyperlink" Target="http://www.cbsinuwbuurt.nl/" TargetMode="External"/><Relationship Id="rId4" Type="http://schemas.openxmlformats.org/officeDocument/2006/relationships/hyperlink" Target="http://www.cbs.nl/gearth" TargetMode="External"/><Relationship Id="rId5" Type="http://schemas.openxmlformats.org/officeDocument/2006/relationships/hyperlink" Target="http://www.cbs.nl/en-GB/menu/themas/dossiers/nederland-regionaal/cijfers/cartografische-toegang/gearth.htm" TargetMode="External"/><Relationship Id="rId6" Type="http://schemas.openxmlformats.org/officeDocument/2006/relationships/hyperlink" Target="http://www.cbs.nl/en-GB/menu/themas/dossiers/nederland-regionaal/cijfers/cartografische-toegang/gearth.htm" TargetMode="External"/><Relationship Id="rId7" Type="http://schemas.openxmlformats.org/officeDocument/2006/relationships/hyperlink" Target="http://www.cbs.nl/en-GB/menu/themas/dossiers/nederland-regionaal/cijfers/cartografische-toegang/gearth.htm" TargetMode="External"/><Relationship Id="rId8" Type="http://schemas.openxmlformats.org/officeDocument/2006/relationships/hyperlink" Target="http://www.cbs.nl/en-GB/menu/themas/dossiers/nederland-regionaal/cijfers/cartografische-toegang/gearth.htm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843200" y="364464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Olav ten Bosch and Edwin de Jong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UNECE - Meeting on the Management of Statistical Information Systems (MSI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Luxembourg, 7-9 April, 2008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9120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Visualisation of Neighbourhood Statistics using Google Earth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6360" y="9360"/>
            <a:ext cx="91803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857240" y="1762200"/>
            <a:ext cx="660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BS created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istical lay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or GEarth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ar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e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 (needs to be installe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arth has a well-defined data format (KML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ways to acces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BS data in next (Dutch) GEarth rele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gle Earth layer available on website CB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streaming mechanism of GEarth f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ata transport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the data of the viewing area is sent ov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bility to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statistical data with other geo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76520" y="9907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BS on Google Earth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857240" y="1484280"/>
            <a:ext cx="660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t maps for regional variabl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ens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io of men to wome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mated statistic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time facility to visualise statistical tren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neighbourhood bord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population, age, households etc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76520" y="54936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Work in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Population Density on Google Earth”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61596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Ratio of Men to Women on GEarth”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8572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33300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197000"/>
            <a:ext cx="67705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llow the trend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ddition to traditional maps we use modern web-based streaming mapping techniques for dissemination of regional statistic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al approach for different user groups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site CBS in your Neighbourhood for everyo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Earth layer for advanced u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 in progress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ing variables on GEart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9192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55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gional Statistics in StatLin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raditional mapping versus streaming photo-based mappin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 dual Approach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51720" indent="-25092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BS in your neighbourhoo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351720" indent="-25092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Earth lay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ork in progr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1196640"/>
            <a:ext cx="71625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istics Netherlands has many statistics at neighbourhood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ailable in statistical databas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Li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 statistics can be presented more attractive and understandable in map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Line map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d on the fly from the datab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G (less popular and problematic in browsers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to “know” how to generate a ma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must be a better solu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1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4836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2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450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gional Statistics in StatLine (3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003320"/>
            <a:ext cx="7108920" cy="581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9080" y="4017960"/>
            <a:ext cx="3274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raditional mapping versus streaming photo-based mapping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267920"/>
            <a:ext cx="71625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ditional mapping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mapping engine has its own user interaction mechanis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ser has to specify certain paramet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s are sent over complete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ing photo-based mapping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-facto user interaction (zooming, panning etc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ing air- or satellite photos with other inform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 streaming mechanism for (geo)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able, you can add other information lay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04680" indent="-268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a few flavor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gle Earth / ma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Virtual Ear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519920" indent="-217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Streetma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2160" indent="-2714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tatistics should use this tre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ps people use in their daily life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788000" cy="432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380960"/>
            <a:ext cx="4572000" cy="358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733840" y="3429000"/>
            <a:ext cx="4070160" cy="322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48080" y="49417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ffic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60" y="530064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s for s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23440" y="61657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e 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"/>
              </a:rPr>
              <a:t>A Dual approach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484280"/>
            <a:ext cx="73594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use general mapping technolog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ogle maps and Google eart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 “know” these interfa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,000 neighbourhood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ailed bord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 variables (inhabitants, income, ag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wo “products”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in your neighbourhood”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cbsinuwbuurt.nl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site for everyone, no plugins require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5280" indent="-185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BS on Google Earth”: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advanced us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BS layer accessible from CBS websi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cbs.nl/gear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Dutch versio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cbs.nl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/...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8"/>
              </a:rPr>
              <a:t>gearth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nglish versio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K.O. ten Bosch</dc:creator>
  <dc:description/>
  <dc:language>en-US</dc:language>
  <cp:lastModifiedBy>Diane Serikoff</cp:lastModifiedBy>
  <cp:lastPrinted>2001-02-07T13:14:02Z</cp:lastPrinted>
  <dcterms:modified xsi:type="dcterms:W3CDTF">2008-04-03T12:50:31Z</dcterms:modified>
  <cp:revision>522</cp:revision>
  <dc:subject/>
  <dc:title>Visualisation of Neighbourhood Statistics using Google Earth</dc:title>
</cp:coreProperties>
</file>