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82360" y="744120"/>
            <a:ext cx="4895640" cy="366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87040" y="4664160"/>
            <a:ext cx="4886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180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ABB4-3401-4D0F-A395-EB85DAFC97A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63AD-4C6A-4DA8-A57D-611D2FC9819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180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180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720" y="4664160"/>
            <a:ext cx="5329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0F60-A675-46C0-AC6F-323510FBFA5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180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180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66720" y="4664160"/>
            <a:ext cx="5329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C97B-9085-4FF5-B4C6-FD0560342D8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180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180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6720" y="4664160"/>
            <a:ext cx="5329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D537-1823-4B8F-B933-C1DEAE95814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180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180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66720" y="4664160"/>
            <a:ext cx="5329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F17C-8E69-4FAB-96CF-AABC1D30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520" y="40546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274-52B1-4630-B539-52807D3A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70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5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70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B57-9F55-4EE5-8C8F-95873B7C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9824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03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5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9824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03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B6A-02A1-4D56-88FA-97A9DB4B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5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0A0-957C-4368-80CE-F57BF08D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EE4-06D9-4BBA-A950-519DBB6E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70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7DF-6C50-4B74-AE60-2D3962EE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2A5-76DB-4DE6-A607-9D3C96AA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520" y="990360"/>
            <a:ext cx="7162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D67-1D97-44F8-B335-1C7EE882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70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5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88B-620B-43DF-A4DA-EEAFBDFC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70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70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DE5-042E-4C98-B0CE-38667A49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70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520" y="40546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308-0410-4BA6-B5C8-FBADA0BD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2" marL="13716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3" marL="179064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4" marL="220968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5" marL="22096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6" marL="22096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35C024-6E41-4C3D-AF18-AF449AA0A00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3716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bsinuwbuurt.nl/" TargetMode="External"/><Relationship Id="rId2" Type="http://schemas.openxmlformats.org/officeDocument/2006/relationships/hyperlink" Target="http://www.cbsinuwbuurt.nl/" TargetMode="External"/><Relationship Id="rId3" Type="http://schemas.openxmlformats.org/officeDocument/2006/relationships/hyperlink" Target="http://www.cbsinuwbuurt.nl/" TargetMode="External"/><Relationship Id="rId4" Type="http://schemas.openxmlformats.org/officeDocument/2006/relationships/hyperlink" Target="http://www.cbs.nl/gearth" TargetMode="External"/><Relationship Id="rId5" Type="http://schemas.openxmlformats.org/officeDocument/2006/relationships/hyperlink" Target="http://www.cbs.nl/en-GB/menu/themas/dossiers/nederland-regionaal/cijfers/cartografische-toegang/gearth.htm" TargetMode="External"/><Relationship Id="rId6" Type="http://schemas.openxmlformats.org/officeDocument/2006/relationships/hyperlink" Target="http://www.cbs.nl/en-GB/menu/themas/dossiers/nederland-regionaal/cijfers/cartografische-toegang/gearth.htm" TargetMode="External"/><Relationship Id="rId7" Type="http://schemas.openxmlformats.org/officeDocument/2006/relationships/hyperlink" Target="http://www.cbs.nl/en-GB/menu/themas/dossiers/nederland-regionaal/cijfers/cartografische-toegang/gearth.htm" TargetMode="External"/><Relationship Id="rId8" Type="http://schemas.openxmlformats.org/officeDocument/2006/relationships/hyperlink" Target="http://www.cbs.nl/en-GB/menu/themas/dossiers/nederland-regionaal/cijfers/cartografische-toegang/gearth.htm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843200" y="3644640"/>
            <a:ext cx="6400800" cy="21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Olav ten Bosch and Edwin de Jonge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fafd00"/>
                </a:solidFill>
                <a:latin typeface="Arial"/>
              </a:rPr>
              <a:t>Statistics Netherland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UNECE - Meeting on the Management of Statistical Information Systems (MSIS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Luxembourg, 7-9 April, 2008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476360" y="907560"/>
            <a:ext cx="691200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Visualisation of Neighbourhood Statistics using Google Earth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6360" y="9360"/>
            <a:ext cx="91803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857240" y="1762200"/>
            <a:ext cx="6602400" cy="46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BS created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tatistical laye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for GEarth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arth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re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 (needs to be installed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arth has a well-defined data format (KML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ways to acces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BS data in next (Dutch) GEarth releas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gle Earth layer available on website CB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streaming mechanism of GEarth for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fficien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data transport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the data of the viewing area is sent ov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bility to 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statistical data with other geoda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76520" y="9907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CBS on Google Earth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32000" y="44280"/>
            <a:ext cx="7378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CBS on Google Earth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2000" y="44280"/>
            <a:ext cx="7378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CBS on Google Earth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857240" y="1484280"/>
            <a:ext cx="6602400" cy="46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at maps for regional variable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densit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io of men to wome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vari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imated statistic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time facility to visualise statistical trend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ing neighbourhood bord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in population, age, households etc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676520" y="54936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Work in prog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44280"/>
            <a:ext cx="7378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Population Density on Google Earth”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615960"/>
            <a:ext cx="80280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44280"/>
            <a:ext cx="7378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Ratio of Men to Women on GEarth”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58572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33300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4760" y="1197000"/>
            <a:ext cx="677052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llow the trend: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ddition to traditional maps we use modern web-based streaming mapping techniques for dissemination of regional statistic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al approach for different user groups: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y site CBS in your Neighbourhood for everyon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gle Earth layer for advanced u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ork in progress: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ing variables on GEart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69192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520" y="15573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>
              <a:lnSpc>
                <a:spcPct val="13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Regional Statistics in StatLin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raditional mapping versus streaming photo-based mappin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 dual Approach: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51720" indent="-25092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BS in your neighbourhoo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351720" indent="-25092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gle Earth lay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ork in progres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1196640"/>
            <a:ext cx="716256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tistics Netherlands has many statistics at neighbourhood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vailable in statistical database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tatLin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gional statistics can be presented more attractive and understandable in map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tLine map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ed on the fly from the databas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VG (less popular and problematic in browsers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to “know” how to generate a map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must be a better solu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Regional Statistics in StatLine (1)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748368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Regional Statistics in StatLine (2)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74502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Regional Statistics in StatLine (3)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1003320"/>
            <a:ext cx="7108920" cy="5810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9080" y="4017960"/>
            <a:ext cx="32749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raditional mapping versus streaming photo-based mapping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520" y="1267920"/>
            <a:ext cx="716256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452160" indent="-2714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ditional mapping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-268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mapping engine has its own user interaction mechanis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-268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user has to specify certain paramet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-268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s are sent over completel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2160" indent="-2714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aming photo-based mapping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-268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-facto user interaction (zooming, panning etc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-268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ing air- or satellite photos with other informa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-268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icient streaming mechanism for (geo)dat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-268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dable, you can add other information lay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-268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a few flavors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gle Earth / map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3" marL="1519920" indent="-217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Virtual Earth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3" marL="1519920" indent="-217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Streetma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2160" indent="-2714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tatistics should use this tren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aps people use in their daily life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788000" cy="4322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1380960"/>
            <a:ext cx="4572000" cy="3589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733840" y="3429000"/>
            <a:ext cx="4070160" cy="3225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048080" y="494172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ffic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360" y="5300640"/>
            <a:ext cx="26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uses for s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23440" y="616572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ime f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8920" y="6206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600" spc="-1" strike="noStrike">
                <a:solidFill>
                  <a:srgbClr val="00ffff"/>
                </a:solidFill>
                <a:latin typeface="Arial"/>
              </a:rPr>
              <a:t>A Dual approach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1484280"/>
            <a:ext cx="735948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e use general mapping technology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ogle maps and Google ear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ople “know” these interfac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,000 neighbourhoods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ailed border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 variables (inhabitants, income, age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wo “products”: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BS in your neighbourhood”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cbsinuwbuurt.nl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/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bsite for everyone, no plugins require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BS on Google Earth”: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 advanced user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BS layer accessible from CBS websit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http://www.cbs.nl/gear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Dutch version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6"/>
              </a:rPr>
              <a:t>www.cbs.nl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7"/>
              </a:rPr>
              <a:t>/.../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8"/>
              </a:rPr>
              <a:t>gearth.ht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English version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K.O. ten Bosch</dc:creator>
  <dc:description/>
  <dc:language>en-US</dc:language>
  <cp:lastModifiedBy>Diane Serikoff</cp:lastModifiedBy>
  <cp:lastPrinted>2001-02-07T13:14:02Z</cp:lastPrinted>
  <dcterms:modified xsi:type="dcterms:W3CDTF">2008-04-03T12:50:31Z</dcterms:modified>
  <cp:revision>522</cp:revision>
  <dc:subject/>
  <dc:title>Visualisation of Neighbourhood Statistics using Google Earth</dc:title>
</cp:coreProperties>
</file>