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9C6FB-FB79-44C5-AE9D-A6A97F61E9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754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6280" y="3902040"/>
            <a:ext cx="754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3CB0E-1D7C-4CAA-9BCE-D0BDFC971B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6280" y="390204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2320" y="390204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A1660-0F3F-446F-9E35-8FA80669E9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87240" y="175248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560" y="175248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6280" y="390204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87240" y="390204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560" y="390204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280C5-29A4-432B-8E20-81EBA87622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B93B9F-7068-4BAE-9429-DF8632113C3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6280" y="175248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008179-6DBE-41FA-AC4B-165C92B45BA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2460D5-70D7-4C51-AF27-21CDAE57C39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95B349-31A6-4573-AC7B-E8CCF708A4C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0C4674-CDF1-4E36-BB9A-C913A767C62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847440"/>
            <a:ext cx="75456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4F8403-FC6F-4472-AE65-6AD51D1D36E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6280" y="390204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42C5E8-6E04-408A-8765-4C086AC5D4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6280" y="175248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4FAF5-3822-43C3-BAC5-FB121A8E59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2320" y="390204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AEF2DA-376E-4C9C-99B9-ABCCF24F966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6280" y="3902040"/>
            <a:ext cx="754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40D7CF-831D-487B-8E3D-63C11BB9F9B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754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6280" y="3902040"/>
            <a:ext cx="754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8FD0EA-D62F-4AE4-9249-BC965102555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6280" y="390204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2320" y="390204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B10DE7-12C7-45EC-98E8-78533E90DF4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87240" y="175248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38560" y="175248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6280" y="390204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87240" y="390204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38560" y="390204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B67DAF-865E-4B2C-839B-54D4416ACD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2A6B0-5278-48F4-9381-B1BA77DD46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1CD64-C0D8-4192-98C1-70D650BD6E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CDEEF-3836-46A6-A544-B851F8AF0D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847440"/>
            <a:ext cx="75456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DAC39-0ACE-4765-B44D-D36DFCB48C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6280" y="390204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69AB3-01D8-481D-8747-6BFD698AE9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2320" y="390204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895D8-0733-46CD-87C1-50B01C9144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6280" y="3902040"/>
            <a:ext cx="754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F30FD-8727-433C-AE9B-25227E5F2E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2 jaune"/>
          <p:cNvPicPr/>
          <p:nvPr/>
        </p:nvPicPr>
        <p:blipFill>
          <a:blip r:embed="rId2">
            <a:lum bright="-8000"/>
          </a:blip>
          <a:stretch/>
        </p:blipFill>
        <p:spPr>
          <a:xfrm>
            <a:off x="-14400" y="2195640"/>
            <a:ext cx="9163080" cy="42051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title th3"/>
          <p:cNvPicPr/>
          <p:nvPr/>
        </p:nvPicPr>
        <p:blipFill>
          <a:blip r:embed="rId3"/>
          <a:stretch/>
        </p:blipFill>
        <p:spPr>
          <a:xfrm>
            <a:off x="-36360" y="84240"/>
            <a:ext cx="9165960" cy="687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1042920" y="981000"/>
            <a:ext cx="754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f32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f32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3" marL="156204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4" marL="198108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5" marL="198108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6" marL="198108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>
          <a:xfrm>
            <a:off x="-360" y="6421320"/>
            <a:ext cx="6948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urostat Unit B3 – Statistical Information Technologie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SIS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8616960" y="6461280"/>
            <a:ext cx="216000" cy="30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529ED-04AE-48F5-B229-3DEAAF93D482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master 0 new 4"/>
          <p:cNvPicPr/>
          <p:nvPr/>
        </p:nvPicPr>
        <p:blipFill>
          <a:blip r:embed="rId2"/>
          <a:stretch/>
        </p:blipFill>
        <p:spPr>
          <a:xfrm>
            <a:off x="-1440" y="3166920"/>
            <a:ext cx="9161280" cy="3686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a521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36280" y="175248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f32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f32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3" marL="156204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4" marL="198108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5" marL="198108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6" marL="198108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179280" y="6400800"/>
            <a:ext cx="6553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urostat Unit B3 – Statistical Information Technologie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SIS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8305920" y="640080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69F0B-49DE-432E-9EAF-D649D19B6470}" type="slidenum">
              <a:rPr b="1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irca.europa.eu/dsis" TargetMode="External"/><Relationship Id="rId2" Type="http://schemas.openxmlformats.org/officeDocument/2006/relationships/hyperlink" Target="http://circa.europa.eu/dsis" TargetMode="External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0" y="6421320"/>
            <a:ext cx="69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urostat Unit B3 – Statistical Information Technologie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SIS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294760" y="6461640"/>
            <a:ext cx="86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F8311-B55D-4666-9862-9D6F61334537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619280" y="2036880"/>
            <a:ext cx="57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urostat's approach towards sharing statistical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69E85-DD4F-47C5-B0A6-1B6DF79BEA1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a521"/>
                </a:solidFill>
                <a:latin typeface="Arial"/>
              </a:rPr>
              <a:t>Three good reasons for the European Statistical System to care for OSS</a:t>
            </a: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Publishing software developed in our IDABC project X-DIS ensures the long-term sustainability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OSS is the ideal method for National Statistical Institutes to co-operate in the development of software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Publishing software as OSS is advantageous for public administrations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0" y="6421320"/>
            <a:ext cx="69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urostat Unit B3 – Statistical Information Technologie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SIS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C5CDC9-8CEC-43A9-AAD3-700263AB3AB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7545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a521"/>
                </a:solidFill>
                <a:latin typeface="Arial"/>
              </a:rPr>
              <a:t>It is advantageous for public  administrations to publish their software as OSS</a:t>
            </a: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Minimal liability at a maximum of trust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OSS enables non-discriminatory public procurement – no binding to a contractor even in the case of continuation of development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Better packaging in documentation allows for easier take-over in the case of changes in the development team or contractor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No (explicit or implicit) long-term commitment to further develop the software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0" y="6381720"/>
            <a:ext cx="69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urostat Unit B3 – Statistical Information Technologie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SIS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D3D444-7747-4B99-B77F-248DE6C7A47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3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a521"/>
                </a:solidFill>
                <a:latin typeface="Arial"/>
              </a:rPr>
              <a:t>OSS action plan under X-DIS</a:t>
            </a: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064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Extension of the existing </a:t>
            </a:r>
            <a:r>
              <a:rPr b="0" i="1" lang="en-US" sz="2000" spc="-1" strike="noStrike">
                <a:solidFill>
                  <a:srgbClr val="0f3277"/>
                </a:solidFill>
                <a:latin typeface="Arial"/>
              </a:rPr>
              <a:t>ad hoc</a:t>
            </a: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 repository of raw data collection software under the CORD Task Force into a general CIRCA IG “OSS and Statistics”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Building up a repository of links to all kinds of statistical OSS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Decision to release Eurostat software as OSS (subject to a Commission decision), starting with applications developed under IDA and IDABC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Inventory of products developed within the ESS for which release as OSS could be envisaged;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Investigation of the willingness of Member States to release software as OSS;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Establishing guidelines for packaging source code and making available documentation for developers and end users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0" y="6421320"/>
            <a:ext cx="69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urostat Unit B3 – Statistical Information Technologie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SIS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4658D4-7FA6-48A4-B936-4519B2A26DC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3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a521"/>
                </a:solidFill>
                <a:latin typeface="Arial"/>
              </a:rPr>
              <a:t>Already delivered</a:t>
            </a: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7040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f3277"/>
                </a:solidFill>
                <a:latin typeface="Arial"/>
              </a:rPr>
              <a:t>Re-launch and continuous update of “OSS and Statistics” IG on CIRCA</a:t>
            </a:r>
            <a:endParaRPr b="0" lang="en-US" sz="25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f3277"/>
                </a:solidFill>
                <a:latin typeface="Arial"/>
              </a:rPr>
              <a:t>Guidelines for publishing software as OSS available</a:t>
            </a:r>
            <a:endParaRPr b="0" lang="en-US" sz="25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f3277"/>
                </a:solidFill>
                <a:latin typeface="Arial"/>
              </a:rPr>
              <a:t>12 Eurostat applications investigated on their suitability to be published as OSS</a:t>
            </a:r>
            <a:endParaRPr b="0" lang="en-US" sz="25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f3277"/>
                </a:solidFill>
                <a:latin typeface="Arial"/>
              </a:rPr>
              <a:t>EUPL formally adopted by the Commission and applied to tools developed by Eurostat and financed by IDA and IDABC</a:t>
            </a:r>
            <a:endParaRPr b="0" lang="en-US" sz="25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f3277"/>
                </a:solidFill>
                <a:latin typeface="Arial"/>
              </a:rPr>
              <a:t>Survey of statistical OSS in the Member States</a:t>
            </a:r>
            <a:endParaRPr b="0" lang="en-US" sz="25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0" y="6421320"/>
            <a:ext cx="69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urostat Unit B3 – Statistical Information Technologie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SIS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6FB2C5-8BC5-4B65-BF78-A3974F29A52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a521"/>
                </a:solidFill>
                <a:latin typeface="Arial"/>
              </a:rPr>
              <a:t>A CIRCA Group on OSS </a:t>
            </a:r>
            <a:endParaRPr b="1" lang="en-US" sz="24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35344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3277"/>
                </a:solidFill>
                <a:latin typeface="Arial"/>
              </a:rPr>
              <a:t>Interest group “OSS and Statistics”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3277"/>
                </a:solidFill>
                <a:latin typeface="Arial"/>
              </a:rPr>
              <a:t>Can be found under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irca.europa.eu/dsis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3277"/>
                </a:solidFill>
                <a:latin typeface="Arial"/>
              </a:rPr>
              <a:t>Read access is free - all information is public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3277"/>
                </a:solidFill>
                <a:latin typeface="Arial"/>
              </a:rPr>
              <a:t>Contributions are welcome, contributors are asked to subscribe t the group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3277"/>
                </a:solidFill>
                <a:latin typeface="Arial"/>
              </a:rPr>
              <a:t>Discussion forum (Newsgroup) open to all registered CIRCA users.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0" y="6421320"/>
            <a:ext cx="69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urostat Unit B3 – Statistical Information Technologie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SIS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4C043D-DFD2-4081-BC30-A5A4B32405F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3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a521"/>
                </a:solidFill>
                <a:latin typeface="Arial"/>
              </a:rPr>
              <a:t>Next Steps</a:t>
            </a: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7040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Obtaining a Commission Decision to publish software owned by Eurostat, but not developed under IDABC, under the EUPL.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Continuous update of the CIRCA IG OSS and Statistics, including as well the results of the recently conducted survey and the migration to CIRCABC.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Liaison between the CIRCA IG OSS and Statistics and the OSS repository of IDABC.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Migration of the CIRCA IG OSS and Statistics to CIRCABC, which is the new version of CIRCA developed under the IDABC programme.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Special Guidelines on how to produce software shared between Statistical Administrations: what are the general rules for shared software, and what are the special issues in the world of statistical administration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0" y="6421320"/>
            <a:ext cx="69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urostat Unit B3 – Statistical Information Technologie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SIS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AAC791-5B91-4040-92A8-CD9C53F26F7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5T08:23:11Z</dcterms:created>
  <dc:creator>drapplu</dc:creator>
  <dc:description/>
  <dc:language>en-US</dc:language>
  <cp:lastModifiedBy>Leonhard Maqua</cp:lastModifiedBy>
  <dcterms:modified xsi:type="dcterms:W3CDTF">2008-04-02T15:38:36Z</dcterms:modified>
  <cp:revision>97</cp:revision>
  <dc:subject/>
  <dc:title>Slide 1</dc:title>
</cp:coreProperties>
</file>