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34DBF-5A49-4FD8-B6B6-1F9E7F047B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6280" y="390204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31362-E0DE-4E5D-93E0-4B5262B027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232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41CBF-3FA5-44FD-9D16-C80A9D4CB7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724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56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628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724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56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E113F-450A-4078-95B1-C3E9E10DBC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534E31-8D0B-4C76-AC86-7853529EDC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431D1D-06C7-4110-ABF0-7FD02A4140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DCD0DC-1765-4A2C-9E53-9A198B0CB3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EFEAAA-F9E1-4C57-BEF0-0B53044B9E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69A68F-5A4B-41F4-B30C-37FDBEF4EB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847440"/>
            <a:ext cx="75456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5DDABF-8BD5-4953-9AB1-548B744480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5CF1C-B094-4A3E-BC2A-B2A17729C1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13988-7A3E-4861-8266-80CE02C39C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232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E0A1AE-3B07-4644-9E14-34446DA60B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E089AD-DFB8-4F46-A6D5-C82BCD3812A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6280" y="390204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CB17E5-1C5C-4EBE-A10D-03FAEFAFB5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232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C4C783-9E06-41E8-A11F-C57BB58178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8724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856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628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8724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856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A3E59-46BE-4E2A-9AEF-68D1DC4A2D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DB2AF-7D57-419B-9C54-9E53462548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9AECE-23A2-4F1C-A889-8B3D974E20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854CC-8110-42E5-BB29-0DBEF4D01F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847440"/>
            <a:ext cx="75456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C70CA-18EE-4142-B691-7FAE0F6CFC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333B1-4F43-42B0-B0AF-A615CC88C6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232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5FD6E-6D10-48B0-AE6A-1A5354F0EB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EA45D-A1EA-46DC-85C8-EFDA2B9BA3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2 jaune"/>
          <p:cNvPicPr/>
          <p:nvPr/>
        </p:nvPicPr>
        <p:blipFill>
          <a:blip r:embed="rId2">
            <a:lum bright="-8000"/>
          </a:blip>
          <a:stretch/>
        </p:blipFill>
        <p:spPr>
          <a:xfrm>
            <a:off x="-14400" y="2195640"/>
            <a:ext cx="9163080" cy="42051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title th3"/>
          <p:cNvPicPr/>
          <p:nvPr/>
        </p:nvPicPr>
        <p:blipFill>
          <a:blip r:embed="rId3"/>
          <a:stretch/>
        </p:blipFill>
        <p:spPr>
          <a:xfrm>
            <a:off x="-36360" y="84240"/>
            <a:ext cx="9165960" cy="687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1042920" y="981000"/>
            <a:ext cx="754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f32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3" marL="156204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4" marL="198108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5" marL="198108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6" marL="198108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>
          <a:xfrm>
            <a:off x="-360" y="6421320"/>
            <a:ext cx="6948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rostat Unit B3 – Statistical Information Technologi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SIS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8616960" y="6461280"/>
            <a:ext cx="216000" cy="30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7AFA-33E9-4DE8-B0FD-DD92F1968BEF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master 0 new 4"/>
          <p:cNvPicPr/>
          <p:nvPr/>
        </p:nvPicPr>
        <p:blipFill>
          <a:blip r:embed="rId2"/>
          <a:stretch/>
        </p:blipFill>
        <p:spPr>
          <a:xfrm>
            <a:off x="-1440" y="3166920"/>
            <a:ext cx="9161280" cy="36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a521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f32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3" marL="156204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4" marL="198108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5" marL="198108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6" marL="198108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179280" y="6400800"/>
            <a:ext cx="6553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stat Unit B3 – Statistical Information Technologi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SIS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D1FA-5A86-403E-93E5-ADA26BBA2F22}" type="slidenum">
              <a:rPr b="1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irca.europa.eu/dsis" TargetMode="External"/><Relationship Id="rId2" Type="http://schemas.openxmlformats.org/officeDocument/2006/relationships/hyperlink" Target="http://circa.europa.eu/dsis" TargetMode="External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0" y="6421320"/>
            <a:ext cx="69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rostat Unit B3 – Statistical Information Technologi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SIS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294760" y="6461640"/>
            <a:ext cx="86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8728-EA49-403E-8D40-1588F03996C5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19280" y="203688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stat's approach towards sharing statistical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7EBE3-778B-4B10-A0BC-A44FE09D0AE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a521"/>
                </a:solidFill>
                <a:latin typeface="Arial"/>
              </a:rPr>
              <a:t>Three good reasons for the European Statistical System to care for OSS</a:t>
            </a: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Publishing software developed in our IDABC project X-DIS ensures the long-term sustainability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OSS is the ideal method for National Statistical Institutes to co-operate in the development of software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Publishing software as OSS is advantageous for public administrations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0" y="6421320"/>
            <a:ext cx="69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rostat Unit B3 – Statistical Information Technologi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SIS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16AF3F-9ADA-4B2B-9DD3-8BA24A62B5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545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a521"/>
                </a:solidFill>
                <a:latin typeface="Arial"/>
              </a:rPr>
              <a:t>It is advantageous for public  administrations to publish their software as OSS</a:t>
            </a: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Minimal liability at a maximum of trust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OSS enables non-discriminatory public procurement – no binding to a contractor even in the case of continuation of development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Better packaging in documentation allows for easier take-over in the case of changes in the development team or contractor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No (explicit or implicit) long-term commitment to further develop the software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0" y="6381720"/>
            <a:ext cx="69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rostat Unit B3 – Statistical Information Technologi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SIS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FF5FFA-5395-4709-BA9C-80F43BA8FB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3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a521"/>
                </a:solidFill>
                <a:latin typeface="Arial"/>
              </a:rPr>
              <a:t>OSS action plan under X-DIS</a:t>
            </a: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06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Extension of the existing </a:t>
            </a:r>
            <a:r>
              <a:rPr b="0" i="1" lang="en-US" sz="2000" spc="-1" strike="noStrike">
                <a:solidFill>
                  <a:srgbClr val="0f3277"/>
                </a:solidFill>
                <a:latin typeface="Arial"/>
              </a:rPr>
              <a:t>ad hoc</a:t>
            </a: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 repository of raw data collection software under the CORD Task Force into a general CIRCA IG “OSS and Statistics”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Building up a repository of links to all kinds of statistical OSS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Decision to release Eurostat software as OSS (subject to a Commission decision), starting with applications developed under IDA and IDABC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Inventory of products developed within the ESS for which release as OSS could be envisaged;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Investigation of the willingness of Member States to release software as OSS;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Establishing guidelines for packaging source code and making available documentation for developers and end users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0" y="6421320"/>
            <a:ext cx="69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rostat Unit B3 – Statistical Information Technologi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SIS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295B68-AA2D-4323-8790-3E4CCCCF49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3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a521"/>
                </a:solidFill>
                <a:latin typeface="Arial"/>
              </a:rPr>
              <a:t>Already delivered</a:t>
            </a: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f3277"/>
                </a:solidFill>
                <a:latin typeface="Arial"/>
              </a:rPr>
              <a:t>Re-launch and continuous update of “OSS and Statistics” IG on CIRCA</a:t>
            </a:r>
            <a:endParaRPr b="0" lang="en-US" sz="25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f3277"/>
                </a:solidFill>
                <a:latin typeface="Arial"/>
              </a:rPr>
              <a:t>Guidelines for publishing software as OSS available</a:t>
            </a:r>
            <a:endParaRPr b="0" lang="en-US" sz="25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f3277"/>
                </a:solidFill>
                <a:latin typeface="Arial"/>
              </a:rPr>
              <a:t>12 Eurostat applications investigated on their suitability to be published as OSS</a:t>
            </a:r>
            <a:endParaRPr b="0" lang="en-US" sz="25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f3277"/>
                </a:solidFill>
                <a:latin typeface="Arial"/>
              </a:rPr>
              <a:t>EUPL formally adopted by the Commission and applied to tools developed by Eurostat and financed by IDA and IDABC</a:t>
            </a:r>
            <a:endParaRPr b="0" lang="en-US" sz="25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f3277"/>
                </a:solidFill>
                <a:latin typeface="Arial"/>
              </a:rPr>
              <a:t>Survey of statistical OSS in the Member States</a:t>
            </a:r>
            <a:endParaRPr b="0" lang="en-US" sz="25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0" y="6421320"/>
            <a:ext cx="69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rostat Unit B3 – Statistical Information Technologi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SIS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F9F5E2-2A52-413B-817E-523BCFEDB3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a521"/>
                </a:solidFill>
                <a:latin typeface="Arial"/>
              </a:rPr>
              <a:t>A CIRCA Group on OSS </a:t>
            </a:r>
            <a:endParaRPr b="1" lang="en-US" sz="24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35344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3277"/>
                </a:solidFill>
                <a:latin typeface="Arial"/>
              </a:rPr>
              <a:t>Interest group “OSS and Statistics”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3277"/>
                </a:solidFill>
                <a:latin typeface="Arial"/>
              </a:rPr>
              <a:t>Can be found under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irca.europa.eu/dsis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3277"/>
                </a:solidFill>
                <a:latin typeface="Arial"/>
              </a:rPr>
              <a:t>Read access is free - all information is public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3277"/>
                </a:solidFill>
                <a:latin typeface="Arial"/>
              </a:rPr>
              <a:t>Contributions are welcome, contributors are asked to subscribe t the group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3277"/>
                </a:solidFill>
                <a:latin typeface="Arial"/>
              </a:rPr>
              <a:t>Discussion forum (Newsgroup) open to all registered CIRCA users.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0" y="6421320"/>
            <a:ext cx="69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rostat Unit B3 – Statistical Information Technologi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SIS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A9FBF0-66B0-4B7B-B919-288A5258BF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3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a521"/>
                </a:solidFill>
                <a:latin typeface="Arial"/>
              </a:rPr>
              <a:t>Next Steps</a:t>
            </a: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Obtaining a Commission Decision to publish software owned by Eurostat, but not developed under IDABC, under the EUPL.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Continuous update of the CIRCA IG OSS and Statistics, including as well the results of the recently conducted survey and the migration to CIRCABC.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Liaison between the CIRCA IG OSS and Statistics and the OSS repository of IDABC.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Migration of the CIRCA IG OSS and Statistics to CIRCABC, which is the new version of CIRCA developed under the IDABC programme.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pecial Guidelines on how to produce software shared between Statistical Administrations: what are the general rules for shared software, and what are the special issues in the world of statistical administration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0" y="6421320"/>
            <a:ext cx="69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rostat Unit B3 – Statistical Information Technologi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SIS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ABB33-BB91-4D1E-A579-C1B3D4A951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08:23:11Z</dcterms:created>
  <dc:creator>drapplu</dc:creator>
  <dc:description/>
  <dc:language>en-US</dc:language>
  <cp:lastModifiedBy>Leonhard Maqua</cp:lastModifiedBy>
  <dcterms:modified xsi:type="dcterms:W3CDTF">2008-04-02T15:38:36Z</dcterms:modified>
  <cp:revision>97</cp:revision>
  <dc:subject/>
  <dc:title>Slide 1</dc:title>
</cp:coreProperties>
</file>