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E05A-D6B2-476B-8216-10D54178CE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gretl.sourceforge.net/index.html" TargetMode="External"/><Relationship Id="rId2" Type="http://schemas.openxmlformats.org/officeDocument/2006/relationships/hyperlink" Target="http://gretl.sourceforge.net/index.html" TargetMode="External"/><Relationship Id="rId3" Type="http://schemas.openxmlformats.org/officeDocument/2006/relationships/hyperlink" Target="http://gretl.sourceforge.net/index.html" TargetMode="External"/><Relationship Id="rId4" Type="http://schemas.openxmlformats.org/officeDocument/2006/relationships/hyperlink" Target="http://gretl.sourceforge.net/index.html" TargetMode="External"/><Relationship Id="rId5" Type="http://schemas.openxmlformats.org/officeDocument/2006/relationships/hyperlink" Target="http://gretl.sourceforge.net/index.html" TargetMode="External"/><Relationship Id="rId6" Type="http://schemas.openxmlformats.org/officeDocument/2006/relationships/hyperlink" Target="http://www.sciencedirect.com/science/journal/00983004" TargetMode="External"/><Relationship Id="rId7" Type="http://schemas.openxmlformats.org/officeDocument/2006/relationships/hyperlink" Target="http://www.statmethods.net/index.html" TargetMode="External"/><Relationship Id="rId8" Type="http://schemas.openxmlformats.org/officeDocument/2006/relationships/hyperlink" Target="http://www.statmethods.net/index.html" TargetMode="External"/><Relationship Id="rId9" Type="http://schemas.openxmlformats.org/officeDocument/2006/relationships/hyperlink" Target="http://www.statmethods.net/index.html" TargetMode="External"/><Relationship Id="rId10" Type="http://schemas.openxmlformats.org/officeDocument/2006/relationships/slide" Target="../slides/slide24.xml"/><Relationship Id="rId11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used for routin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is easily passed from one function to another to do further processing and obtain mor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ro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performing repetitive tasks and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itself is a programming language. The added new functions are run exactly in the same way as the built-in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rix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base R itself is a vector- and matrix-based language, and it ships with many powerful tools for doing matrix manipulations. These are complemented by the packages Matrix and Spar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blish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and paste to a Word processor or exporting to 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possibilities to produce Tex output (including graphics) using the Sweav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y the size of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mited by the size of the RAM, (not trivial) usage of databases for large data sets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ngular data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tangular data frame, vector,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face to other programming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can be easily mixed with Fortran, C, C++ and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ource code of R as well as of the R packages is a part of the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used for routin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is easily passed from one function to another to do further processing and obtain mor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ro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performing repetitive tasks and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itself is a programming language. The added new functions are run exactly in the same way as the built-in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rix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base R itself is a vector- and matrix-based language, and it ships with many powerful tools for doing matrix manipulations. These are complemented by the packages Matrix and Spar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blish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and paste to a Word processor or exporting to 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possibilities to produce Tex output (including graphics) using the Sweav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y the size of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mited by the size of the RAM, (not trivial) usage of databases for large data sets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ngular data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tangular data frame, vector,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face to other programming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can be easily mixed with Fortran, C, C++ and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ource code of R as well as of the R packages is a part of the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used for routin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is easily passed from one function to another to do further processing and obtain mor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ro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performing repetitive tasks and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itself is a programming language. The added new functions are run exactly in the same way as the built-in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rix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base R itself is a vector- and matrix-based language, and it ships with many powerful tools for doing matrix manipulations. These are complemented by the packages Matrix and Spar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blish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and paste to a Word processor or exporting to 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possibilities to produce Tex output (including graphics) using the Sweav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y the size of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mited by the size of the RAM, (not trivial) usage of databases for large data sets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ngular data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tangular data frame, vector,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face to other programming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can be easily mixed with Fortran, C, C++ and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ource code of R as well as of the R packages is a part of the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field, J. (1999) Rweb:Web-based Statistical Analysis,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tatistical Softwar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trell, A. (2008) Gnu Regression, Econometrics and Time-series Library, URL: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gretl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sourceforge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.net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nsky, E.C., (2002) R: a data analysis and statistical programming environment–an emerging tool for the geosciences,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Computers &amp; Geoscienc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, pp 1219-12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ik, K and Leisch</a:t>
            </a:r>
            <a:r>
              <a:rPr b="0" lang="de-AT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, (2005)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Version 2.1.0, C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utational Statistic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pp 197-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bacoff, R.  (2008) Quick-R for SAS and SPSS users, available from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statmethods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.net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pez-de-Lacalle, J, (2006) The R-computing language: Potential for Asian economists,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Asian Economic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7 6, pp 1066-10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, D, Leisch, F., Hothorn, T. and Hornik, K., StatDataML: An XML Format for Statistical Da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RL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iteseer.ist.psu.edu/546737.html</a:t>
            </a:r>
            <a:r>
              <a:rPr b="0" lang="de-AT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nchen, R. (2007), R for SAS and SPSS users, URL: http://oit.utk.edu/scc/RforSAS&amp;SPSSuser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nchen, R. (2007), Comparison of SAS and SPSS Products with R Packages and Functions, mailto:BobM@utk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rel, P. (2005) R Graphics, Chapman &amp;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Development Core Team (2007) R: A Language and Environment for Statistical Computing,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ation for Statistical Computing, Vienna, Austria, ISBN 3-900051-07-0. URL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-project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, M and Filzmoser, F (2008)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sation of Missing Values and Robust Imputation in Environmental Surveys, submitted for pub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o R. (2008) R Functions for Time Series, URL: http://cran.r-project.org/doc/contrib/Ricci-refcard-t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ler, D.A.,  (2007) Why Open Source Software / Free Software (OSS/FS, FLOSS, or FOSS)? Look at the Numbers! URL: http://www.dwheeler.com/oss_fs_wh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8f"/>
                </a:solidFill>
                <a:latin typeface="CMSS10"/>
              </a:rPr>
              <a:t>Locations of 1000 seismic events near Fij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8f"/>
                </a:solidFill>
                <a:latin typeface="CMTT9"/>
              </a:rPr>
              <a:t>coplot(lat ~ long | depth, data = quakes, pch = 21, bg = "green3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F739-A471-497C-BAED-9A608974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5119-BF61-4AD7-870F-CF292C1C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4291-512E-4AFD-B78F-508E1213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6568-429B-460B-A00B-9E94EF3A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39E4-2C4A-44B0-BA86-73EDFF45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3587-890E-4B90-8D14-C0454F0C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13E0-D342-464C-A4BF-1F0495A8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6C5B-5735-4633-9169-4B9B09AA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270D-BC2F-4DB3-9AEA-D3BE797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6419-473B-456E-A632-A21CABCB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8D52-131E-4B13-A904-8EB797C3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C271-7E3D-4118-8128-4FF1DAE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59b8"/>
                </a:solidFill>
                <a:latin typeface="Times New Roman"/>
              </a:rPr>
              <a:t>R: An Open Source Statistic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C717-9D1C-4EE2-8DB4-9A6DE97526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236196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unido-w70" descr=""/>
          <p:cNvPicPr/>
          <p:nvPr/>
        </p:nvPicPr>
        <p:blipFill>
          <a:blip r:embed="rId2"/>
          <a:stretch/>
        </p:blipFill>
        <p:spPr>
          <a:xfrm>
            <a:off x="8381880" y="0"/>
            <a:ext cx="60984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LOGO%20PMS" descr=""/>
          <p:cNvPicPr/>
          <p:nvPr/>
        </p:nvPicPr>
        <p:blipFill>
          <a:blip r:embed="rId2"/>
          <a:stretch/>
        </p:blipFill>
        <p:spPr>
          <a:xfrm>
            <a:off x="324000" y="101520"/>
            <a:ext cx="1558800" cy="37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ran.r-project.org/web/views/Econometrics.html" TargetMode="External"/><Relationship Id="rId2" Type="http://schemas.openxmlformats.org/officeDocument/2006/relationships/hyperlink" Target="http://cran.r-project.org/web/views/Econometrics.html" TargetMode="External"/><Relationship Id="rId3" Type="http://schemas.openxmlformats.org/officeDocument/2006/relationships/hyperlink" Target="http://cran.r-project.org/web/views/Econometrics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tatmethods.net/index.html" TargetMode="External"/><Relationship Id="rId2" Type="http://schemas.openxmlformats.org/officeDocument/2006/relationships/hyperlink" Target="http://www.statmethods.net/index.html" TargetMode="External"/><Relationship Id="rId3" Type="http://schemas.openxmlformats.org/officeDocument/2006/relationships/hyperlink" Target="http://www.statmethods.net/index.html" TargetMode="External"/><Relationship Id="rId4" Type="http://schemas.openxmlformats.org/officeDocument/2006/relationships/hyperlink" Target="http://oit.utk.edu/scc/RforSAS&amp;SPSSusers.pdf" TargetMode="External"/><Relationship Id="rId5" Type="http://schemas.openxmlformats.org/officeDocument/2006/relationships/hyperlink" Target="http://oit.utk.edu/scc/RforSAS&amp;SPSSusers.pdf" TargetMode="External"/><Relationship Id="rId6" Type="http://schemas.openxmlformats.org/officeDocument/2006/relationships/hyperlink" Target="http://oit.utk.edu/scc/RforSAS&amp;SPSSusers.pdf" TargetMode="External"/><Relationship Id="rId7" Type="http://schemas.openxmlformats.org/officeDocument/2006/relationships/hyperlink" Target="http://oit.utk.edu/scc/RforSAS&amp;SPSSusers.pdf" TargetMode="External"/><Relationship Id="rId8" Type="http://schemas.openxmlformats.org/officeDocument/2006/relationships/hyperlink" Target="http://oit.utk.edu/scc/RforSAS&amp;SPSSusers.pdf" TargetMode="External"/><Relationship Id="rId9" Type="http://schemas.openxmlformats.org/officeDocument/2006/relationships/hyperlink" Target="http://oit.utk.edu/scc/RforSAS&amp;SPSSusers.pdf" TargetMode="External"/><Relationship Id="rId10" Type="http://schemas.openxmlformats.org/officeDocument/2006/relationships/hyperlink" Target="http://oit.utk.edu/scc/RforSAS&amp;SPSSusers.pdf" TargetMode="External"/><Relationship Id="rId11" Type="http://schemas.openxmlformats.org/officeDocument/2006/relationships/hyperlink" Target="http://oit.utk.edu/scc/RforSAS&amp;SPSSusers.pdf" TargetMode="External"/><Relationship Id="rId12" Type="http://schemas.openxmlformats.org/officeDocument/2006/relationships/hyperlink" Target="http://oit.utk.edu/scc/RforSAS&amp;SPSSusers.pdf" TargetMode="External"/><Relationship Id="rId13" Type="http://schemas.openxmlformats.org/officeDocument/2006/relationships/hyperlink" Target="http://oit.utk.edu/scc/RforSAS&amp;SPSSusers.pdf" TargetMode="External"/><Relationship Id="rId14" Type="http://schemas.openxmlformats.org/officeDocument/2006/relationships/hyperlink" Target="http://oit.utk.edu/scc/RforSAS&amp;SPSSusers.pdf" TargetMode="External"/><Relationship Id="rId15" Type="http://schemas.openxmlformats.org/officeDocument/2006/relationships/hyperlink" Target="http://oit.utk.edu/scc/RforSAS&amp;SPSSusers.pdf" TargetMode="External"/><Relationship Id="rId16" Type="http://schemas.openxmlformats.org/officeDocument/2006/relationships/hyperlink" Target="http://oit.utk.edu/scc/RforSAS&amp;SPSSusers.pdf" TargetMode="External"/><Relationship Id="rId17" Type="http://schemas.openxmlformats.org/officeDocument/2006/relationships/hyperlink" Target="http://oit.utk.edu/scc/RforSAS&amp;SPSSusers.pdf" TargetMode="External"/><Relationship Id="rId18" Type="http://schemas.openxmlformats.org/officeDocument/2006/relationships/hyperlink" Target="http://www.r-project.org/" TargetMode="External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ran.r-project.org/" TargetMode="External"/><Relationship Id="rId2" Type="http://schemas.openxmlformats.org/officeDocument/2006/relationships/hyperlink" Target="http://cran.r-project.org/" TargetMode="External"/><Relationship Id="rId3" Type="http://schemas.openxmlformats.org/officeDocument/2006/relationships/hyperlink" Target="http://cran.r-project.org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1800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R: An Open Source Statistical Environment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381880" cy="2054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tin Todo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todorov@unid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181480"/>
            <a:ext cx="8381880" cy="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71040" y="548640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IS 2008 (Luxembourg, 7-9 April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ACC3-2162-4DD5-AC79-18034BCE3DC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for Time Serie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666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al time series modeling tool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for Box-Jenkins typ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time seri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and decomposition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ompose(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ltWinter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dditional forecast methods and graphical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monthly or lower frequency time se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MO/SE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12-AR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through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et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View Econometric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 u="sng">
                <a:solidFill>
                  <a:srgbClr val="0059b8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GB" sz="1600" spc="-1" strike="noStrike" u="sng">
                <a:solidFill>
                  <a:srgbClr val="0059b8"/>
                </a:solidFill>
                <a:uFillTx/>
                <a:latin typeface="Times New Roman"/>
                <a:ea typeface="Times New Roman"/>
                <a:hlinkClick r:id="rId2"/>
              </a:rPr>
              <a:t>cran</a:t>
            </a:r>
            <a:r>
              <a:rPr b="0" lang="en-GB" sz="1600" spc="-1" strike="noStrike" u="sng">
                <a:solidFill>
                  <a:srgbClr val="0059b8"/>
                </a:solidFill>
                <a:uFillTx/>
                <a:latin typeface="Times New Roman"/>
                <a:ea typeface="Times New Roman"/>
                <a:hlinkClick r:id="rId3"/>
              </a:rPr>
              <a:t>.r-project.org/web/views/Econometrics.html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2CBA-F59D-4D3B-B6B4-0E4A217F83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for Time Series: Example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4" name="ts" descr=""/>
          <p:cNvPicPr/>
          <p:nvPr/>
        </p:nvPicPr>
        <p:blipFill>
          <a:blip r:embed="rId1"/>
          <a:stretch/>
        </p:blipFill>
        <p:spPr>
          <a:xfrm>
            <a:off x="0" y="1981080"/>
            <a:ext cx="6095880" cy="4311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71840" y="1905120"/>
            <a:ext cx="2590920" cy="33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an ARIMA model to a univariate time seri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and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sdi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for plotting time series analysis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A6B2-83DC-470F-ADB9-54D2781342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for Survey Analysi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280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survey samples are usually analysed by specialized software packages: SUDAAN, Bascula 4 (Statistics Netherlands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A provides much mo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hensive support for analysing survey data than SAS and SPSS and could successfully compete with the specialize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DF2D-C5F7-4B39-A380-444F6D4305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for Survey Analysi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594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 – packag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v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aculty.washington.edu/tlumley/survey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atification, clustering, possibly multistage sampling, unequal sampling probabilities or weights; multistage stratified random sampling with or without repla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statistics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ns, totals, ratios, quantiles, contingency tables, regression models, for the whole sample and for domain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iances by Taylor linearization or by replicate weights (BRR, jack-knife, bootstrap, or user-supplied)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phics: histograms, hexbin scatterplots, smoother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packages: pps, sampling, sampf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8DCF-9569-40AD-9914-AA01BAC5DD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 (Robust Statistics in R)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394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Out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ypical observations which are inconsistent with the rest of the data or deviate from the postulat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 arise through contamination, errors in data gathering, or misspecification of the mod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al statistical methods are very sensitive to suc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obus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reasonable results even when one or more outliers may appear in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regression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bust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multivariate method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rcov, robust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time series analysis - </a:t>
            </a:r>
            <a:r>
              <a:rPr b="0" i="1" lang="de-AT" sz="2000" spc="-1" strike="noStrike">
                <a:solidFill>
                  <a:srgbClr val="000000"/>
                </a:solidFill>
                <a:latin typeface="Arial Unicode MS"/>
              </a:rPr>
              <a:t>robust-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CB47-AAB8-4A59-9DB5-3AC31B3A41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: Exampl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Wages and Hours 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lib.stat.cmu.edu/DASL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ational sample of 6000 household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th a male head earning less than $15,000 annually in 196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9 independent variables; classified into 39 demographic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the labour supply (average hours)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available data (for the example we will consider only one variable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average age of the respondent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 will fit an Ordinary Least Squares (OLS) and a robust Least Trimmed Square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43200" y="4572000"/>
                <a:ext cx="2362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B162-25EC-4A12-89CE-23007CB387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4832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: Example OL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ls-line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31496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ls-index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146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D355-4119-4917-BFF9-7900180CCF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4832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: Example LT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lts-line" descr=""/>
          <p:cNvPicPr/>
          <p:nvPr/>
        </p:nvPicPr>
        <p:blipFill>
          <a:blip r:embed="rId1"/>
          <a:stretch/>
        </p:blipFill>
        <p:spPr>
          <a:xfrm>
            <a:off x="0" y="1828800"/>
            <a:ext cx="4314960" cy="4343400"/>
          </a:xfrm>
          <a:prstGeom prst="rect">
            <a:avLst/>
          </a:prstGeom>
          <a:ln w="0">
            <a:noFill/>
          </a:ln>
        </p:spPr>
      </p:pic>
      <p:pic>
        <p:nvPicPr>
          <p:cNvPr id="144" name="lts-index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146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524A-096A-4776-BDF7-7F77BEA890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: Example Covarianc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1752480"/>
            <a:ext cx="4114800" cy="45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ona &amp; Yohai (19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5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9b8"/>
                </a:solidFill>
                <a:latin typeface="Arial"/>
              </a:rPr>
              <a:t>rrco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ata set </a:t>
            </a:r>
            <a:r>
              <a:rPr b="1" lang="en-GB" sz="1800" spc="-1" strike="noStrike">
                <a:solidFill>
                  <a:srgbClr val="0059b8"/>
                </a:solidFill>
                <a:latin typeface="Arial"/>
              </a:rPr>
              <a:t>mar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ivariate data set 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correlation: 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change the largest and smallest value in the first coord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ple correlation becomes 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3200400"/>
                <a:ext cx="2232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9" name="maryo" descr=""/>
          <p:cNvPicPr/>
          <p:nvPr/>
        </p:nvPicPr>
        <p:blipFill>
          <a:blip r:embed="rId1"/>
          <a:stretch/>
        </p:blipFill>
        <p:spPr>
          <a:xfrm>
            <a:off x="152280" y="1903320"/>
            <a:ext cx="4343400" cy="433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3932-6F2F-44C3-A9B3-B4AEFCE39B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More R…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22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and the WEB - several projects that provide possibilities to use R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and the Missing – advanced missing value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vnml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L estimation for multivariate data with missin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itoo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ols for multiple imputation of miss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Multivariate Imputation by Chained Equ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M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Estimation of Missing Values for a Data Matr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M: provides methods for the visualisation as well as imputation of mi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Objects – R is an Object Oriented language (however in a quite different sense from C++, Java, C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0462-DFF9-4012-B767-93CABA0567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Outline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: the R Platform and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Learning Curve (is R hard to le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Extensibility (R Pack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the others (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for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for Surve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the Outliers (Robust Statistics in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 features (WEB, Missing data, OOP, G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37B7-8199-47DF-81C9-3D759FEC82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More R…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426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 Comman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basic statistics GUI, consisting of a window containing several menus, buttons, and information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iview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uite of companion applications for Wind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and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t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coerce data to LaTeX and HTML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weav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ramework for mixing text and R code for automatic report gen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3818-7DD3-46B0-B3CD-A8A93C7417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ummary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4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/SPSS: it is rarely used for routin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output is easily passed from one function to another to do further processing and to obtain mo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/SPSS: a special language with own syntax. The new functions are not run in the same way as the built-i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itself is a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/SPSS: A special language with own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is a vector and matrix based language complemented by additional package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itrx, Spar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0EFD-68E4-45AE-9EC3-F46636B8B6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ummary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4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blish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Cut and paste to a Word processor or exporting to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produce LaTex output (including graphics) using for example the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eav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Limited by the size of the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Limited by the size of the RAM, (not trivial) usage of databases for large data sets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Rectangular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Rectangular data frame, vector,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CB36-F0BC-4473-9110-C571B12210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ummary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2679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face to othe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R can be easily mixed with Fortran, C, C++ and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the source code of R itself as well as of its packages is a part of th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BFDE-5E35-4F9A-9E2C-215E05615E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83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ornik, K and Leisch</a:t>
            </a:r>
            <a:r>
              <a:rPr b="0" lang="de-AT" sz="18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, (2005)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 Version 2.1.0,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Computational Statistics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0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2 pp 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abacoff, R.  (2008) Quick-R for SAS and SPSS users, available from 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"/>
              </a:rPr>
              <a:t>http://www.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2"/>
              </a:rPr>
              <a:t>statmethods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3"/>
              </a:rPr>
              <a:t>.ne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ópez-de-Lacalle, J, (2006) The R-computing language: Potential for Asian economists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ournal of Asian Econom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6, pp 1066-10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uenchen, R. (2007), R for SAS and SPSS users, URL: 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4"/>
              </a:rPr>
              <a:t>http://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5"/>
              </a:rPr>
              <a:t>oit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6"/>
              </a:rPr>
              <a:t>.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7"/>
              </a:rPr>
              <a:t>utk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8"/>
              </a:rPr>
              <a:t>.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9"/>
              </a:rPr>
              <a:t>edu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0"/>
              </a:rPr>
              <a:t>/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1"/>
              </a:rPr>
              <a:t>scc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2"/>
              </a:rPr>
              <a:t>/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3"/>
              </a:rPr>
              <a:t>RforSAS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4"/>
              </a:rPr>
              <a:t>&amp;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5"/>
              </a:rPr>
              <a:t>SPSSusers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6"/>
              </a:rPr>
              <a:t>.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7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urrel, P. (2005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 Graph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Chapman &amp;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 Development Core Team (2007) R: A Language and Environment for Statistical Computing, R Foundation for Statistical Computing, Vienna, Austria, ISBN 3-900051-07-0. URL: 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8"/>
              </a:rPr>
              <a:t>http://www.r-project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mpl, M and Filzmoser, F (2008), Visualisation of Missing Values and Robust Imputation in Environmental Surveys, submitted for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heeler, D.A.,  (2007) Why Open Source Software / Free Software (OSS/FS, FLOSS, or FOSS)? Look at the Numb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F151-3A87-49F9-89FE-8A38B04E0F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What is R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850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“ a system for statistical computation and graphics. It provides, among other things, a programming language, high-level graphics, interfaces to other languages and debugging facilit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fter the S language an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MSS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S10"/>
              </a:rPr>
              <a:t>S was developed at Bell Labs (John Chambers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-Plus: a value added implementation of the S language- Insightful Corporation</a:t>
            </a:r>
            <a:r>
              <a:rPr b="0" lang="de-AT" sz="2000" spc="-1" strike="noStrike">
                <a:solidFill>
                  <a:srgbClr val="000000"/>
                </a:solidFill>
                <a:latin typeface="CMSS10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code written for S runs unaltered under R</a:t>
            </a:r>
            <a:r>
              <a:rPr b="0" lang="de-AT" sz="2000" spc="-1" strike="noStrike">
                <a:solidFill>
                  <a:srgbClr val="000000"/>
                </a:solidFill>
                <a:latin typeface="CMSS10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ly influenced by Scheme, a Lisp dialect</a:t>
            </a:r>
            <a:r>
              <a:rPr b="0" lang="de-AT" sz="2400" spc="-1" strike="noStrike">
                <a:solidFill>
                  <a:srgbClr val="000000"/>
                </a:solidFill>
                <a:latin typeface="CMSS1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2B6B-3491-456D-9F1A-3B7BCCDBF9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What is R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582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haka and Gentleman, University of Auckland (New Zea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93 a preliminary version of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95  released under the GNU Public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w: R-core team consisting of 17 members including John Chamber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 provides a wide variety of statistical (linear and non-linear modelling, classical statistical tests, time-series analysis, classification, clustering, robust methods and many more) and graphical techniques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 is available as Free Software under the terms of the GNU General Public License (GP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0AE4-550E-4AAC-A94E-D81568929C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Extensibility (R Packages)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9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important features of R is its extensibility by creating packages of functions an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 package system provides a framework for developing, documenting, and testing extension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 can include R code, documentation, data and foreign code written in C or Fort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 are distributed through the CRAN repository – </a:t>
            </a:r>
            <a:r>
              <a:rPr b="0" lang="en-US" sz="2400" spc="-1" strike="noStrike" u="sng">
                <a:solidFill>
                  <a:srgbClr val="0059b8"/>
                </a:solidFill>
                <a:uFillTx/>
                <a:latin typeface="CMTT10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59b8"/>
                </a:solidFill>
                <a:uFillTx/>
                <a:latin typeface="CMTT10"/>
                <a:hlinkClick r:id="rId2"/>
              </a:rPr>
              <a:t>cran</a:t>
            </a:r>
            <a:r>
              <a:rPr b="0" lang="en-US" sz="2400" spc="-1" strike="noStrike" u="sng">
                <a:solidFill>
                  <a:srgbClr val="0059b8"/>
                </a:solidFill>
                <a:uFillTx/>
                <a:latin typeface="CMTT10"/>
                <a:hlinkClick r:id="rId3"/>
              </a:rPr>
              <a:t>.r-project.org</a:t>
            </a:r>
            <a:r>
              <a:rPr b="0" lang="en-US" sz="2400" spc="-1" strike="noStrike">
                <a:solidFill>
                  <a:srgbClr val="000000"/>
                </a:solidFill>
                <a:latin typeface="CMTT10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more than 1300 packages covering a wide variety of statistical methods and algorithms. ‘base’ and ‘recommended’ packages are included in all binary distrib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40E9-A516-4B88-9A6E-7A096E5675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thers (R Interfaces)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and writing data (text files, XML, spreadsheet like data, e.g.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data formats of SAS, S-Plus, SPSS, STATA, Systat, Octave – 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e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ulation of Matlab – 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l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with RDBMS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racle, RMySql, RSQLite, RmSQL, RPgSQL, RODB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large data sets, 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h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simple key-value style database, the data are stored on disk but are handled lik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compiled native code in C, C++, Fortran,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7308-5D00-40DC-A52C-F31A1AB096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Graphics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391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important strengths of R – simple exploratory graphics as well as well-designed publication quality pl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phics can include mathematical symbols and formulae wher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roduce graphics in many form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 and PDF for including in LaTex and pdfLaTeX or for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G or JPEG for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metafiles for Word, PowerPoi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E086-0232-42E8-96EF-B823D8C77E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4832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Graphics: basic and multipanel plots (trellis)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simple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313520" cy="4343400"/>
          </a:xfrm>
          <a:prstGeom prst="rect">
            <a:avLst/>
          </a:prstGeom>
          <a:ln w="0">
            <a:noFill/>
          </a:ln>
        </p:spPr>
      </p:pic>
      <p:pic>
        <p:nvPicPr>
          <p:cNvPr id="115" name="splom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146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9E9E-7036-4563-8C63-3E1FBAD04E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4832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Graphics: parallel plot and coplo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oplot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31460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arallel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3149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9276-78CD-42C1-89C6-271ABF55D1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22:35:43Z</dcterms:created>
  <dc:creator>x</dc:creator>
  <dc:description/>
  <dc:language>en-US</dc:language>
  <cp:lastModifiedBy>Valentin Todorov</cp:lastModifiedBy>
  <dcterms:modified xsi:type="dcterms:W3CDTF">2008-04-04T10:05:56Z</dcterms:modified>
  <cp:revision>83</cp:revision>
  <dc:subject/>
  <dc:title>Performance: Test c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EnOHLogoNew2001</vt:lpwstr>
  </property>
  <property fmtid="{D5CDD505-2E9C-101B-9397-08002B2CF9AE}" pid="3" name="TemplateName">
    <vt:lpwstr>EN/FAD 109 0015/8</vt:lpwstr>
  </property>
  <property fmtid="{D5CDD505-2E9C-101B-9397-08002B2CF9AE}" pid="4" name="TemplateVersion">
    <vt:lpwstr>R1A</vt:lpwstr>
  </property>
</Properties>
</file>