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220C-563C-48A4-A734-FB131002F8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gretl.sourceforge.net/index.html" TargetMode="External"/><Relationship Id="rId2" Type="http://schemas.openxmlformats.org/officeDocument/2006/relationships/hyperlink" Target="http://gretl.sourceforge.net/index.html" TargetMode="External"/><Relationship Id="rId3" Type="http://schemas.openxmlformats.org/officeDocument/2006/relationships/hyperlink" Target="http://gretl.sourceforge.net/index.html" TargetMode="External"/><Relationship Id="rId4" Type="http://schemas.openxmlformats.org/officeDocument/2006/relationships/hyperlink" Target="http://gretl.sourceforge.net/index.html" TargetMode="External"/><Relationship Id="rId5" Type="http://schemas.openxmlformats.org/officeDocument/2006/relationships/hyperlink" Target="http://gretl.sourceforge.net/index.html" TargetMode="External"/><Relationship Id="rId6" Type="http://schemas.openxmlformats.org/officeDocument/2006/relationships/hyperlink" Target="http://www.sciencedirect.com/science/journal/00983004" TargetMode="External"/><Relationship Id="rId7" Type="http://schemas.openxmlformats.org/officeDocument/2006/relationships/hyperlink" Target="http://www.statmethods.net/index.html" TargetMode="External"/><Relationship Id="rId8" Type="http://schemas.openxmlformats.org/officeDocument/2006/relationships/hyperlink" Target="http://www.statmethods.net/index.html" TargetMode="External"/><Relationship Id="rId9" Type="http://schemas.openxmlformats.org/officeDocument/2006/relationships/hyperlink" Target="http://www.statmethods.net/index.html" TargetMode="External"/><Relationship Id="rId10" Type="http://schemas.openxmlformats.org/officeDocument/2006/relationships/slide" Target="../slides/slide24.xml"/><Relationship Id="rId11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used for routin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is easily passed from one function to another to do further processing and obtain mor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ro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performing repetitive tasks and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itself is a programming language. The added new functions are run exactly in the same way as the built-in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rix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base R itself is a vector- and matrix-based language, and it ships with many powerful tools for doing matrix manipulations. These are complemented by the packages Matrix and Spar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blish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and paste to a Word processor or exporting to 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possibilities to produce Tex output (including graphics) using the Sweav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by the size of th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mited by the size of the RAM, (not trivial) usage of databases for large data sets i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ngular data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tangular data frame, vector,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face to other programming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can be easily mixed with Fortran, C, C++ and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ource code of R as well as of the R packages is a part of the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used for routin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is easily passed from one function to another to do further processing and obtain mor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ro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performing repetitive tasks and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itself is a programming language. The added new functions are run exactly in the same way as the built-in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rix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base R itself is a vector- and matrix-based language, and it ships with many powerful tools for doing matrix manipulations. These are complemented by the packages Matrix and Spar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blish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and paste to a Word processor or exporting to 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possibilities to produce Tex output (including graphics) using the Sweav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by the size of th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mited by the size of the RAM, (not trivial) usage of databases for large data sets i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ngular data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tangular data frame, vector,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face to other programming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can be easily mixed with Fortran, C, C++ and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ource code of R as well as of the R packages is a part of the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used for routin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put is easily passed from one function to another to do further processing and obtain mor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ro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performing repetitive tasks and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itself is a programming language. The added new functions are run exactly in the same way as the built-in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rix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language used for adding new functionality. The new functions are not run in the same way as the built-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base R itself is a vector- and matrix-based language, and it ships with many powerful tools for doing matrix manipulations. These are complemented by the packages Matrix and Spar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blish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and paste to a Word processor or exporting to 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possibilities to produce Tex output (including graphics) using the Sweav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by the size of th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mited by the size of the RAM, (not trivial) usage of databases for large data sets i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ngular data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tangular data frame, vector,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face to other programming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can be easily mixed with Fortran, C, C++ and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ource code of R as well as of the R packages is a part of the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field, J. (1999) Rweb:Web-based Statistical Analysis,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tatistical Softwar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trell, A. (2008) Gnu Regression, Econometrics and Time-series Library, URL: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gretl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sourceforge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.net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nsky, E.C., (2002) R: a data analysis and statistical programming environment–an emerging tool for the geosciences,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Computers &amp; Geoscienc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, pp 1219-12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ik, K and Leisch</a:t>
            </a:r>
            <a:r>
              <a:rPr b="0" lang="de-AT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, (2005)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Version 2.1.0, C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utational Statistic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pp 197-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bacoff, R.  (2008) Quick-R for SAS and SPSS users, available from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statmethods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.net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ópez-de-Lacalle, J, (2006) The R-computing language: Potential for Asian economists,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Asian Economic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7 6, pp 1066-10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, D, Leisch, F., Hothorn, T. and Hornik, K., StatDataML: An XML Format for Statistical Da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RL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iteseer.ist.psu.edu/546737.html</a:t>
            </a:r>
            <a:r>
              <a:rPr b="0" lang="de-AT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nchen, R. (2007), R for SAS and SPSS users, URL: http://oit.utk.edu/scc/RforSAS&amp;SPSSuser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nchen, R. (2007), Comparison of SAS and SPSS Products with R Packages and Functions, mailto:BobM@utk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rel, P. (2005) R Graphics, Chapman &amp;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Development Core Team (2007) R: A Language and Environment for Statistical Computing,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ation for Statistical Computing, Vienna, Austria, ISBN 3-900051-07-0. URL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-project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, M and Filzmoser, F (2008)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sation of Missing Values and Robust Imputation in Environmental Surveys, submitted for pub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o R. (2008) R Functions for Time Series, URL: http://cran.r-project.org/doc/contrib/Ricci-refcard-t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ler, D.A.,  (2007) Why Open Source Software / Free Software (OSS/FS, FLOSS, or FOSS)? Look at the Numbers! URL: http://www.dwheeler.com/oss_fs_wh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8f"/>
                </a:solidFill>
                <a:latin typeface="CMSS10"/>
              </a:rPr>
              <a:t>Locations of 1000 seismic events near Fij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8f"/>
                </a:solidFill>
                <a:latin typeface="CMTT9"/>
              </a:rPr>
              <a:t>coplot(lat ~ long | depth, data = quakes, pch = 21, bg = "green3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93EBA-9B08-4C16-98FE-0C4A3D4D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7AC4-1B30-47B9-AB13-59E3958C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BFD9-8900-453E-B132-DF1EF234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3FDC-A46D-432E-A48A-64F15F4B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7743-92BF-4293-AF4F-08142805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E15C-8C00-44F9-9779-4CD5A808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7437-866C-42BF-8107-8FD2C573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B194-CE61-417D-9C77-DCDA6945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A354-4729-48BF-923B-69FF4D69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C657-A570-4B84-8619-6F636F9F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8AEC-7970-49FC-94F7-7BDAE39E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D106-D0C3-4637-9F06-29BF405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59b8"/>
                </a:solidFill>
                <a:latin typeface="Times New Roman"/>
              </a:rPr>
              <a:t>R: An Open Source Statistic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1095-E5A7-4033-B5CE-CE612D5A04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236196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unido-w70" descr=""/>
          <p:cNvPicPr/>
          <p:nvPr/>
        </p:nvPicPr>
        <p:blipFill>
          <a:blip r:embed="rId2"/>
          <a:stretch/>
        </p:blipFill>
        <p:spPr>
          <a:xfrm>
            <a:off x="8381880" y="0"/>
            <a:ext cx="60984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LOGO%20PMS" descr=""/>
          <p:cNvPicPr/>
          <p:nvPr/>
        </p:nvPicPr>
        <p:blipFill>
          <a:blip r:embed="rId2"/>
          <a:stretch/>
        </p:blipFill>
        <p:spPr>
          <a:xfrm>
            <a:off x="324000" y="101520"/>
            <a:ext cx="1558800" cy="37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ran.r-project.org/web/views/Econometrics.html" TargetMode="External"/><Relationship Id="rId2" Type="http://schemas.openxmlformats.org/officeDocument/2006/relationships/hyperlink" Target="http://cran.r-project.org/web/views/Econometrics.html" TargetMode="External"/><Relationship Id="rId3" Type="http://schemas.openxmlformats.org/officeDocument/2006/relationships/hyperlink" Target="http://cran.r-project.org/web/views/Econometrics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tatmethods.net/index.html" TargetMode="External"/><Relationship Id="rId2" Type="http://schemas.openxmlformats.org/officeDocument/2006/relationships/hyperlink" Target="http://www.statmethods.net/index.html" TargetMode="External"/><Relationship Id="rId3" Type="http://schemas.openxmlformats.org/officeDocument/2006/relationships/hyperlink" Target="http://www.statmethods.net/index.html" TargetMode="External"/><Relationship Id="rId4" Type="http://schemas.openxmlformats.org/officeDocument/2006/relationships/hyperlink" Target="http://oit.utk.edu/scc/RforSAS&amp;SPSSusers.pdf" TargetMode="External"/><Relationship Id="rId5" Type="http://schemas.openxmlformats.org/officeDocument/2006/relationships/hyperlink" Target="http://oit.utk.edu/scc/RforSAS&amp;SPSSusers.pdf" TargetMode="External"/><Relationship Id="rId6" Type="http://schemas.openxmlformats.org/officeDocument/2006/relationships/hyperlink" Target="http://oit.utk.edu/scc/RforSAS&amp;SPSSusers.pdf" TargetMode="External"/><Relationship Id="rId7" Type="http://schemas.openxmlformats.org/officeDocument/2006/relationships/hyperlink" Target="http://oit.utk.edu/scc/RforSAS&amp;SPSSusers.pdf" TargetMode="External"/><Relationship Id="rId8" Type="http://schemas.openxmlformats.org/officeDocument/2006/relationships/hyperlink" Target="http://oit.utk.edu/scc/RforSAS&amp;SPSSusers.pdf" TargetMode="External"/><Relationship Id="rId9" Type="http://schemas.openxmlformats.org/officeDocument/2006/relationships/hyperlink" Target="http://oit.utk.edu/scc/RforSAS&amp;SPSSusers.pdf" TargetMode="External"/><Relationship Id="rId10" Type="http://schemas.openxmlformats.org/officeDocument/2006/relationships/hyperlink" Target="http://oit.utk.edu/scc/RforSAS&amp;SPSSusers.pdf" TargetMode="External"/><Relationship Id="rId11" Type="http://schemas.openxmlformats.org/officeDocument/2006/relationships/hyperlink" Target="http://oit.utk.edu/scc/RforSAS&amp;SPSSusers.pdf" TargetMode="External"/><Relationship Id="rId12" Type="http://schemas.openxmlformats.org/officeDocument/2006/relationships/hyperlink" Target="http://oit.utk.edu/scc/RforSAS&amp;SPSSusers.pdf" TargetMode="External"/><Relationship Id="rId13" Type="http://schemas.openxmlformats.org/officeDocument/2006/relationships/hyperlink" Target="http://oit.utk.edu/scc/RforSAS&amp;SPSSusers.pdf" TargetMode="External"/><Relationship Id="rId14" Type="http://schemas.openxmlformats.org/officeDocument/2006/relationships/hyperlink" Target="http://oit.utk.edu/scc/RforSAS&amp;SPSSusers.pdf" TargetMode="External"/><Relationship Id="rId15" Type="http://schemas.openxmlformats.org/officeDocument/2006/relationships/hyperlink" Target="http://oit.utk.edu/scc/RforSAS&amp;SPSSusers.pdf" TargetMode="External"/><Relationship Id="rId16" Type="http://schemas.openxmlformats.org/officeDocument/2006/relationships/hyperlink" Target="http://oit.utk.edu/scc/RforSAS&amp;SPSSusers.pdf" TargetMode="External"/><Relationship Id="rId17" Type="http://schemas.openxmlformats.org/officeDocument/2006/relationships/hyperlink" Target="http://oit.utk.edu/scc/RforSAS&amp;SPSSusers.pdf" TargetMode="External"/><Relationship Id="rId18" Type="http://schemas.openxmlformats.org/officeDocument/2006/relationships/hyperlink" Target="http://www.r-project.org/" TargetMode="External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ran.r-project.org/" TargetMode="External"/><Relationship Id="rId2" Type="http://schemas.openxmlformats.org/officeDocument/2006/relationships/hyperlink" Target="http://cran.r-project.org/" TargetMode="External"/><Relationship Id="rId3" Type="http://schemas.openxmlformats.org/officeDocument/2006/relationships/hyperlink" Target="http://cran.r-project.org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1800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R: An Open Source Statistical Environment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381880" cy="2054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tin Todo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todorov@unid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181480"/>
            <a:ext cx="8381880" cy="0"/>
          </a:xfrm>
          <a:prstGeom prst="line">
            <a:avLst/>
          </a:prstGeom>
          <a:ln w="2844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71040" y="548640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IS 2008 (Luxembourg, 7-9 April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D09D-8944-43B9-9803-A7FFD1C496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for Time Serie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666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al time series modeling tool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for Box-Jenkins typ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time seri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and decomposition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ompose(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ltWinter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dditional forecast methods and graphical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monthly or lower frequency time se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MO/SE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12-AR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 through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et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View Econometric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 u="sng">
                <a:solidFill>
                  <a:srgbClr val="0059b8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en-GB" sz="1600" spc="-1" strike="noStrike" u="sng">
                <a:solidFill>
                  <a:srgbClr val="0059b8"/>
                </a:solidFill>
                <a:uFillTx/>
                <a:latin typeface="Times New Roman"/>
                <a:ea typeface="Times New Roman"/>
                <a:hlinkClick r:id="rId2"/>
              </a:rPr>
              <a:t>cran</a:t>
            </a:r>
            <a:r>
              <a:rPr b="0" lang="en-GB" sz="1600" spc="-1" strike="noStrike" u="sng">
                <a:solidFill>
                  <a:srgbClr val="0059b8"/>
                </a:solidFill>
                <a:uFillTx/>
                <a:latin typeface="Times New Roman"/>
                <a:ea typeface="Times New Roman"/>
                <a:hlinkClick r:id="rId3"/>
              </a:rPr>
              <a:t>.r-project.org/web/views/Econometrics.html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D6BD-F122-44A7-A2A3-13187AF6EC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for Time Series: Example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4" name="ts" descr=""/>
          <p:cNvPicPr/>
          <p:nvPr/>
        </p:nvPicPr>
        <p:blipFill>
          <a:blip r:embed="rId1"/>
          <a:stretch/>
        </p:blipFill>
        <p:spPr>
          <a:xfrm>
            <a:off x="0" y="1981080"/>
            <a:ext cx="6095880" cy="4311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71840" y="1905120"/>
            <a:ext cx="2590920" cy="33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an ARIMA model to a univariate time seri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and 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sdi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for plotting time series analysis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B54D-D83F-4B7F-8BE2-21B3D94BBE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for Survey Analysi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280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survey samples are usually analysed by specialized software packages: SUDAAN, Bascula 4 (Statistics Netherlands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A provides much mo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hensive support for analysing survey data than SAS and SPSS and could successfully compete with the specialize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E3E7-5D6C-4E33-BBDD-CBA20BB93E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for Survey Analysi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594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 – packag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rv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aculty.washington.edu/tlumley/survey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atification, clustering, possibly multistage sampling, unequal sampling probabilities or weights; multistage stratified random sampling with or without repla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statistics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ns, totals, ratios, quantiles, contingency tables, regression models, for the whole sample and for domain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riances by Taylor linearization or by replicate weights (BRR, jack-knife, bootstrap, or user-supplied)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phics: histograms, hexbin scatterplots, smoother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packages: pps, sampling, sampf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E137-89B3-47D1-87CB-3D774F9582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utliers (Robust Statistics in R)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394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Out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ypical observations which are inconsistent with the rest of the data or deviate from the postulat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 arise through contamination, errors in data gathering, or misspecification of the mod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al statistical methods are very sensitive to suc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obus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reasonable results even when one or more outliers may appear in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regression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bust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multivariate method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rcov, robust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time series analysis - </a:t>
            </a:r>
            <a:r>
              <a:rPr b="0" i="1" lang="de-AT" sz="2000" spc="-1" strike="noStrike">
                <a:solidFill>
                  <a:srgbClr val="000000"/>
                </a:solidFill>
                <a:latin typeface="Arial Unicode MS"/>
              </a:rPr>
              <a:t>robust-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9206D-5D80-4670-9B69-02CF06EDF9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utliers: Exampl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Wages and Hours 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lib.stat.cmu.edu/DASL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ational sample of 6000 household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th a male head earning less than $15,000 annually in 196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9 independent variables; classified into 39 demographic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the labour supply (average hours)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available data (for the example we will consider only one variable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average age of the respondent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 will fit an Ordinary Least Squares (OLS) and a robust Least Trimmed Square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43200" y="4572000"/>
                <a:ext cx="2362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63E2-7F4E-418D-B726-4867C629B5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4832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utliers: Example OL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ls-line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31496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ls-index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146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5AE3-E862-4AFE-8916-653803C8C5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4832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utliers: Example LT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lts-line" descr=""/>
          <p:cNvPicPr/>
          <p:nvPr/>
        </p:nvPicPr>
        <p:blipFill>
          <a:blip r:embed="rId1"/>
          <a:stretch/>
        </p:blipFill>
        <p:spPr>
          <a:xfrm>
            <a:off x="0" y="1828800"/>
            <a:ext cx="4314960" cy="4343400"/>
          </a:xfrm>
          <a:prstGeom prst="rect">
            <a:avLst/>
          </a:prstGeom>
          <a:ln w="0">
            <a:noFill/>
          </a:ln>
        </p:spPr>
      </p:pic>
      <p:pic>
        <p:nvPicPr>
          <p:cNvPr id="144" name="lts-index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146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3BEE-569E-4D39-AB2C-EC49C18CC4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utliers: Example Covarianc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1752480"/>
            <a:ext cx="4114800" cy="45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ona &amp; Yohai (19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5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9b8"/>
                </a:solidFill>
                <a:latin typeface="Arial"/>
              </a:rPr>
              <a:t>rrco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ata set </a:t>
            </a:r>
            <a:r>
              <a:rPr b="1" lang="en-GB" sz="1800" spc="-1" strike="noStrike">
                <a:solidFill>
                  <a:srgbClr val="0059b8"/>
                </a:solidFill>
                <a:latin typeface="Arial"/>
              </a:rPr>
              <a:t>mar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ivariate data set w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correlation: 0.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change the largest and smallest value in the first coord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ple correlation becomes 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3200400"/>
                <a:ext cx="2232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9" name="maryo" descr=""/>
          <p:cNvPicPr/>
          <p:nvPr/>
        </p:nvPicPr>
        <p:blipFill>
          <a:blip r:embed="rId1"/>
          <a:stretch/>
        </p:blipFill>
        <p:spPr>
          <a:xfrm>
            <a:off x="152280" y="1903320"/>
            <a:ext cx="4343400" cy="433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EF00-2077-4AFA-9936-57A35434C65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More R…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22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and the WEB - several projects that provide possibilities to use R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and the Missing – advanced missing value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vnml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L estimation for multivariate data with missin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itoo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ols for multiple imputation of miss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Multivariate Imputation by Chained Equ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M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Estimation of Missing Values for a Data Matr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M: provides methods for the visualisation as well as imputation of miss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Objects – R is an Object Oriented language (however in a quite different sense from C++, Java, C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7957-8974-4A96-A354-EA8C9E3125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Outline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: the R Platform and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Learning Curve (is R hard to le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Extensibility (R Pack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the others (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for 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for Surve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the Outliers (Robust Statistics in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 features (WEB, Missing data, OOP, G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4DD9-3D4D-44C4-A3A6-6DB5550DAE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More R…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426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 Comman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basic statistics GUI, consisting of a window containing several menus, buttons, and information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iview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uite of companion applications for Wind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and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t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coerce data to LaTeX and HTML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weav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ramework for mixing text and R code for automatic report gen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88C1-90F1-4D47-B606-272C0430E3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ummary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4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/SPSS: it is rarely used for routin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output is easily passed from one function to another to do further processing and to obtain mo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/SPSS: a special language with own syntax. The new functions are not run in the same way as the built-in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itself is a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/SPSS: A special language with own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is a vector and matrix based language complemented by additional package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itrx, Spar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8DA9-6C7A-4CEE-84DB-77ECBFBB21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ummary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4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blish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S/SPSS: Cut and paste to a Word processor or exporting to 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: produce LaTex output (including graphics) using for example the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eav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S/SPSS: Limited by the size of the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: Limited by the size of the RAM, (not trivial) usage of databases for large data sets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S/SPSS: Rectangular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: Rectangular data frame, vector,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2B93-0400-49E6-9FEC-03B4113E9E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ummary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2679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face to othe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S/SPSS: No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: R can be easily mixed with Fortran, C, C++ and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S/SPSS: No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: the source code of R itself as well as of its packages is a part of th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F1FB-F1CB-4CA2-93D9-D099B375C0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83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Hornik, K and Leisch</a:t>
            </a:r>
            <a:r>
              <a:rPr b="0" lang="de-AT" sz="18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, (2005)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 Version 2.1.0,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Computational Statistics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0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2 pp 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abacoff, R.  (2008) Quick-R for SAS and SPSS users, available from 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"/>
              </a:rPr>
              <a:t>http://www.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2"/>
              </a:rPr>
              <a:t>statmethods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3"/>
              </a:rPr>
              <a:t>.ne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ópez-de-Lacalle, J, (2006) The R-computing language: Potential for Asian economists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ournal of Asian Economi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6, pp 1066-10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uenchen, R. (2007), R for SAS and SPSS users, URL: 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4"/>
              </a:rPr>
              <a:t>http://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5"/>
              </a:rPr>
              <a:t>oit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6"/>
              </a:rPr>
              <a:t>.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7"/>
              </a:rPr>
              <a:t>utk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8"/>
              </a:rPr>
              <a:t>.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9"/>
              </a:rPr>
              <a:t>edu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0"/>
              </a:rPr>
              <a:t>/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1"/>
              </a:rPr>
              <a:t>scc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2"/>
              </a:rPr>
              <a:t>/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3"/>
              </a:rPr>
              <a:t>RforSAS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4"/>
              </a:rPr>
              <a:t>&amp;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5"/>
              </a:rPr>
              <a:t>SPSSusers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6"/>
              </a:rPr>
              <a:t>.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7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urrel, P. (2005)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 Graphi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Chapman &amp;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 Development Core Team (2007) R: A Language and Environment for Statistical Computing, R Foundation for Statistical Computing, Vienna, Austria, ISBN 3-900051-07-0. URL: </a:t>
            </a:r>
            <a:r>
              <a:rPr b="0" lang="en-GB" sz="1800" spc="-1" strike="noStrike" u="sng">
                <a:solidFill>
                  <a:srgbClr val="0059b8"/>
                </a:solidFill>
                <a:uFillTx/>
                <a:latin typeface="Arial"/>
                <a:ea typeface="Arial Unicode MS"/>
                <a:hlinkClick r:id="rId18"/>
              </a:rPr>
              <a:t>http://www.r-project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mpl, M and Filzmoser, F (2008), Visualisation of Missing Values and Robust Imputation in Environmental Surveys, submitted for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heeler, D.A.,  (2007) Why Open Source Software / Free Software (OSS/FS, FLOSS, or FOSS)? Look at the Numb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B41C-F66A-4324-AB63-B96ED4AAF9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What is R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850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is “ a system for statistical computation and graphics. It provides, among other things, a programming language, high-level graphics, interfaces to other languages and debugging facilit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fter the S language an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MSS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S10"/>
              </a:rPr>
              <a:t>S was developed at Bell Labs (John Chambers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-Plus: a value added implementation of the S language- Insightful Corporation</a:t>
            </a:r>
            <a:r>
              <a:rPr b="0" lang="de-AT" sz="2000" spc="-1" strike="noStrike">
                <a:solidFill>
                  <a:srgbClr val="000000"/>
                </a:solidFill>
                <a:latin typeface="CMSS10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code written for S runs unaltered under R</a:t>
            </a:r>
            <a:r>
              <a:rPr b="0" lang="de-AT" sz="2000" spc="-1" strike="noStrike">
                <a:solidFill>
                  <a:srgbClr val="000000"/>
                </a:solidFill>
                <a:latin typeface="CMSS10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ly influenced by Scheme, a Lisp dialect</a:t>
            </a:r>
            <a:r>
              <a:rPr b="0" lang="de-AT" sz="2400" spc="-1" strike="noStrike">
                <a:solidFill>
                  <a:srgbClr val="000000"/>
                </a:solidFill>
                <a:latin typeface="CMSS1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8FB8-D93E-405C-8526-4C7D04EE5E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What is R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582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haka and Gentleman, University of Auckland (New Zea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93 a preliminary version of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95  released under the GNU Public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w: R-core team consisting of 17 members including John Chamber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 provides a wide variety of statistical (linear and non-linear modelling, classical statistical tests, time-series analysis, classification, clustering, robust methods and many more) and graphical techniques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 is available as Free Software under the terms of the GNU General Public License (GP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F1DF-79AD-465F-9BBF-2D0A23138E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Extensibility (R Packages)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9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important features of R is its extensibility by creating packages of functions an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 package system provides a framework for developing, documenting, and testing extension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 can include R code, documentation, data and foreign code written in C or Fort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 are distributed through the CRAN repository – </a:t>
            </a:r>
            <a:r>
              <a:rPr b="0" lang="en-US" sz="2400" spc="-1" strike="noStrike" u="sng">
                <a:solidFill>
                  <a:srgbClr val="0059b8"/>
                </a:solidFill>
                <a:uFillTx/>
                <a:latin typeface="CMTT10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59b8"/>
                </a:solidFill>
                <a:uFillTx/>
                <a:latin typeface="CMTT10"/>
                <a:hlinkClick r:id="rId2"/>
              </a:rPr>
              <a:t>cran</a:t>
            </a:r>
            <a:r>
              <a:rPr b="0" lang="en-US" sz="2400" spc="-1" strike="noStrike" u="sng">
                <a:solidFill>
                  <a:srgbClr val="0059b8"/>
                </a:solidFill>
                <a:uFillTx/>
                <a:latin typeface="CMTT10"/>
                <a:hlinkClick r:id="rId3"/>
              </a:rPr>
              <a:t>.r-project.org</a:t>
            </a:r>
            <a:r>
              <a:rPr b="0" lang="en-US" sz="2400" spc="-1" strike="noStrike">
                <a:solidFill>
                  <a:srgbClr val="000000"/>
                </a:solidFill>
                <a:latin typeface="CMTT10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more than 1300 packages covering a wide variety of statistical methods and algorithms. ‘base’ and ‘recommended’ packages are included in all binary distrib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93C5-D27D-400D-B367-647A5B18A8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and the Others (R Interfaces)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and writing data (text files, XML, spreadsheet like data, e.g.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data formats of SAS, S-Plus, SPSS, STATA, Systat, Octave – pack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e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ulation of Matlab – pack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l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with RDBMS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racle, RMySql, RSQLite, RmSQL, RPgSQL, RODB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large data sets, 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h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simple key-value style database, the data are stored on disk but are handled lik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compiled native code in C, C++, Fortran,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0C4F-6475-4261-835B-691E2ABA20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Graphics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391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important strengths of R – simple exploratory graphics as well as well-designed publication quality pl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phics can include mathematical symbols and formulae wher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roduce graphics in many form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 and PDF for including in LaTex and pdfLaTeX or for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G or JPEG for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metafiles for Word, PowerPoi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D7913-4D96-4073-93B6-122CF67758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4832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Graphics: basic and multipanel plots (trellis)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simple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313520" cy="4343400"/>
          </a:xfrm>
          <a:prstGeom prst="rect">
            <a:avLst/>
          </a:prstGeom>
          <a:ln w="0">
            <a:noFill/>
          </a:ln>
        </p:spPr>
      </p:pic>
      <p:pic>
        <p:nvPicPr>
          <p:cNvPr id="115" name="splom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146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13DD-189C-4BA6-B6A7-D6668A39F2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4832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 Graphics: parallel plot and coplo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828800"/>
            <a:ext cx="4343400" cy="4419720"/>
          </a:xfrm>
          <a:prstGeom prst="rect">
            <a:avLst/>
          </a:prstGeom>
          <a:solidFill>
            <a:srgbClr val="fdf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oplot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31460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arallel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3149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SIS 2008, Luxembourg: Valentin Todor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7DEC-747B-4D2F-A664-0E21A69CAD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.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22:35:43Z</dcterms:created>
  <dc:creator>x</dc:creator>
  <dc:description/>
  <dc:language>en-US</dc:language>
  <cp:lastModifiedBy>Valentin Todorov</cp:lastModifiedBy>
  <dcterms:modified xsi:type="dcterms:W3CDTF">2008-04-04T10:05:56Z</dcterms:modified>
  <cp:revision>83</cp:revision>
  <dc:subject/>
  <dc:title>Performance: Test c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EnOHLogoNew2001</vt:lpwstr>
  </property>
  <property fmtid="{D5CDD505-2E9C-101B-9397-08002B2CF9AE}" pid="3" name="TemplateName">
    <vt:lpwstr>EN/FAD 109 0015/8</vt:lpwstr>
  </property>
  <property fmtid="{D5CDD505-2E9C-101B-9397-08002B2CF9AE}" pid="4" name="TemplateVersion">
    <vt:lpwstr>R1A</vt:lpwstr>
  </property>
</Properties>
</file>