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92900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12A-4E23-4899-97E1-F42BFF84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C1D-4CEC-4B91-BB8E-41B0AB24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978-BA1C-49AB-9B39-483D5206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14F-3358-4305-87AA-E7E27398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7D6E-5572-4E9C-B853-11E68108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8DEE-3B15-44E1-81B6-6EB939C6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7722-7585-4920-8ECD-756A09D1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EA45-926C-4A8D-A6B6-720478BC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CD18-D74A-4484-8E27-711AA796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EFF8-E44E-4AAD-850C-66248E77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AD0-0073-4E21-A12C-63CC07F1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160A-7FF7-4510-9834-E61986EB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443E-EE44-4CB4-8878-348A20C8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EE37-AE12-4DD2-861F-66367019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0743-44C3-45F0-B023-4D6736B4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CC1C-7FB4-4DF4-8A81-54C4DF13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D7C5-60E8-4983-934A-DB94F948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6F85-B71B-4C84-879C-2A012A0B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B23-BA95-48E3-AEED-CB2FFDF0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5FB-533B-4019-8039-2A98064A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5B1-1E6A-412D-801C-A7A16577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8254-96EB-45D6-BD60-7745020D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CB5-2642-445B-BCD0-63FFB5C4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7EE-43D3-41DD-9AD9-59A85E48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66"/>
                </a:solidFill>
                <a:latin typeface="MetaMediumLF-Roman"/>
              </a:rPr>
              <a:t>Click to edit the title text format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1" marL="853920" indent="-28548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2" marL="1273320" indent="-22860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3" marL="1692360" indent="-2286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4" marL="2111400" indent="-228600">
              <a:spcBef>
                <a:spcPts val="550"/>
              </a:spcBef>
              <a:buClr>
                <a:srgbClr val="990033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5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6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6400" y="6351480"/>
            <a:ext cx="107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609A-27D5-4185-9B83-BB5123A65EB5}" type="datetime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txBody>
          <a:bodyPr lIns="558000" rIns="0" tIns="0" bIns="108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04040" y="6351480"/>
            <a:ext cx="70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  </a:t>
            </a: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Folie </a:t>
            </a:r>
            <a:fld id="{5756918D-C69E-4815-A110-FC66997EBA4B}" type="slidenum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477120"/>
            <a:ext cx="6118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 Federal Statistical Office Germany, I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1402920"/>
            <a:ext cx="827748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66"/>
                </a:solidFill>
                <a:latin typeface="Agfa Rotis Semisans Ex Bold"/>
              </a:rPr>
              <a:t>Click to edit the title text format</a:t>
            </a:r>
            <a:endParaRPr b="0" lang="en-US" sz="48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46" name=""/>
          <p:cNvSpPr/>
          <p:nvPr/>
        </p:nvSpPr>
        <p:spPr>
          <a:xfrm>
            <a:off x="557280" y="6351480"/>
            <a:ext cx="575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Federal Statistical Office Getm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2" marL="914400" indent="130320" algn="ctr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3" marL="1371600" indent="92160" algn="ctr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4" marL="1828800" indent="54000" algn="ctr">
              <a:spcBef>
                <a:spcPts val="349"/>
              </a:spcBef>
              <a:buClr>
                <a:srgbClr val="990033"/>
              </a:buClr>
              <a:buFont typeface="MetaMediumLF-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  <a:p>
            <a:pPr lvl="5" marL="1828800" indent="54000">
              <a:spcBef>
                <a:spcPts val="349"/>
              </a:spcBef>
              <a:buClr>
                <a:srgbClr val="000000"/>
              </a:buClr>
              <a:buFont typeface="MetaMedium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  <a:p>
            <a:pPr lvl="6" marL="1828800" indent="54000">
              <a:spcBef>
                <a:spcPts val="349"/>
              </a:spcBef>
              <a:buClr>
                <a:srgbClr val="000000"/>
              </a:buClr>
              <a:buFont typeface="MetaMedium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66"/>
                </a:solidFill>
                <a:latin typeface="MetaMediumLF-Roman"/>
              </a:rPr>
              <a:t>Click to edit the title text format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1" marL="853920" indent="-28548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2" marL="1273320" indent="-22860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3" marL="1692360" indent="-2286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4" marL="2111400" indent="-228600">
              <a:spcBef>
                <a:spcPts val="550"/>
              </a:spcBef>
              <a:buClr>
                <a:srgbClr val="990033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5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6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7016400" y="6351480"/>
            <a:ext cx="107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EE86-E6EE-4C6E-A722-DC3B2AC59C2D}" type="datetime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txBody>
          <a:bodyPr lIns="558000" rIns="0" tIns="0" bIns="108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8204040" y="6351480"/>
            <a:ext cx="70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  </a:t>
            </a: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Folie </a:t>
            </a:r>
            <a:fld id="{6C70B02C-A1F1-4AD6-81EA-FF25B24E390A}" type="slidenum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477120"/>
            <a:ext cx="6118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 Federal Statistical Office Germany, I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402920"/>
            <a:ext cx="827748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66"/>
                </a:solidFill>
                <a:latin typeface="Agfa Rotis Semisans Ex Bold"/>
              </a:rPr>
              <a:t>Click to edit the title text format</a:t>
            </a:r>
            <a:endParaRPr b="0" lang="en-US" sz="48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131" name=""/>
          <p:cNvSpPr/>
          <p:nvPr/>
        </p:nvSpPr>
        <p:spPr>
          <a:xfrm>
            <a:off x="557280" y="6351480"/>
            <a:ext cx="575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Federal Statistical Office Getm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6104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666666"/>
                </a:solidFill>
                <a:latin typeface="Times New Roman"/>
              </a:rPr>
              <a:t>Introduction Topic (iii): </a:t>
            </a:r>
            <a:r>
              <a:rPr b="1" lang="de-DE" sz="4400" spc="-1" strike="noStrike">
                <a:solidFill>
                  <a:srgbClr val="990033"/>
                </a:solidFill>
                <a:latin typeface="Times New Roman"/>
              </a:rPr>
              <a:t>Accessibility</a:t>
            </a:r>
            <a:r>
              <a:rPr b="1" lang="de-DE" sz="4400" spc="-1" strike="noStrike">
                <a:solidFill>
                  <a:srgbClr val="666666"/>
                </a:solidFill>
                <a:latin typeface="Times New Roman"/>
              </a:rPr>
              <a:t> and </a:t>
            </a:r>
            <a:r>
              <a:rPr b="1" lang="de-DE" sz="4400" spc="-1" strike="noStrike">
                <a:solidFill>
                  <a:srgbClr val="990033"/>
                </a:solidFill>
                <a:latin typeface="Times New Roman"/>
              </a:rPr>
              <a:t>usability</a:t>
            </a:r>
            <a:r>
              <a:rPr b="1" lang="de-DE" sz="4400" spc="-1" strike="noStrike">
                <a:solidFill>
                  <a:srgbClr val="666666"/>
                </a:solidFill>
                <a:latin typeface="Times New Roman"/>
              </a:rPr>
              <a:t> of IT-applications </a:t>
            </a:r>
            <a:br>
              <a:rPr sz="4400"/>
            </a:br>
            <a:endParaRPr b="0" lang="en-US" sz="44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-360" y="4868640"/>
            <a:ext cx="8596440" cy="14475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99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Accessibility</a:t>
            </a:r>
            <a:br>
              <a:rPr sz="4800"/>
            </a:br>
            <a:br>
              <a:rPr sz="48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Application should be able to be accessed by: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different users (independent of hard- and software- equipment)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other applications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Wingdings"/>
                <a:ea typeface="Wingdings"/>
              </a:rPr>
              <a:t></a:t>
            </a: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 Standards (Internet, WebService, SDMX,…)</a:t>
            </a:r>
            <a:endParaRPr b="0" lang="en-US" sz="4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D34-7DBE-4F0C-A101-3E1F781FE4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D018B-6120-498C-862A-1529773098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Usability</a:t>
            </a:r>
            <a:br>
              <a:rPr sz="4800"/>
            </a:br>
            <a:br>
              <a:rPr sz="4800"/>
            </a:br>
            <a:r>
              <a:rPr b="1" lang="en-GB" sz="3400" spc="-1" strike="noStrike">
                <a:solidFill>
                  <a:srgbClr val="666666"/>
                </a:solidFill>
                <a:latin typeface="Times New Roman"/>
              </a:rPr>
              <a:t>E</a:t>
            </a: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xisting ISO standards: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ISO 9241 “Ergonomic requirements for office work with visual display terminals” part 1-14 – ISO 13407 “”User-oriented design of interactive systems” </a:t>
            </a:r>
            <a:endParaRPr b="0" lang="en-US" sz="4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F83-2FEA-472E-9A37-43570ACD77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80396-70E3-4C68-A587-6B6C401A45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ISO 9241</a:t>
            </a:r>
            <a:br>
              <a:rPr sz="4800"/>
            </a:br>
            <a:br>
              <a:rPr sz="48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A lot of recommendations, definitions  and rules for the design  of GUI, command lines, …  (sometimes in contradiction to each other and depending on the user)</a:t>
            </a:r>
            <a:endParaRPr b="0" lang="en-US" sz="4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1FA-9B54-4444-8E0F-F5E757E6B79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0011E-5094-4378-84D6-A595C755C8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ISO 13407</a:t>
            </a:r>
            <a:br>
              <a:rPr sz="48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Description of the usability engineering process (process-cycle for software development)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user interview for requirements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derivation of criteria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prototyping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signed agreements (user – “developer”)</a:t>
            </a:r>
            <a:endParaRPr b="0" lang="en-US" sz="4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D5C-59D7-42C7-B4CE-C1AB2752F9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C3C64-30A5-4E18-9832-61FB15785D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Lessons learned:</a:t>
            </a:r>
            <a:br>
              <a:rPr sz="4800"/>
            </a:b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It is crucial to interact with the user, and there are two ways to proceed</a:t>
            </a:r>
            <a:br>
              <a:rPr sz="4800"/>
            </a:b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- in advance to </a:t>
            </a:r>
            <a:br>
              <a:rPr sz="4800"/>
            </a:b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- based on </a:t>
            </a:r>
            <a:br>
              <a:rPr sz="4800"/>
            </a:b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the developed application </a:t>
            </a:r>
            <a:br>
              <a:rPr sz="4800"/>
            </a:br>
            <a:endParaRPr b="0" lang="en-US" sz="48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7C8-208F-4120-BFBF-07CEAD0E7EE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982C5-8A89-4C7E-9C35-BD2118B671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In advance (15, 16, 18, 19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666666"/>
                </a:solidFill>
                <a:latin typeface="Times New Roman"/>
              </a:rPr>
              <a:t>- </a:t>
            </a: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Analysis of user’s needs, based on own experience and interaction with the user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Design of tool (e.g. for presentation graph, map, table 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58F-0981-445F-BD14-13CF4F1FB3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51E07-B2D1-45C0-960C-55EF1DD782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based on the developed application (14, 20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666666"/>
                </a:solidFill>
                <a:latin typeface="Times New Roman"/>
              </a:rPr>
              <a:t>- </a:t>
            </a: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Testing (Eye tracking, “think aloud”,…)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User monitoring (workshop, …)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Redesign of the application based on results</a:t>
            </a:r>
            <a:br>
              <a:rPr sz="4000"/>
            </a:br>
            <a:endParaRPr b="0" lang="en-US" sz="4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922-45A8-441C-AB5B-5DD2998DBF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ED578-BF85-4083-A037-5F6C34ED74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Questions / problems</a:t>
            </a:r>
            <a:br>
              <a:rPr sz="4800"/>
            </a:br>
            <a:r>
              <a:rPr b="1" lang="en-GB" sz="4800" spc="-1" strike="noStrike">
                <a:solidFill>
                  <a:srgbClr val="990033"/>
                </a:solidFill>
                <a:latin typeface="Times New Roman"/>
              </a:rPr>
              <a:t>to be answered /solved</a:t>
            </a:r>
            <a:br>
              <a:rPr sz="4800"/>
            </a:br>
            <a:r>
              <a:rPr b="1" lang="en-GB" sz="4800" spc="-1" strike="noStrike">
                <a:solidFill>
                  <a:srgbClr val="666666"/>
                </a:solidFill>
                <a:latin typeface="Times New Roman"/>
              </a:rPr>
              <a:t>- </a:t>
            </a: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How to get “the user” (internal / external; represenative sample) 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Usability engineering process is time / money consuming</a:t>
            </a:r>
            <a:br>
              <a:rPr sz="4000"/>
            </a:br>
            <a:r>
              <a:rPr b="1" lang="en-GB" sz="4000" spc="-1" strike="noStrike">
                <a:solidFill>
                  <a:srgbClr val="666666"/>
                </a:solidFill>
                <a:latin typeface="Times New Roman"/>
              </a:rPr>
              <a:t>- Testing might be too late (application has got bad image, redesign more expensive)</a:t>
            </a:r>
            <a:endParaRPr b="0" lang="en-US" sz="40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311-E5A5-4E5A-B030-9FD8E77973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CB8B4-1ABC-4593-9CC9-456654A20B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1:48:16Z</dcterms:created>
  <dc:creator>Schrey-E</dc:creator>
  <dc:description/>
  <dc:language>en-US</dc:language>
  <cp:lastModifiedBy>ONU</cp:lastModifiedBy>
  <cp:lastPrinted>2003-10-28T16:32:09Z</cp:lastPrinted>
  <dcterms:modified xsi:type="dcterms:W3CDTF">2007-05-09T10:46:30Z</dcterms:modified>
  <cp:revision>88</cp:revision>
  <dc:subject/>
  <dc:title>Umsetzung des Betriebs -und Nutzungskonzepts von GENESIS in Verbindung mit der Einführung neuer Auswertungs- und Analysewerkzeuge</dc:title>
</cp:coreProperties>
</file>