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92900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A08-A2F6-4732-99F7-A3BCBA58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426-02B1-4C6C-8617-1B3A0F20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6D3-618C-4A7D-9B78-35F1FE27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3A7-1539-41F9-A498-705273DA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207-83B0-46CD-A63E-8DCD7D30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7412-8B5E-48F4-8B7B-111BE6AB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F5C-F4EC-4D6C-A594-FD0A608C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CE53-8277-48B5-8975-CAA76EE3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5252-CAE7-42DB-8291-A6F342A7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39D8-E20A-45B5-8C06-F7821388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A34-4597-452C-8C36-E8106212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E8C5-7007-44DA-9D8E-11170E1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EF48-F41F-4937-B7CC-C18AC75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C82E-4B5D-4E93-AA02-5203B65E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14F2-84B6-4EDE-9B72-11B330FE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62EA-BC12-4E0C-A0ED-8E99A87E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AF52-50FF-4009-A3CA-C428393C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A642-9C1E-49A7-BD97-DDE7C91C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203-612D-42F6-9900-6B26ADEF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5C3-514A-407F-8C0F-E996CFB0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0E0-3BA2-4D64-A683-5A94ED0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DE9-694A-4A34-9BA9-6DA023F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9A8-5D84-4BC8-8F7C-A60CDE1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EB6-C950-48ED-B83D-48949A5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53E8-4013-46DC-9A70-A56B8A239847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9A25E417-2D77-4F85-BC8C-501D0FF36641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914400" indent="130320" algn="ctr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371600" indent="92160" algn="ctr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1828800" indent="54000" algn="ctr">
              <a:spcBef>
                <a:spcPts val="349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C46C-300A-40A9-914D-80D828EA31B3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567E95C2-DE96-43AF-BA25-A790FB1C9BFF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31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Introduction Topic (iii): </a:t>
            </a:r>
            <a:r>
              <a:rPr b="1" lang="de-DE" sz="4400" spc="-1" strike="noStrike">
                <a:solidFill>
                  <a:srgbClr val="990033"/>
                </a:solidFill>
                <a:latin typeface="Times New Roman"/>
              </a:rPr>
              <a:t>Accessibility</a:t>
            </a: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 and </a:t>
            </a:r>
            <a:r>
              <a:rPr b="1" lang="de-DE" sz="4400" spc="-1" strike="noStrike">
                <a:solidFill>
                  <a:srgbClr val="990033"/>
                </a:solidFill>
                <a:latin typeface="Times New Roman"/>
              </a:rPr>
              <a:t>usability</a:t>
            </a: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 of IT-applications </a:t>
            </a:r>
            <a:br>
              <a:rPr sz="4400"/>
            </a:br>
            <a:endParaRPr b="0" lang="en-US" sz="44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4868640"/>
            <a:ext cx="8596440" cy="14475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Accessibility</a:t>
            </a:r>
            <a:br>
              <a:rPr sz="4800"/>
            </a:br>
            <a:br>
              <a:rPr sz="48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Application should be able to be accessed by: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different users (independent of hard- and software- equipment)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other applications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Wingdings"/>
                <a:ea typeface="Wingdings"/>
              </a:rPr>
              <a:t>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 Standards (Internet, WebService, SDMX,…)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392-49EE-4EAE-9A46-3E289EDC36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99261-1B8E-4669-B5B0-72B50A1B66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Usability</a:t>
            </a:r>
            <a:br>
              <a:rPr sz="4800"/>
            </a:br>
            <a:br>
              <a:rPr sz="4800"/>
            </a:br>
            <a:r>
              <a:rPr b="1" lang="en-GB" sz="3400" spc="-1" strike="noStrike">
                <a:solidFill>
                  <a:srgbClr val="666666"/>
                </a:solidFill>
                <a:latin typeface="Times New Roman"/>
              </a:rPr>
              <a:t>E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xisting ISO standards: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ISO 9241 “Ergonomic requirements for office work with visual display terminals” part 1-14 – ISO 13407 “”User-oriented design of interactive systems” 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297-26ED-40AC-B797-2BE28D74C6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FAF1C-9B00-4493-8D05-5A89E5C324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ISO 9241</a:t>
            </a:r>
            <a:br>
              <a:rPr sz="4800"/>
            </a:br>
            <a:br>
              <a:rPr sz="48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A lot of recommendations, definitions  and rules for the design  of GUI, command lines, …  (sometimes in contradiction to each other and depending on the user)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621-4C95-4A63-B245-A4EC249B6B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EC106-7A4B-4E1F-AD73-33CA211283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ISO 13407</a:t>
            </a:r>
            <a:br>
              <a:rPr sz="48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Description of the usability engineering process (process-cycle for software development)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user interview for requirements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derivation of criteria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prototyping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signed agreements (user – “developer”)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6DA-E3E9-4989-A097-BC367AB589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9956A-8434-4F52-965B-705482E4CF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Lessons learned: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It is crucial to interact with the user, and there are two ways to proceed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- in advance to 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- based on 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the developed application </a:t>
            </a:r>
            <a:br>
              <a:rPr sz="4800"/>
            </a:br>
            <a:endParaRPr b="0" lang="en-US" sz="48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E48-9750-460B-BB2E-8F8A6C4143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E6F9F-251A-4F5F-9817-E89D725E43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In advance (15, 16, 18, 19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666666"/>
                </a:solidFill>
                <a:latin typeface="Times New Roman"/>
              </a:rPr>
              <a:t>- 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Analysis of user’s needs, based on own experience and interaction with the user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Design of tool (e.g. for presentation graph, map, table 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1F5-78A7-41D8-8425-146970CF3C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0F580-BB79-499B-AEC4-F6927CB32D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based on the developed application (14, 20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666666"/>
                </a:solidFill>
                <a:latin typeface="Times New Roman"/>
              </a:rPr>
              <a:t>- 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Testing (Eye tracking, “think aloud”,…)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User monitoring (workshop, …)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Redesign of the application based on results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999-B0A7-48F3-97D2-758F7E9937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58F5F-1643-4C1E-967B-0C6BC0E351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Questions / problems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to be answered /solved</a:t>
            </a:r>
            <a:br>
              <a:rPr sz="4800"/>
            </a:br>
            <a:r>
              <a:rPr b="1" lang="en-GB" sz="4800" spc="-1" strike="noStrike">
                <a:solidFill>
                  <a:srgbClr val="666666"/>
                </a:solidFill>
                <a:latin typeface="Times New Roman"/>
              </a:rPr>
              <a:t>- 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How to get “the user” (internal / external; represenative sample) 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Usability engineering process is time / money consuming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Testing might be too late (application has got bad image, redesign more expensive)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21B-A931-462B-9A01-5CB3371616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97A50-7D6F-4457-95DA-C1A609571A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1:48:16Z</dcterms:created>
  <dc:creator>Schrey-E</dc:creator>
  <dc:description/>
  <dc:language>en-US</dc:language>
  <cp:lastModifiedBy>ONU</cp:lastModifiedBy>
  <cp:lastPrinted>2003-10-28T16:32:09Z</cp:lastPrinted>
  <dcterms:modified xsi:type="dcterms:W3CDTF">2007-05-09T10:46:30Z</dcterms:modified>
  <cp:revision>88</cp:revision>
  <dc:subject/>
  <dc:title>Umsetzung des Betriebs -und Nutzungskonzepts von GENESIS in Verbindung mit der Einführung neuer Auswertungs- und Analysewerkzeuge</dc:title>
</cp:coreProperties>
</file>