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D24C85-CD40-42EA-9AC7-8F1A660E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F207F9-81BC-481E-9A1D-AB2AACF2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165050-2C68-484A-B180-84265F9DB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F9A560-38BC-4AA2-9CE0-F2C0FFB8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F55DF0-7573-480A-BD67-DA61A2D7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A9FF5C-AE50-41E3-8386-A014E7B4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263C3E-8140-4205-8407-C54481AC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50D845-F2C3-4543-9B63-AB702D057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079-FC55-4C42-8D19-B14E731D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59C-9D44-4A01-907F-140B40D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3FB-C26B-4D58-A73E-1A4DD489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86A-9C68-477A-AE28-9295FE06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C32-37E7-423E-94E1-6F7A5F4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B77-3AE9-4C64-AC06-9A61AD5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228-7982-4204-B56C-741BB489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648-2EF5-4436-8F99-345A2BE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37-D8BC-492C-922B-555D2B5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0B2-5228-46C0-AD0C-F7C6AA2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BEE-FECC-4D85-B18C-7E88D81D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AD8-2A01-4665-B42F-1F03112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054D-E1CB-4774-81F6-BCB8DCCC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1480" y="14320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050"/>
                </a:solidFill>
                <a:latin typeface="Verdana"/>
              </a:rPr>
              <a:t>Governance and Management of Statistical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473508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 Ital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9240" y="5310360"/>
            <a:ext cx="5608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on the Management of Statistical Information Systems (MS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va, May 8-10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6160" y="451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Topic 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papers presented under this topic deal with changes in statistical offices and their impact on IT strategies, particularly changes in funding, outsourcing, and service partner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Invited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taly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An Integration Approach for the Statisticsl Information Systems of ISTAT using SDMX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Norway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New IT Strategies for Statistics No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Eurostat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IT Outsourcing in 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a2050"/>
                </a:solidFill>
                <a:latin typeface="Arial Unicode MS"/>
              </a:rPr>
              <a:t>Supporting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srael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The Impact of Strategy on Technological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IMF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The IMF’s Strategic Sourcing Initiative:  The View from the Statistics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weden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 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ECE: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IT Governance and Service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6:  Exploitation of IT Service</a:t>
            </a:r>
            <a:br>
              <a:rPr sz="3200"/>
            </a:b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Partnerships within Statistic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20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Key mess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ild service partnership relationships around the mutual achievement of business objecti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dentify key issues impacting sourcing management objectives of the statistical ag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velop a checklist of functional requirements for an overall service management fra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236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1.  Process change/reengineering within statistical organizations: Italy, Norway, Israel,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tive support of senio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volvement of business not only I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overnance structures:  committees, new organizational structures, review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ow to deal with internal resistance to change and established pow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ser acceptance:  incentives or dictated from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etrics:  how to know when success is re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ortance of increased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ope for sharing strategies across statistic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236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1.  Process change/reengineering within statistical organizations: Italy, Norway, Israel, Sweden (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inued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ser acceptance:  incentives or dictated from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etrics:  how can an organization know when success is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ortance of increased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ope for sharing strategies across statistic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2050"/>
                </a:solidFill>
                <a:latin typeface="Arial Unicode MS"/>
              </a:rPr>
              <a:t>MSIS 2007:  </a:t>
            </a:r>
            <a:r>
              <a:rPr b="1" lang="en-US" sz="3200" spc="-1" strike="noStrike">
                <a:solidFill>
                  <a:srgbClr val="ba2050"/>
                </a:solidFill>
                <a:latin typeface="Arial Unicode MS"/>
              </a:rPr>
              <a:t>Governance &amp; Management of Statistical Informa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20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2. Partnerships/Global Sourcing model:  Eurostat, IMF, 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mmon themes: limited resources, search for efficiencies, standardization of processes,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Need to create well-defined requirements and establish procedures for QA and U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stablish clear roles and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act on short and long-term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fining and implementing the role of the project manager:  new mix of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is the scope and costs for returning to an insourced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4:08:56Z</dcterms:created>
  <dc:creator>Trial User</dc:creator>
  <dc:description/>
  <dc:language>en-US</dc:language>
  <cp:lastModifiedBy>ONU</cp:lastModifiedBy>
  <dcterms:modified xsi:type="dcterms:W3CDTF">2007-05-08T12:10:48Z</dcterms:modified>
  <cp:revision>425</cp:revision>
  <dc:subject/>
  <dc:title>PowerPoint Presentation</dc:title>
</cp:coreProperties>
</file>