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CB7EE65-478B-4504-8D74-2A00368B9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1D8A58D-90B2-4625-9C5F-6D7C25810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489A496-9CD8-4105-A67A-37359554F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35BCD7A-6966-4D37-BD54-F26B12FC1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BE2C364-AEE2-46F8-8474-4C5AC6CBF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ED58B22-1C0F-417E-A679-8843CF2A5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B32CEAD-5634-4463-9495-BE36626D4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5AFED86-81A0-40BA-B5CE-A7274CED4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2996-D242-40B9-86CB-61A1D8AF3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E936-F26E-4887-B1D2-8985F620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FF81-8478-4C6F-A327-CBFDC44A1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B33C-96ED-4A92-BE23-2659ADE91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6B98-6015-4D85-A01E-23E21F8A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3872-EDFA-4156-B276-11E4734C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0181-7FCF-4F3B-8EC7-ABCC2957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AB3B-B27B-4886-A3BD-2FCDC155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F409-F8C6-45ED-9B0B-2D6EDA1A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5679-3EC2-405E-80DC-4548A354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9615-9A14-4E8E-9C96-C1D74FD1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E924-A1F1-4975-9CB3-DAB9DEA5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6CAC-3C1C-46A4-9968-13FAAFF54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01480" y="14320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2050"/>
                </a:solidFill>
                <a:latin typeface="Verdana"/>
              </a:rPr>
              <a:t>Governance and Management of Statistical Information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447920" y="4735080"/>
            <a:ext cx="640080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 Italic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89240" y="5310360"/>
            <a:ext cx="56088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eting on the Management of Statistical Information Systems (MSI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va, May 8-10,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86160" y="4518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a2050"/>
                </a:solidFill>
                <a:latin typeface="Arial Unicode MS"/>
              </a:rPr>
              <a:t>Topic 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The papers presented under this topic deal with changes in statistical offices and their impact on IT strategies, particularly changes in funding, outsourcing, and service partnershi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a2050"/>
                </a:solidFill>
                <a:latin typeface="Arial Unicode MS"/>
              </a:rPr>
              <a:t>Invited Paper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Italy: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  An Integration Approach for the Statisticsl Information Systems of ISTAT using SDMX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Norway: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  New IT Strategies for Statistics Nor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Eurostat: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 IT Outsourcing in Eurost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a2050"/>
                </a:solidFill>
                <a:latin typeface="Arial Unicode MS"/>
              </a:rPr>
              <a:t>Supporting Paper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Israel: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  The Impact of Strategy on Technological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IMF: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  The IMF’s Strategic Sourcing Initiative:  The View from the Statistics Depar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Sweden: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  Process Reengine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ECE: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 IT Governance and Service Partner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2050"/>
                </a:solidFill>
                <a:latin typeface="Arial Unicode MS"/>
              </a:rPr>
              <a:t>MSIS 2006:  Exploitation of IT Service</a:t>
            </a:r>
            <a:br>
              <a:rPr sz="3200"/>
            </a:br>
            <a:r>
              <a:rPr b="1" lang="en-GB" sz="3200" spc="-1" strike="noStrike">
                <a:solidFill>
                  <a:srgbClr val="ba2050"/>
                </a:solidFill>
                <a:latin typeface="Arial Unicode MS"/>
              </a:rPr>
              <a:t>Partnerships within Statistical Organiz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4120" y="208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Key mess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Build service partnership relationships around the mutual achievement of business objectiv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Identify key issues impacting sourcing management objectives of the statistical agenc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Develop a checklist of functional requirements for an overall service management fra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2050"/>
                </a:solidFill>
                <a:latin typeface="Arial Unicode MS"/>
              </a:rPr>
              <a:t>MSIS 2007:  </a:t>
            </a:r>
            <a:r>
              <a:rPr b="1" lang="en-US" sz="3200" spc="-1" strike="noStrike">
                <a:solidFill>
                  <a:srgbClr val="ba2050"/>
                </a:solidFill>
                <a:latin typeface="Arial Unicode MS"/>
              </a:rPr>
              <a:t>Governance &amp; Management of Statistical Information System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4120" y="1623600"/>
            <a:ext cx="777240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1.  Process change/reengineering within statistical organizations: Italy, Norway, Israel, Sw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Active support of senior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Involvement of business not only I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Governance structures:  committees, new organizational structures, review bo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How to deal with internal resistance to change and established pow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User acceptance:  incentives or dictated from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Metrics:  how to know when success is re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mportance of increased standard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cope for sharing strategies across statistical 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2050"/>
                </a:solidFill>
                <a:latin typeface="Arial Unicode MS"/>
              </a:rPr>
              <a:t>MSIS 2007:  </a:t>
            </a:r>
            <a:r>
              <a:rPr b="1" lang="en-US" sz="3200" spc="-1" strike="noStrike">
                <a:solidFill>
                  <a:srgbClr val="ba2050"/>
                </a:solidFill>
                <a:latin typeface="Arial Unicode MS"/>
              </a:rPr>
              <a:t>Governance &amp; Management of Statistical Information System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4120" y="1623600"/>
            <a:ext cx="777240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Unicode MS"/>
              </a:rPr>
              <a:t>1.  Process change/reengineering within statistical organizations: Italy, Norway, Israel, Sweden (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continued</a:t>
            </a:r>
            <a:r>
              <a:rPr b="1" lang="en-GB" sz="2800" spc="-1" strike="noStrike">
                <a:solidFill>
                  <a:srgbClr val="000000"/>
                </a:solidFill>
                <a:latin typeface="Arial Unicode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User acceptance:  incentives or dictated from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Metrics:  how can an organization know when success is real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mportance of increased standard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cope for sharing strategies across statistical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2050"/>
                </a:solidFill>
                <a:latin typeface="Arial Unicode MS"/>
              </a:rPr>
              <a:t>MSIS 2007:  </a:t>
            </a:r>
            <a:r>
              <a:rPr b="1" lang="en-US" sz="3200" spc="-1" strike="noStrike">
                <a:solidFill>
                  <a:srgbClr val="ba2050"/>
                </a:solidFill>
                <a:latin typeface="Arial Unicode MS"/>
              </a:rPr>
              <a:t>Governance &amp; Management of Statistical Information System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4120" y="208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2. Partnerships/Global Sourcing model:  Eurostat, IMF, UN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Common themes: limited resources, search for efficiencies, standardization of processes, flex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Need to create well-defined requirements and establish procedures for QA and U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Establish clear roles and responsi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Impact on short and long-term bu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Defining and implementing the role of the project manager:  new mix of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hat is the scope and costs for returning to an insourced mod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04:08:56Z</dcterms:created>
  <dc:creator>Trial User</dc:creator>
  <dc:description/>
  <dc:language>en-US</dc:language>
  <cp:lastModifiedBy>ONU</cp:lastModifiedBy>
  <dcterms:modified xsi:type="dcterms:W3CDTF">2007-05-08T12:10:48Z</dcterms:modified>
  <cp:revision>425</cp:revision>
  <dc:subject/>
  <dc:title>PowerPoint Presentation</dc:title>
</cp:coreProperties>
</file>