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31.jpeg" ContentType="image/jpe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4F3-3D07-4F7D-AB97-063F7D6A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802-C45A-42E1-A1F6-791C4771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DC0-2352-499C-B62F-830096C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911-A7CF-4191-8913-62F65644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621-E434-4F89-91B9-22CA061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3CC-28E3-4486-A0E3-4EB8A7D2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13E-1C4B-49FD-8042-7766486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B17-0510-4651-BB00-29CA7A2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E2E-CB0C-49FA-BEBD-4288E07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786-3C9D-41EA-9801-5F893CD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B4A-A781-4CED-8DA5-D8EF3D5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1C1-822C-4108-A323-1CDEAF3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72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13A-1274-4E81-BA82-094CC2443C6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71326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Unicode MS"/>
              </a:rPr>
              <a:t>Management and Technology  </a:t>
            </a:r>
            <a:endParaRPr b="0" lang="en-US" sz="2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Unicode MS"/>
              <a:ea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65300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ra H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3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9011" t="13068" r="13864" b="39131"/>
          <a:stretch/>
        </p:blipFill>
        <p:spPr>
          <a:xfrm>
            <a:off x="0" y="5923080"/>
            <a:ext cx="4319640" cy="93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5720" y="907920"/>
            <a:ext cx="2398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91160" y="1844640"/>
            <a:ext cx="1968480" cy="232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07000" y="4191120"/>
            <a:ext cx="1798920" cy="116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9400" y="4343400"/>
            <a:ext cx="1752840" cy="113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08440" y="4495680"/>
            <a:ext cx="1658880" cy="89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73200" y="5756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 PERIO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8D9-2D7B-45C1-BF60-438E7F2BCE7B}" type="slidenum">
              <a:t>1</a:t>
            </a:fld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2012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421000"/>
            <a:ext cx="8388360" cy="28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 IT divisions were 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e organiz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integration betwe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above 4 div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720" y="1676520"/>
            <a:ext cx="81532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Results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0"/>
            <a:ext cx="1152360" cy="1800360"/>
            <a:chOff x="179280" y="0"/>
            <a:chExt cx="1152360" cy="1800360"/>
          </a:xfrm>
        </p:grpSpPr>
        <p:grpSp>
          <p:nvGrpSpPr>
            <p:cNvPr id="128" name=""/>
            <p:cNvGrpSpPr/>
            <p:nvPr/>
          </p:nvGrpSpPr>
          <p:grpSpPr>
            <a:xfrm>
              <a:off x="179280" y="0"/>
              <a:ext cx="397440" cy="787320"/>
              <a:chOff x="179280" y="0"/>
              <a:chExt cx="397440" cy="7873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47592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338760" y="224640"/>
              <a:ext cx="397440" cy="787320"/>
              <a:chOff x="338760" y="224640"/>
              <a:chExt cx="397440" cy="787320"/>
            </a:xfrm>
          </p:grpSpPr>
          <p:pic>
            <p:nvPicPr>
              <p:cNvPr id="1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760" y="22464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760" y="70056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536400" y="487800"/>
              <a:ext cx="318960" cy="749880"/>
              <a:chOff x="536400" y="487800"/>
              <a:chExt cx="318960" cy="7498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" y="487800"/>
                <a:ext cx="31896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941040"/>
                <a:ext cx="29808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695880" y="787320"/>
              <a:ext cx="397440" cy="787320"/>
              <a:chOff x="695880" y="787320"/>
              <a:chExt cx="397440" cy="7873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5880" y="78732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5880" y="126324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934200" y="1013040"/>
              <a:ext cx="397440" cy="787320"/>
              <a:chOff x="934200" y="1013040"/>
              <a:chExt cx="397440" cy="7873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934200" y="101304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4200" y="148896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" name="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15eb"/>
                </a:solidFill>
                <a:latin typeface="Times New Roman"/>
              </a:rPr>
              <a:t>COMPETITION was the positive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E76-61D7-43CE-8FDF-EAA23FE2855E}" type="slidenum">
              <a:t>10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989000"/>
            <a:ext cx="89154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1,500,000 visitors per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200,000 html pages (sta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able Database with about 20,000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ntations, Tables, Press releases, Statistical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344600" cy="1557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 dynamic web site was developed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CE1-9A9C-4E02-972A-3F47463E7D55}" type="slidenum">
              <a:t>11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3429000"/>
            <a:ext cx="2438280" cy="2914560"/>
            <a:chOff x="0" y="3429000"/>
            <a:chExt cx="2438280" cy="29145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36196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38080" y="514332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 txBox="1"/>
          <p:nvPr/>
        </p:nvSpPr>
        <p:spPr>
          <a:xfrm>
            <a:off x="838080" y="2895480"/>
            <a:ext cx="2028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cc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INT  RNET</a:t>
            </a:r>
            <a:endParaRPr b="0" lang="en-US" sz="2400" spc="1" strike="noStrike">
              <a:ln w="9360">
                <a:solidFill>
                  <a:srgbClr val="3366cc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48520" y="2666880"/>
            <a:ext cx="2028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cc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INTR  NET</a:t>
            </a:r>
            <a:endParaRPr b="0" lang="en-US" sz="2400" spc="1" strike="noStrike">
              <a:ln w="9360">
                <a:solidFill>
                  <a:srgbClr val="3366cc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62920" y="2666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3880" y="2971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597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990720"/>
            <a:ext cx="2214720" cy="15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876920" y="163440"/>
            <a:ext cx="1218960" cy="96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1218960" cy="96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315200" y="762120"/>
            <a:ext cx="1219320" cy="9666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181480" y="914400"/>
            <a:ext cx="914400" cy="533160"/>
            <a:chOff x="5181480" y="91440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181480" y="914760"/>
              <a:ext cx="530280" cy="35136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21200" y="119628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2880" y="129024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914400"/>
              <a:ext cx="914400" cy="47520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205320" y="853560"/>
            <a:ext cx="1020240" cy="807480"/>
            <a:chOff x="6205320" y="853560"/>
            <a:chExt cx="1020240" cy="807480"/>
          </a:xfrm>
        </p:grpSpPr>
        <p:sp>
          <p:nvSpPr>
            <p:cNvPr id="166" name=""/>
            <p:cNvSpPr/>
            <p:nvPr/>
          </p:nvSpPr>
          <p:spPr>
            <a:xfrm rot="1169400">
              <a:off x="6289560" y="932040"/>
              <a:ext cx="530280" cy="35100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69400">
              <a:off x="6822720" y="137124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9400">
              <a:off x="6496200" y="136152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69400">
              <a:off x="6258240" y="992160"/>
              <a:ext cx="914400" cy="47484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943680" y="1260720"/>
            <a:ext cx="970920" cy="1018080"/>
            <a:chOff x="6943680" y="1260720"/>
            <a:chExt cx="970920" cy="1018080"/>
          </a:xfrm>
        </p:grpSpPr>
        <p:sp>
          <p:nvSpPr>
            <p:cNvPr id="171" name=""/>
            <p:cNvSpPr/>
            <p:nvPr/>
          </p:nvSpPr>
          <p:spPr>
            <a:xfrm rot="7578000">
              <a:off x="7350480" y="1475640"/>
              <a:ext cx="530280" cy="35100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578000">
              <a:off x="6989040" y="180072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7578000">
              <a:off x="7102800" y="157752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7578000">
              <a:off x="6995160" y="1532160"/>
              <a:ext cx="914400" cy="47484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86000" y="4267080"/>
            <a:ext cx="2214720" cy="1832040"/>
            <a:chOff x="2286000" y="4267080"/>
            <a:chExt cx="2214720" cy="1832040"/>
          </a:xfrm>
        </p:grpSpPr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>
              <a:off x="2286000" y="4267080"/>
              <a:ext cx="2214720" cy="18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 flipH="1">
              <a:off x="2959920" y="4434480"/>
              <a:ext cx="602640" cy="49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 rot="1120200">
            <a:off x="4533840" y="152280"/>
            <a:ext cx="3962520" cy="2335320"/>
          </a:xfrm>
          <a:prstGeom prst="ellipse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38280" y="1143000"/>
            <a:ext cx="3570120" cy="2622960"/>
            <a:chOff x="2438280" y="1143000"/>
            <a:chExt cx="3570120" cy="2622960"/>
          </a:xfrm>
        </p:grpSpPr>
        <p:sp>
          <p:nvSpPr>
            <p:cNvPr id="180" name=""/>
            <p:cNvSpPr/>
            <p:nvPr/>
          </p:nvSpPr>
          <p:spPr>
            <a:xfrm flipH="1">
              <a:off x="2438280" y="1143000"/>
              <a:ext cx="1905120" cy="83808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19520" y="1447920"/>
              <a:ext cx="3188880" cy="2318040"/>
              <a:chOff x="2819520" y="1447920"/>
              <a:chExt cx="3188880" cy="23180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506400" y="2447280"/>
                <a:ext cx="2502000" cy="1318680"/>
                <a:chOff x="3506400" y="2447280"/>
                <a:chExt cx="2502000" cy="1318680"/>
              </a:xfrm>
            </p:grpSpPr>
            <p:sp>
              <p:nvSpPr>
                <p:cNvPr id="183" name=""/>
                <p:cNvSpPr/>
                <p:nvPr/>
              </p:nvSpPr>
              <p:spPr>
                <a:xfrm rot="4807200">
                  <a:off x="4838400" y="2043720"/>
                  <a:ext cx="530280" cy="1605240"/>
                </a:xfrm>
                <a:custGeom>
                  <a:avLst/>
                  <a:gdLst/>
                  <a:ahLst/>
                  <a:rect l="l" t="t" r="r" b="b"/>
                  <a:pathLst>
                    <a:path w="657" h="553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8" y="51"/>
                      </a:lnTo>
                      <a:lnTo>
                        <a:pt x="91" y="65"/>
                      </a:lnTo>
                      <a:lnTo>
                        <a:pt x="130" y="82"/>
                      </a:lnTo>
                      <a:lnTo>
                        <a:pt x="171" y="99"/>
                      </a:lnTo>
                      <a:lnTo>
                        <a:pt x="206" y="114"/>
                      </a:lnTo>
                      <a:lnTo>
                        <a:pt x="234" y="131"/>
                      </a:lnTo>
                      <a:lnTo>
                        <a:pt x="262" y="145"/>
                      </a:lnTo>
                      <a:lnTo>
                        <a:pt x="292" y="165"/>
                      </a:lnTo>
                      <a:lnTo>
                        <a:pt x="319" y="186"/>
                      </a:lnTo>
                      <a:lnTo>
                        <a:pt x="350" y="214"/>
                      </a:lnTo>
                      <a:lnTo>
                        <a:pt x="375" y="238"/>
                      </a:lnTo>
                      <a:lnTo>
                        <a:pt x="399" y="263"/>
                      </a:lnTo>
                      <a:lnTo>
                        <a:pt x="423" y="290"/>
                      </a:lnTo>
                      <a:lnTo>
                        <a:pt x="451" y="323"/>
                      </a:lnTo>
                      <a:lnTo>
                        <a:pt x="482" y="361"/>
                      </a:lnTo>
                      <a:lnTo>
                        <a:pt x="500" y="388"/>
                      </a:lnTo>
                      <a:lnTo>
                        <a:pt x="519" y="417"/>
                      </a:lnTo>
                      <a:lnTo>
                        <a:pt x="537" y="445"/>
                      </a:lnTo>
                      <a:lnTo>
                        <a:pt x="554" y="473"/>
                      </a:lnTo>
                      <a:lnTo>
                        <a:pt x="574" y="516"/>
                      </a:lnTo>
                      <a:lnTo>
                        <a:pt x="587" y="552"/>
                      </a:lnTo>
                      <a:lnTo>
                        <a:pt x="656" y="540"/>
                      </a:lnTo>
                      <a:lnTo>
                        <a:pt x="633" y="481"/>
                      </a:lnTo>
                      <a:lnTo>
                        <a:pt x="600" y="417"/>
                      </a:lnTo>
                      <a:lnTo>
                        <a:pt x="564" y="364"/>
                      </a:lnTo>
                      <a:lnTo>
                        <a:pt x="519" y="306"/>
                      </a:lnTo>
                      <a:lnTo>
                        <a:pt x="458" y="225"/>
                      </a:lnTo>
                      <a:lnTo>
                        <a:pt x="389" y="156"/>
                      </a:lnTo>
                      <a:lnTo>
                        <a:pt x="317" y="99"/>
                      </a:lnTo>
                      <a:lnTo>
                        <a:pt x="253" y="63"/>
                      </a:lnTo>
                      <a:lnTo>
                        <a:pt x="173" y="28"/>
                      </a:lnTo>
                      <a:lnTo>
                        <a:pt x="10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4807200">
                  <a:off x="4012200" y="2957760"/>
                  <a:ext cx="274320" cy="1149120"/>
                </a:xfrm>
                <a:custGeom>
                  <a:avLst/>
                  <a:gdLst/>
                  <a:ahLst/>
                  <a:rect l="l" t="t" r="r" b="b"/>
                  <a:pathLst>
                    <a:path w="340" h="396">
                      <a:moveTo>
                        <a:pt x="0" y="305"/>
                      </a:moveTo>
                      <a:lnTo>
                        <a:pt x="0" y="395"/>
                      </a:lnTo>
                      <a:lnTo>
                        <a:pt x="14" y="372"/>
                      </a:lnTo>
                      <a:lnTo>
                        <a:pt x="29" y="348"/>
                      </a:lnTo>
                      <a:lnTo>
                        <a:pt x="49" y="323"/>
                      </a:lnTo>
                      <a:lnTo>
                        <a:pt x="74" y="295"/>
                      </a:lnTo>
                      <a:lnTo>
                        <a:pt x="97" y="264"/>
                      </a:lnTo>
                      <a:lnTo>
                        <a:pt x="123" y="235"/>
                      </a:lnTo>
                      <a:lnTo>
                        <a:pt x="145" y="211"/>
                      </a:lnTo>
                      <a:lnTo>
                        <a:pt x="166" y="189"/>
                      </a:lnTo>
                      <a:lnTo>
                        <a:pt x="189" y="169"/>
                      </a:lnTo>
                      <a:lnTo>
                        <a:pt x="212" y="149"/>
                      </a:lnTo>
                      <a:lnTo>
                        <a:pt x="239" y="128"/>
                      </a:lnTo>
                      <a:lnTo>
                        <a:pt x="265" y="112"/>
                      </a:lnTo>
                      <a:lnTo>
                        <a:pt x="291" y="98"/>
                      </a:lnTo>
                      <a:lnTo>
                        <a:pt x="319" y="82"/>
                      </a:lnTo>
                      <a:lnTo>
                        <a:pt x="339" y="70"/>
                      </a:lnTo>
                      <a:lnTo>
                        <a:pt x="339" y="0"/>
                      </a:lnTo>
                      <a:lnTo>
                        <a:pt x="302" y="14"/>
                      </a:lnTo>
                      <a:lnTo>
                        <a:pt x="248" y="44"/>
                      </a:lnTo>
                      <a:lnTo>
                        <a:pt x="178" y="84"/>
                      </a:lnTo>
                      <a:lnTo>
                        <a:pt x="127" y="126"/>
                      </a:lnTo>
                      <a:lnTo>
                        <a:pt x="80" y="186"/>
                      </a:lnTo>
                      <a:lnTo>
                        <a:pt x="35" y="235"/>
                      </a:lnTo>
                      <a:lnTo>
                        <a:pt x="0" y="284"/>
                      </a:lnTo>
                      <a:lnTo>
                        <a:pt x="0" y="393"/>
                      </a:lnTo>
                      <a:lnTo>
                        <a:pt x="0" y="392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4807200">
                  <a:off x="3723480" y="2913480"/>
                  <a:ext cx="328320" cy="717120"/>
                </a:xfrm>
                <a:custGeom>
                  <a:avLst/>
                  <a:gdLst/>
                  <a:ahLst/>
                  <a:rect l="l" t="t" r="r" b="b"/>
                  <a:pathLst>
                    <a:path w="407" h="247">
                      <a:moveTo>
                        <a:pt x="0" y="0"/>
                      </a:moveTo>
                      <a:lnTo>
                        <a:pt x="0" y="75"/>
                      </a:lnTo>
                      <a:lnTo>
                        <a:pt x="26" y="81"/>
                      </a:lnTo>
                      <a:lnTo>
                        <a:pt x="53" y="88"/>
                      </a:lnTo>
                      <a:lnTo>
                        <a:pt x="78" y="96"/>
                      </a:lnTo>
                      <a:lnTo>
                        <a:pt x="105" y="105"/>
                      </a:lnTo>
                      <a:lnTo>
                        <a:pt x="136" y="115"/>
                      </a:lnTo>
                      <a:lnTo>
                        <a:pt x="169" y="126"/>
                      </a:lnTo>
                      <a:lnTo>
                        <a:pt x="210" y="141"/>
                      </a:lnTo>
                      <a:lnTo>
                        <a:pt x="249" y="157"/>
                      </a:lnTo>
                      <a:lnTo>
                        <a:pt x="276" y="168"/>
                      </a:lnTo>
                      <a:lnTo>
                        <a:pt x="306" y="185"/>
                      </a:lnTo>
                      <a:lnTo>
                        <a:pt x="340" y="203"/>
                      </a:lnTo>
                      <a:lnTo>
                        <a:pt x="371" y="222"/>
                      </a:lnTo>
                      <a:lnTo>
                        <a:pt x="393" y="236"/>
                      </a:lnTo>
                      <a:lnTo>
                        <a:pt x="406" y="246"/>
                      </a:lnTo>
                      <a:lnTo>
                        <a:pt x="406" y="151"/>
                      </a:lnTo>
                      <a:lnTo>
                        <a:pt x="381" y="129"/>
                      </a:lnTo>
                      <a:lnTo>
                        <a:pt x="330" y="95"/>
                      </a:lnTo>
                      <a:lnTo>
                        <a:pt x="270" y="63"/>
                      </a:lnTo>
                      <a:lnTo>
                        <a:pt x="217" y="44"/>
                      </a:lnTo>
                      <a:lnTo>
                        <a:pt x="156" y="22"/>
                      </a:lnTo>
                      <a:lnTo>
                        <a:pt x="94" y="7"/>
                      </a:lnTo>
                      <a:lnTo>
                        <a:pt x="5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4807200">
                  <a:off x="4403520" y="1998360"/>
                  <a:ext cx="914400" cy="2170440"/>
                </a:xfrm>
                <a:custGeom>
                  <a:avLst/>
                  <a:gdLst/>
                  <a:ahLst/>
                  <a:rect l="l" t="t" r="r" b="b"/>
                  <a:pathLst>
                    <a:path w="1133" h="748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92" y="0"/>
                      </a:lnTo>
                      <a:lnTo>
                        <a:pt x="129" y="0"/>
                      </a:lnTo>
                      <a:lnTo>
                        <a:pt x="165" y="1"/>
                      </a:lnTo>
                      <a:lnTo>
                        <a:pt x="200" y="4"/>
                      </a:lnTo>
                      <a:lnTo>
                        <a:pt x="234" y="9"/>
                      </a:lnTo>
                      <a:lnTo>
                        <a:pt x="265" y="18"/>
                      </a:lnTo>
                      <a:lnTo>
                        <a:pt x="300" y="26"/>
                      </a:lnTo>
                      <a:lnTo>
                        <a:pt x="341" y="40"/>
                      </a:lnTo>
                      <a:lnTo>
                        <a:pt x="378" y="56"/>
                      </a:lnTo>
                      <a:lnTo>
                        <a:pt x="413" y="70"/>
                      </a:lnTo>
                      <a:lnTo>
                        <a:pt x="453" y="89"/>
                      </a:lnTo>
                      <a:lnTo>
                        <a:pt x="490" y="110"/>
                      </a:lnTo>
                      <a:lnTo>
                        <a:pt x="527" y="133"/>
                      </a:lnTo>
                      <a:lnTo>
                        <a:pt x="559" y="154"/>
                      </a:lnTo>
                      <a:lnTo>
                        <a:pt x="594" y="175"/>
                      </a:lnTo>
                      <a:lnTo>
                        <a:pt x="623" y="196"/>
                      </a:lnTo>
                      <a:lnTo>
                        <a:pt x="656" y="221"/>
                      </a:lnTo>
                      <a:lnTo>
                        <a:pt x="689" y="245"/>
                      </a:lnTo>
                      <a:lnTo>
                        <a:pt x="722" y="276"/>
                      </a:lnTo>
                      <a:lnTo>
                        <a:pt x="751" y="299"/>
                      </a:lnTo>
                      <a:lnTo>
                        <a:pt x="782" y="333"/>
                      </a:lnTo>
                      <a:lnTo>
                        <a:pt x="811" y="362"/>
                      </a:lnTo>
                      <a:lnTo>
                        <a:pt x="837" y="392"/>
                      </a:lnTo>
                      <a:lnTo>
                        <a:pt x="860" y="426"/>
                      </a:lnTo>
                      <a:lnTo>
                        <a:pt x="879" y="454"/>
                      </a:lnTo>
                      <a:lnTo>
                        <a:pt x="892" y="483"/>
                      </a:lnTo>
                      <a:lnTo>
                        <a:pt x="1132" y="444"/>
                      </a:lnTo>
                      <a:lnTo>
                        <a:pt x="1099" y="465"/>
                      </a:lnTo>
                      <a:lnTo>
                        <a:pt x="1060" y="486"/>
                      </a:lnTo>
                      <a:lnTo>
                        <a:pt x="1028" y="505"/>
                      </a:lnTo>
                      <a:lnTo>
                        <a:pt x="1005" y="519"/>
                      </a:lnTo>
                      <a:lnTo>
                        <a:pt x="979" y="538"/>
                      </a:lnTo>
                      <a:lnTo>
                        <a:pt x="959" y="554"/>
                      </a:lnTo>
                      <a:lnTo>
                        <a:pt x="939" y="571"/>
                      </a:lnTo>
                      <a:lnTo>
                        <a:pt x="919" y="592"/>
                      </a:lnTo>
                      <a:lnTo>
                        <a:pt x="900" y="613"/>
                      </a:lnTo>
                      <a:lnTo>
                        <a:pt x="877" y="640"/>
                      </a:lnTo>
                      <a:lnTo>
                        <a:pt x="853" y="668"/>
                      </a:lnTo>
                      <a:lnTo>
                        <a:pt x="833" y="692"/>
                      </a:lnTo>
                      <a:lnTo>
                        <a:pt x="811" y="723"/>
                      </a:lnTo>
                      <a:lnTo>
                        <a:pt x="793" y="747"/>
                      </a:lnTo>
                      <a:lnTo>
                        <a:pt x="774" y="737"/>
                      </a:lnTo>
                      <a:lnTo>
                        <a:pt x="755" y="723"/>
                      </a:lnTo>
                      <a:lnTo>
                        <a:pt x="736" y="710"/>
                      </a:lnTo>
                      <a:lnTo>
                        <a:pt x="711" y="697"/>
                      </a:lnTo>
                      <a:lnTo>
                        <a:pt x="688" y="685"/>
                      </a:lnTo>
                      <a:lnTo>
                        <a:pt x="666" y="675"/>
                      </a:lnTo>
                      <a:lnTo>
                        <a:pt x="644" y="667"/>
                      </a:lnTo>
                      <a:lnTo>
                        <a:pt x="620" y="657"/>
                      </a:lnTo>
                      <a:lnTo>
                        <a:pt x="595" y="648"/>
                      </a:lnTo>
                      <a:lnTo>
                        <a:pt x="568" y="640"/>
                      </a:lnTo>
                      <a:lnTo>
                        <a:pt x="545" y="632"/>
                      </a:lnTo>
                      <a:lnTo>
                        <a:pt x="521" y="623"/>
                      </a:lnTo>
                      <a:lnTo>
                        <a:pt x="495" y="618"/>
                      </a:lnTo>
                      <a:lnTo>
                        <a:pt x="472" y="611"/>
                      </a:lnTo>
                      <a:lnTo>
                        <a:pt x="448" y="605"/>
                      </a:lnTo>
                      <a:lnTo>
                        <a:pt x="422" y="597"/>
                      </a:lnTo>
                      <a:lnTo>
                        <a:pt x="386" y="591"/>
                      </a:lnTo>
                      <a:lnTo>
                        <a:pt x="633" y="535"/>
                      </a:lnTo>
                      <a:lnTo>
                        <a:pt x="617" y="491"/>
                      </a:lnTo>
                      <a:lnTo>
                        <a:pt x="598" y="459"/>
                      </a:lnTo>
                      <a:lnTo>
                        <a:pt x="563" y="398"/>
                      </a:lnTo>
                      <a:lnTo>
                        <a:pt x="542" y="371"/>
                      </a:lnTo>
                      <a:lnTo>
                        <a:pt x="521" y="343"/>
                      </a:lnTo>
                      <a:lnTo>
                        <a:pt x="483" y="297"/>
                      </a:lnTo>
                      <a:lnTo>
                        <a:pt x="461" y="270"/>
                      </a:lnTo>
                      <a:lnTo>
                        <a:pt x="435" y="236"/>
                      </a:lnTo>
                      <a:lnTo>
                        <a:pt x="409" y="213"/>
                      </a:lnTo>
                      <a:lnTo>
                        <a:pt x="389" y="190"/>
                      </a:lnTo>
                      <a:lnTo>
                        <a:pt x="368" y="169"/>
                      </a:lnTo>
                      <a:lnTo>
                        <a:pt x="343" y="148"/>
                      </a:lnTo>
                      <a:lnTo>
                        <a:pt x="317" y="127"/>
                      </a:lnTo>
                      <a:lnTo>
                        <a:pt x="289" y="110"/>
                      </a:lnTo>
                      <a:lnTo>
                        <a:pt x="264" y="92"/>
                      </a:lnTo>
                      <a:lnTo>
                        <a:pt x="230" y="75"/>
                      </a:lnTo>
                      <a:lnTo>
                        <a:pt x="200" y="61"/>
                      </a:lnTo>
                      <a:lnTo>
                        <a:pt x="165" y="51"/>
                      </a:lnTo>
                      <a:lnTo>
                        <a:pt x="131" y="40"/>
                      </a:lnTo>
                      <a:lnTo>
                        <a:pt x="96" y="29"/>
                      </a:lnTo>
                      <a:lnTo>
                        <a:pt x="59" y="2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647880" y="1608840"/>
                <a:ext cx="1827720" cy="1200960"/>
                <a:chOff x="3647880" y="1608840"/>
                <a:chExt cx="1827720" cy="1200960"/>
              </a:xfrm>
            </p:grpSpPr>
            <p:sp>
              <p:nvSpPr>
                <p:cNvPr id="188" name=""/>
                <p:cNvSpPr/>
                <p:nvPr/>
              </p:nvSpPr>
              <p:spPr>
                <a:xfrm rot="4807200">
                  <a:off x="4528800" y="1392480"/>
                  <a:ext cx="530280" cy="1153800"/>
                </a:xfrm>
                <a:custGeom>
                  <a:avLst/>
                  <a:gdLst/>
                  <a:ahLst/>
                  <a:rect l="l" t="t" r="r" b="b"/>
                  <a:pathLst>
                    <a:path w="657" h="553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8" y="51"/>
                      </a:lnTo>
                      <a:lnTo>
                        <a:pt x="91" y="65"/>
                      </a:lnTo>
                      <a:lnTo>
                        <a:pt x="130" y="82"/>
                      </a:lnTo>
                      <a:lnTo>
                        <a:pt x="171" y="99"/>
                      </a:lnTo>
                      <a:lnTo>
                        <a:pt x="206" y="114"/>
                      </a:lnTo>
                      <a:lnTo>
                        <a:pt x="234" y="131"/>
                      </a:lnTo>
                      <a:lnTo>
                        <a:pt x="262" y="145"/>
                      </a:lnTo>
                      <a:lnTo>
                        <a:pt x="292" y="165"/>
                      </a:lnTo>
                      <a:lnTo>
                        <a:pt x="319" y="186"/>
                      </a:lnTo>
                      <a:lnTo>
                        <a:pt x="350" y="214"/>
                      </a:lnTo>
                      <a:lnTo>
                        <a:pt x="375" y="238"/>
                      </a:lnTo>
                      <a:lnTo>
                        <a:pt x="399" y="263"/>
                      </a:lnTo>
                      <a:lnTo>
                        <a:pt x="423" y="290"/>
                      </a:lnTo>
                      <a:lnTo>
                        <a:pt x="451" y="323"/>
                      </a:lnTo>
                      <a:lnTo>
                        <a:pt x="482" y="361"/>
                      </a:lnTo>
                      <a:lnTo>
                        <a:pt x="500" y="388"/>
                      </a:lnTo>
                      <a:lnTo>
                        <a:pt x="519" y="417"/>
                      </a:lnTo>
                      <a:lnTo>
                        <a:pt x="537" y="445"/>
                      </a:lnTo>
                      <a:lnTo>
                        <a:pt x="554" y="473"/>
                      </a:lnTo>
                      <a:lnTo>
                        <a:pt x="574" y="516"/>
                      </a:lnTo>
                      <a:lnTo>
                        <a:pt x="587" y="552"/>
                      </a:lnTo>
                      <a:lnTo>
                        <a:pt x="656" y="540"/>
                      </a:lnTo>
                      <a:lnTo>
                        <a:pt x="633" y="481"/>
                      </a:lnTo>
                      <a:lnTo>
                        <a:pt x="600" y="417"/>
                      </a:lnTo>
                      <a:lnTo>
                        <a:pt x="564" y="364"/>
                      </a:lnTo>
                      <a:lnTo>
                        <a:pt x="519" y="306"/>
                      </a:lnTo>
                      <a:lnTo>
                        <a:pt x="458" y="225"/>
                      </a:lnTo>
                      <a:lnTo>
                        <a:pt x="389" y="156"/>
                      </a:lnTo>
                      <a:lnTo>
                        <a:pt x="317" y="99"/>
                      </a:lnTo>
                      <a:lnTo>
                        <a:pt x="253" y="63"/>
                      </a:lnTo>
                      <a:lnTo>
                        <a:pt x="173" y="28"/>
                      </a:lnTo>
                      <a:lnTo>
                        <a:pt x="10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4807200">
                  <a:off x="3995280" y="2190960"/>
                  <a:ext cx="274320" cy="825840"/>
                </a:xfrm>
                <a:custGeom>
                  <a:avLst/>
                  <a:gdLst/>
                  <a:ahLst/>
                  <a:rect l="l" t="t" r="r" b="b"/>
                  <a:pathLst>
                    <a:path w="340" h="396">
                      <a:moveTo>
                        <a:pt x="0" y="305"/>
                      </a:moveTo>
                      <a:lnTo>
                        <a:pt x="0" y="395"/>
                      </a:lnTo>
                      <a:lnTo>
                        <a:pt x="14" y="372"/>
                      </a:lnTo>
                      <a:lnTo>
                        <a:pt x="29" y="348"/>
                      </a:lnTo>
                      <a:lnTo>
                        <a:pt x="49" y="323"/>
                      </a:lnTo>
                      <a:lnTo>
                        <a:pt x="74" y="295"/>
                      </a:lnTo>
                      <a:lnTo>
                        <a:pt x="97" y="264"/>
                      </a:lnTo>
                      <a:lnTo>
                        <a:pt x="123" y="235"/>
                      </a:lnTo>
                      <a:lnTo>
                        <a:pt x="145" y="211"/>
                      </a:lnTo>
                      <a:lnTo>
                        <a:pt x="166" y="189"/>
                      </a:lnTo>
                      <a:lnTo>
                        <a:pt x="189" y="169"/>
                      </a:lnTo>
                      <a:lnTo>
                        <a:pt x="212" y="149"/>
                      </a:lnTo>
                      <a:lnTo>
                        <a:pt x="239" y="128"/>
                      </a:lnTo>
                      <a:lnTo>
                        <a:pt x="265" y="112"/>
                      </a:lnTo>
                      <a:lnTo>
                        <a:pt x="291" y="98"/>
                      </a:lnTo>
                      <a:lnTo>
                        <a:pt x="319" y="82"/>
                      </a:lnTo>
                      <a:lnTo>
                        <a:pt x="339" y="70"/>
                      </a:lnTo>
                      <a:lnTo>
                        <a:pt x="339" y="0"/>
                      </a:lnTo>
                      <a:lnTo>
                        <a:pt x="302" y="14"/>
                      </a:lnTo>
                      <a:lnTo>
                        <a:pt x="248" y="44"/>
                      </a:lnTo>
                      <a:lnTo>
                        <a:pt x="178" y="84"/>
                      </a:lnTo>
                      <a:lnTo>
                        <a:pt x="127" y="126"/>
                      </a:lnTo>
                      <a:lnTo>
                        <a:pt x="80" y="186"/>
                      </a:lnTo>
                      <a:lnTo>
                        <a:pt x="35" y="235"/>
                      </a:lnTo>
                      <a:lnTo>
                        <a:pt x="0" y="284"/>
                      </a:lnTo>
                      <a:lnTo>
                        <a:pt x="0" y="393"/>
                      </a:lnTo>
                      <a:lnTo>
                        <a:pt x="0" y="392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4807200">
                  <a:off x="3765600" y="2075760"/>
                  <a:ext cx="328320" cy="515520"/>
                </a:xfrm>
                <a:custGeom>
                  <a:avLst/>
                  <a:gdLst/>
                  <a:ahLst/>
                  <a:rect l="l" t="t" r="r" b="b"/>
                  <a:pathLst>
                    <a:path w="407" h="247">
                      <a:moveTo>
                        <a:pt x="0" y="0"/>
                      </a:moveTo>
                      <a:lnTo>
                        <a:pt x="0" y="75"/>
                      </a:lnTo>
                      <a:lnTo>
                        <a:pt x="26" y="81"/>
                      </a:lnTo>
                      <a:lnTo>
                        <a:pt x="53" y="88"/>
                      </a:lnTo>
                      <a:lnTo>
                        <a:pt x="78" y="96"/>
                      </a:lnTo>
                      <a:lnTo>
                        <a:pt x="105" y="105"/>
                      </a:lnTo>
                      <a:lnTo>
                        <a:pt x="136" y="115"/>
                      </a:lnTo>
                      <a:lnTo>
                        <a:pt x="169" y="126"/>
                      </a:lnTo>
                      <a:lnTo>
                        <a:pt x="210" y="141"/>
                      </a:lnTo>
                      <a:lnTo>
                        <a:pt x="249" y="157"/>
                      </a:lnTo>
                      <a:lnTo>
                        <a:pt x="276" y="168"/>
                      </a:lnTo>
                      <a:lnTo>
                        <a:pt x="306" y="185"/>
                      </a:lnTo>
                      <a:lnTo>
                        <a:pt x="340" y="203"/>
                      </a:lnTo>
                      <a:lnTo>
                        <a:pt x="371" y="222"/>
                      </a:lnTo>
                      <a:lnTo>
                        <a:pt x="393" y="236"/>
                      </a:lnTo>
                      <a:lnTo>
                        <a:pt x="406" y="246"/>
                      </a:lnTo>
                      <a:lnTo>
                        <a:pt x="406" y="151"/>
                      </a:lnTo>
                      <a:lnTo>
                        <a:pt x="381" y="129"/>
                      </a:lnTo>
                      <a:lnTo>
                        <a:pt x="330" y="95"/>
                      </a:lnTo>
                      <a:lnTo>
                        <a:pt x="270" y="63"/>
                      </a:lnTo>
                      <a:lnTo>
                        <a:pt x="217" y="44"/>
                      </a:lnTo>
                      <a:lnTo>
                        <a:pt x="156" y="22"/>
                      </a:lnTo>
                      <a:lnTo>
                        <a:pt x="94" y="7"/>
                      </a:lnTo>
                      <a:lnTo>
                        <a:pt x="5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4807200">
                  <a:off x="4171320" y="1412640"/>
                  <a:ext cx="914400" cy="1560240"/>
                </a:xfrm>
                <a:custGeom>
                  <a:avLst/>
                  <a:gdLst/>
                  <a:ahLst/>
                  <a:rect l="l" t="t" r="r" b="b"/>
                  <a:pathLst>
                    <a:path w="1133" h="748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92" y="0"/>
                      </a:lnTo>
                      <a:lnTo>
                        <a:pt x="129" y="0"/>
                      </a:lnTo>
                      <a:lnTo>
                        <a:pt x="165" y="1"/>
                      </a:lnTo>
                      <a:lnTo>
                        <a:pt x="200" y="4"/>
                      </a:lnTo>
                      <a:lnTo>
                        <a:pt x="234" y="9"/>
                      </a:lnTo>
                      <a:lnTo>
                        <a:pt x="265" y="18"/>
                      </a:lnTo>
                      <a:lnTo>
                        <a:pt x="300" y="26"/>
                      </a:lnTo>
                      <a:lnTo>
                        <a:pt x="341" y="40"/>
                      </a:lnTo>
                      <a:lnTo>
                        <a:pt x="378" y="56"/>
                      </a:lnTo>
                      <a:lnTo>
                        <a:pt x="413" y="70"/>
                      </a:lnTo>
                      <a:lnTo>
                        <a:pt x="453" y="89"/>
                      </a:lnTo>
                      <a:lnTo>
                        <a:pt x="490" y="110"/>
                      </a:lnTo>
                      <a:lnTo>
                        <a:pt x="527" y="133"/>
                      </a:lnTo>
                      <a:lnTo>
                        <a:pt x="559" y="154"/>
                      </a:lnTo>
                      <a:lnTo>
                        <a:pt x="594" y="175"/>
                      </a:lnTo>
                      <a:lnTo>
                        <a:pt x="623" y="196"/>
                      </a:lnTo>
                      <a:lnTo>
                        <a:pt x="656" y="221"/>
                      </a:lnTo>
                      <a:lnTo>
                        <a:pt x="689" y="245"/>
                      </a:lnTo>
                      <a:lnTo>
                        <a:pt x="722" y="276"/>
                      </a:lnTo>
                      <a:lnTo>
                        <a:pt x="751" y="299"/>
                      </a:lnTo>
                      <a:lnTo>
                        <a:pt x="782" y="333"/>
                      </a:lnTo>
                      <a:lnTo>
                        <a:pt x="811" y="362"/>
                      </a:lnTo>
                      <a:lnTo>
                        <a:pt x="837" y="392"/>
                      </a:lnTo>
                      <a:lnTo>
                        <a:pt x="860" y="426"/>
                      </a:lnTo>
                      <a:lnTo>
                        <a:pt x="879" y="454"/>
                      </a:lnTo>
                      <a:lnTo>
                        <a:pt x="892" y="483"/>
                      </a:lnTo>
                      <a:lnTo>
                        <a:pt x="1132" y="444"/>
                      </a:lnTo>
                      <a:lnTo>
                        <a:pt x="1099" y="465"/>
                      </a:lnTo>
                      <a:lnTo>
                        <a:pt x="1060" y="486"/>
                      </a:lnTo>
                      <a:lnTo>
                        <a:pt x="1028" y="505"/>
                      </a:lnTo>
                      <a:lnTo>
                        <a:pt x="1005" y="519"/>
                      </a:lnTo>
                      <a:lnTo>
                        <a:pt x="979" y="538"/>
                      </a:lnTo>
                      <a:lnTo>
                        <a:pt x="959" y="554"/>
                      </a:lnTo>
                      <a:lnTo>
                        <a:pt x="939" y="571"/>
                      </a:lnTo>
                      <a:lnTo>
                        <a:pt x="919" y="592"/>
                      </a:lnTo>
                      <a:lnTo>
                        <a:pt x="900" y="613"/>
                      </a:lnTo>
                      <a:lnTo>
                        <a:pt x="877" y="640"/>
                      </a:lnTo>
                      <a:lnTo>
                        <a:pt x="853" y="668"/>
                      </a:lnTo>
                      <a:lnTo>
                        <a:pt x="833" y="692"/>
                      </a:lnTo>
                      <a:lnTo>
                        <a:pt x="811" y="723"/>
                      </a:lnTo>
                      <a:lnTo>
                        <a:pt x="793" y="747"/>
                      </a:lnTo>
                      <a:lnTo>
                        <a:pt x="774" y="737"/>
                      </a:lnTo>
                      <a:lnTo>
                        <a:pt x="755" y="723"/>
                      </a:lnTo>
                      <a:lnTo>
                        <a:pt x="736" y="710"/>
                      </a:lnTo>
                      <a:lnTo>
                        <a:pt x="711" y="697"/>
                      </a:lnTo>
                      <a:lnTo>
                        <a:pt x="688" y="685"/>
                      </a:lnTo>
                      <a:lnTo>
                        <a:pt x="666" y="675"/>
                      </a:lnTo>
                      <a:lnTo>
                        <a:pt x="644" y="667"/>
                      </a:lnTo>
                      <a:lnTo>
                        <a:pt x="620" y="657"/>
                      </a:lnTo>
                      <a:lnTo>
                        <a:pt x="595" y="648"/>
                      </a:lnTo>
                      <a:lnTo>
                        <a:pt x="568" y="640"/>
                      </a:lnTo>
                      <a:lnTo>
                        <a:pt x="545" y="632"/>
                      </a:lnTo>
                      <a:lnTo>
                        <a:pt x="521" y="623"/>
                      </a:lnTo>
                      <a:lnTo>
                        <a:pt x="495" y="618"/>
                      </a:lnTo>
                      <a:lnTo>
                        <a:pt x="472" y="611"/>
                      </a:lnTo>
                      <a:lnTo>
                        <a:pt x="448" y="605"/>
                      </a:lnTo>
                      <a:lnTo>
                        <a:pt x="422" y="597"/>
                      </a:lnTo>
                      <a:lnTo>
                        <a:pt x="386" y="591"/>
                      </a:lnTo>
                      <a:lnTo>
                        <a:pt x="633" y="535"/>
                      </a:lnTo>
                      <a:lnTo>
                        <a:pt x="617" y="491"/>
                      </a:lnTo>
                      <a:lnTo>
                        <a:pt x="598" y="459"/>
                      </a:lnTo>
                      <a:lnTo>
                        <a:pt x="563" y="398"/>
                      </a:lnTo>
                      <a:lnTo>
                        <a:pt x="542" y="371"/>
                      </a:lnTo>
                      <a:lnTo>
                        <a:pt x="521" y="343"/>
                      </a:lnTo>
                      <a:lnTo>
                        <a:pt x="483" y="297"/>
                      </a:lnTo>
                      <a:lnTo>
                        <a:pt x="461" y="270"/>
                      </a:lnTo>
                      <a:lnTo>
                        <a:pt x="435" y="236"/>
                      </a:lnTo>
                      <a:lnTo>
                        <a:pt x="409" y="213"/>
                      </a:lnTo>
                      <a:lnTo>
                        <a:pt x="389" y="190"/>
                      </a:lnTo>
                      <a:lnTo>
                        <a:pt x="368" y="169"/>
                      </a:lnTo>
                      <a:lnTo>
                        <a:pt x="343" y="148"/>
                      </a:lnTo>
                      <a:lnTo>
                        <a:pt x="317" y="127"/>
                      </a:lnTo>
                      <a:lnTo>
                        <a:pt x="289" y="110"/>
                      </a:lnTo>
                      <a:lnTo>
                        <a:pt x="264" y="92"/>
                      </a:lnTo>
                      <a:lnTo>
                        <a:pt x="230" y="75"/>
                      </a:lnTo>
                      <a:lnTo>
                        <a:pt x="200" y="61"/>
                      </a:lnTo>
                      <a:lnTo>
                        <a:pt x="165" y="51"/>
                      </a:lnTo>
                      <a:lnTo>
                        <a:pt x="131" y="40"/>
                      </a:lnTo>
                      <a:lnTo>
                        <a:pt x="96" y="29"/>
                      </a:lnTo>
                      <a:lnTo>
                        <a:pt x="59" y="2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4038120" y="1828800"/>
                <a:ext cx="120348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 txBox="1"/>
              <p:nvPr/>
            </p:nvSpPr>
            <p:spPr>
              <a:xfrm>
                <a:off x="2819520" y="1447920"/>
                <a:ext cx="1238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ff00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SECURE???</a:t>
                </a:r>
                <a:endParaRPr b="0" lang="en-US" sz="24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0" y="3240"/>
            <a:ext cx="55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ing CBS work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ry employee is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40464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2C2-943A-4554-BB04-FBCC5B1FEC90}" type="slidenum">
              <a:t>12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495440" cy="1716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1690560"/>
            <a:ext cx="7848720" cy="3795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2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BS MOVED TO A NEW BUILDING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88390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R MAIN GOAL WAS TO CREATE AN  INTELLIGENT ENVIRONMENT FOR THE EMPLOYE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5C8-59D3-44FA-95FC-2F405854D2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1887840" cy="1023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Global  Goal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6264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Transform  CBS into</a:t>
            </a: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a learning organization</a:t>
            </a: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997360"/>
            <a:ext cx="7993080" cy="3456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managers’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 employe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r skills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grade employe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gre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1470400">
            <a:off x="-6120" y="-14040"/>
            <a:ext cx="1835280" cy="15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739-2439-494B-A8C1-E73B034290B1}" type="slidenum">
              <a:t>14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1527120"/>
            <a:ext cx="853272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Establish a committee to define which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will be t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Prepared computerized classe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hree shifts a 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Each course includes several module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Each course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duration: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 40 hours - 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A specialized handbook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suitable for the CB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095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Training deployment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87E-42F9-42E6-94AF-D45B2B4E73AE}" type="slidenum">
              <a:t>15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1484280"/>
            <a:ext cx="85327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raining employees from within the organ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o become teacher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Each subject has several levels of trai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(researchers, editors, interview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Accessibility to the computer  - even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516720" y="464832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440" y="914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6200" y="7128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n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Training deployment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BB0-D7B8-43B6-BC0C-5C716DB66C34}" type="slidenum">
              <a:t>16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1484280"/>
            <a:ext cx="853272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1.  Departments chose their own developing tools; each department had the option to develop systems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2. users  developed systems in their own P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3. We become “rich” in technologies, databases  and information systems , we have to support them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914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97640" y="712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IT point of view 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743-F2CC-4437-A1A7-88CD94A21892}" type="slidenum">
              <a:t>17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Return of Investmen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lculation of Cost and Benefi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Integration  -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ecessity to break through the     internal barriers  (via brain storming, cross organization projects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( divisions, project, technology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ue to the Statistics’ Ordinance, the CBS is allowed to receive relevant files from various 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- using administrative fi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2003 - new managers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(prof' of economics) </a:t>
            </a: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17290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FC3-55D6-4B8E-BCDB-2B1700E705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IT Point of View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Establish one IT department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inimize technology and information syste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Creation of generic system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reate an infrastructure to store administrative fil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A security shell environment must be established</a:t>
            </a: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o we return back to centralization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94C-2F21-49DE-B048-F8AFC184D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 rot="15600">
            <a:off x="3634920" y="403920"/>
            <a:ext cx="3448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3 PERIOD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484280"/>
            <a:ext cx="82803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 TO 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95 –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3 – TO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D5D-A61E-4DFA-B0F6-71C61A304872}" type="slidenum">
              <a:t>2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831080" y="426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-76320" y="6172200"/>
            <a:ext cx="763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009880"/>
            <a:ext cx="835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chnological development influence on  management  IT strategic pl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top managing characteristics, education and outlooks, had a lot of influence on the IT architectu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C6F-5EB7-4868-B889-9D43D86BD9E1}" type="slidenum">
              <a:t>20</a:t>
            </a:fld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What happened during 1995 in Israel and the ICBS ?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28640" y="1828800"/>
            <a:ext cx="1384560" cy="143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219320" y="3263760"/>
            <a:ext cx="174600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Technology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 rot="1344600">
            <a:off x="2439720" y="3943440"/>
            <a:ext cx="1431720" cy="596880"/>
          </a:xfrm>
          <a:custGeom>
            <a:avLst/>
            <a:gdLst>
              <a:gd name="textAreaLeft" fmla="*/ 178920 w 1431720"/>
              <a:gd name="textAreaRight" fmla="*/ 1252800 w 1431720"/>
              <a:gd name="textAreaTop" fmla="*/ 149040 h 596880"/>
              <a:gd name="textAreaBottom" fmla="*/ 4478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495680"/>
            <a:ext cx="2133720" cy="1067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4724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hang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4228920" y="6133680"/>
            <a:ext cx="685800" cy="76176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52680" y="5791320"/>
            <a:ext cx="29718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New top managers were appointed  </a:t>
            </a:r>
            <a:endParaRPr b="0" lang="en-US" sz="2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9406200">
            <a:off x="5920560" y="4040280"/>
            <a:ext cx="1397160" cy="550800"/>
          </a:xfrm>
          <a:custGeom>
            <a:avLst/>
            <a:gdLst>
              <a:gd name="textAreaLeft" fmla="*/ 174600 w 1397160"/>
              <a:gd name="textAreaRight" fmla="*/ 1222560 w 139716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164360" y="3429000"/>
            <a:ext cx="14731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DATA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1222200" cy="14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450400">
            <a:off x="4634640" y="3784320"/>
            <a:ext cx="597240" cy="749160"/>
          </a:xfrm>
          <a:custGeom>
            <a:avLst/>
            <a:gdLst>
              <a:gd name="textAreaLeft" fmla="*/ 74520 w 597240"/>
              <a:gd name="textAreaRight" fmla="*/ 522720 w 5972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51280" y="1916280"/>
            <a:ext cx="1289160" cy="143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013280" y="3382920"/>
            <a:ext cx="147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Awareness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809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869000"/>
            <a:ext cx="2411280" cy="1003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eedo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ormation” 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4941720"/>
            <a:ext cx="1432080" cy="597240"/>
          </a:xfrm>
          <a:custGeom>
            <a:avLst/>
            <a:gdLst>
              <a:gd name="textAreaLeft" fmla="*/ 178920 w 1432080"/>
              <a:gd name="textAreaRight" fmla="*/ 1253160 w 1432080"/>
              <a:gd name="textAreaTop" fmla="*/ 149400 h 597240"/>
              <a:gd name="textAreaBottom" fmla="*/ 448200 h 59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060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itizen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 to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784-6F97-41CB-926C-A41DB688DFF2}" type="slidenum">
              <a:t>3</a:t>
            </a:fld>
          </a:p>
        </p:txBody>
      </p:sp>
    </p:spTree>
  </p:cSld>
  <mc:AlternateContent>
    <mc:Choice Requires="p14">
      <p:transition spd="slow" p14:dur="2000">
        <p:checker dir="vert"/>
      </p:transition>
    </mc:Choice>
    <mc:Fallback>
      <p:transition spd="slow">
        <p:checker dir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New top managers were appointed </a:t>
            </a: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</a:rPr>
              <a:t>Centraliz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mand: Comm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fessionalis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F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200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 Unicode MS"/>
                <a:ea typeface="Guttman Yad-Brush"/>
              </a:rPr>
              <a:t>  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  <a:ea typeface="Guttman Yad-Brush"/>
              </a:rPr>
              <a:t>Decentralization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  <a:ea typeface="Guttman Yad-Brus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f it wasn’t written, it wasn’t done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ial and err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676520"/>
            <a:ext cx="0" cy="518148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34520" y="1989000"/>
            <a:ext cx="60948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507960" cy="927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9A0-5DFA-4A81-922D-74D4B5F19EDE}" type="slidenum">
              <a:t>4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-23760" y="4493880"/>
            <a:ext cx="1523520" cy="2378880"/>
            <a:chOff x="-23760" y="4493880"/>
            <a:chExt cx="1523520" cy="2378880"/>
          </a:xfrm>
        </p:grpSpPr>
        <p:sp>
          <p:nvSpPr>
            <p:cNvPr id="81" name=""/>
            <p:cNvSpPr/>
            <p:nvPr/>
          </p:nvSpPr>
          <p:spPr>
            <a:xfrm rot="16130400">
              <a:off x="-436320" y="4944960"/>
              <a:ext cx="2349360" cy="1476360"/>
            </a:xfrm>
            <a:custGeom>
              <a:avLst/>
              <a:gdLst/>
              <a:ahLst/>
              <a:rect l="l" t="t" r="r" b="b"/>
              <a:pathLst>
                <a:path w="3350" h="2380">
                  <a:moveTo>
                    <a:pt x="3160" y="48"/>
                  </a:moveTo>
                  <a:lnTo>
                    <a:pt x="3350" y="2380"/>
                  </a:lnTo>
                  <a:lnTo>
                    <a:pt x="0" y="2380"/>
                  </a:lnTo>
                  <a:lnTo>
                    <a:pt x="262" y="0"/>
                  </a:lnTo>
                  <a:lnTo>
                    <a:pt x="3160" y="48"/>
                  </a:lnTo>
                  <a:lnTo>
                    <a:pt x="3160" y="48"/>
                  </a:lnTo>
                  <a:close/>
                </a:path>
              </a:pathLst>
            </a:cu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130400">
              <a:off x="-153000" y="5167080"/>
              <a:ext cx="1731960" cy="1361880"/>
            </a:xfrm>
            <a:custGeom>
              <a:avLst/>
              <a:gdLst/>
              <a:ahLst/>
              <a:rect l="l" t="t" r="r" b="b"/>
              <a:pathLst>
                <a:path w="2472" h="2197">
                  <a:moveTo>
                    <a:pt x="2334" y="722"/>
                  </a:moveTo>
                  <a:lnTo>
                    <a:pt x="2334" y="1107"/>
                  </a:lnTo>
                  <a:lnTo>
                    <a:pt x="2401" y="1346"/>
                  </a:lnTo>
                  <a:lnTo>
                    <a:pt x="2401" y="1612"/>
                  </a:lnTo>
                  <a:lnTo>
                    <a:pt x="2294" y="1918"/>
                  </a:lnTo>
                  <a:lnTo>
                    <a:pt x="2149" y="2117"/>
                  </a:lnTo>
                  <a:lnTo>
                    <a:pt x="1990" y="2183"/>
                  </a:lnTo>
                  <a:lnTo>
                    <a:pt x="1765" y="2197"/>
                  </a:lnTo>
                  <a:lnTo>
                    <a:pt x="1565" y="2130"/>
                  </a:lnTo>
                  <a:lnTo>
                    <a:pt x="1433" y="2063"/>
                  </a:lnTo>
                  <a:lnTo>
                    <a:pt x="1353" y="1983"/>
                  </a:lnTo>
                  <a:lnTo>
                    <a:pt x="1300" y="1864"/>
                  </a:lnTo>
                  <a:lnTo>
                    <a:pt x="1327" y="1798"/>
                  </a:lnTo>
                  <a:lnTo>
                    <a:pt x="1406" y="1784"/>
                  </a:lnTo>
                  <a:lnTo>
                    <a:pt x="1486" y="1838"/>
                  </a:lnTo>
                  <a:lnTo>
                    <a:pt x="1553" y="1943"/>
                  </a:lnTo>
                  <a:lnTo>
                    <a:pt x="1671" y="2023"/>
                  </a:lnTo>
                  <a:lnTo>
                    <a:pt x="1751" y="2010"/>
                  </a:lnTo>
                  <a:lnTo>
                    <a:pt x="1658" y="1930"/>
                  </a:lnTo>
                  <a:lnTo>
                    <a:pt x="1565" y="1838"/>
                  </a:lnTo>
                  <a:lnTo>
                    <a:pt x="1553" y="1744"/>
                  </a:lnTo>
                  <a:lnTo>
                    <a:pt x="1565" y="1651"/>
                  </a:lnTo>
                  <a:lnTo>
                    <a:pt x="1605" y="1612"/>
                  </a:lnTo>
                  <a:lnTo>
                    <a:pt x="1658" y="1639"/>
                  </a:lnTo>
                  <a:lnTo>
                    <a:pt x="1698" y="1718"/>
                  </a:lnTo>
                  <a:lnTo>
                    <a:pt x="1698" y="1798"/>
                  </a:lnTo>
                  <a:lnTo>
                    <a:pt x="1698" y="1864"/>
                  </a:lnTo>
                  <a:lnTo>
                    <a:pt x="1778" y="1943"/>
                  </a:lnTo>
                  <a:lnTo>
                    <a:pt x="1843" y="1957"/>
                  </a:lnTo>
                  <a:lnTo>
                    <a:pt x="1805" y="1798"/>
                  </a:lnTo>
                  <a:lnTo>
                    <a:pt x="1805" y="1718"/>
                  </a:lnTo>
                  <a:lnTo>
                    <a:pt x="1843" y="1665"/>
                  </a:lnTo>
                  <a:lnTo>
                    <a:pt x="1897" y="1665"/>
                  </a:lnTo>
                  <a:lnTo>
                    <a:pt x="1923" y="1744"/>
                  </a:lnTo>
                  <a:lnTo>
                    <a:pt x="1910" y="1838"/>
                  </a:lnTo>
                  <a:lnTo>
                    <a:pt x="1990" y="1891"/>
                  </a:lnTo>
                  <a:lnTo>
                    <a:pt x="2056" y="1891"/>
                  </a:lnTo>
                  <a:lnTo>
                    <a:pt x="2162" y="1798"/>
                  </a:lnTo>
                  <a:lnTo>
                    <a:pt x="2202" y="1665"/>
                  </a:lnTo>
                  <a:lnTo>
                    <a:pt x="2255" y="1492"/>
                  </a:lnTo>
                  <a:lnTo>
                    <a:pt x="2255" y="1359"/>
                  </a:lnTo>
                  <a:lnTo>
                    <a:pt x="2215" y="1160"/>
                  </a:lnTo>
                  <a:lnTo>
                    <a:pt x="2215" y="895"/>
                  </a:lnTo>
                  <a:lnTo>
                    <a:pt x="2082" y="1174"/>
                  </a:lnTo>
                  <a:lnTo>
                    <a:pt x="2162" y="1280"/>
                  </a:lnTo>
                  <a:lnTo>
                    <a:pt x="2175" y="1452"/>
                  </a:lnTo>
                  <a:lnTo>
                    <a:pt x="2056" y="1319"/>
                  </a:lnTo>
                  <a:lnTo>
                    <a:pt x="1963" y="1292"/>
                  </a:lnTo>
                  <a:lnTo>
                    <a:pt x="1897" y="1346"/>
                  </a:lnTo>
                  <a:lnTo>
                    <a:pt x="1751" y="1386"/>
                  </a:lnTo>
                  <a:lnTo>
                    <a:pt x="1618" y="1399"/>
                  </a:lnTo>
                  <a:lnTo>
                    <a:pt x="1539" y="1372"/>
                  </a:lnTo>
                  <a:lnTo>
                    <a:pt x="1419" y="1492"/>
                  </a:lnTo>
                  <a:lnTo>
                    <a:pt x="1406" y="1399"/>
                  </a:lnTo>
                  <a:lnTo>
                    <a:pt x="1433" y="1319"/>
                  </a:lnTo>
                  <a:lnTo>
                    <a:pt x="1459" y="1267"/>
                  </a:lnTo>
                  <a:lnTo>
                    <a:pt x="1406" y="1120"/>
                  </a:lnTo>
                  <a:lnTo>
                    <a:pt x="1340" y="1319"/>
                  </a:lnTo>
                  <a:lnTo>
                    <a:pt x="1207" y="1546"/>
                  </a:lnTo>
                  <a:lnTo>
                    <a:pt x="1048" y="1758"/>
                  </a:lnTo>
                  <a:lnTo>
                    <a:pt x="850" y="1904"/>
                  </a:lnTo>
                  <a:lnTo>
                    <a:pt x="690" y="1983"/>
                  </a:lnTo>
                  <a:lnTo>
                    <a:pt x="518" y="2023"/>
                  </a:lnTo>
                  <a:lnTo>
                    <a:pt x="319" y="1983"/>
                  </a:lnTo>
                  <a:lnTo>
                    <a:pt x="172" y="1918"/>
                  </a:lnTo>
                  <a:lnTo>
                    <a:pt x="93" y="1784"/>
                  </a:lnTo>
                  <a:lnTo>
                    <a:pt x="53" y="1651"/>
                  </a:lnTo>
                  <a:lnTo>
                    <a:pt x="14" y="1492"/>
                  </a:lnTo>
                  <a:lnTo>
                    <a:pt x="0" y="1386"/>
                  </a:lnTo>
                  <a:lnTo>
                    <a:pt x="14" y="1306"/>
                  </a:lnTo>
                  <a:lnTo>
                    <a:pt x="53" y="1254"/>
                  </a:lnTo>
                  <a:lnTo>
                    <a:pt x="133" y="1254"/>
                  </a:lnTo>
                  <a:lnTo>
                    <a:pt x="133" y="1332"/>
                  </a:lnTo>
                  <a:lnTo>
                    <a:pt x="107" y="1466"/>
                  </a:lnTo>
                  <a:lnTo>
                    <a:pt x="120" y="1559"/>
                  </a:lnTo>
                  <a:lnTo>
                    <a:pt x="172" y="1612"/>
                  </a:lnTo>
                  <a:lnTo>
                    <a:pt x="186" y="1532"/>
                  </a:lnTo>
                  <a:lnTo>
                    <a:pt x="186" y="1372"/>
                  </a:lnTo>
                  <a:lnTo>
                    <a:pt x="186" y="1292"/>
                  </a:lnTo>
                  <a:lnTo>
                    <a:pt x="199" y="1254"/>
                  </a:lnTo>
                  <a:lnTo>
                    <a:pt x="239" y="1240"/>
                  </a:lnTo>
                  <a:lnTo>
                    <a:pt x="292" y="1292"/>
                  </a:lnTo>
                  <a:lnTo>
                    <a:pt x="292" y="1372"/>
                  </a:lnTo>
                  <a:lnTo>
                    <a:pt x="239" y="1492"/>
                  </a:lnTo>
                  <a:lnTo>
                    <a:pt x="252" y="1586"/>
                  </a:lnTo>
                  <a:lnTo>
                    <a:pt x="292" y="1639"/>
                  </a:lnTo>
                  <a:lnTo>
                    <a:pt x="332" y="1612"/>
                  </a:lnTo>
                  <a:lnTo>
                    <a:pt x="332" y="1532"/>
                  </a:lnTo>
                  <a:lnTo>
                    <a:pt x="359" y="1492"/>
                  </a:lnTo>
                  <a:lnTo>
                    <a:pt x="359" y="1399"/>
                  </a:lnTo>
                  <a:lnTo>
                    <a:pt x="411" y="1254"/>
                  </a:lnTo>
                  <a:lnTo>
                    <a:pt x="438" y="1280"/>
                  </a:lnTo>
                  <a:lnTo>
                    <a:pt x="464" y="1319"/>
                  </a:lnTo>
                  <a:lnTo>
                    <a:pt x="478" y="1386"/>
                  </a:lnTo>
                  <a:lnTo>
                    <a:pt x="451" y="1466"/>
                  </a:lnTo>
                  <a:lnTo>
                    <a:pt x="438" y="1546"/>
                  </a:lnTo>
                  <a:lnTo>
                    <a:pt x="464" y="1599"/>
                  </a:lnTo>
                  <a:lnTo>
                    <a:pt x="451" y="1651"/>
                  </a:lnTo>
                  <a:lnTo>
                    <a:pt x="424" y="1691"/>
                  </a:lnTo>
                  <a:lnTo>
                    <a:pt x="491" y="1744"/>
                  </a:lnTo>
                  <a:lnTo>
                    <a:pt x="518" y="1744"/>
                  </a:lnTo>
                  <a:lnTo>
                    <a:pt x="571" y="1744"/>
                  </a:lnTo>
                  <a:lnTo>
                    <a:pt x="663" y="1758"/>
                  </a:lnTo>
                  <a:lnTo>
                    <a:pt x="716" y="1784"/>
                  </a:lnTo>
                  <a:lnTo>
                    <a:pt x="850" y="1651"/>
                  </a:lnTo>
                  <a:lnTo>
                    <a:pt x="1048" y="1546"/>
                  </a:lnTo>
                  <a:lnTo>
                    <a:pt x="1194" y="1372"/>
                  </a:lnTo>
                  <a:lnTo>
                    <a:pt x="1353" y="1094"/>
                  </a:lnTo>
                  <a:lnTo>
                    <a:pt x="1406" y="882"/>
                  </a:lnTo>
                  <a:lnTo>
                    <a:pt x="1406" y="523"/>
                  </a:lnTo>
                  <a:lnTo>
                    <a:pt x="1459" y="311"/>
                  </a:lnTo>
                  <a:lnTo>
                    <a:pt x="1756" y="0"/>
                  </a:lnTo>
                  <a:lnTo>
                    <a:pt x="2472" y="12"/>
                  </a:lnTo>
                  <a:lnTo>
                    <a:pt x="2472" y="311"/>
                  </a:lnTo>
                  <a:lnTo>
                    <a:pt x="2388" y="576"/>
                  </a:lnTo>
                  <a:lnTo>
                    <a:pt x="2334" y="722"/>
                  </a:lnTo>
                  <a:lnTo>
                    <a:pt x="2334" y="72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130400">
              <a:off x="17280" y="5204880"/>
              <a:ext cx="483480" cy="500760"/>
            </a:xfrm>
            <a:custGeom>
              <a:avLst/>
              <a:gdLst/>
              <a:ahLst/>
              <a:rect l="l" t="t" r="r" b="b"/>
              <a:pathLst>
                <a:path w="689" h="809">
                  <a:moveTo>
                    <a:pt x="520" y="789"/>
                  </a:moveTo>
                  <a:lnTo>
                    <a:pt x="512" y="714"/>
                  </a:lnTo>
                  <a:lnTo>
                    <a:pt x="456" y="608"/>
                  </a:lnTo>
                  <a:lnTo>
                    <a:pt x="580" y="346"/>
                  </a:lnTo>
                  <a:lnTo>
                    <a:pt x="672" y="176"/>
                  </a:lnTo>
                  <a:lnTo>
                    <a:pt x="689" y="99"/>
                  </a:lnTo>
                  <a:lnTo>
                    <a:pt x="678" y="32"/>
                  </a:lnTo>
                  <a:lnTo>
                    <a:pt x="625" y="18"/>
                  </a:lnTo>
                  <a:lnTo>
                    <a:pt x="317" y="0"/>
                  </a:lnTo>
                  <a:lnTo>
                    <a:pt x="81" y="10"/>
                  </a:lnTo>
                  <a:lnTo>
                    <a:pt x="35" y="57"/>
                  </a:lnTo>
                  <a:lnTo>
                    <a:pt x="7" y="167"/>
                  </a:lnTo>
                  <a:lnTo>
                    <a:pt x="28" y="188"/>
                  </a:lnTo>
                  <a:lnTo>
                    <a:pt x="13" y="351"/>
                  </a:lnTo>
                  <a:lnTo>
                    <a:pt x="0" y="513"/>
                  </a:lnTo>
                  <a:lnTo>
                    <a:pt x="28" y="628"/>
                  </a:lnTo>
                  <a:lnTo>
                    <a:pt x="45" y="684"/>
                  </a:lnTo>
                  <a:lnTo>
                    <a:pt x="13" y="707"/>
                  </a:lnTo>
                  <a:lnTo>
                    <a:pt x="0" y="749"/>
                  </a:lnTo>
                  <a:lnTo>
                    <a:pt x="7" y="809"/>
                  </a:lnTo>
                  <a:lnTo>
                    <a:pt x="84" y="745"/>
                  </a:lnTo>
                  <a:lnTo>
                    <a:pt x="169" y="759"/>
                  </a:lnTo>
                  <a:lnTo>
                    <a:pt x="282" y="745"/>
                  </a:lnTo>
                  <a:lnTo>
                    <a:pt x="360" y="713"/>
                  </a:lnTo>
                  <a:lnTo>
                    <a:pt x="395" y="689"/>
                  </a:lnTo>
                  <a:lnTo>
                    <a:pt x="448" y="720"/>
                  </a:lnTo>
                  <a:lnTo>
                    <a:pt x="520" y="789"/>
                  </a:lnTo>
                  <a:lnTo>
                    <a:pt x="520" y="78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130400">
              <a:off x="-32040" y="5584320"/>
              <a:ext cx="297360" cy="153720"/>
            </a:xfrm>
            <a:custGeom>
              <a:avLst/>
              <a:gdLst/>
              <a:ahLst/>
              <a:rect l="l" t="t" r="r" b="b"/>
              <a:pathLst>
                <a:path w="424" h="247">
                  <a:moveTo>
                    <a:pt x="424" y="142"/>
                  </a:moveTo>
                  <a:lnTo>
                    <a:pt x="278" y="234"/>
                  </a:lnTo>
                  <a:lnTo>
                    <a:pt x="207" y="247"/>
                  </a:lnTo>
                  <a:lnTo>
                    <a:pt x="152" y="226"/>
                  </a:lnTo>
                  <a:lnTo>
                    <a:pt x="84" y="166"/>
                  </a:lnTo>
                  <a:lnTo>
                    <a:pt x="52" y="106"/>
                  </a:lnTo>
                  <a:lnTo>
                    <a:pt x="10" y="92"/>
                  </a:lnTo>
                  <a:lnTo>
                    <a:pt x="0" y="46"/>
                  </a:lnTo>
                  <a:lnTo>
                    <a:pt x="24" y="14"/>
                  </a:lnTo>
                  <a:lnTo>
                    <a:pt x="66" y="0"/>
                  </a:lnTo>
                  <a:lnTo>
                    <a:pt x="109" y="21"/>
                  </a:lnTo>
                  <a:lnTo>
                    <a:pt x="137" y="77"/>
                  </a:lnTo>
                  <a:lnTo>
                    <a:pt x="152" y="121"/>
                  </a:lnTo>
                  <a:lnTo>
                    <a:pt x="201" y="159"/>
                  </a:lnTo>
                  <a:lnTo>
                    <a:pt x="236" y="166"/>
                  </a:lnTo>
                  <a:lnTo>
                    <a:pt x="272" y="156"/>
                  </a:lnTo>
                  <a:lnTo>
                    <a:pt x="332" y="121"/>
                  </a:lnTo>
                  <a:lnTo>
                    <a:pt x="360" y="67"/>
                  </a:lnTo>
                  <a:lnTo>
                    <a:pt x="374" y="117"/>
                  </a:lnTo>
                  <a:lnTo>
                    <a:pt x="421" y="85"/>
                  </a:lnTo>
                  <a:lnTo>
                    <a:pt x="424" y="142"/>
                  </a:lnTo>
                  <a:lnTo>
                    <a:pt x="424" y="14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130400">
              <a:off x="266400" y="5464080"/>
              <a:ext cx="180720" cy="109080"/>
            </a:xfrm>
            <a:custGeom>
              <a:avLst/>
              <a:gdLst/>
              <a:ahLst/>
              <a:rect l="l" t="t" r="r" b="b"/>
              <a:pathLst>
                <a:path w="259" h="177">
                  <a:moveTo>
                    <a:pt x="177" y="0"/>
                  </a:moveTo>
                  <a:lnTo>
                    <a:pt x="219" y="4"/>
                  </a:lnTo>
                  <a:lnTo>
                    <a:pt x="259" y="29"/>
                  </a:lnTo>
                  <a:lnTo>
                    <a:pt x="259" y="92"/>
                  </a:lnTo>
                  <a:lnTo>
                    <a:pt x="230" y="149"/>
                  </a:lnTo>
                  <a:lnTo>
                    <a:pt x="180" y="173"/>
                  </a:lnTo>
                  <a:lnTo>
                    <a:pt x="149" y="170"/>
                  </a:lnTo>
                  <a:lnTo>
                    <a:pt x="128" y="142"/>
                  </a:lnTo>
                  <a:lnTo>
                    <a:pt x="68" y="177"/>
                  </a:lnTo>
                  <a:lnTo>
                    <a:pt x="21" y="163"/>
                  </a:lnTo>
                  <a:lnTo>
                    <a:pt x="0" y="99"/>
                  </a:lnTo>
                  <a:lnTo>
                    <a:pt x="11" y="57"/>
                  </a:lnTo>
                  <a:lnTo>
                    <a:pt x="21" y="32"/>
                  </a:lnTo>
                  <a:lnTo>
                    <a:pt x="50" y="15"/>
                  </a:lnTo>
                  <a:lnTo>
                    <a:pt x="78" y="18"/>
                  </a:lnTo>
                  <a:lnTo>
                    <a:pt x="120" y="50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130400">
              <a:off x="30240" y="5413680"/>
              <a:ext cx="259200" cy="187200"/>
            </a:xfrm>
            <a:custGeom>
              <a:avLst/>
              <a:gdLst/>
              <a:ahLst/>
              <a:rect l="l" t="t" r="r" b="b"/>
              <a:pathLst>
                <a:path w="370" h="301">
                  <a:moveTo>
                    <a:pt x="370" y="11"/>
                  </a:moveTo>
                  <a:lnTo>
                    <a:pt x="313" y="301"/>
                  </a:lnTo>
                  <a:lnTo>
                    <a:pt x="265" y="200"/>
                  </a:lnTo>
                  <a:lnTo>
                    <a:pt x="226" y="296"/>
                  </a:lnTo>
                  <a:lnTo>
                    <a:pt x="182" y="183"/>
                  </a:lnTo>
                  <a:lnTo>
                    <a:pt x="145" y="292"/>
                  </a:lnTo>
                  <a:lnTo>
                    <a:pt x="125" y="197"/>
                  </a:lnTo>
                  <a:lnTo>
                    <a:pt x="74" y="287"/>
                  </a:lnTo>
                  <a:lnTo>
                    <a:pt x="53" y="206"/>
                  </a:lnTo>
                  <a:lnTo>
                    <a:pt x="5" y="296"/>
                  </a:lnTo>
                  <a:lnTo>
                    <a:pt x="0" y="191"/>
                  </a:lnTo>
                  <a:lnTo>
                    <a:pt x="92" y="144"/>
                  </a:lnTo>
                  <a:lnTo>
                    <a:pt x="154" y="96"/>
                  </a:lnTo>
                  <a:lnTo>
                    <a:pt x="179" y="59"/>
                  </a:lnTo>
                  <a:lnTo>
                    <a:pt x="187" y="87"/>
                  </a:lnTo>
                  <a:lnTo>
                    <a:pt x="239" y="0"/>
                  </a:lnTo>
                  <a:lnTo>
                    <a:pt x="260" y="78"/>
                  </a:lnTo>
                  <a:lnTo>
                    <a:pt x="306" y="6"/>
                  </a:lnTo>
                  <a:lnTo>
                    <a:pt x="310" y="84"/>
                  </a:lnTo>
                  <a:lnTo>
                    <a:pt x="370" y="11"/>
                  </a:lnTo>
                  <a:lnTo>
                    <a:pt x="3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130400">
              <a:off x="38880" y="5520240"/>
              <a:ext cx="124920" cy="8892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179" y="115"/>
                  </a:moveTo>
                  <a:lnTo>
                    <a:pt x="170" y="9"/>
                  </a:lnTo>
                  <a:lnTo>
                    <a:pt x="126" y="83"/>
                  </a:lnTo>
                  <a:lnTo>
                    <a:pt x="114" y="0"/>
                  </a:lnTo>
                  <a:lnTo>
                    <a:pt x="64" y="95"/>
                  </a:lnTo>
                  <a:lnTo>
                    <a:pt x="57" y="11"/>
                  </a:lnTo>
                  <a:lnTo>
                    <a:pt x="25" y="101"/>
                  </a:lnTo>
                  <a:lnTo>
                    <a:pt x="7" y="17"/>
                  </a:lnTo>
                  <a:lnTo>
                    <a:pt x="0" y="143"/>
                  </a:lnTo>
                  <a:lnTo>
                    <a:pt x="51" y="122"/>
                  </a:lnTo>
                  <a:lnTo>
                    <a:pt x="84" y="92"/>
                  </a:lnTo>
                  <a:lnTo>
                    <a:pt x="105" y="53"/>
                  </a:lnTo>
                  <a:lnTo>
                    <a:pt x="117" y="104"/>
                  </a:lnTo>
                  <a:lnTo>
                    <a:pt x="156" y="62"/>
                  </a:lnTo>
                  <a:lnTo>
                    <a:pt x="165" y="110"/>
                  </a:lnTo>
                  <a:lnTo>
                    <a:pt x="179" y="115"/>
                  </a:lnTo>
                  <a:lnTo>
                    <a:pt x="1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130400">
              <a:off x="11160" y="5634720"/>
              <a:ext cx="211680" cy="154800"/>
            </a:xfrm>
            <a:custGeom>
              <a:avLst/>
              <a:gdLst/>
              <a:ahLst/>
              <a:rect l="l" t="t" r="r" b="b"/>
              <a:pathLst>
                <a:path w="301" h="251">
                  <a:moveTo>
                    <a:pt x="301" y="227"/>
                  </a:moveTo>
                  <a:lnTo>
                    <a:pt x="245" y="236"/>
                  </a:lnTo>
                  <a:lnTo>
                    <a:pt x="200" y="227"/>
                  </a:lnTo>
                  <a:lnTo>
                    <a:pt x="161" y="204"/>
                  </a:lnTo>
                  <a:lnTo>
                    <a:pt x="117" y="159"/>
                  </a:lnTo>
                  <a:lnTo>
                    <a:pt x="101" y="129"/>
                  </a:lnTo>
                  <a:lnTo>
                    <a:pt x="87" y="101"/>
                  </a:lnTo>
                  <a:lnTo>
                    <a:pt x="59" y="84"/>
                  </a:lnTo>
                  <a:lnTo>
                    <a:pt x="33" y="78"/>
                  </a:lnTo>
                  <a:lnTo>
                    <a:pt x="27" y="60"/>
                  </a:lnTo>
                  <a:lnTo>
                    <a:pt x="30" y="39"/>
                  </a:lnTo>
                  <a:lnTo>
                    <a:pt x="59" y="21"/>
                  </a:lnTo>
                  <a:lnTo>
                    <a:pt x="87" y="18"/>
                  </a:lnTo>
                  <a:lnTo>
                    <a:pt x="119" y="36"/>
                  </a:lnTo>
                  <a:lnTo>
                    <a:pt x="140" y="69"/>
                  </a:lnTo>
                  <a:lnTo>
                    <a:pt x="155" y="117"/>
                  </a:lnTo>
                  <a:lnTo>
                    <a:pt x="182" y="149"/>
                  </a:lnTo>
                  <a:lnTo>
                    <a:pt x="218" y="177"/>
                  </a:lnTo>
                  <a:lnTo>
                    <a:pt x="257" y="177"/>
                  </a:lnTo>
                  <a:lnTo>
                    <a:pt x="283" y="174"/>
                  </a:lnTo>
                  <a:lnTo>
                    <a:pt x="298" y="156"/>
                  </a:lnTo>
                  <a:lnTo>
                    <a:pt x="266" y="161"/>
                  </a:lnTo>
                  <a:lnTo>
                    <a:pt x="218" y="156"/>
                  </a:lnTo>
                  <a:lnTo>
                    <a:pt x="185" y="129"/>
                  </a:lnTo>
                  <a:lnTo>
                    <a:pt x="174" y="96"/>
                  </a:lnTo>
                  <a:lnTo>
                    <a:pt x="155" y="51"/>
                  </a:lnTo>
                  <a:lnTo>
                    <a:pt x="131" y="18"/>
                  </a:lnTo>
                  <a:lnTo>
                    <a:pt x="87" y="0"/>
                  </a:lnTo>
                  <a:lnTo>
                    <a:pt x="45" y="6"/>
                  </a:lnTo>
                  <a:lnTo>
                    <a:pt x="20" y="27"/>
                  </a:lnTo>
                  <a:lnTo>
                    <a:pt x="0" y="66"/>
                  </a:lnTo>
                  <a:lnTo>
                    <a:pt x="3" y="99"/>
                  </a:lnTo>
                  <a:lnTo>
                    <a:pt x="15" y="117"/>
                  </a:lnTo>
                  <a:lnTo>
                    <a:pt x="33" y="122"/>
                  </a:lnTo>
                  <a:lnTo>
                    <a:pt x="59" y="114"/>
                  </a:lnTo>
                  <a:lnTo>
                    <a:pt x="80" y="149"/>
                  </a:lnTo>
                  <a:lnTo>
                    <a:pt x="110" y="188"/>
                  </a:lnTo>
                  <a:lnTo>
                    <a:pt x="146" y="225"/>
                  </a:lnTo>
                  <a:lnTo>
                    <a:pt x="174" y="239"/>
                  </a:lnTo>
                  <a:lnTo>
                    <a:pt x="202" y="251"/>
                  </a:lnTo>
                  <a:lnTo>
                    <a:pt x="266" y="248"/>
                  </a:lnTo>
                  <a:lnTo>
                    <a:pt x="301" y="227"/>
                  </a:lnTo>
                  <a:lnTo>
                    <a:pt x="301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130400">
              <a:off x="265320" y="5448960"/>
              <a:ext cx="200520" cy="136440"/>
            </a:xfrm>
            <a:custGeom>
              <a:avLst/>
              <a:gdLst/>
              <a:ahLst/>
              <a:rect l="l" t="t" r="r" b="b"/>
              <a:pathLst>
                <a:path w="285" h="221">
                  <a:moveTo>
                    <a:pt x="214" y="16"/>
                  </a:moveTo>
                  <a:lnTo>
                    <a:pt x="244" y="39"/>
                  </a:lnTo>
                  <a:lnTo>
                    <a:pt x="253" y="73"/>
                  </a:lnTo>
                  <a:lnTo>
                    <a:pt x="253" y="108"/>
                  </a:lnTo>
                  <a:lnTo>
                    <a:pt x="235" y="144"/>
                  </a:lnTo>
                  <a:lnTo>
                    <a:pt x="205" y="165"/>
                  </a:lnTo>
                  <a:lnTo>
                    <a:pt x="184" y="170"/>
                  </a:lnTo>
                  <a:lnTo>
                    <a:pt x="154" y="162"/>
                  </a:lnTo>
                  <a:lnTo>
                    <a:pt x="143" y="135"/>
                  </a:lnTo>
                  <a:lnTo>
                    <a:pt x="140" y="96"/>
                  </a:lnTo>
                  <a:lnTo>
                    <a:pt x="113" y="150"/>
                  </a:lnTo>
                  <a:lnTo>
                    <a:pt x="83" y="170"/>
                  </a:lnTo>
                  <a:lnTo>
                    <a:pt x="53" y="165"/>
                  </a:lnTo>
                  <a:lnTo>
                    <a:pt x="35" y="138"/>
                  </a:lnTo>
                  <a:lnTo>
                    <a:pt x="27" y="108"/>
                  </a:lnTo>
                  <a:lnTo>
                    <a:pt x="30" y="84"/>
                  </a:lnTo>
                  <a:lnTo>
                    <a:pt x="38" y="51"/>
                  </a:lnTo>
                  <a:lnTo>
                    <a:pt x="57" y="37"/>
                  </a:lnTo>
                  <a:lnTo>
                    <a:pt x="87" y="39"/>
                  </a:lnTo>
                  <a:lnTo>
                    <a:pt x="115" y="64"/>
                  </a:lnTo>
                  <a:lnTo>
                    <a:pt x="133" y="78"/>
                  </a:lnTo>
                  <a:lnTo>
                    <a:pt x="133" y="51"/>
                  </a:lnTo>
                  <a:lnTo>
                    <a:pt x="101" y="18"/>
                  </a:lnTo>
                  <a:lnTo>
                    <a:pt x="65" y="13"/>
                  </a:lnTo>
                  <a:lnTo>
                    <a:pt x="38" y="25"/>
                  </a:lnTo>
                  <a:lnTo>
                    <a:pt x="14" y="51"/>
                  </a:lnTo>
                  <a:lnTo>
                    <a:pt x="0" y="103"/>
                  </a:lnTo>
                  <a:lnTo>
                    <a:pt x="9" y="147"/>
                  </a:lnTo>
                  <a:lnTo>
                    <a:pt x="23" y="195"/>
                  </a:lnTo>
                  <a:lnTo>
                    <a:pt x="53" y="221"/>
                  </a:lnTo>
                  <a:lnTo>
                    <a:pt x="131" y="168"/>
                  </a:lnTo>
                  <a:lnTo>
                    <a:pt x="172" y="195"/>
                  </a:lnTo>
                  <a:lnTo>
                    <a:pt x="209" y="186"/>
                  </a:lnTo>
                  <a:lnTo>
                    <a:pt x="235" y="168"/>
                  </a:lnTo>
                  <a:lnTo>
                    <a:pt x="265" y="141"/>
                  </a:lnTo>
                  <a:lnTo>
                    <a:pt x="280" y="103"/>
                  </a:lnTo>
                  <a:lnTo>
                    <a:pt x="285" y="57"/>
                  </a:lnTo>
                  <a:lnTo>
                    <a:pt x="256" y="16"/>
                  </a:lnTo>
                  <a:lnTo>
                    <a:pt x="214" y="0"/>
                  </a:lnTo>
                  <a:lnTo>
                    <a:pt x="214" y="16"/>
                  </a:lnTo>
                  <a:lnTo>
                    <a:pt x="21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130400">
              <a:off x="303480" y="5454000"/>
              <a:ext cx="72720" cy="856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1" y="18"/>
                  </a:moveTo>
                  <a:lnTo>
                    <a:pt x="78" y="21"/>
                  </a:lnTo>
                  <a:lnTo>
                    <a:pt x="57" y="37"/>
                  </a:lnTo>
                  <a:lnTo>
                    <a:pt x="32" y="57"/>
                  </a:lnTo>
                  <a:lnTo>
                    <a:pt x="15" y="114"/>
                  </a:lnTo>
                  <a:lnTo>
                    <a:pt x="0" y="138"/>
                  </a:lnTo>
                  <a:lnTo>
                    <a:pt x="9" y="84"/>
                  </a:lnTo>
                  <a:lnTo>
                    <a:pt x="2" y="55"/>
                  </a:lnTo>
                  <a:lnTo>
                    <a:pt x="36" y="18"/>
                  </a:lnTo>
                  <a:lnTo>
                    <a:pt x="57" y="4"/>
                  </a:lnTo>
                  <a:lnTo>
                    <a:pt x="83" y="0"/>
                  </a:lnTo>
                  <a:lnTo>
                    <a:pt x="104" y="7"/>
                  </a:lnTo>
                  <a:lnTo>
                    <a:pt x="101" y="18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130400">
              <a:off x="331560" y="5477040"/>
              <a:ext cx="29520" cy="3852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27" y="0"/>
                  </a:moveTo>
                  <a:lnTo>
                    <a:pt x="41" y="16"/>
                  </a:lnTo>
                  <a:lnTo>
                    <a:pt x="41" y="42"/>
                  </a:lnTo>
                  <a:lnTo>
                    <a:pt x="23" y="63"/>
                  </a:lnTo>
                  <a:lnTo>
                    <a:pt x="6" y="57"/>
                  </a:lnTo>
                  <a:lnTo>
                    <a:pt x="0" y="33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130400">
              <a:off x="335520" y="5546520"/>
              <a:ext cx="27720" cy="3456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33" y="9"/>
                  </a:moveTo>
                  <a:lnTo>
                    <a:pt x="39" y="32"/>
                  </a:lnTo>
                  <a:lnTo>
                    <a:pt x="28" y="53"/>
                  </a:lnTo>
                  <a:lnTo>
                    <a:pt x="12" y="56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9" y="9"/>
                  </a:lnTo>
                  <a:lnTo>
                    <a:pt x="21" y="0"/>
                  </a:lnTo>
                  <a:lnTo>
                    <a:pt x="33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130400">
              <a:off x="257040" y="5424120"/>
              <a:ext cx="99360" cy="40680"/>
            </a:xfrm>
            <a:custGeom>
              <a:avLst/>
              <a:gdLst/>
              <a:ahLst/>
              <a:rect l="l" t="t" r="r" b="b"/>
              <a:pathLst>
                <a:path w="144" h="65">
                  <a:moveTo>
                    <a:pt x="144" y="65"/>
                  </a:moveTo>
                  <a:lnTo>
                    <a:pt x="120" y="27"/>
                  </a:lnTo>
                  <a:lnTo>
                    <a:pt x="84" y="0"/>
                  </a:lnTo>
                  <a:lnTo>
                    <a:pt x="45" y="0"/>
                  </a:lnTo>
                  <a:lnTo>
                    <a:pt x="18" y="14"/>
                  </a:lnTo>
                  <a:lnTo>
                    <a:pt x="0" y="32"/>
                  </a:lnTo>
                  <a:lnTo>
                    <a:pt x="45" y="9"/>
                  </a:lnTo>
                  <a:lnTo>
                    <a:pt x="75" y="14"/>
                  </a:lnTo>
                  <a:lnTo>
                    <a:pt x="103" y="32"/>
                  </a:lnTo>
                  <a:lnTo>
                    <a:pt x="144" y="65"/>
                  </a:lnTo>
                  <a:lnTo>
                    <a:pt x="14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130400">
              <a:off x="231120" y="5419800"/>
              <a:ext cx="104760" cy="34560"/>
            </a:xfrm>
            <a:custGeom>
              <a:avLst/>
              <a:gdLst/>
              <a:ahLst/>
              <a:rect l="l" t="t" r="r" b="b"/>
              <a:pathLst>
                <a:path w="150" h="56">
                  <a:moveTo>
                    <a:pt x="150" y="56"/>
                  </a:moveTo>
                  <a:lnTo>
                    <a:pt x="108" y="17"/>
                  </a:lnTo>
                  <a:lnTo>
                    <a:pt x="75" y="0"/>
                  </a:lnTo>
                  <a:lnTo>
                    <a:pt x="36" y="8"/>
                  </a:lnTo>
                  <a:lnTo>
                    <a:pt x="0" y="35"/>
                  </a:lnTo>
                  <a:lnTo>
                    <a:pt x="48" y="15"/>
                  </a:lnTo>
                  <a:lnTo>
                    <a:pt x="81" y="17"/>
                  </a:lnTo>
                  <a:lnTo>
                    <a:pt x="114" y="38"/>
                  </a:lnTo>
                  <a:lnTo>
                    <a:pt x="150" y="56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130400">
              <a:off x="262440" y="5564520"/>
              <a:ext cx="106200" cy="5436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44"/>
                  </a:moveTo>
                  <a:lnTo>
                    <a:pt x="134" y="21"/>
                  </a:lnTo>
                  <a:lnTo>
                    <a:pt x="89" y="0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50" y="12"/>
                  </a:lnTo>
                  <a:lnTo>
                    <a:pt x="77" y="12"/>
                  </a:lnTo>
                  <a:lnTo>
                    <a:pt x="39" y="32"/>
                  </a:lnTo>
                  <a:lnTo>
                    <a:pt x="11" y="87"/>
                  </a:lnTo>
                  <a:lnTo>
                    <a:pt x="39" y="69"/>
                  </a:lnTo>
                  <a:lnTo>
                    <a:pt x="53" y="39"/>
                  </a:lnTo>
                  <a:lnTo>
                    <a:pt x="74" y="27"/>
                  </a:lnTo>
                  <a:lnTo>
                    <a:pt x="98" y="18"/>
                  </a:lnTo>
                  <a:lnTo>
                    <a:pt x="119" y="39"/>
                  </a:lnTo>
                  <a:lnTo>
                    <a:pt x="152" y="44"/>
                  </a:lnTo>
                  <a:lnTo>
                    <a:pt x="15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130400">
              <a:off x="290160" y="5466240"/>
              <a:ext cx="371520" cy="93960"/>
            </a:xfrm>
            <a:custGeom>
              <a:avLst/>
              <a:gdLst/>
              <a:ahLst/>
              <a:rect l="l" t="t" r="r" b="b"/>
              <a:pathLst>
                <a:path w="531" h="153">
                  <a:moveTo>
                    <a:pt x="531" y="112"/>
                  </a:moveTo>
                  <a:lnTo>
                    <a:pt x="469" y="39"/>
                  </a:lnTo>
                  <a:lnTo>
                    <a:pt x="430" y="13"/>
                  </a:lnTo>
                  <a:lnTo>
                    <a:pt x="388" y="0"/>
                  </a:lnTo>
                  <a:lnTo>
                    <a:pt x="361" y="30"/>
                  </a:lnTo>
                  <a:lnTo>
                    <a:pt x="292" y="57"/>
                  </a:lnTo>
                  <a:lnTo>
                    <a:pt x="218" y="69"/>
                  </a:lnTo>
                  <a:lnTo>
                    <a:pt x="152" y="73"/>
                  </a:lnTo>
                  <a:lnTo>
                    <a:pt x="111" y="64"/>
                  </a:lnTo>
                  <a:lnTo>
                    <a:pt x="83" y="37"/>
                  </a:lnTo>
                  <a:lnTo>
                    <a:pt x="81" y="64"/>
                  </a:lnTo>
                  <a:lnTo>
                    <a:pt x="44" y="96"/>
                  </a:lnTo>
                  <a:lnTo>
                    <a:pt x="21" y="120"/>
                  </a:lnTo>
                  <a:lnTo>
                    <a:pt x="16" y="75"/>
                  </a:lnTo>
                  <a:lnTo>
                    <a:pt x="33" y="37"/>
                  </a:lnTo>
                  <a:lnTo>
                    <a:pt x="69" y="4"/>
                  </a:lnTo>
                  <a:lnTo>
                    <a:pt x="24" y="18"/>
                  </a:lnTo>
                  <a:lnTo>
                    <a:pt x="0" y="64"/>
                  </a:lnTo>
                  <a:lnTo>
                    <a:pt x="9" y="153"/>
                  </a:lnTo>
                  <a:lnTo>
                    <a:pt x="99" y="78"/>
                  </a:lnTo>
                  <a:lnTo>
                    <a:pt x="179" y="90"/>
                  </a:lnTo>
                  <a:lnTo>
                    <a:pt x="286" y="82"/>
                  </a:lnTo>
                  <a:lnTo>
                    <a:pt x="359" y="48"/>
                  </a:lnTo>
                  <a:lnTo>
                    <a:pt x="394" y="25"/>
                  </a:lnTo>
                  <a:lnTo>
                    <a:pt x="463" y="57"/>
                  </a:lnTo>
                  <a:lnTo>
                    <a:pt x="520" y="112"/>
                  </a:lnTo>
                  <a:lnTo>
                    <a:pt x="531" y="112"/>
                  </a:lnTo>
                  <a:lnTo>
                    <a:pt x="53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130400">
              <a:off x="287280" y="5547600"/>
              <a:ext cx="43560" cy="259200"/>
            </a:xfrm>
            <a:custGeom>
              <a:avLst/>
              <a:gdLst/>
              <a:ahLst/>
              <a:rect l="l" t="t" r="r" b="b"/>
              <a:pathLst>
                <a:path w="63" h="419">
                  <a:moveTo>
                    <a:pt x="63" y="415"/>
                  </a:moveTo>
                  <a:lnTo>
                    <a:pt x="33" y="329"/>
                  </a:lnTo>
                  <a:lnTo>
                    <a:pt x="21" y="242"/>
                  </a:lnTo>
                  <a:lnTo>
                    <a:pt x="24" y="143"/>
                  </a:lnTo>
                  <a:lnTo>
                    <a:pt x="36" y="9"/>
                  </a:lnTo>
                  <a:lnTo>
                    <a:pt x="18" y="0"/>
                  </a:lnTo>
                  <a:lnTo>
                    <a:pt x="3" y="122"/>
                  </a:lnTo>
                  <a:lnTo>
                    <a:pt x="0" y="239"/>
                  </a:lnTo>
                  <a:lnTo>
                    <a:pt x="13" y="308"/>
                  </a:lnTo>
                  <a:lnTo>
                    <a:pt x="30" y="368"/>
                  </a:lnTo>
                  <a:lnTo>
                    <a:pt x="48" y="419"/>
                  </a:lnTo>
                  <a:lnTo>
                    <a:pt x="63" y="415"/>
                  </a:lnTo>
                  <a:lnTo>
                    <a:pt x="63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130400">
              <a:off x="248400" y="5173920"/>
              <a:ext cx="513360" cy="623880"/>
            </a:xfrm>
            <a:custGeom>
              <a:avLst/>
              <a:gdLst/>
              <a:ahLst/>
              <a:rect l="l" t="t" r="r" b="b"/>
              <a:pathLst>
                <a:path w="731" h="1006">
                  <a:moveTo>
                    <a:pt x="675" y="0"/>
                  </a:moveTo>
                  <a:lnTo>
                    <a:pt x="684" y="236"/>
                  </a:lnTo>
                  <a:lnTo>
                    <a:pt x="731" y="442"/>
                  </a:lnTo>
                  <a:lnTo>
                    <a:pt x="723" y="635"/>
                  </a:lnTo>
                  <a:lnTo>
                    <a:pt x="677" y="793"/>
                  </a:lnTo>
                  <a:lnTo>
                    <a:pt x="592" y="914"/>
                  </a:lnTo>
                  <a:lnTo>
                    <a:pt x="495" y="976"/>
                  </a:lnTo>
                  <a:lnTo>
                    <a:pt x="379" y="1006"/>
                  </a:lnTo>
                  <a:lnTo>
                    <a:pt x="254" y="988"/>
                  </a:lnTo>
                  <a:lnTo>
                    <a:pt x="142" y="936"/>
                  </a:lnTo>
                  <a:lnTo>
                    <a:pt x="40" y="855"/>
                  </a:lnTo>
                  <a:lnTo>
                    <a:pt x="0" y="775"/>
                  </a:lnTo>
                  <a:lnTo>
                    <a:pt x="7" y="719"/>
                  </a:lnTo>
                  <a:lnTo>
                    <a:pt x="48" y="706"/>
                  </a:lnTo>
                  <a:lnTo>
                    <a:pt x="98" y="740"/>
                  </a:lnTo>
                  <a:lnTo>
                    <a:pt x="135" y="793"/>
                  </a:lnTo>
                  <a:lnTo>
                    <a:pt x="216" y="875"/>
                  </a:lnTo>
                  <a:lnTo>
                    <a:pt x="279" y="876"/>
                  </a:lnTo>
                  <a:lnTo>
                    <a:pt x="205" y="799"/>
                  </a:lnTo>
                  <a:lnTo>
                    <a:pt x="166" y="719"/>
                  </a:lnTo>
                  <a:lnTo>
                    <a:pt x="174" y="647"/>
                  </a:lnTo>
                  <a:lnTo>
                    <a:pt x="194" y="618"/>
                  </a:lnTo>
                  <a:lnTo>
                    <a:pt x="231" y="626"/>
                  </a:lnTo>
                  <a:lnTo>
                    <a:pt x="251" y="658"/>
                  </a:lnTo>
                  <a:lnTo>
                    <a:pt x="263" y="702"/>
                  </a:lnTo>
                  <a:lnTo>
                    <a:pt x="250" y="752"/>
                  </a:lnTo>
                  <a:lnTo>
                    <a:pt x="294" y="809"/>
                  </a:lnTo>
                  <a:lnTo>
                    <a:pt x="355" y="843"/>
                  </a:lnTo>
                  <a:lnTo>
                    <a:pt x="333" y="767"/>
                  </a:lnTo>
                  <a:lnTo>
                    <a:pt x="326" y="702"/>
                  </a:lnTo>
                  <a:lnTo>
                    <a:pt x="341" y="652"/>
                  </a:lnTo>
                  <a:lnTo>
                    <a:pt x="379" y="627"/>
                  </a:lnTo>
                  <a:lnTo>
                    <a:pt x="400" y="658"/>
                  </a:lnTo>
                  <a:lnTo>
                    <a:pt x="404" y="696"/>
                  </a:lnTo>
                  <a:lnTo>
                    <a:pt x="412" y="761"/>
                  </a:lnTo>
                  <a:lnTo>
                    <a:pt x="462" y="797"/>
                  </a:lnTo>
                  <a:lnTo>
                    <a:pt x="495" y="795"/>
                  </a:lnTo>
                  <a:lnTo>
                    <a:pt x="545" y="769"/>
                  </a:lnTo>
                  <a:lnTo>
                    <a:pt x="594" y="683"/>
                  </a:lnTo>
                  <a:lnTo>
                    <a:pt x="628" y="564"/>
                  </a:lnTo>
                  <a:lnTo>
                    <a:pt x="635" y="427"/>
                  </a:lnTo>
                  <a:lnTo>
                    <a:pt x="616" y="332"/>
                  </a:lnTo>
                  <a:lnTo>
                    <a:pt x="603" y="232"/>
                  </a:lnTo>
                  <a:lnTo>
                    <a:pt x="608" y="125"/>
                  </a:lnTo>
                  <a:lnTo>
                    <a:pt x="675" y="0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130400">
              <a:off x="202320" y="5792400"/>
              <a:ext cx="658800" cy="438840"/>
            </a:xfrm>
            <a:custGeom>
              <a:avLst/>
              <a:gdLst/>
              <a:ahLst/>
              <a:rect l="l" t="t" r="r" b="b"/>
              <a:pathLst>
                <a:path w="940" h="708">
                  <a:moveTo>
                    <a:pt x="934" y="0"/>
                  </a:moveTo>
                  <a:lnTo>
                    <a:pt x="809" y="247"/>
                  </a:lnTo>
                  <a:lnTo>
                    <a:pt x="708" y="361"/>
                  </a:lnTo>
                  <a:lnTo>
                    <a:pt x="586" y="446"/>
                  </a:lnTo>
                  <a:lnTo>
                    <a:pt x="454" y="548"/>
                  </a:lnTo>
                  <a:lnTo>
                    <a:pt x="421" y="519"/>
                  </a:lnTo>
                  <a:lnTo>
                    <a:pt x="391" y="516"/>
                  </a:lnTo>
                  <a:lnTo>
                    <a:pt x="351" y="531"/>
                  </a:lnTo>
                  <a:lnTo>
                    <a:pt x="308" y="530"/>
                  </a:lnTo>
                  <a:lnTo>
                    <a:pt x="280" y="491"/>
                  </a:lnTo>
                  <a:lnTo>
                    <a:pt x="284" y="437"/>
                  </a:lnTo>
                  <a:lnTo>
                    <a:pt x="275" y="350"/>
                  </a:lnTo>
                  <a:lnTo>
                    <a:pt x="302" y="293"/>
                  </a:lnTo>
                  <a:lnTo>
                    <a:pt x="310" y="220"/>
                  </a:lnTo>
                  <a:lnTo>
                    <a:pt x="268" y="184"/>
                  </a:lnTo>
                  <a:lnTo>
                    <a:pt x="252" y="214"/>
                  </a:lnTo>
                  <a:lnTo>
                    <a:pt x="240" y="268"/>
                  </a:lnTo>
                  <a:lnTo>
                    <a:pt x="231" y="340"/>
                  </a:lnTo>
                  <a:lnTo>
                    <a:pt x="201" y="372"/>
                  </a:lnTo>
                  <a:lnTo>
                    <a:pt x="199" y="444"/>
                  </a:lnTo>
                  <a:lnTo>
                    <a:pt x="174" y="466"/>
                  </a:lnTo>
                  <a:lnTo>
                    <a:pt x="159" y="416"/>
                  </a:lnTo>
                  <a:lnTo>
                    <a:pt x="162" y="317"/>
                  </a:lnTo>
                  <a:lnTo>
                    <a:pt x="171" y="245"/>
                  </a:lnTo>
                  <a:lnTo>
                    <a:pt x="159" y="177"/>
                  </a:lnTo>
                  <a:lnTo>
                    <a:pt x="140" y="189"/>
                  </a:lnTo>
                  <a:lnTo>
                    <a:pt x="117" y="219"/>
                  </a:lnTo>
                  <a:lnTo>
                    <a:pt x="114" y="290"/>
                  </a:lnTo>
                  <a:lnTo>
                    <a:pt x="114" y="370"/>
                  </a:lnTo>
                  <a:lnTo>
                    <a:pt x="101" y="417"/>
                  </a:lnTo>
                  <a:lnTo>
                    <a:pt x="79" y="412"/>
                  </a:lnTo>
                  <a:lnTo>
                    <a:pt x="70" y="360"/>
                  </a:lnTo>
                  <a:lnTo>
                    <a:pt x="80" y="297"/>
                  </a:lnTo>
                  <a:lnTo>
                    <a:pt x="92" y="241"/>
                  </a:lnTo>
                  <a:lnTo>
                    <a:pt x="75" y="191"/>
                  </a:lnTo>
                  <a:lnTo>
                    <a:pt x="38" y="180"/>
                  </a:lnTo>
                  <a:lnTo>
                    <a:pt x="6" y="239"/>
                  </a:lnTo>
                  <a:lnTo>
                    <a:pt x="0" y="329"/>
                  </a:lnTo>
                  <a:lnTo>
                    <a:pt x="14" y="415"/>
                  </a:lnTo>
                  <a:lnTo>
                    <a:pt x="30" y="500"/>
                  </a:lnTo>
                  <a:lnTo>
                    <a:pt x="104" y="637"/>
                  </a:lnTo>
                  <a:lnTo>
                    <a:pt x="180" y="695"/>
                  </a:lnTo>
                  <a:lnTo>
                    <a:pt x="303" y="708"/>
                  </a:lnTo>
                  <a:lnTo>
                    <a:pt x="410" y="698"/>
                  </a:lnTo>
                  <a:lnTo>
                    <a:pt x="483" y="667"/>
                  </a:lnTo>
                  <a:lnTo>
                    <a:pt x="605" y="592"/>
                  </a:lnTo>
                  <a:lnTo>
                    <a:pt x="692" y="515"/>
                  </a:lnTo>
                  <a:lnTo>
                    <a:pt x="796" y="372"/>
                  </a:lnTo>
                  <a:lnTo>
                    <a:pt x="864" y="273"/>
                  </a:lnTo>
                  <a:lnTo>
                    <a:pt x="940" y="120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5600">
            <a:off x="3634920" y="403920"/>
            <a:ext cx="3448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HANGES?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484280"/>
            <a:ext cx="828036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ould we rapidly change CBS organization culture or work style of hundreds of employe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ould we immediately change 150 Information Systems without chao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E9D-6095-4AC1-9584-E34F04BA4374}" type="slidenum">
              <a:t>5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 rot="15600">
            <a:off x="324000" y="5446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STRATEGIC</a:t>
            </a:r>
            <a:r>
              <a:rPr b="0" lang="en-US" sz="4400" spc="-1" strike="noStrike">
                <a:solidFill>
                  <a:srgbClr val="9966ff"/>
                </a:solidFill>
                <a:latin typeface="Lucida Sans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PLAN</a:t>
            </a:r>
            <a:r>
              <a:rPr b="0" lang="en-US" sz="4400" spc="-1" strike="noStrike">
                <a:solidFill>
                  <a:srgbClr val="9966ff"/>
                </a:solidFill>
                <a:latin typeface="Lucida Sans"/>
              </a:rPr>
              <a:t> - </a:t>
            </a: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“simultaneous attack” 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828800"/>
            <a:ext cx="762012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 9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e the traditional  technologic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- “launch” internet into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coming a “learning organiz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e to a new building - new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628640"/>
            <a:ext cx="0" cy="522936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53960" cy="67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43488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flipH="1" rot="10643400">
            <a:off x="755280" y="3068280"/>
            <a:ext cx="395280" cy="50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4920" y="3716280"/>
            <a:ext cx="36036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504720" cy="59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25960" y="63658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‘ll describe each of them shor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079-B460-4047-95B1-1D583D19211D}" type="slidenum">
              <a:t>6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91628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 committees were established (100 employe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nsive workload of one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olvement of all the employ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influence on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haring information, cooperation)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didn’t succeed in implemen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ments - control, standardization and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21520" y="4581360"/>
            <a:ext cx="112248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58920" y="0"/>
            <a:ext cx="1515960" cy="2060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Lucida Sans"/>
              </a:rPr>
              <a:t>ISO 9000</a:t>
            </a:r>
            <a:endParaRPr b="0" lang="en-US" sz="6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E60-EADD-4DAC-9ABE-9606BF459060}" type="slidenum">
              <a:t>7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62920" y="5300640"/>
            <a:ext cx="1081080" cy="87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1008000" cy="170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7840" y="1844640"/>
            <a:ext cx="388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Strategic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Tactical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Functional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8164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IT division had to change development direction (develop cross organizational projects, support users, infrastructure, trainin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Functionality checking  of the IT division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B1D-002E-4A9E-82CA-1A8643819BC8}" type="slidenum">
              <a:t>8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354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  <a:ea typeface="Guttman Yad-Brush"/>
              </a:rPr>
              <a:t>Examples of strategic and functionality problem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  <a:ea typeface="Guttman Yad-Bru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Users wish for independence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No overall perspective in the organization, none  in technology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Major problem in employee recruitment to the civil service – low salaries especially in I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Problems retiring inadequate tenured employe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No Help Desk suppor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Subject Departments don’t have the ability to gather and define system requirement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01120" y="5157720"/>
            <a:ext cx="1442880" cy="9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28D-6956-4893-BE49-6441E4CC7DCA}" type="slidenum">
              <a:t>9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1:36:30Z</dcterms:created>
  <dc:creator>לשכה מרכזית לסטטיסטיקה</dc:creator>
  <dc:description/>
  <dc:language>en-US</dc:language>
  <cp:lastModifiedBy>ONU</cp:lastModifiedBy>
  <cp:lastPrinted>2000-04-30T13:01:38Z</cp:lastPrinted>
  <dcterms:modified xsi:type="dcterms:W3CDTF">2007-05-08T06:41:41Z</dcterms:modified>
  <cp:revision>189</cp:revision>
  <dc:subject/>
  <dc:title>ללא כותרת שקופית</dc:title>
</cp:coreProperties>
</file>