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8A68D-700B-41F3-853D-EC5C505FF7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41240" y="3843360"/>
            <a:ext cx="5440320" cy="5097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6680" y="106200"/>
            <a:ext cx="1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749760" y="4680"/>
            <a:ext cx="2873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9760" y="9875880"/>
            <a:ext cx="287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875880"/>
            <a:ext cx="2870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80"/>
            <a:ext cx="2870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01320" y="4560480"/>
            <a:ext cx="6172200" cy="4380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2840" bIns="428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genda 2000, the Commission proposed to bring together the different forms of pre-accession support provided by the Union within a single framework, the Accession Partnerships. At its meeting on 12-13 December 1997, the Luxembourg European Council endorsed the Accession Partnership as a new instrument which would be the key feature of the enhanced pre-accession strategy. As the Commission indicated in Agenda 2000: "The reinforced pre-accession strategy has two main objectives. First, to bring together the different forms of support provided by the Union within a single framework, the Accession Partnerships, and to work together with the applicants, within this framework, on the basis of a clearly defined programme to prepare for membership, involving commitments by the applicants to particular priorities and to a calendar for carrying them out. Secondly, to familiarise the applicants with Union policies and procedures through the possibility of their participation in Community programmes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736560" y="792000"/>
            <a:ext cx="5151600" cy="3864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4320" y="630900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617AB3-2B1A-4CF5-9C2A-47ABB32E755D}" type="slidenum">
              <a:rPr b="0" lang="en-US" sz="16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360" y="6165720"/>
            <a:ext cx="8856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9280" y="189000"/>
            <a:ext cx="8785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9280" y="6237360"/>
            <a:ext cx="649440" cy="43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71640" y="6237360"/>
            <a:ext cx="576000" cy="412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619280" y="6237360"/>
            <a:ext cx="46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"/>
              </a:rPr>
              <a:t>Euros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"/>
              </a:rPr>
              <a:t>Unit B1 – IT Systems for Statistic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800280"/>
            <a:ext cx="727236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outsourcing in Eurost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r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rges Pongas, Adam Wro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ting on the Management of Statistical Information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IS 2007, Geneva, 8-10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266480" y="225720"/>
            <a:ext cx="1172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s for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836640"/>
            <a:ext cx="8601120" cy="52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ility of qualified project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management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s - accurate and with sufficient detail requirements and the delivery terms precisely specifi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of the contactor must include appropriate choice mechanisms, i.e., assurance of choosing the best or sufficiently good o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ous dialog and monitoring of the company during the contract execution is guarant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pecifications are realistic and correspond to the available budg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 between the company and public administration must be of mutual tr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an individual project level a long term budget plan is established covering not only the initial developments but also the long term evolutive and corrective maintenance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0" y="225720"/>
            <a:ext cx="817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tf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015920"/>
            <a:ext cx="864216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personnel cannot specify and control the quality of deliverables of a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accurate or fuzzy or unrealistic specifications have been produced or contract does not contain a description of the critical deliver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onal structure is inappropria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, mixing of internal and company tea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 much supervisio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it transfer of the final responsibility to the public organ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is applied to a core activity such as strategic planning, user requirements and architecture defin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296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160640"/>
            <a:ext cx="856908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of Eurostat affirms that globally outsourcing can be benefi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sues to be vigi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that win framework contract change every several years. Consequently, at such times there is an extra need for resources to transfer the knowledge to the new company programm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ed for concurrent comprehension and appreciation of statistical, informatics and project management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to stay in control and keep the expertise in house the core activities should not be outsourced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640" y="1197000"/>
            <a:ext cx="846144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 in 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cs environment of Euros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work of outsourci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actual framework of outsourci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actu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f 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conditions fo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t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041840" y="249120"/>
            <a:ext cx="1058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015920"/>
            <a:ext cx="7726320" cy="50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in 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d for various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aining an expertise which cannot, in principle, be found among its own staf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lexibility in human resources, their allocation, amount and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nally the need to focus internal resources to core business activities (statistics that is diffic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ing: requirements gathering and analysis, application design, application development, system maintenance, help desk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004760" y="250920"/>
            <a:ext cx="1132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ourcing in 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9280" y="1015920"/>
            <a:ext cx="7726320" cy="50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cations developed mainly: Oracle, Java, SAS, V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so used: Excel, Business Objects, Fame, Oracle Express,  C, C++, Power Builder, Cold Fusion, Web Log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developments use 3-tier model with thin clients using web technologies (client server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~ 9% of human resour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 100 various applications (program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ity having maintenance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sourcing ~ 11M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240280" y="250920"/>
            <a:ext cx="1378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formatics environment of Eurost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1125360"/>
            <a:ext cx="8712000" cy="47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regulations requ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 to be specified in terms of output (results) and not input (resources used by the contrac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ormance of the contractor has to be regularly and closely monit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for services to be outsourced, there must be a competitive market to deliver thes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stat must maintain a technical capacity to define the required service, estimate its cost and monitor and evaluate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ourcing does not diminish the responsibility of Eurostat (the organisation and its responsible official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945880" y="260280"/>
            <a:ext cx="1501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amework for outsourcing activities - princi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089000"/>
            <a:ext cx="8642160" cy="48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information announcement, the subject of the call for tenders, the duration of the programme and the maximum allocated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ation, describing the details of the object of the call for tenders, and the conditions of acceptability an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oice of the contractor is done using three kinds of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criteria: experience, size, financia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the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s not known before the first two criteria are evaluated and published to make the technical evaluation 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act is signed with the company having 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68840" y="382680"/>
            <a:ext cx="965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ll for t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pen call for tend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&gt; 60k€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r two up to a maximum of five years. (The Commission budget is annu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stricted call for t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ep mechanis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open call for tend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mechanism chooses two to twenty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second step all pre-selected companies can participate i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stri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 for tend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eneric service - neither the exact volume nor the exact specification can be given at the moment of the (non-restricted) call for tend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goti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e offer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60k€ and 5k€ respectiv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used for informatics activ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370880" y="190800"/>
            <a:ext cx="118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tractual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ase of the restricted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for tenders is done using a generic description, describing merely the technical capacity needed and the potential types of interventions (tas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are ranked and then for each particular type of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to the first ranked company. If the company refuses the request, sent to the second one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the elapsed time between expression of the need and start of work (6 - 9 months vs. 2 - 3 month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lexibility and thus it is better adapted to fulfil various informatics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IT developments us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977400" y="190800"/>
            <a:ext cx="11045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ramework 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981000"/>
            <a:ext cx="8532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ime and me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, prototyping, design, testing, documentation and training,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red person works on the Eurostat premi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Quoted time and me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in loose terms of the work to be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small tasks are defined to which the company must answer, giving the total cost of each task in person-day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er size developments and projects at evolutive maintenance level where the global specification cannot be done at the moment of the first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xed price contrac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of the deliver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 responds with a project plan team structure, the composition of the development team (experience, knowledge and education), responsibilities and total worklo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r scale developme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096280" y="190800"/>
            <a:ext cx="1328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246480" indent="-3246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ramework contract -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07:47:00Z</dcterms:created>
  <dc:creator>John Allen</dc:creator>
  <dc:description/>
  <cp:keywords/>
  <dc:language>en-US</dc:language>
  <cp:lastModifiedBy>Wronsad</cp:lastModifiedBy>
  <cp:lastPrinted>2001-11-24T15:05:16Z</cp:lastPrinted>
  <dcterms:modified xsi:type="dcterms:W3CDTF">2007-05-07T07:46:08Z</dcterms:modified>
  <cp:revision>172</cp:revision>
  <dc:subject/>
  <dc:title>Model slides for enlargement screening presentation</dc:title>
</cp:coreProperties>
</file>