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99D-D2A0-4644-AB50-41CD7A73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C3B-B365-4137-8E25-853E6DA8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FD9-23B6-4672-AD5E-8786C2F2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79D-3F3A-4A45-93AE-C5E6BD01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792-3915-4C6C-828E-521770CF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4367-0B5D-4A83-8FF7-83C167DF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17E-E424-420D-8B90-31F55487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4CF-7DA3-4D2F-AEAA-AE87078E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9A7-5379-42F2-8B57-B07F308E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BC5-1E4D-41F7-9C68-2EEEA6E0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CBD-435F-4047-86B3-02737244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4B3-CDEF-414F-B188-E5C6A2F1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324F-8924-4A05-B3FC-1A921838C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ocess reengineering at Statistics Sw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 Sundg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-04-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ome ongoing projec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a standardised tool for construction of questionn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an XBRL-based data collection process for tapping input data from accounting systems based on the accounting system standard BAS, used by Swedish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a strategy for optimisation of the number of respondent call attempt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and implementation of systematic procedures for monitoring interviewer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a standardised process for coding and a system for systematic quality control of the coding proces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and implementation of an optimal strategy for data editing based upon standard methods and tools for selective editing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ome ongoing projec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atisation and streamlining of the throughput processes for complex products like Price Indexes and the National Account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on of a limited number of estimation and tabulation tools to be used by all survey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s of the standard tool for variance estimation (CLAN) and estimation of order statistics (EOS)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eamlining and implementation of a standard process for publishing and communication of statistics, based on the standard system for output databases (SSD), including the PC-AXIS tool and MetaPlus for metadata management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a standardised system for generation/collection, management, and use of process dat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aintenance model will be put in place to ensure the quality and reliability of the tools and services in operation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7640" y="228600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9280" y="609480"/>
            <a:ext cx="7705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04960" y="747720"/>
            <a:ext cx="75340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7040" y="600120"/>
            <a:ext cx="86299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57556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ur key-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ajor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TA (standardisation of proce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MA (improvement of economic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response burden by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000" y="352440"/>
            <a:ext cx="8982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41120"/>
            <a:ext cx="820908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85680"/>
            <a:ext cx="721044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8960" y="514440"/>
            <a:ext cx="850608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532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88920"/>
            <a:ext cx="727236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4:24:28Z</dcterms:created>
  <dc:creator>scbbosu</dc:creator>
  <dc:description/>
  <dc:language>en-US</dc:language>
  <cp:lastModifiedBy>scbbosu</cp:lastModifiedBy>
  <dcterms:modified xsi:type="dcterms:W3CDTF">2007-04-24T15:11:01Z</dcterms:modified>
  <cp:revision>12</cp:revision>
  <dc:subject/>
  <dc:title>Process reengineering at Statistics Sweden</dc:title>
</cp:coreProperties>
</file>