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492-64AA-4855-BA70-961208C5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384-8176-4E83-BDA2-E52ABB09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B15-DF4C-45F5-A7FB-0FCC48EF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36D-2B15-4BA3-86EF-D899AB8D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DD1-0213-44F2-A270-A45A30CE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789-76D6-4B73-848B-B97B1A7D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72E-32CD-4ACC-9304-FDF6FF7F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C33-06B7-4AA1-AA83-17B4CF82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06C-4191-4841-9E52-DE181679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652-019D-4DBE-A702-EB84729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A5F-C816-43E9-8FB1-4EF46ECC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044-FBDC-4ACA-BF40-1C6C605F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5874-882A-4844-B60C-C1DC4CA4B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ocess reengineering at Statistics Sw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 Sundg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-04-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ome ongoing projec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a standardised tool for construction of questionn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an XBRL-based data collection process for tapping input data from accounting systems based on the accounting system standard BAS, used by Swedish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a strategy for optimisation of the number of respondent call attempt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and implementation of systematic procedures for monitoring interviewer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a standardised process for coding and a system for systematic quality control of the coding proces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and implementation of an optimal strategy for data editing based upon standard methods and tools for selective editing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ome ongoing projec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atisation and streamlining of the throughput processes for complex products like Price Indexes and the National Account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on of a limited number of estimation and tabulation tools to be used by all survey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s of the standard tool for variance estimation (CLAN) and estimation of order statistics (EOS)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eamlining and implementation of a standard process for publishing and communication of statistics, based on the standard system for output databases (SSD), including the PC-AXIS tool and MetaPlus for metadata management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a standardised system for generation/collection, management, and use of process dat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aintenance model will be put in place to ensure the quality and reliability of the tools and services in operation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7640" y="228600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9280" y="609480"/>
            <a:ext cx="7705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04960" y="747720"/>
            <a:ext cx="75340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7040" y="600120"/>
            <a:ext cx="86299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57556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ur key-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ajor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TA (standardisation of proce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MA (improvement of economic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response burden by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000" y="352440"/>
            <a:ext cx="8982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41120"/>
            <a:ext cx="820908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85680"/>
            <a:ext cx="721044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8960" y="514440"/>
            <a:ext cx="850608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532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88920"/>
            <a:ext cx="727236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4:24:28Z</dcterms:created>
  <dc:creator>scbbosu</dc:creator>
  <dc:description/>
  <dc:language>en-US</dc:language>
  <cp:lastModifiedBy>scbbosu</cp:lastModifiedBy>
  <dcterms:modified xsi:type="dcterms:W3CDTF">2007-04-24T15:11:01Z</dcterms:modified>
  <cp:revision>12</cp:revision>
  <dc:subject/>
  <dc:title>Process reengineering at Statistics Sweden</dc:title>
</cp:coreProperties>
</file>