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99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A700A218-2066-4F7E-8ABD-C40EE9D33583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ffff99"/>
                </a:solidFill>
                <a:latin typeface="Arial"/>
              </a:rPr>
              <a:t>MSIS – Past and Future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9 May 2007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Other groups / challeng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Editing nearer the source vs, automated data collec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Data editing and disclosure contro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Linking various data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Possible outpu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Publication on pactics of governance and and outoursc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pdate to “Information Systems Architecture for national statistical offices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operation in development of Web servi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Conference of European Statisticia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Regional dimen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ubsidiary to the</a:t>
            </a:r>
            <a:br>
              <a:rPr sz="2400"/>
            </a:b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UN Economic Commission for Europ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038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Global dimen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ubsidiary to the</a:t>
            </a:r>
            <a:br>
              <a:rPr sz="2400"/>
            </a:b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UN Statistical Commission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UNECE Statistical Programm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Coordination of international statsitical work in the UNECE reg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Collection, processing and dissemination of statistic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Methodological work in various statistical are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Technical assistance to UNECE countri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tatistical activities of other secto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origi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orking party on Electronic Data Processing (WP.9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Seminars on Integrated Statistical Information Systems and Related Matt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UNECE/UNDP Statistical Computing Project, Phase 1 and 2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leading them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User perspectiv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challenges -- Governanc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Outsourc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Service partnership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ublication on practices of IT governance in NSO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UK: Initiative to cooperate in development of Web servi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challenges -- Architectur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impact of changes in stat. Process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metadata driven syste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data collection channe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Processing, warehousing and data interchang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pdate to 1999 Guidelines on Information Systems Architecture for National and International Statistical Offi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challenges – User perspectiv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Dissemin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ccessibil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ervice-oriented architectu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mpact of the Interne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rgonomic interfaces,…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Other group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Confidentiality and disclosure contro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Electronic raw data report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Statistical data edit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G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Dissemination and communic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6:48:02Z</dcterms:created>
  <dc:creator>gardner</dc:creator>
  <dc:description/>
  <dc:language>en-US</dc:language>
  <cp:lastModifiedBy>ibm</cp:lastModifiedBy>
  <dcterms:modified xsi:type="dcterms:W3CDTF">2007-05-07T21:28:31Z</dcterms:modified>
  <cp:revision>15</cp:revision>
  <dc:subject/>
  <dc:title>Slide 1</dc:title>
</cp:coreProperties>
</file>