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A08A1DF9-1D82-4B62-B020-2FCADB78DFD3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20030825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ltpeters.com/articles/versu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Remote </a:t>
            </a:r>
            <a:br>
              <a:rPr sz="4800"/>
            </a:br>
            <a:r>
              <a:rPr b="1" lang="fr-CH" sz="4800" spc="-1" strike="noStrike">
                <a:solidFill>
                  <a:srgbClr val="ffff99"/>
                </a:solidFill>
                <a:latin typeface="Arial"/>
              </a:rPr>
              <a:t>Website Usability Testing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Jessica Gardn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MSIS Meeting, 9 May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ethodolog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752560"/>
            <a:ext cx="2449440" cy="1151280"/>
          </a:xfrm>
          <a:prstGeom prst="rightArrowCallout">
            <a:avLst>
              <a:gd name="adj1" fmla="val 25002"/>
              <a:gd name="adj2" fmla="val 25000"/>
              <a:gd name="adj3" fmla="val 35460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Determine users and thei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989000"/>
            <a:ext cx="2376360" cy="1150920"/>
          </a:xfrm>
          <a:prstGeom prst="rightArrowCallout">
            <a:avLst>
              <a:gd name="adj1" fmla="val 25002"/>
              <a:gd name="adj2" fmla="val 25000"/>
              <a:gd name="adj3" fmla="val 34412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Prepare tes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3494160"/>
            <a:ext cx="2376360" cy="1150920"/>
          </a:xfrm>
          <a:prstGeom prst="rightArrowCallout">
            <a:avLst>
              <a:gd name="adj1" fmla="val 25002"/>
              <a:gd name="adj2" fmla="val 25000"/>
              <a:gd name="adj3" fmla="val 34412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Recruit t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752560"/>
            <a:ext cx="2232360" cy="1151280"/>
          </a:xfrm>
          <a:prstGeom prst="rightArrowCallout">
            <a:avLst>
              <a:gd name="adj1" fmla="val 25002"/>
              <a:gd name="adj2" fmla="val 25000"/>
              <a:gd name="adj3" fmla="val 32317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Conduct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2752560"/>
            <a:ext cx="1368720" cy="11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cc"/>
                </a:solidFill>
                <a:latin typeface="Arial"/>
              </a:rPr>
              <a:t>Analyz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4391640" y="729360"/>
            <a:ext cx="360360" cy="8496000"/>
          </a:xfrm>
          <a:custGeom>
            <a:avLst/>
            <a:gdLst>
              <a:gd name="textAreaLeft" fmla="*/ 0 w 360360"/>
              <a:gd name="textAreaRight" fmla="*/ 129960 w 360360"/>
              <a:gd name="textAreaTop" fmla="*/ 221400 h 8496000"/>
              <a:gd name="textAreaBottom" fmla="*/ 8274600 h 84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0680" y="5157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99"/>
                </a:solidFill>
                <a:latin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Remote usability testing a valuable tool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Possible with limited resource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Easy to recruit tester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You get really valuable feedback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A must-do!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99"/>
                </a:solidFill>
                <a:latin typeface="Arial"/>
              </a:rPr>
              <a:t>Thank you – any 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8964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99"/>
                </a:solidFill>
                <a:latin typeface="Arial"/>
              </a:rPr>
              <a:t>Volunteer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99"/>
                </a:solidFill>
                <a:latin typeface="Arial"/>
              </a:rPr>
              <a:t>for future usability tests wanted!</a:t>
            </a:r>
            <a:br>
              <a:rPr sz="3200"/>
            </a:br>
            <a:br>
              <a:rPr sz="3200"/>
            </a:b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Contact:  jessica.gardner@unece.or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1052280"/>
            <a:ext cx="80010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800" spc="-1" strike="noStrike">
                <a:solidFill>
                  <a:srgbClr val="ffff99"/>
                </a:solidFill>
                <a:latin typeface="Arial"/>
              </a:rPr>
              <a:t>On the Web, </a:t>
            </a:r>
            <a:r>
              <a:rPr b="1" i="1" lang="fr-CH" sz="4800" spc="-1" strike="noStrike">
                <a:solidFill>
                  <a:srgbClr val="ffff99"/>
                </a:solidFill>
                <a:latin typeface="Arial"/>
              </a:rPr>
              <a:t>usability</a:t>
            </a:r>
            <a:r>
              <a:rPr b="0" i="1" lang="fr-CH" sz="4800" spc="-1" strike="noStrike">
                <a:solidFill>
                  <a:srgbClr val="ffff99"/>
                </a:solidFill>
                <a:latin typeface="Arial"/>
              </a:rPr>
              <a:t> is a necessary condition for survival. If a website is difficult to use, people leave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99"/>
                </a:solidFill>
                <a:latin typeface="Arial"/>
              </a:rPr>
              <a:t>Dr. Jakob Nielsen, usability exper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6">
                                  <p:stCondLst>
                                    <p:cond delay="1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Usability testing is quite eas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nd som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presentative us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sk the users to perform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presentative task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with the website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bserv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what users do, where they succeed, and where they have difficulties with the user interfa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81640" y="3017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73408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99"/>
                </a:solidFill>
                <a:latin typeface="Arial"/>
              </a:rPr>
              <a:t>Source:</a:t>
            </a:r>
            <a:r>
              <a:rPr b="0" lang="fr-CH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ffff99"/>
                </a:solidFill>
                <a:latin typeface="Arial"/>
              </a:rPr>
              <a:t>Usability 101: Introduction to Usability</a:t>
            </a:r>
            <a:r>
              <a:rPr b="0" lang="fr-CH" sz="1400" spc="-1" strike="noStrike">
                <a:solidFill>
                  <a:srgbClr val="ffff99"/>
                </a:solidFill>
                <a:latin typeface="Arial"/>
              </a:rPr>
              <a:t>, Jakob Nielsen’s Alertbox, 25 August 2003</a:t>
            </a:r>
            <a:br>
              <a:rPr sz="1400"/>
            </a:br>
            <a:r>
              <a:rPr b="0" lang="en-GB" sz="14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www.useit.com/alertbox/20030825.html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Options for Conducting Tes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57000"/>
            <a:ext cx="7854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ophisticated laboratory t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Pen and paper observ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Remote usability t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5616720" cy="307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1120" y="5661000"/>
            <a:ext cx="243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Photo source:</a:t>
            </a: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 Sun usability labs</a:t>
            </a:r>
            <a:br>
              <a:rPr sz="1200"/>
            </a:b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http://www.sun.com/usabilit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Remote vs Lab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Bolt Peters Usability Research study, 2002: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No reliable differences in the number and type of usability issues found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Lab testing 50% more expensive</a:t>
            </a:r>
            <a:br>
              <a:rPr sz="3000"/>
            </a:b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ffff99"/>
                </a:solidFill>
                <a:latin typeface="Arial"/>
              </a:rPr>
              <a:t>Lab testing took seven times longer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805360"/>
            <a:ext cx="79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ource:</a:t>
            </a: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Bolt Peters, Remote Testing versus Lab Testing, 3 February 2005</a:t>
            </a:r>
            <a:br>
              <a:rPr sz="1200"/>
            </a:br>
            <a:r>
              <a:rPr b="1" lang="en-GB" sz="12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www.boltpeters.com/articles/versus.htm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UNECE Experien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Website established 1995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Change in scope since the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Hundreds of web page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Limited resources for maintenanc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Decision to review and redesign in 2006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y we chose remote testing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Representative user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Locations across the worl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taff in Statistical Offices</a:t>
            </a:r>
            <a:br>
              <a:rPr sz="2800"/>
            </a:b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Minimize costs</a:t>
            </a:r>
            <a:br>
              <a:rPr sz="3600"/>
            </a:b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99"/>
                </a:solidFill>
                <a:latin typeface="Arial"/>
              </a:rPr>
              <a:t>Minimize time required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ebEx Meeting Manage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3644640"/>
            <a:ext cx="84250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eb conferencing softwa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Share documents, make online presentations, communicate and collaborate onlin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Observe or control a computer remote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4204" t="39156" r="53698" b="52003"/>
          <a:stretch/>
        </p:blipFill>
        <p:spPr>
          <a:xfrm>
            <a:off x="611280" y="1844640"/>
            <a:ext cx="3851280" cy="12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3743"/>
          <a:stretch/>
        </p:blipFill>
        <p:spPr>
          <a:xfrm>
            <a:off x="324000" y="55440"/>
            <a:ext cx="8496000" cy="669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70361"/>
          <a:stretch/>
        </p:blipFill>
        <p:spPr>
          <a:xfrm>
            <a:off x="324000" y="57240"/>
            <a:ext cx="8496000" cy="2076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6:48:02Z</dcterms:created>
  <dc:creator>gardner</dc:creator>
  <dc:description/>
  <dc:language>en-US</dc:language>
  <cp:lastModifiedBy>ONU</cp:lastModifiedBy>
  <dcterms:modified xsi:type="dcterms:W3CDTF">2007-05-09T10:25:38Z</dcterms:modified>
  <cp:revision>13</cp:revision>
  <dc:subject/>
  <dc:title>Slide 1</dc:title>
</cp:coreProperties>
</file>