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6B0-9449-444F-934E-1FF86E3808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6EE-20EE-4395-B067-A51B4748C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38400" y="990720"/>
            <a:ext cx="4381200" cy="3286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8800" y="4363560"/>
            <a:ext cx="5000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530E-5E5A-4392-90AD-3370E5863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5C7B-D435-49F6-B9C2-D51D6FB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0BB2-669E-4A4F-8EBF-57CD5EA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6089-9897-4213-AE5F-8BD8D1356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8905-DA90-4838-89F5-C00B363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7CD1-425E-4642-A4E7-0E25D8B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B811-629B-4FD1-9753-11B21B8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FA22-9333-4784-A823-4685FD1A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6EDB-E8FC-4C3E-9DCB-6948956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3A39-8449-42BD-ADAD-3A7A73B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B247-E6DF-423C-9329-4AA0A364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FCEA-934E-44BC-B537-21D0DE3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184-DF44-41CF-AFA3-63D842733BE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04472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1052640"/>
            <a:ext cx="229068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ecd.org/document/26/0,2340,en_21571361_31938349_38241306_1_1_1_1,00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ecd.org/document/12/0,2340,en_21571361_31938349_37725196_1_1_1_1,00.html" TargetMode="External"/><Relationship Id="rId2" Type="http://schemas.openxmlformats.org/officeDocument/2006/relationships/hyperlink" Target="http://www.abs.gov.au/websitedbs/d3310114.nsf/4a256353001af3ed4b2562bb00121564/ca0b3137794a766bca256f6c0078cb0b!OpenDocument" TargetMode="External"/><Relationship Id="rId3" Type="http://schemas.openxmlformats.org/officeDocument/2006/relationships/hyperlink" Target="http://www.statistics.gov.uk/populationestimates/svg_pyramid/ew/index.html" TargetMode="External"/><Relationship Id="rId4" Type="http://schemas.openxmlformats.org/officeDocument/2006/relationships/hyperlink" Target="http://www.cbs.nl/en-GB/menu/themas/dossiers/conjunctuur/publicaties/conjunctuurbericht/klok/ck-homepage.htm" TargetMode="External"/><Relationship Id="rId5" Type="http://schemas.openxmlformats.org/officeDocument/2006/relationships/hyperlink" Target="http://www.statistics.gov.uk/about/methodology_by_theme/area_classification/la/svg/index.html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ynamic Graphics –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ing Statistics Into Knowledg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IS 2007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692280"/>
            <a:ext cx="6699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63272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y are statistics so bor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Dynamic Graphics semin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presented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ECD/ECB work on Dynamic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5913-2215-46B2-BCB4-94E563FC5C4E}" type="slidenum">
              <a:t>2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Dynamic Graphics semin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urpose of the semin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lem of OECD statistics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 of stat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ibility of 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The seminar - agenda, participation,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1251-7D8D-4008-B56C-EBA412E14AF9}" type="slidenum">
              <a:t>3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ome presented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pyram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hlinkClick r:id="rId2"/>
              </a:rPr>
              <a:t>Austral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ng timwe s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hlinkClick r:id="rId3"/>
              </a:rPr>
              <a:t>England and W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4"/>
              </a:rPr>
              <a:t>Business Cycle Trac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lay 2000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5"/>
              </a:rPr>
              <a:t>Dynamic map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pMinder World (mix up of concepts, lack of metada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Eurostat do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3CC1-E25C-446C-9F10-3CF41F84B88C}" type="slidenum">
              <a:t>4</a:t>
            </a:fld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ECD/ECB work on Dynamic Graph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be easy to plug into OECD.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present itself on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sh &amp;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be usable also for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Àpollo and 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ll be presented in the SDMX meeting 10-11 M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336B-8C69-4812-8371-42287109502F}" type="slidenum">
              <a:t>5</a:t>
            </a:fld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589720"/>
            <a:ext cx="968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6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865080"/>
            <a:ext cx="66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7-05-03T13:04:51Z</dcterms:modified>
  <cp:revision>240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626589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MSIS 2007 dynamic graphics.ppt</vt:lpwstr>
  </property>
</Properties>
</file>