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BBAE-1E44-4641-B26D-F42F752A54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3DE-972A-4666-8C7E-1038677774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38400" y="990720"/>
            <a:ext cx="4381200" cy="3286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8800" y="4363560"/>
            <a:ext cx="5000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DEF8-5EA6-4D5D-848B-2C2B26104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FB71-F3CC-4536-8DB7-74CA14C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BA29-987B-4557-80AA-F800961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8F8A-34C4-41CF-BD96-EAA28C373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7FC4-3303-4118-B86B-ECCD1508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2DB0-738E-4DE1-B283-3BEE0D8C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F90A-17CC-4FFA-B681-E3B85C68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01A1-F04A-4120-992B-7B81FAC7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6EB0-EF62-49F6-BB24-147142D8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9F0B-8F0E-48C8-8D25-EDDB297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B5C2-4075-4C90-8FFE-7204A343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44B1-A137-4DA8-9D47-304AED2E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07D-5FAA-4B69-816A-3A3FD2719DB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04472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76720" y="1052640"/>
            <a:ext cx="229068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ecd.org/document/26/0,2340,en_21571361_31938349_38241306_1_1_1_1,00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ecd.org/document/12/0,2340,en_21571361_31938349_37725196_1_1_1_1,00.html" TargetMode="External"/><Relationship Id="rId2" Type="http://schemas.openxmlformats.org/officeDocument/2006/relationships/hyperlink" Target="http://www.abs.gov.au/websitedbs/d3310114.nsf/4a256353001af3ed4b2562bb00121564/ca0b3137794a766bca256f6c0078cb0b!OpenDocument" TargetMode="External"/><Relationship Id="rId3" Type="http://schemas.openxmlformats.org/officeDocument/2006/relationships/hyperlink" Target="http://www.statistics.gov.uk/populationestimates/svg_pyramid/ew/index.html" TargetMode="External"/><Relationship Id="rId4" Type="http://schemas.openxmlformats.org/officeDocument/2006/relationships/hyperlink" Target="http://www.cbs.nl/en-GB/menu/themas/dossiers/conjunctuur/publicaties/conjunctuurbericht/klok/ck-homepage.htm" TargetMode="External"/><Relationship Id="rId5" Type="http://schemas.openxmlformats.org/officeDocument/2006/relationships/hyperlink" Target="http://www.statistics.gov.uk/about/methodology_by_theme/area_classification/la/svg/index.html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78900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ynamic Graphics –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rning Statistics Into Knowledg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rs Thygesen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IS 2007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4920" y="692280"/>
            <a:ext cx="6699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63272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y are statistics so bor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Dynamic Graphics semin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presented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ECD/ECB work on Dynamic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88C7-CD4F-4BFA-A409-1B3D245ABACF}" type="slidenum">
              <a:t>2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Dynamic Graphics semin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urpose of the semin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lem of OECD statistics to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age of stat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sibility of 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The seminar - agenda, participation,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02DA-E588-4D60-ACF9-488DF0C9FE64}" type="slidenum">
              <a:t>3</a:t>
            </a:fld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Some presented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pyram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hlinkClick r:id="rId2"/>
              </a:rPr>
              <a:t>Austral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ng timwe s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hlinkClick r:id="rId3"/>
              </a:rPr>
              <a:t>England and W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4"/>
              </a:rPr>
              <a:t>Business Cycle Trac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lay 2000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5"/>
              </a:rPr>
              <a:t>Dynamic map 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pMinder World (mix up of concepts, lack of metada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Eurostat doing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7C62-E5CA-4968-802A-7A11477DFE28}" type="slidenum">
              <a:t>4</a:t>
            </a:fld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ECD/ECB work on Dynamic Graph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be easy to plug into OECD.St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present itself on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sh &amp; 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be usable also for pub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Àpollo and 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ll be presented in the SDMX meeting 10-11 M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7701-B624-4396-94D9-F2E4E2EA6C17}" type="slidenum">
              <a:t>5</a:t>
            </a:fld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304920"/>
            <a:ext cx="977760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589720"/>
            <a:ext cx="968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6000" spc="-1" strike="noStrike">
                <a:solidFill>
                  <a:srgbClr val="00ff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7840" y="865080"/>
            <a:ext cx="66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7-05-03T13:04:51Z</dcterms:modified>
  <cp:revision>240</cp:revision>
  <dc:subject/>
  <dc:title>2000 SDS Ob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626589</vt:r8>
  </property>
  <property fmtid="{D5CDD505-2E9C-101B-9397-08002B2CF9AE}" pid="3" name="_AuthorEmail">
    <vt:lpwstr>Lars.THYGESEN@oecd.org</vt:lpwstr>
  </property>
  <property fmtid="{D5CDD505-2E9C-101B-9397-08002B2CF9AE}" pid="4" name="_AuthorEmailDisplayName">
    <vt:lpwstr>THYGESEN Lars, STD/SIMS</vt:lpwstr>
  </property>
  <property fmtid="{D5CDD505-2E9C-101B-9397-08002B2CF9AE}" pid="5" name="_EmailSubject">
    <vt:lpwstr>MSIS 2007 dynamic graphics.ppt</vt:lpwstr>
  </property>
</Properties>
</file>