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DD9DE-A42B-4CB9-B613-CB8631508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AE4F3-BD5E-403C-B0E2-14C1D1AA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3AD67-3F7F-4831-9543-02F878263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9C803-5D49-4678-8ADA-3295DFEB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F018C-A9FF-422D-964A-73E982D35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2E1D4-67F8-49A3-8564-BF19EACBE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D98D8-44C3-4AA6-A089-E8C24A3D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66A39-5027-4934-BA8E-BFB2FACA4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B3974-4731-45E0-9BAF-7AC27B04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7FA66-8025-4014-B867-88FD0B277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4AE6-251E-4280-87E0-290D076A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618B-AA38-42EE-93E8-B2FE4B1A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74B87-A039-4741-AE04-4B4D97CEC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06499-643E-46D2-A50E-57BEAA61C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2AFA7-8DDA-4199-ABE4-12448957E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2401E-BBFE-47E5-8A33-01BA695DA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FCE7A-D84D-49EC-9C27-BA1B3260A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7C46-0D62-4858-A90C-7FC029075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C39C-3B5C-40B8-8403-A26D9318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56F6-6A02-4BC9-80F2-08251D2BD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65D5-2B00-42E6-9229-09CC4BBE6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C4A9-2F2F-4EAD-9941-82EFB9B4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DE03-5349-4240-AB27-48075C8E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5544-42E3-421C-AF72-592AC641C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2F8D-0A34-42F6-8788-18B5C6EFC817}"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4D04-D8A4-4565-8588-A2B64926CE27}"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odb.infostat.sk/sodb/index.htm" TargetMode="External"/><Relationship Id="rId2" Type="http://schemas.openxmlformats.org/officeDocument/2006/relationships/hyperlink" Target="http://sodb.infostat.sk/sodb/index.htm" TargetMode="External"/><Relationship Id="rId3" Type="http://schemas.openxmlformats.org/officeDocument/2006/relationships/hyperlink" Target="http://sodb.infostat.sk/sodb/index.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476280"/>
            <a:ext cx="80661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PULATION AND HOUSING CENSUSES IN SLOVAKIA ON THE WEBSITE</a:t>
            </a:r>
            <a:r>
              <a:rPr b="0" lang="sk-SK"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02920" y="4149360"/>
            <a:ext cx="6697800" cy="230364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Times New Roman"/>
              </a:rPr>
              <a:t>Miroslav Hu</a:t>
            </a:r>
            <a:r>
              <a:rPr b="0" lang="en-US" sz="2600" spc="-1" strike="noStrike">
                <a:solidFill>
                  <a:srgbClr val="000000"/>
                </a:solidFill>
                <a:latin typeface="Times New Roman"/>
              </a:rPr>
              <a:t>d</a:t>
            </a:r>
            <a:r>
              <a:rPr b="0" lang="sr-Latn-CS" sz="2600" spc="-1" strike="noStrike">
                <a:solidFill>
                  <a:srgbClr val="000000"/>
                </a:solidFill>
                <a:latin typeface="Times New Roman"/>
              </a:rPr>
              <a:t>ec</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avol Büchler</a:t>
            </a:r>
            <a:r>
              <a:rPr b="0" lang="sk-SK" sz="20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Times New Roman"/>
              </a:rPr>
              <a:t>INFOSTAT – Bratislava</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SIS Geneva 8.-10.5.2007</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par>
                                <p:cTn id="8" nodeType="withEffect" fill="hold" presetClass="entr" presetID="10">
                                  <p:stCondLst>
                                    <p:cond delay="0"/>
                                  </p:stCondLst>
                                  <p:childTnLst>
                                    <p:set>
                                      <p:cBhvr>
                                        <p:cTn id="9" dur="1" fill="hold">
                                          <p:stCondLst>
                                            <p:cond delay="0"/>
                                          </p:stCondLst>
                                        </p:cTn>
                                        <p:tgtEl>
                                          <p:spTgt spid="91"/>
                                        </p:tgtEl>
                                        <p:attrNameLst>
                                          <p:attrName>style.visibility</p:attrName>
                                        </p:attrNameLst>
                                      </p:cBhvr>
                                      <p:to>
                                        <p:strVal val="visible"/>
                                      </p:to>
                                    </p:set>
                                    <p:animEffect filter="fade" transition="in">
                                      <p:cBhvr additive="repl">
                                        <p:cTn id="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33300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21304"/>
                </a:solidFill>
                <a:latin typeface="Times New Roman"/>
              </a:rPr>
              <a:t>Conclusions and future improvements</a:t>
            </a:r>
            <a:endParaRPr b="0" lang="en-US" sz="3800" spc="-1" strike="noStrike">
              <a:solidFill>
                <a:srgbClr val="221304"/>
              </a:solidFill>
              <a:latin typeface="Times New Roman"/>
            </a:endParaRPr>
          </a:p>
        </p:txBody>
      </p:sp>
      <p:sp>
        <p:nvSpPr>
          <p:cNvPr id="115"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1116000" y="2060640"/>
            <a:ext cx="7559640" cy="309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ebsite is realised as a compact entity; almost all web pages (except some thematic maps) are presented in one window. The authors paid maximal attention to the user friendliness of the system, so that the navigation accross the web pages would be comprehensible and efficient from the user’s point of 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pplication was prepared with the perspective of its future enhancement by results of the next census planned for the year 2011.</a:t>
            </a:r>
            <a:r>
              <a:rPr b="0" lang="sk-SK" sz="1700" spc="-1" strike="noStrike">
                <a:solidFill>
                  <a:srgbClr val="000000"/>
                </a:solidFill>
                <a:latin typeface="Times New Roman"/>
              </a:rPr>
              <a:t> </a:t>
            </a:r>
            <a:endParaRPr b="0" lang="en-US" sz="1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404640"/>
            <a:ext cx="762012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21304"/>
                </a:solidFill>
                <a:latin typeface="Times New Roman"/>
              </a:rPr>
              <a:t>Conclusions and future improvements</a:t>
            </a:r>
            <a:endParaRPr b="0" lang="en-US" sz="3800" spc="-1" strike="noStrike">
              <a:solidFill>
                <a:srgbClr val="221304"/>
              </a:solidFill>
              <a:latin typeface="Times New Roman"/>
            </a:endParaRPr>
          </a:p>
        </p:txBody>
      </p:sp>
      <p:sp>
        <p:nvSpPr>
          <p:cNvPr id="119"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971640" y="1773360"/>
            <a:ext cx="7921440" cy="38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Future improvements:</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nlarge the amount of presented data to the municipality level</a:t>
            </a:r>
            <a:r>
              <a:rPr b="0" lang="sk-SK" sz="1900" spc="-1" strike="noStrike">
                <a:solidFill>
                  <a:srgbClr val="000000"/>
                </a:solidFill>
                <a:latin typeface="Times New Roman"/>
              </a:rPr>
              <a:t> </a:t>
            </a:r>
            <a:r>
              <a:rPr b="0" lang="en-US" sz="1900" spc="-1" strike="noStrike">
                <a:solidFill>
                  <a:srgbClr val="000000"/>
                </a:solidFill>
                <a:latin typeface="Times New Roman"/>
              </a:rPr>
              <a:t>(1980-2001)</a:t>
            </a:r>
            <a:r>
              <a:rPr b="0" lang="en-GB" sz="1900" spc="-1" strike="noStrike">
                <a:solidFill>
                  <a:srgbClr val="000000"/>
                </a:solidFill>
                <a:latin typeface="Times New Roman"/>
              </a:rPr>
              <a:t>, </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xpand the amount of time series, </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convert data from older censuses into similar form as the last </a:t>
            </a:r>
            <a:r>
              <a:rPr b="0" lang="en-GB" sz="1800" spc="-1" strike="noStrike">
                <a:solidFill>
                  <a:srgbClr val="000000"/>
                </a:solidFill>
                <a:latin typeface="Times New Roman"/>
              </a:rPr>
              <a:t>censu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nd present them in dynamic wa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add a search engine working across the websit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enhance the English version of presentation as some information is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available only in Slovak languag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to cooperate with statisticians and historians to present data from</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censuses older than 1921 censu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The address of the Website is </a:t>
            </a:r>
            <a:r>
              <a:rPr b="0" lang="en-GB" sz="2100" spc="-1" strike="noStrike" u="sng">
                <a:solidFill>
                  <a:srgbClr val="660066"/>
                </a:solidFill>
                <a:uFillTx/>
                <a:latin typeface="Times New Roman"/>
                <a:hlinkClick r:id="rId1"/>
              </a:rPr>
              <a:t>http</a:t>
            </a:r>
            <a:r>
              <a:rPr b="0" lang="en-GB" sz="2100" spc="-1" strike="noStrike" u="sng">
                <a:solidFill>
                  <a:srgbClr val="660066"/>
                </a:solidFill>
                <a:uFillTx/>
                <a:latin typeface="Times New Roman"/>
                <a:hlinkClick r:id="rId2"/>
              </a:rPr>
              <a:t>://</a:t>
            </a:r>
            <a:r>
              <a:rPr b="0" lang="en-GB" sz="2100" spc="-1" strike="noStrike" u="sng">
                <a:solidFill>
                  <a:srgbClr val="660066"/>
                </a:solidFill>
                <a:uFillTx/>
                <a:latin typeface="Times New Roman"/>
                <a:hlinkClick r:id="rId3"/>
              </a:rPr>
              <a:t>sodb.infostat.sk/sodb/index.htm</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ank you for your atten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21304"/>
                </a:solidFill>
                <a:latin typeface="Times New Roman"/>
              </a:rPr>
              <a:t>Introduction</a:t>
            </a:r>
            <a:endParaRPr b="0" lang="en-US" sz="4000" spc="-1" strike="noStrike">
              <a:solidFill>
                <a:srgbClr val="221304"/>
              </a:solidFill>
              <a:latin typeface="Times New Roman"/>
            </a:endParaRPr>
          </a:p>
        </p:txBody>
      </p:sp>
      <p:sp>
        <p:nvSpPr>
          <p:cNvPr id="93" name="PlaceHolder 2"/>
          <p:cNvSpPr>
            <a:spLocks noGrp="1"/>
          </p:cNvSpPr>
          <p:nvPr>
            <p:ph/>
          </p:nvPr>
        </p:nvSpPr>
        <p:spPr>
          <a:xfrm>
            <a:off x="1042560" y="19890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history of censu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in Slovak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censuses on the web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from years 1980 to 20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es from years 1921 to 197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s and future improv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21304"/>
                </a:solidFill>
                <a:latin typeface="Times New Roman"/>
              </a:rPr>
              <a:t>Brief history of censuses</a:t>
            </a:r>
            <a:endParaRPr b="0" lang="en-US" sz="4000" spc="-1" strike="noStrike">
              <a:solidFill>
                <a:srgbClr val="221304"/>
              </a:solidFill>
              <a:latin typeface="Times New Roman"/>
            </a:endParaRPr>
          </a:p>
        </p:txBody>
      </p:sp>
      <p:sp>
        <p:nvSpPr>
          <p:cNvPr id="95" name=""/>
          <p:cNvSpPr/>
          <p:nvPr/>
        </p:nvSpPr>
        <p:spPr>
          <a:xfrm>
            <a:off x="1042920" y="1557360"/>
            <a:ext cx="7489800" cy="46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censuses belong to the oldest statistical actions in the human history. The effort to find the number of inhabitants of an area is as old as all advanced civilisations are. The first ancient censuses were realised mainly for the military and tax purpos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Middle Age and in first centuries of modern times certain registration actions were performed in Europ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re or less regular censuses involving the whole population were realised in Europe only from the half of 18th century. Items like, biological, social and economic characteristics were gradually added to sur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in Slovakia</a:t>
            </a:r>
            <a:endParaRPr b="0" lang="en-US" sz="4000" spc="-1" strike="noStrike">
              <a:solidFill>
                <a:srgbClr val="221304"/>
              </a:solidFill>
              <a:latin typeface="Times New Roman"/>
            </a:endParaRPr>
          </a:p>
        </p:txBody>
      </p:sp>
      <p:sp>
        <p:nvSpPr>
          <p:cNvPr id="97" name=""/>
          <p:cNvSpPr/>
          <p:nvPr/>
        </p:nvSpPr>
        <p:spPr>
          <a:xfrm>
            <a:off x="36860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366228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1042920" y="1628640"/>
            <a:ext cx="7580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e area of Slovakia, then a part of Hungaria, is as the beginning of organised statistical surveys considered the year  1715. In this year was realised the registration of population aimed to family heads of groups whose were the subject to taxatio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irst census including all inhabitants was realised in Slovakia in years 1778 – 1785. The monitored items included name, age, marital status, class rank, employment of registered persons and data concerning the population migratio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1847 was in Hungaria established the Statistical Office with an routine service and from this year censuses were performed  in  ca 10 year periods. From 1869 were censuses realised according to the principles defined by international statistical congresses. As early as 1890 the data were processed also by Hollerith punch card machi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on the website</a:t>
            </a:r>
            <a:r>
              <a:rPr b="0" lang="en-US" sz="3600" spc="-1" strike="noStrike">
                <a:solidFill>
                  <a:srgbClr val="221304"/>
                </a:solidFill>
                <a:latin typeface="Times New Roman"/>
              </a:rPr>
              <a:t> </a:t>
            </a:r>
            <a:endParaRPr b="0" lang="en-US" sz="3600" spc="-1" strike="noStrike">
              <a:solidFill>
                <a:srgbClr val="221304"/>
              </a:solidFill>
              <a:latin typeface="Times New Roman"/>
            </a:endParaRPr>
          </a:p>
        </p:txBody>
      </p:sp>
      <p:sp>
        <p:nvSpPr>
          <p:cNvPr id="103" name=""/>
          <p:cNvSpPr/>
          <p:nvPr/>
        </p:nvSpPr>
        <p:spPr>
          <a:xfrm>
            <a:off x="900000" y="1628640"/>
            <a:ext cx="770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im of this project was to enhance the knowledge of domestic and foreign general audience and professionals about modern population and housing censuses realised in the area of Slovakia.</a:t>
            </a:r>
            <a:r>
              <a:rPr b="0" lang="sk-SK" sz="1800" spc="-1" strike="noStrike">
                <a:solidFill>
                  <a:srgbClr val="000000"/>
                </a:solidFill>
                <a:latin typeface="Times New Roman"/>
              </a:rPr>
              <a:t> </a:t>
            </a:r>
            <a:r>
              <a:rPr b="0" lang="en-US" sz="1800" spc="-1" strike="noStrike">
                <a:solidFill>
                  <a:srgbClr val="000000"/>
                </a:solidFill>
                <a:latin typeface="Times New Roman"/>
              </a:rPr>
              <a:t>The project team were analyzed censuses from years 1921 to 2001. The solution offer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tailed results and other related basic information (legislation, histor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ext, questionnaires, processing technologies, ma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nified accessibility and comprehensibility by presenting data and 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relevant documents in one place and in the unified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mparison selected indicators in  their historical context (the website contai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ime series, some of which start in 184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pen scalable solution allowing trouble-free expansion in the fu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33000"/>
            <a:ext cx="764388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80 to 2001</a:t>
            </a:r>
            <a:endParaRPr b="0" lang="en-US" sz="4000" spc="-1" strike="noStrike">
              <a:solidFill>
                <a:srgbClr val="221304"/>
              </a:solidFill>
              <a:latin typeface="Times New Roman"/>
            </a:endParaRPr>
          </a:p>
        </p:txBody>
      </p:sp>
      <p:sp>
        <p:nvSpPr>
          <p:cNvPr id="105" name=""/>
          <p:cNvSpPr/>
          <p:nvPr/>
        </p:nvSpPr>
        <p:spPr>
          <a:xfrm>
            <a:off x="1042920" y="1700280"/>
            <a:ext cx="74898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data from these censuses, which were already in the census time computer processed, were available in digital form as Oracle databases. The data from 1980 and 1991 years were originally stored as text files and converted to Oracle within the frame of another project in year 2004. However, the data from these censuses were in different formats and stored in separate databases. As the first step in the project realisation the creation of the three - dimensional data structure (time, territory and indicator), the conversion to the unified data format and the storage of data into this database was realised. This solution allows the simple retrieval of stored data and their use in the presentation form.</a:t>
            </a:r>
            <a:r>
              <a:rPr b="0" lang="sk-SK"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 for search and navigation are interconnected with descriptive metadata to allow easy navigation across territorial unit structure and table templates.</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4762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80 to 2001</a:t>
            </a:r>
            <a:endParaRPr b="0" lang="en-US" sz="4000" spc="-1" strike="noStrike">
              <a:solidFill>
                <a:srgbClr val="221304"/>
              </a:solidFill>
              <a:latin typeface="Times New Roman"/>
            </a:endParaRPr>
          </a:p>
        </p:txBody>
      </p:sp>
      <p:pic>
        <p:nvPicPr>
          <p:cNvPr id="107" name="" descr=""/>
          <p:cNvPicPr/>
          <p:nvPr/>
        </p:nvPicPr>
        <p:blipFill>
          <a:blip r:embed="rId1"/>
          <a:stretch/>
        </p:blipFill>
        <p:spPr>
          <a:xfrm>
            <a:off x="1835280" y="1628640"/>
            <a:ext cx="5905440" cy="495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21 to 1970</a:t>
            </a:r>
            <a:endParaRPr b="0" lang="en-US" sz="4000" spc="-1" strike="noStrike">
              <a:solidFill>
                <a:srgbClr val="221304"/>
              </a:solidFill>
              <a:latin typeface="Times New Roman"/>
            </a:endParaRPr>
          </a:p>
        </p:txBody>
      </p:sp>
      <p:sp>
        <p:nvSpPr>
          <p:cNvPr id="109" name=""/>
          <p:cNvSpPr/>
          <p:nvPr/>
        </p:nvSpPr>
        <p:spPr>
          <a:xfrm>
            <a:off x="24526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178128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116000" y="1700280"/>
            <a:ext cx="75596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data sources from these censuses were available in paper form only. From the 1970 census, which was the first census where data were computer processed, electronic text files exist, but they are incomplete, so the project team had to work with paper data sourc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ected tables from paper documents found in archives, were converted into electronic form and finally transformed into HTML format.  Unlike the tables of results from the years 1981 – 2001, which are created from  database records and table templates according to the user's request dynamically, the tables of results from the 1921 - 1970 censuses are static HTML files.</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ensuses from years 1921 to 1970</a:t>
            </a:r>
            <a:endParaRPr b="0" lang="en-US" sz="4000" spc="-1" strike="noStrike">
              <a:solidFill>
                <a:srgbClr val="221304"/>
              </a:solidFill>
              <a:latin typeface="Times New Roman"/>
            </a:endParaRPr>
          </a:p>
        </p:txBody>
      </p:sp>
      <p:pic>
        <p:nvPicPr>
          <p:cNvPr id="113" name="" descr=""/>
          <p:cNvPicPr/>
          <p:nvPr/>
        </p:nvPicPr>
        <p:blipFill>
          <a:blip r:embed="rId1"/>
          <a:stretch/>
        </p:blipFill>
        <p:spPr>
          <a:xfrm>
            <a:off x="1258920" y="1700280"/>
            <a:ext cx="720072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09:44:58Z</dcterms:created>
  <dc:creator>Hudec</dc:creator>
  <dc:description/>
  <dc:language>en-US</dc:language>
  <cp:lastModifiedBy>Miroslav</cp:lastModifiedBy>
  <dcterms:modified xsi:type="dcterms:W3CDTF">2007-04-23T11:39:32Z</dcterms:modified>
  <cp:revision>78</cp:revision>
  <dc:subject/>
  <dc:title>FAZIFIKACIJA STATISTIČKIH POKAZATELJA OPŠTINA I GRADOVA SLOVAČKE REPUBLIKE </dc:title>
</cp:coreProperties>
</file>