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278E-5AD2-404D-A38D-E6BBD900EB4A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9480" y="69516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0800" y="4375080"/>
            <a:ext cx="501012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Microsoft .NET Framework (at present) and Adobe SVG-reader need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 PX-Map2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for Window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unning on local PC or in a Local Area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X-Map2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for WEB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ning on an Internet Inform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r Custom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anges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s, number of classes or type of classification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, etc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ade by the user are stored in a cooki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vaScript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cripts that keep the current data and handle the panes, colours, classification type, number of classes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X-MapLib (.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 component transforms input-data to a pre-defined class-object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X-iMap.c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ascading stylesheet  - 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font-sizes, font-colours, i.e. the look of the GUI’s are set here. (Could be edi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lat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emplate where the placing of the different objects in the GUI’s are set.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(Could be ed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ext-file for default values for language, colo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s, type of classification, number of classes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(Could be ed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ditable text-file for languages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,(unlimited number of langu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tatistical data in PC-Axis file format or sign-separated text files i.e sdv – semicolon-separated fil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sic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asic map(s) in SVG format with a 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pre-defin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-stru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920" y="6516720"/>
            <a:ext cx="8281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1547280" y="6477120"/>
            <a:ext cx="72723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B4EA-C437-4FEB-AF4A-481B28142E1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59,8,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sb.no/" TargetMode="External"/><Relationship Id="rId2" Type="http://schemas.openxmlformats.org/officeDocument/2006/relationships/hyperlink" Target="http://statbanki.ssb.no/statistikkbanken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99"/>
                </a:solidFill>
                <a:latin typeface="Arial"/>
              </a:rPr>
              <a:t>PX-Map2 visualizes your data in dynamic maps 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284640"/>
            <a:ext cx="8208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ianne Vik Dysterud, Statistics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vd@ssb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Meeting on the Management of Statistical Information Systems (MSIS 2007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Geneva, 8 – 10 Ma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oft IE and Adobe SVG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format (px-files, text-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of polygons (perform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>
              <a:lnSpc>
                <a:spcPct val="90000"/>
              </a:lnSpc>
              <a:spcBef>
                <a:spcPts val="119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region level in SV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ome temporary limitations of PX-Map2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7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marL="44280" indent="-4428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obe SVG-reader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MX-M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demanded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fo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or more than one level of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tion of scravour and symbol in on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print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several maps “on one pag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-406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X-Map2 in the futur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074680"/>
            <a:ext cx="87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15560" indent="-115560">
              <a:lnSpc>
                <a:spcPct val="8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X-Ma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0 in 2008 is depend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s for new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X-Map2 in the futur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8000" y="1228680"/>
            <a:ext cx="8856720" cy="1768320"/>
            <a:chOff x="108000" y="1228680"/>
            <a:chExt cx="8856720" cy="1768320"/>
          </a:xfrm>
        </p:grpSpPr>
        <p:sp>
          <p:nvSpPr>
            <p:cNvPr id="118" name=""/>
            <p:cNvSpPr/>
            <p:nvPr/>
          </p:nvSpPr>
          <p:spPr>
            <a:xfrm>
              <a:off x="108000" y="1228680"/>
              <a:ext cx="8856720" cy="1768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1269720"/>
              <a:ext cx="1368360" cy="64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9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8000" y="0"/>
            <a:ext cx="9036000" cy="112536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lient (user)</a:t>
            </a: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PX-Map2, SVG-reader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nb-NO" sz="1600" spc="-1" strike="noStrike">
                <a:solidFill>
                  <a:srgbClr val="003399"/>
                </a:solidFill>
                <a:latin typeface="Arial"/>
              </a:rPr>
              <a:t>Microsoft .Net Framework</a:t>
            </a: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3068640"/>
            <a:ext cx="8856720" cy="1655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4797360"/>
            <a:ext cx="6624720" cy="1944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079880"/>
            <a:ext cx="2087640" cy="501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-MapLib (.Net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1080" y="1557360"/>
            <a:ext cx="1727280" cy="115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-Map</a:t>
            </a: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99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2480" y="399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36080" y="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ystem Overview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12720" y="5105520"/>
            <a:ext cx="990720" cy="38088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130720"/>
            <a:ext cx="973080" cy="43200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dv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2080" y="5877000"/>
            <a:ext cx="2232000" cy="792000"/>
          </a:xfrm>
          <a:prstGeom prst="flowChartMagneticDisk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tatBank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1360" y="5987880"/>
            <a:ext cx="1008360" cy="60984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xc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6021360"/>
            <a:ext cx="1368360" cy="576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0"/>
            <a:endCxn id="128" idx="2"/>
          </p:cNvCxnSpPr>
          <p:nvPr/>
        </p:nvCxnSpPr>
        <p:spPr>
          <a:xfrm flipV="1">
            <a:off x="3916080" y="5571360"/>
            <a:ext cx="1080" cy="40716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877080" y="4797360"/>
            <a:ext cx="2158920" cy="1944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Basic Map(s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6021360"/>
            <a:ext cx="1008000" cy="609480"/>
          </a:xfrm>
          <a:prstGeom prst="flowChartOnlineStorage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V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1480" y="4148280"/>
            <a:ext cx="208908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template.htm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213000"/>
            <a:ext cx="2087640" cy="647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JavaScript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2920" y="3284640"/>
            <a:ext cx="208944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nb-NO" sz="1800" spc="-1" strike="noStrike">
                <a:solidFill>
                  <a:srgbClr val="003399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-Map.cs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3480" y="3284640"/>
            <a:ext cx="230508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fig.xm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4148280"/>
            <a:ext cx="2304720" cy="36036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anguage.xm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1413000"/>
            <a:ext cx="3672000" cy="1439640"/>
          </a:xfrm>
          <a:prstGeom prst="flowChartInputOutput">
            <a:avLst/>
          </a:prstGeom>
          <a:solidFill>
            <a:srgbClr val="00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User customisat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                  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Cookie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colors for different function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4920" y="1557360"/>
            <a:ext cx="1657080" cy="115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X-Map</a:t>
            </a: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99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2057040" y="5485680"/>
            <a:ext cx="1080" cy="391320"/>
          </a:xfrm>
          <a:prstGeom prst="straightConnector1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1" idx="0"/>
            <a:endCxn id="128" idx="3"/>
          </p:cNvCxnSpPr>
          <p:nvPr/>
        </p:nvCxnSpPr>
        <p:spPr>
          <a:xfrm flipV="1" rot="16200000">
            <a:off x="4708080" y="4887720"/>
            <a:ext cx="665640" cy="1583280"/>
          </a:xfrm>
          <a:prstGeom prst="bentConnector2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</p:cxnSp>
      <p:cxnSp>
        <p:nvCxnSpPr>
          <p:cNvPr id="144" name=""/>
          <p:cNvCxnSpPr>
            <a:stCxn id="123" idx="0"/>
            <a:endCxn id="136" idx="2"/>
          </p:cNvCxnSpPr>
          <p:nvPr/>
        </p:nvCxnSpPr>
        <p:spPr>
          <a:xfrm flipV="1">
            <a:off x="2736360" y="3870000"/>
            <a:ext cx="1080" cy="200880"/>
          </a:xfrm>
          <a:prstGeom prst="straightConnector1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 flipV="1">
            <a:off x="2743200" y="266688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057400" y="457200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657600" y="45720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95480" y="106668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114800" y="1066680"/>
            <a:ext cx="0" cy="533520"/>
          </a:xfrm>
          <a:prstGeom prst="line">
            <a:avLst/>
          </a:prstGeom>
          <a:ln w="255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05320" y="2666880"/>
            <a:ext cx="60948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843280" y="404640"/>
            <a:ext cx="1809720" cy="648000"/>
            <a:chOff x="2843280" y="404640"/>
            <a:chExt cx="1809720" cy="648000"/>
          </a:xfrm>
        </p:grpSpPr>
        <p:sp>
          <p:nvSpPr>
            <p:cNvPr id="152" name="laptop"/>
            <p:cNvSpPr/>
            <p:nvPr/>
          </p:nvSpPr>
          <p:spPr>
            <a:xfrm>
              <a:off x="2843280" y="404640"/>
              <a:ext cx="1809720" cy="648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3176640" y="457200"/>
            <a:ext cx="114300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76640" y="457200"/>
                      <a:ext cx="1143000" cy="380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cxnSp>
        <p:nvCxnSpPr>
          <p:cNvPr id="155" name=""/>
          <p:cNvCxnSpPr>
            <a:stCxn id="134" idx="0"/>
            <a:endCxn id="123" idx="3"/>
          </p:cNvCxnSpPr>
          <p:nvPr/>
        </p:nvCxnSpPr>
        <p:spPr>
          <a:xfrm flipH="1" flipV="1">
            <a:off x="3789360" y="4330440"/>
            <a:ext cx="3951720" cy="1681920"/>
          </a:xfrm>
          <a:prstGeom prst="straightConnector1">
            <a:avLst/>
          </a:prstGeom>
          <a:ln w="255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010280" y="5562720"/>
            <a:ext cx="1676520" cy="1295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200" spc="-1" strike="noStrike">
                <a:solidFill>
                  <a:srgbClr val="cc0000"/>
                </a:solidFill>
                <a:latin typeface="Arial"/>
              </a:rPr>
              <a:t>Contacts</a:t>
            </a:r>
            <a:endParaRPr b="1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38224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99"/>
                </a:solidFill>
                <a:latin typeface="Arial"/>
              </a:rPr>
              <a:t>www.ssb.no/px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feel free to address questions and commen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vd@ssb.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xmap@ssb.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X-Map2 visualizes your data in dynamic map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8224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ning  PX-M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0656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ESRI shape files to valid SVG files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limitations and possible improv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560" indent="-115560"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use of thematic maps and other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maps were produced by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demands for production of maps in Statistics Norwa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ing for appropriate “off the shelf” t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Norway decides developing PX-Map du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-655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/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-655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ity of user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-655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faces with statistical data / statistical databas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C-Axis file forma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p is one of the contributions to the PC-Axis Family from Statistics Norwa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X-Map2 replaces PX-Map 1.07 and PX-iM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jo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ource co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8720" indent="-68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GUIs for local version and Web v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8720" indent="-68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fficient maintenance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-7380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X-Map2 is developed in .Net, C# and jav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Introduction </a:t>
            </a: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6000"/>
          </a:bodyPr>
          <a:p>
            <a:pPr marL="63720" indent="-6372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requirement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lone program and as embedded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 and Web environment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forma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C-Axis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acter separated text-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VG ( Scalable Vector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440" indent="-586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formation possibilities for ESRI shape files to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Introduction </a:t>
            </a: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cont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Some highlights of PX-Map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382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s you an overview of your data insta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ps are made and changed on the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ropleth maps and symbol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color-scale around a user-defined threshol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uage.xml – add texts in your ow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 values for colors, language, classification type and others could be set in a configurat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user adjusting of colors for different functions are stored in cook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olling values gives an experience of ”animation” due to the dynamic SVG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659640" y="2997360"/>
            <a:ext cx="2233440" cy="433080"/>
          </a:xfrm>
          <a:custGeom>
            <a:avLst/>
            <a:gdLst>
              <a:gd name="textAreaLeft" fmla="*/ 58680 w 2233440"/>
              <a:gd name="textAreaRight" fmla="*/ 2174760 w 2233440"/>
              <a:gd name="textAreaTop" fmla="*/ 58680 h 433080"/>
              <a:gd name="textAreaBottom" fmla="*/ 374400 h 433080"/>
            </a:gdLst>
            <a:ahLst/>
            <a:rect l="textAreaLeft" t="textAreaTop" r="textAreaRight" b="textAreaBottom"/>
            <a:pathLst>
              <a:path w="111319" h="21600">
                <a:moveTo>
                  <a:pt x="0" y="0"/>
                </a:moveTo>
                <a:lnTo>
                  <a:pt x="111319" y="0"/>
                </a:lnTo>
                <a:lnTo>
                  <a:pt x="111319" y="21600"/>
                </a:lnTo>
                <a:lnTo>
                  <a:pt x="0" y="21600"/>
                </a:lnTo>
                <a:close/>
              </a:path>
              <a:path fill="lightenLess" w="111319" h="21600">
                <a:moveTo>
                  <a:pt x="0" y="0"/>
                </a:moveTo>
                <a:lnTo>
                  <a:pt x="111319" y="0"/>
                </a:lnTo>
                <a:lnTo>
                  <a:pt x="108392" y="2927"/>
                </a:lnTo>
                <a:lnTo>
                  <a:pt x="2927" y="2927"/>
                </a:lnTo>
                <a:close/>
              </a:path>
              <a:path fill="darken" w="111319" h="21600">
                <a:moveTo>
                  <a:pt x="111319" y="0"/>
                </a:moveTo>
                <a:lnTo>
                  <a:pt x="111319" y="21600"/>
                </a:lnTo>
                <a:lnTo>
                  <a:pt x="108392" y="18673"/>
                </a:lnTo>
                <a:lnTo>
                  <a:pt x="108392" y="2927"/>
                </a:lnTo>
                <a:close/>
              </a:path>
              <a:path fill="darkenLess" w="111319" h="21600">
                <a:moveTo>
                  <a:pt x="111319" y="21600"/>
                </a:moveTo>
                <a:lnTo>
                  <a:pt x="0" y="21600"/>
                </a:lnTo>
                <a:lnTo>
                  <a:pt x="2927" y="18673"/>
                </a:lnTo>
                <a:lnTo>
                  <a:pt x="108392" y="18673"/>
                </a:lnTo>
                <a:close/>
              </a:path>
              <a:path fill="lighten" w="111319" h="21600">
                <a:moveTo>
                  <a:pt x="0" y="21600"/>
                </a:moveTo>
                <a:lnTo>
                  <a:pt x="0" y="0"/>
                </a:lnTo>
                <a:lnTo>
                  <a:pt x="2927" y="2927"/>
                </a:lnTo>
                <a:lnTo>
                  <a:pt x="2927" y="18673"/>
                </a:lnTo>
                <a:close/>
              </a:path>
            </a:pathLst>
          </a:custGeom>
          <a:solidFill>
            <a:srgbClr val="e1f0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6588000" y="5589720"/>
            <a:ext cx="2233800" cy="433080"/>
          </a:xfrm>
          <a:custGeom>
            <a:avLst/>
            <a:gdLst>
              <a:gd name="textAreaLeft" fmla="*/ 58680 w 2233800"/>
              <a:gd name="textAreaRight" fmla="*/ 2175120 w 2233800"/>
              <a:gd name="textAreaTop" fmla="*/ 58680 h 433080"/>
              <a:gd name="textAreaBottom" fmla="*/ 374400 h 433080"/>
            </a:gdLst>
            <a:ahLst/>
            <a:rect l="textAreaLeft" t="textAreaTop" r="textAreaRight" b="textAreaBottom"/>
            <a:pathLst>
              <a:path w="111337" h="21600">
                <a:moveTo>
                  <a:pt x="0" y="0"/>
                </a:moveTo>
                <a:lnTo>
                  <a:pt x="111337" y="0"/>
                </a:lnTo>
                <a:lnTo>
                  <a:pt x="111337" y="21600"/>
                </a:lnTo>
                <a:lnTo>
                  <a:pt x="0" y="21600"/>
                </a:lnTo>
                <a:close/>
              </a:path>
              <a:path fill="lightenLess" w="111337" h="21600">
                <a:moveTo>
                  <a:pt x="0" y="0"/>
                </a:moveTo>
                <a:lnTo>
                  <a:pt x="111337" y="0"/>
                </a:lnTo>
                <a:lnTo>
                  <a:pt x="108410" y="2927"/>
                </a:lnTo>
                <a:lnTo>
                  <a:pt x="2927" y="2927"/>
                </a:lnTo>
                <a:close/>
              </a:path>
              <a:path fill="darken" w="111337" h="21600">
                <a:moveTo>
                  <a:pt x="111337" y="0"/>
                </a:moveTo>
                <a:lnTo>
                  <a:pt x="111337" y="21600"/>
                </a:lnTo>
                <a:lnTo>
                  <a:pt x="108410" y="18673"/>
                </a:lnTo>
                <a:lnTo>
                  <a:pt x="108410" y="2927"/>
                </a:lnTo>
                <a:close/>
              </a:path>
              <a:path fill="darkenLess" w="111337" h="21600">
                <a:moveTo>
                  <a:pt x="111337" y="21600"/>
                </a:moveTo>
                <a:lnTo>
                  <a:pt x="0" y="21600"/>
                </a:lnTo>
                <a:lnTo>
                  <a:pt x="2927" y="18673"/>
                </a:lnTo>
                <a:lnTo>
                  <a:pt x="108410" y="18673"/>
                </a:lnTo>
                <a:close/>
              </a:path>
              <a:path fill="lighten" w="111337" h="21600">
                <a:moveTo>
                  <a:pt x="0" y="21600"/>
                </a:moveTo>
                <a:lnTo>
                  <a:pt x="0" y="0"/>
                </a:lnTo>
                <a:lnTo>
                  <a:pt x="2927" y="2927"/>
                </a:lnTo>
                <a:lnTo>
                  <a:pt x="2927" y="18673"/>
                </a:lnTo>
                <a:close/>
              </a:path>
            </a:pathLst>
          </a:custGeom>
          <a:solidFill>
            <a:srgbClr val="e1f0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Example from LANGUAGE.XM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684440"/>
            <a:ext cx="8785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15876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Phrase id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ircleColor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ircle symbol color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nb-NO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Farger for sirkel symbol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”&gt;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Color del símbolo del círculo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d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”&gt;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Kreissymbolfarbe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Phrase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" y="3815280"/>
            <a:ext cx="620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760" rIns="15876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Phrase id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"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nb-NO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Hjel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cc0000"/>
                </a:solidFill>
                <a:latin typeface="Arial"/>
              </a:rPr>
              <a:t>Ayuda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Translation lang=”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d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1" lang="nb-NO" sz="2000" spc="-1" strike="noStrike">
                <a:solidFill>
                  <a:srgbClr val="008080"/>
                </a:solidFill>
                <a:latin typeface="Arial"/>
              </a:rPr>
              <a:t>Hilf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Translation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&lt;/Phrase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524720" y="5734080"/>
            <a:ext cx="1079640" cy="538200"/>
          </a:xfrm>
          <a:custGeom>
            <a:avLst/>
            <a:gdLst>
              <a:gd name="textAreaLeft" fmla="*/ 87120 w 1079640"/>
              <a:gd name="textAreaRight" fmla="*/ 992520 w 1079640"/>
              <a:gd name="textAreaTop" fmla="*/ 87120 h 538200"/>
              <a:gd name="textAreaBottom" fmla="*/ 451080 h 538200"/>
            </a:gdLst>
            <a:ahLst/>
            <a:rect l="textAreaLeft" t="textAreaTop" r="textAreaRight" b="textAreaBottom"/>
            <a:pathLst>
              <a:path w="43316" h="21600">
                <a:moveTo>
                  <a:pt x="0" y="0"/>
                </a:moveTo>
                <a:lnTo>
                  <a:pt x="43316" y="0"/>
                </a:lnTo>
                <a:lnTo>
                  <a:pt x="43316" y="21600"/>
                </a:lnTo>
                <a:lnTo>
                  <a:pt x="0" y="21600"/>
                </a:lnTo>
                <a:close/>
              </a:path>
              <a:path fill="lightenLess" w="43316" h="21600">
                <a:moveTo>
                  <a:pt x="0" y="0"/>
                </a:moveTo>
                <a:lnTo>
                  <a:pt x="43316" y="0"/>
                </a:lnTo>
                <a:lnTo>
                  <a:pt x="39812" y="3504"/>
                </a:lnTo>
                <a:lnTo>
                  <a:pt x="3504" y="3504"/>
                </a:lnTo>
                <a:close/>
              </a:path>
              <a:path fill="darken" w="43316" h="21600">
                <a:moveTo>
                  <a:pt x="43316" y="0"/>
                </a:moveTo>
                <a:lnTo>
                  <a:pt x="43316" y="21600"/>
                </a:lnTo>
                <a:lnTo>
                  <a:pt x="39812" y="18096"/>
                </a:lnTo>
                <a:lnTo>
                  <a:pt x="39812" y="3504"/>
                </a:lnTo>
                <a:close/>
              </a:path>
              <a:path fill="darkenLess" w="43316" h="21600">
                <a:moveTo>
                  <a:pt x="43316" y="21600"/>
                </a:moveTo>
                <a:lnTo>
                  <a:pt x="0" y="21600"/>
                </a:lnTo>
                <a:lnTo>
                  <a:pt x="3504" y="18096"/>
                </a:lnTo>
                <a:lnTo>
                  <a:pt x="39812" y="18096"/>
                </a:lnTo>
                <a:close/>
              </a:path>
              <a:path fill="lighten" w="43316" h="21600">
                <a:moveTo>
                  <a:pt x="0" y="21600"/>
                </a:moveTo>
                <a:lnTo>
                  <a:pt x="0" y="0"/>
                </a:lnTo>
                <a:lnTo>
                  <a:pt x="3504" y="3504"/>
                </a:lnTo>
                <a:lnTo>
                  <a:pt x="3504" y="18096"/>
                </a:lnTo>
                <a:close/>
              </a:path>
            </a:pathLst>
          </a:cu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EMO</a:t>
            </a:r>
            <a:endParaRPr b="1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2124000" y="1557360"/>
            <a:ext cx="5040360" cy="1655640"/>
          </a:xfrm>
          <a:custGeom>
            <a:avLst/>
            <a:gdLst>
              <a:gd name="textAreaLeft" fmla="*/ 129960 w 5040360"/>
              <a:gd name="textAreaRight" fmla="*/ 4910400 w 5040360"/>
              <a:gd name="textAreaTop" fmla="*/ 129960 h 1655640"/>
              <a:gd name="textAreaBottom" fmla="*/ 1525680 h 1655640"/>
            </a:gdLst>
            <a:ahLst/>
            <a:rect l="textAreaLeft" t="textAreaTop" r="textAreaRight" b="textAreaBottom"/>
            <a:pathLst>
              <a:path w="65749" h="21600">
                <a:moveTo>
                  <a:pt x="0" y="0"/>
                </a:moveTo>
                <a:lnTo>
                  <a:pt x="65749" y="0"/>
                </a:lnTo>
                <a:lnTo>
                  <a:pt x="65749" y="21600"/>
                </a:lnTo>
                <a:lnTo>
                  <a:pt x="0" y="21600"/>
                </a:lnTo>
                <a:close/>
              </a:path>
              <a:path fill="lightenLess" w="65749" h="21600">
                <a:moveTo>
                  <a:pt x="0" y="0"/>
                </a:moveTo>
                <a:lnTo>
                  <a:pt x="65749" y="0"/>
                </a:lnTo>
                <a:lnTo>
                  <a:pt x="64051" y="1698"/>
                </a:lnTo>
                <a:lnTo>
                  <a:pt x="1698" y="1698"/>
                </a:lnTo>
                <a:close/>
              </a:path>
              <a:path fill="darken" w="65749" h="21600">
                <a:moveTo>
                  <a:pt x="65749" y="0"/>
                </a:moveTo>
                <a:lnTo>
                  <a:pt x="65749" y="21600"/>
                </a:lnTo>
                <a:lnTo>
                  <a:pt x="64051" y="19902"/>
                </a:lnTo>
                <a:lnTo>
                  <a:pt x="64051" y="1698"/>
                </a:lnTo>
                <a:close/>
              </a:path>
              <a:path fill="darkenLess" w="65749" h="21600">
                <a:moveTo>
                  <a:pt x="65749" y="21600"/>
                </a:moveTo>
                <a:lnTo>
                  <a:pt x="0" y="21600"/>
                </a:lnTo>
                <a:lnTo>
                  <a:pt x="1698" y="19902"/>
                </a:lnTo>
                <a:lnTo>
                  <a:pt x="64051" y="19902"/>
                </a:lnTo>
                <a:close/>
              </a:path>
              <a:path fill="lighten" w="65749" h="21600">
                <a:moveTo>
                  <a:pt x="0" y="21600"/>
                </a:moveTo>
                <a:lnTo>
                  <a:pt x="0" y="0"/>
                </a:lnTo>
                <a:lnTo>
                  <a:pt x="1698" y="1698"/>
                </a:lnTo>
                <a:lnTo>
                  <a:pt x="1698" y="1990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Launch Statban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from www.ssb.n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2050920" y="3573360"/>
            <a:ext cx="5040360" cy="1656000"/>
          </a:xfrm>
          <a:custGeom>
            <a:avLst/>
            <a:gdLst>
              <a:gd name="textAreaLeft" fmla="*/ 137880 w 5040360"/>
              <a:gd name="textAreaRight" fmla="*/ 4902480 w 5040360"/>
              <a:gd name="textAreaTop" fmla="*/ 137880 h 1656000"/>
              <a:gd name="textAreaBottom" fmla="*/ 1518120 h 1656000"/>
            </a:gdLst>
            <a:ahLst/>
            <a:rect l="textAreaLeft" t="textAreaTop" r="textAreaRight" b="textAreaBottom"/>
            <a:pathLst>
              <a:path w="65734" h="21600">
                <a:moveTo>
                  <a:pt x="0" y="0"/>
                </a:moveTo>
                <a:lnTo>
                  <a:pt x="65734" y="0"/>
                </a:lnTo>
                <a:lnTo>
                  <a:pt x="65734" y="21600"/>
                </a:lnTo>
                <a:lnTo>
                  <a:pt x="0" y="21600"/>
                </a:lnTo>
                <a:close/>
              </a:path>
              <a:path fill="lightenLess" w="65734" h="21600">
                <a:moveTo>
                  <a:pt x="0" y="0"/>
                </a:moveTo>
                <a:lnTo>
                  <a:pt x="65734" y="0"/>
                </a:lnTo>
                <a:lnTo>
                  <a:pt x="63932" y="1802"/>
                </a:lnTo>
                <a:lnTo>
                  <a:pt x="1802" y="1802"/>
                </a:lnTo>
                <a:close/>
              </a:path>
              <a:path fill="darken" w="65734" h="21600">
                <a:moveTo>
                  <a:pt x="65734" y="0"/>
                </a:moveTo>
                <a:lnTo>
                  <a:pt x="65734" y="21600"/>
                </a:lnTo>
                <a:lnTo>
                  <a:pt x="63932" y="19798"/>
                </a:lnTo>
                <a:lnTo>
                  <a:pt x="63932" y="1802"/>
                </a:lnTo>
                <a:close/>
              </a:path>
              <a:path fill="darkenLess" w="65734" h="21600">
                <a:moveTo>
                  <a:pt x="65734" y="21600"/>
                </a:moveTo>
                <a:lnTo>
                  <a:pt x="0" y="21600"/>
                </a:lnTo>
                <a:lnTo>
                  <a:pt x="1802" y="19798"/>
                </a:lnTo>
                <a:lnTo>
                  <a:pt x="63932" y="19798"/>
                </a:lnTo>
                <a:close/>
              </a:path>
              <a:path fill="lighten" w="65734" h="21600">
                <a:moveTo>
                  <a:pt x="0" y="21600"/>
                </a:moveTo>
                <a:lnTo>
                  <a:pt x="0" y="0"/>
                </a:lnTo>
                <a:lnTo>
                  <a:pt x="1802" y="1802"/>
                </a:lnTo>
                <a:lnTo>
                  <a:pt x="1802" y="19798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X-Map2 intern S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26822" b="0"/>
          <a:stretch/>
        </p:blipFill>
        <p:spPr>
          <a:xfrm>
            <a:off x="1481040" y="1317600"/>
            <a:ext cx="6475680" cy="5194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rom ESRI shape files to valid SVG fil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SIS 2007, Geneva 8 – 10 May 2007, Marianne Vik Dysterud - mvd@ssb.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1:24:53Z</dcterms:created>
  <dc:creator>Marianne Vik Dysterud</dc:creator>
  <dc:description/>
  <dc:language>en-US</dc:language>
  <cp:lastModifiedBy>Marianne Vik Dysterud</cp:lastModifiedBy>
  <dcterms:modified xsi:type="dcterms:W3CDTF">2007-04-13T12:29:15Z</dcterms:modified>
  <cp:revision>183</cp:revision>
  <dc:subject/>
  <dc:title>Main Economic Indic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5590897</vt:r8>
  </property>
  <property fmtid="{D5CDD505-2E9C-101B-9397-08002B2CF9AE}" pid="3" name="_AuthorEmail">
    <vt:lpwstr>marianne.vik.dysterud@ssb.no</vt:lpwstr>
  </property>
  <property fmtid="{D5CDD505-2E9C-101B-9397-08002B2CF9AE}" pid="4" name="_AuthorEmailDisplayName">
    <vt:lpwstr>Dysterud, Marianne Vik</vt:lpwstr>
  </property>
  <property fmtid="{D5CDD505-2E9C-101B-9397-08002B2CF9AE}" pid="5" name="_EmailSubject">
    <vt:lpwstr>SV: Presentation of your paper for MSIS 2007</vt:lpwstr>
  </property>
  <property fmtid="{D5CDD505-2E9C-101B-9397-08002B2CF9AE}" pid="6" name="_NewReviewCycle">
    <vt:lpwstr/>
  </property>
</Properties>
</file>