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2DE6-25E8-40E9-8D43-ACF5E38267E5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9480" y="69516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0800" y="4375080"/>
            <a:ext cx="501012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re Microsoft .NET Framework (at present) and Adobe SVG-reader need to be 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 PX-Map2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 for Window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unning on local PC or in a Local Area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X-Map2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 for WEB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nning on an Internet Informatio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r Customis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hanges 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s, number of classes or type of classification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, etc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ade by the user are stored in a cooki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avaScript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cripts that keep the current data and handle the panes, colours, classification type, number of classes, 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X-MapLib (.N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the component transforms input-data to a pre-defined class-object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X-iMap.c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ascading stylesheet  -  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font-sizes, font-colours, i.e. the look of the GUI’s are set here. (Could be edited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lat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template where the placing of the different objects in the GUI’s are set. 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(Could be edi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ig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text-file for default values for language, colo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s, type of classification, number of classes 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etc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(Could be edi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editable text-file for languages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,(unlimited number of langu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tatistical data in PC-Axis file format or sign-separated text files i.e sdv – semicolon-separated files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sic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asic map(s) in SVG format with a 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pre-define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-stru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708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0100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708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0100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6708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0100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16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6708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0100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spcBef>
                <a:spcPts val="901"/>
              </a:spcBef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2600"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10920" y="6516720"/>
            <a:ext cx="828180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2"/>
          </p:nvPr>
        </p:nvSpPr>
        <p:spPr>
          <a:xfrm>
            <a:off x="1547280" y="6477120"/>
            <a:ext cx="727236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05920" y="763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732C-C4F1-4D8E-A822-D8D1493E9D6B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6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algn="ctr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buClr>
                <a:srgbClr val="003399"/>
              </a:buClr>
              <a:buSzPct val="9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544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259,8,DEMO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sb.no/" TargetMode="External"/><Relationship Id="rId2" Type="http://schemas.openxmlformats.org/officeDocument/2006/relationships/hyperlink" Target="http://statbanki.ssb.no/statistikkbanken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3399"/>
                </a:solidFill>
                <a:latin typeface="Arial"/>
              </a:rPr>
              <a:t>PX-Map2 visualizes your data in dynamic maps 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1280" y="3284640"/>
            <a:ext cx="8208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ianne Vik Dysterud, Statistics Nor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vd@ssb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Meeting on the Management of Statistical Information Systems (MSIS 2007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Geneva, 8 – 10 Ma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1752480"/>
            <a:ext cx="874872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marL="118080" indent="-118080">
              <a:lnSpc>
                <a:spcPct val="90000"/>
              </a:lnSpc>
              <a:spcBef>
                <a:spcPts val="119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crosoft IE and Adobe SVG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8080" indent="-118080">
              <a:lnSpc>
                <a:spcPct val="90000"/>
              </a:lnSpc>
              <a:spcBef>
                <a:spcPts val="119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a format (px-files, text-fi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8080" indent="-118080">
              <a:lnSpc>
                <a:spcPct val="90000"/>
              </a:lnSpc>
              <a:spcBef>
                <a:spcPts val="119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umber of polygons (perform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8080" indent="-118080">
              <a:lnSpc>
                <a:spcPct val="90000"/>
              </a:lnSpc>
              <a:spcBef>
                <a:spcPts val="119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region level in SV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8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8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8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8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8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Some temporary limitations of PX-Map2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SIS 2007, Geneva 8 – 10 May 2007, Marianne Vik Dysterud - mvd@ssb.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748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8000"/>
          </a:bodyPr>
          <a:p>
            <a:pPr marL="44280" indent="-44280">
              <a:lnSpc>
                <a:spcPct val="8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obe SVG-reader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8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-406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DMX-ML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-406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8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demanded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-406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efo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-406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istics for more than one level of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-406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bination of scravour and symbol in one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-406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print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-406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ing several maps “on one pag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-406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PX-Map2 in the future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SIS 2007, Geneva 8 – 10 May 2007, Marianne Vik Dysterud - mvd@ssb.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5280" y="2074680"/>
            <a:ext cx="8748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marL="115560" indent="-115560">
              <a:lnSpc>
                <a:spcPct val="8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X-Ma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0 in 2008 is depending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0656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ands for new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0656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onomic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5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5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5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5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5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5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PX-Map2 in the future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SIS 2007, Geneva 8 – 10 May 2007, Marianne Vik Dysterud - mvd@ssb.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108000" y="1228680"/>
            <a:ext cx="8856720" cy="1768320"/>
            <a:chOff x="108000" y="1228680"/>
            <a:chExt cx="8856720" cy="1768320"/>
          </a:xfrm>
        </p:grpSpPr>
        <p:sp>
          <p:nvSpPr>
            <p:cNvPr id="118" name=""/>
            <p:cNvSpPr/>
            <p:nvPr/>
          </p:nvSpPr>
          <p:spPr>
            <a:xfrm>
              <a:off x="108000" y="1228680"/>
              <a:ext cx="8856720" cy="1768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9280" y="1269720"/>
              <a:ext cx="1368360" cy="6480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99"/>
                  </a:solidFill>
                  <a:latin typeface="Arial"/>
                </a:rPr>
                <a:t>Applica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08000" y="0"/>
            <a:ext cx="9036000" cy="1125360"/>
          </a:xfrm>
          <a:prstGeom prst="flowChartAlternateProcess">
            <a:avLst/>
          </a:prstGeom>
          <a:solidFill>
            <a:srgbClr val="eaeaea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Client (user)</a:t>
            </a:r>
            <a:r>
              <a:rPr b="1" i="1" lang="en-GB" sz="1600" spc="-1" strike="noStrike">
                <a:solidFill>
                  <a:srgbClr val="003399"/>
                </a:solidFill>
                <a:latin typeface="Arial"/>
              </a:rPr>
              <a:t>                                                                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nb-NO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nb-NO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nb-NO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nb-NO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3399"/>
                </a:solidFill>
                <a:latin typeface="Arial"/>
              </a:rPr>
              <a:t>PX-Map2, SVG-reader</a:t>
            </a:r>
            <a:r>
              <a:rPr b="1" i="1" lang="nb-NO" sz="1600" spc="-1" strike="noStrike">
                <a:solidFill>
                  <a:srgbClr val="0033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nb-NO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nb-NO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nb-NO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nb-NO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nb-NO" sz="1600" spc="-1" strike="noStrike">
                <a:solidFill>
                  <a:srgbClr val="003399"/>
                </a:solidFill>
                <a:latin typeface="Arial"/>
              </a:rPr>
              <a:t>Microsoft .Net Framework</a:t>
            </a:r>
            <a:r>
              <a:rPr b="1" i="1" lang="en-GB" sz="1600" spc="-1" strike="noStrike">
                <a:solidFill>
                  <a:srgbClr val="003399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000" y="3068640"/>
            <a:ext cx="8856720" cy="1655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8000" y="4797360"/>
            <a:ext cx="6624720" cy="194472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4079880"/>
            <a:ext cx="2087640" cy="501480"/>
          </a:xfrm>
          <a:prstGeom prst="rect">
            <a:avLst/>
          </a:prstGeom>
          <a:solidFill>
            <a:srgbClr val="99cc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PX-MapLib (.Net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21080" y="1557360"/>
            <a:ext cx="1727280" cy="1152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PX-Map</a:t>
            </a: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99"/>
                </a:solidFill>
                <a:latin typeface="Arial"/>
              </a:rPr>
              <a:t>fo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32480" y="3999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36080" y="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System Overview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12720" y="5105520"/>
            <a:ext cx="990720" cy="380880"/>
          </a:xfrm>
          <a:prstGeom prst="flowChartOnlineStorage">
            <a:avLst/>
          </a:prstGeom>
          <a:solidFill>
            <a:srgbClr val="99cc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PX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5130720"/>
            <a:ext cx="973080" cy="432000"/>
          </a:xfrm>
          <a:prstGeom prst="flowChartOnlineStorage">
            <a:avLst/>
          </a:prstGeom>
          <a:solidFill>
            <a:srgbClr val="99cc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sdv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92080" y="5877000"/>
            <a:ext cx="2232000" cy="792000"/>
          </a:xfrm>
          <a:prstGeom prst="flowChartMagneticDisk">
            <a:avLst/>
          </a:prstGeom>
          <a:solidFill>
            <a:srgbClr val="99cc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StatBank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11360" y="5987880"/>
            <a:ext cx="1008360" cy="609840"/>
          </a:xfrm>
          <a:prstGeom prst="flowChartOnlineStorage">
            <a:avLst/>
          </a:prstGeom>
          <a:solidFill>
            <a:srgbClr val="99cc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Exc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8360" y="6021360"/>
            <a:ext cx="1368360" cy="576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30" idx="0"/>
            <a:endCxn id="128" idx="2"/>
          </p:cNvCxnSpPr>
          <p:nvPr/>
        </p:nvCxnSpPr>
        <p:spPr>
          <a:xfrm flipV="1">
            <a:off x="3916080" y="5571360"/>
            <a:ext cx="1080" cy="407160"/>
          </a:xfrm>
          <a:prstGeom prst="straightConnector1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6877080" y="4797360"/>
            <a:ext cx="2158920" cy="194472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399"/>
                </a:solidFill>
                <a:latin typeface="Arial"/>
              </a:rPr>
              <a:t>Basic Map(s)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36000" y="6021360"/>
            <a:ext cx="1008000" cy="609480"/>
          </a:xfrm>
          <a:prstGeom prst="flowChartOnlineStorage">
            <a:avLst/>
          </a:prstGeom>
          <a:solidFill>
            <a:srgbClr val="99cc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SVG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81480" y="4148280"/>
            <a:ext cx="2089080" cy="360360"/>
          </a:xfrm>
          <a:prstGeom prst="flowChartOnlineStorage">
            <a:avLst/>
          </a:prstGeom>
          <a:solidFill>
            <a:srgbClr val="00ff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template.htm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92360" y="3213000"/>
            <a:ext cx="2087640" cy="6476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JavaScript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Librar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82920" y="3284640"/>
            <a:ext cx="2089440" cy="360360"/>
          </a:xfrm>
          <a:prstGeom prst="flowChartOnlineStorage">
            <a:avLst/>
          </a:prstGeom>
          <a:solidFill>
            <a:srgbClr val="00ff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P</a:t>
            </a:r>
            <a:r>
              <a:rPr b="0" lang="nb-NO" sz="1800" spc="-1" strike="noStrike">
                <a:solidFill>
                  <a:srgbClr val="003399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-Map.cs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13480" y="3284640"/>
            <a:ext cx="2305080" cy="360360"/>
          </a:xfrm>
          <a:prstGeom prst="flowChartOnlineStorage">
            <a:avLst/>
          </a:prstGeom>
          <a:solidFill>
            <a:srgbClr val="00ff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Config.xm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15280" y="4148280"/>
            <a:ext cx="2304720" cy="360360"/>
          </a:xfrm>
          <a:prstGeom prst="flowChartOnlineStorage">
            <a:avLst/>
          </a:prstGeom>
          <a:solidFill>
            <a:srgbClr val="00ff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Language.xm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92720" y="1413000"/>
            <a:ext cx="3672000" cy="1439640"/>
          </a:xfrm>
          <a:prstGeom prst="flowChartInputOutput">
            <a:avLst/>
          </a:prstGeom>
          <a:solidFill>
            <a:srgbClr val="00ff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User customisatio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                   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(Cookie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colors for different functions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74920" y="1557360"/>
            <a:ext cx="1657080" cy="1152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PX-Map</a:t>
            </a: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99"/>
                </a:solidFill>
                <a:latin typeface="Arial"/>
              </a:rPr>
              <a:t>fo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cxnSp>
        <p:nvCxnSpPr>
          <p:cNvPr id="142" name=""/>
          <p:cNvCxnSpPr/>
          <p:nvPr/>
        </p:nvCxnSpPr>
        <p:spPr>
          <a:xfrm flipV="1">
            <a:off x="2057040" y="5485680"/>
            <a:ext cx="1080" cy="391320"/>
          </a:xfrm>
          <a:prstGeom prst="straightConnector1">
            <a:avLst/>
          </a:prstGeom>
          <a:ln w="255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1" idx="0"/>
            <a:endCxn id="128" idx="3"/>
          </p:cNvCxnSpPr>
          <p:nvPr/>
        </p:nvCxnSpPr>
        <p:spPr>
          <a:xfrm flipV="1" rot="16200000">
            <a:off x="4708080" y="4887720"/>
            <a:ext cx="665640" cy="1583280"/>
          </a:xfrm>
          <a:prstGeom prst="bentConnector2">
            <a:avLst/>
          </a:prstGeom>
          <a:ln w="9360">
            <a:solidFill>
              <a:srgbClr val="003399"/>
            </a:solidFill>
            <a:prstDash val="dash"/>
            <a:miter/>
            <a:tailEnd len="med" type="triangle" w="med"/>
          </a:ln>
        </p:spPr>
      </p:cxnSp>
      <p:cxnSp>
        <p:nvCxnSpPr>
          <p:cNvPr id="144" name=""/>
          <p:cNvCxnSpPr>
            <a:stCxn id="123" idx="0"/>
            <a:endCxn id="136" idx="2"/>
          </p:cNvCxnSpPr>
          <p:nvPr/>
        </p:nvCxnSpPr>
        <p:spPr>
          <a:xfrm flipV="1">
            <a:off x="2736360" y="3870000"/>
            <a:ext cx="1080" cy="200880"/>
          </a:xfrm>
          <a:prstGeom prst="straightConnector1">
            <a:avLst/>
          </a:prstGeom>
          <a:ln w="2556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 flipV="1">
            <a:off x="2743200" y="2666880"/>
            <a:ext cx="0" cy="533520"/>
          </a:xfrm>
          <a:prstGeom prst="line">
            <a:avLst/>
          </a:prstGeom>
          <a:ln w="255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057400" y="4572000"/>
            <a:ext cx="0" cy="533520"/>
          </a:xfrm>
          <a:prstGeom prst="line">
            <a:avLst/>
          </a:prstGeom>
          <a:ln w="255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657600" y="4572000"/>
            <a:ext cx="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895480" y="1066680"/>
            <a:ext cx="0" cy="533520"/>
          </a:xfrm>
          <a:prstGeom prst="line">
            <a:avLst/>
          </a:prstGeom>
          <a:ln w="2556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114800" y="1066680"/>
            <a:ext cx="0" cy="533520"/>
          </a:xfrm>
          <a:prstGeom prst="line">
            <a:avLst/>
          </a:prstGeom>
          <a:ln w="2556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505320" y="2666880"/>
            <a:ext cx="609480" cy="533520"/>
          </a:xfrm>
          <a:prstGeom prst="line">
            <a:avLst/>
          </a:prstGeom>
          <a:ln w="255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843280" y="404640"/>
            <a:ext cx="1809720" cy="648000"/>
            <a:chOff x="2843280" y="404640"/>
            <a:chExt cx="1809720" cy="648000"/>
          </a:xfrm>
        </p:grpSpPr>
        <p:sp>
          <p:nvSpPr>
            <p:cNvPr id="152" name="laptop"/>
            <p:cNvSpPr/>
            <p:nvPr/>
          </p:nvSpPr>
          <p:spPr>
            <a:xfrm>
              <a:off x="2843280" y="404640"/>
              <a:ext cx="1809720" cy="6480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aphicFrame>
          <p:nvGraphicFramePr>
            <p:cNvPr id="153" name=""/>
            <p:cNvGraphicFramePr/>
            <p:nvPr/>
          </p:nvGraphicFramePr>
          <p:xfrm>
            <a:off x="3176640" y="457200"/>
            <a:ext cx="114300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76640" y="457200"/>
                      <a:ext cx="1143000" cy="3808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cxnSp>
        <p:nvCxnSpPr>
          <p:cNvPr id="155" name=""/>
          <p:cNvCxnSpPr>
            <a:stCxn id="134" idx="0"/>
            <a:endCxn id="123" idx="3"/>
          </p:cNvCxnSpPr>
          <p:nvPr/>
        </p:nvCxnSpPr>
        <p:spPr>
          <a:xfrm flipH="1" flipV="1">
            <a:off x="3789360" y="4330440"/>
            <a:ext cx="3951720" cy="1681920"/>
          </a:xfrm>
          <a:prstGeom prst="straightConnector1">
            <a:avLst/>
          </a:prstGeom>
          <a:ln w="2556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7010280" y="5562720"/>
            <a:ext cx="1676520" cy="12952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200" spc="-1" strike="noStrike">
                <a:solidFill>
                  <a:srgbClr val="cc0000"/>
                </a:solidFill>
                <a:latin typeface="Arial"/>
              </a:rPr>
              <a:t>Contacts</a:t>
            </a:r>
            <a:endParaRPr b="1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38224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3399"/>
                </a:solidFill>
                <a:latin typeface="Arial"/>
              </a:rPr>
              <a:t>www.ssb.no/pxma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6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ease feel free to address questions and comment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mvd@ssb.n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or  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pxmap@ssb.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SIS 2007, Geneva 8 – 10 May 2007, Marianne Vik Dysterud - mvd@ssb.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PX-Map2 visualizes your data in dynamic maps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382240" cy="21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marL="115560" indent="-115560"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560" indent="-115560"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ning  PX-Map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06560"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06560"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06560"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high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5560" indent="-115560"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560" indent="-11556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ESRI shape files to valid SVG files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5560" indent="-115560"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orarily limitations and possible improvement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560" indent="-115560"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SIS 2007, Geneva 8 – 10 May 2007, Marianne Vik Dysterud - mvd@ssb.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74872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marL="71280" indent="-712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reasing use of thematic maps and other 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indent="-712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irst maps were produced by consul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indent="-712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reasing demands for production of maps in Statistics Norwa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indent="-712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ing for appropriate “off the shelf” t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indent="-712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istics Norway decides developing PX-Map due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2240" indent="-655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ce/perform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2240" indent="-655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xity of user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2240" indent="-655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faces with statistical data / statistical databas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PC-Axis file forma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2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SIS 2007, Geneva 8 – 10 May 2007, Marianne Vik Dysterud - mvd@ssb.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4000" y="1752480"/>
            <a:ext cx="874872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marL="73800" indent="-7380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X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p is one of the contributions to the PC-Axis Family from Statistics Norwa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800" indent="-7380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X-Map2 replaces PX-Map 1.07 and PX-iMa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800" indent="-7380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joi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ource cod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8720" indent="-680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erent GUIs for local version and Web ver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8720" indent="-680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efficient maintenance and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800" indent="-7380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X-Map2 is developed in .Net, C# and java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8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nb-NO" sz="2800" spc="-1" strike="noStrike">
                <a:solidFill>
                  <a:srgbClr val="003399"/>
                </a:solidFill>
                <a:latin typeface="Arial"/>
              </a:rPr>
              <a:t>Introduction </a:t>
            </a:r>
            <a:r>
              <a:rPr b="1" lang="nb-NO" sz="2000" spc="-1" strike="noStrike">
                <a:solidFill>
                  <a:srgbClr val="003399"/>
                </a:solidFill>
                <a:latin typeface="Arial"/>
              </a:rPr>
              <a:t>cont.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SIS 2007, Geneva 8 – 10 May 2007, Marianne Vik Dysterud - mvd@ssb.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24000" y="1752480"/>
            <a:ext cx="874872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6000"/>
          </a:bodyPr>
          <a:p>
            <a:pPr marL="63720" indent="-6372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l requirement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440" indent="-586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ndalone program and as embedded p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440" indent="-586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ndows and Web environment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forma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440" indent="-586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C-Axis fil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440" indent="-586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racter separated text-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440" indent="-586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VG ( Scalable Vector Graph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aptation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440" indent="-586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formation possibilities for ESRI shape files to S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7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7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nb-NO" sz="2800" spc="-1" strike="noStrike">
                <a:solidFill>
                  <a:srgbClr val="003399"/>
                </a:solidFill>
                <a:latin typeface="Arial"/>
              </a:rPr>
              <a:t>Introduction </a:t>
            </a:r>
            <a:r>
              <a:rPr b="1" lang="nb-NO" sz="2000" spc="-1" strike="noStrike">
                <a:solidFill>
                  <a:srgbClr val="003399"/>
                </a:solidFill>
                <a:latin typeface="Arial"/>
              </a:rPr>
              <a:t>cont.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SIS 2007, Geneva 8 – 10 May 2007, Marianne Vik Dysterud - mvd@ssb.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Some highlights of PX-Map2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3822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ives you an overview of your data insta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ps are made and changed on the 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oropleth maps and symbol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-color-scale around a user-defined threshol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nguage.xml – add texts in your own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ault values for colors, language, classification type and others could be set in a configuration f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user adjusting of colors for different functions are stored in cook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olling values gives an experience of ”animation” due to the dynamic SVG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FREE of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6659640" y="2997360"/>
            <a:ext cx="2233440" cy="433080"/>
          </a:xfrm>
          <a:custGeom>
            <a:avLst/>
            <a:gdLst>
              <a:gd name="textAreaLeft" fmla="*/ 58680 w 2233440"/>
              <a:gd name="textAreaRight" fmla="*/ 2174760 w 2233440"/>
              <a:gd name="textAreaTop" fmla="*/ 58680 h 433080"/>
              <a:gd name="textAreaBottom" fmla="*/ 374400 h 433080"/>
            </a:gdLst>
            <a:ahLst/>
            <a:rect l="textAreaLeft" t="textAreaTop" r="textAreaRight" b="textAreaBottom"/>
            <a:pathLst>
              <a:path w="111319" h="21600">
                <a:moveTo>
                  <a:pt x="0" y="0"/>
                </a:moveTo>
                <a:lnTo>
                  <a:pt x="111319" y="0"/>
                </a:lnTo>
                <a:lnTo>
                  <a:pt x="111319" y="21600"/>
                </a:lnTo>
                <a:lnTo>
                  <a:pt x="0" y="21600"/>
                </a:lnTo>
                <a:close/>
              </a:path>
              <a:path fill="lightenLess" w="111319" h="21600">
                <a:moveTo>
                  <a:pt x="0" y="0"/>
                </a:moveTo>
                <a:lnTo>
                  <a:pt x="111319" y="0"/>
                </a:lnTo>
                <a:lnTo>
                  <a:pt x="108392" y="2927"/>
                </a:lnTo>
                <a:lnTo>
                  <a:pt x="2927" y="2927"/>
                </a:lnTo>
                <a:close/>
              </a:path>
              <a:path fill="darken" w="111319" h="21600">
                <a:moveTo>
                  <a:pt x="111319" y="0"/>
                </a:moveTo>
                <a:lnTo>
                  <a:pt x="111319" y="21600"/>
                </a:lnTo>
                <a:lnTo>
                  <a:pt x="108392" y="18673"/>
                </a:lnTo>
                <a:lnTo>
                  <a:pt x="108392" y="2927"/>
                </a:lnTo>
                <a:close/>
              </a:path>
              <a:path fill="darkenLess" w="111319" h="21600">
                <a:moveTo>
                  <a:pt x="111319" y="21600"/>
                </a:moveTo>
                <a:lnTo>
                  <a:pt x="0" y="21600"/>
                </a:lnTo>
                <a:lnTo>
                  <a:pt x="2927" y="18673"/>
                </a:lnTo>
                <a:lnTo>
                  <a:pt x="108392" y="18673"/>
                </a:lnTo>
                <a:close/>
              </a:path>
              <a:path fill="lighten" w="111319" h="21600">
                <a:moveTo>
                  <a:pt x="0" y="21600"/>
                </a:moveTo>
                <a:lnTo>
                  <a:pt x="0" y="0"/>
                </a:lnTo>
                <a:lnTo>
                  <a:pt x="2927" y="2927"/>
                </a:lnTo>
                <a:lnTo>
                  <a:pt x="2927" y="18673"/>
                </a:lnTo>
                <a:close/>
              </a:path>
            </a:pathLst>
          </a:custGeom>
          <a:solidFill>
            <a:srgbClr val="e1f0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6588000" y="5589720"/>
            <a:ext cx="2233800" cy="433080"/>
          </a:xfrm>
          <a:custGeom>
            <a:avLst/>
            <a:gdLst>
              <a:gd name="textAreaLeft" fmla="*/ 58680 w 2233800"/>
              <a:gd name="textAreaRight" fmla="*/ 2175120 w 2233800"/>
              <a:gd name="textAreaTop" fmla="*/ 58680 h 433080"/>
              <a:gd name="textAreaBottom" fmla="*/ 374400 h 433080"/>
            </a:gdLst>
            <a:ahLst/>
            <a:rect l="textAreaLeft" t="textAreaTop" r="textAreaRight" b="textAreaBottom"/>
            <a:pathLst>
              <a:path w="111337" h="21600">
                <a:moveTo>
                  <a:pt x="0" y="0"/>
                </a:moveTo>
                <a:lnTo>
                  <a:pt x="111337" y="0"/>
                </a:lnTo>
                <a:lnTo>
                  <a:pt x="111337" y="21600"/>
                </a:lnTo>
                <a:lnTo>
                  <a:pt x="0" y="21600"/>
                </a:lnTo>
                <a:close/>
              </a:path>
              <a:path fill="lightenLess" w="111337" h="21600">
                <a:moveTo>
                  <a:pt x="0" y="0"/>
                </a:moveTo>
                <a:lnTo>
                  <a:pt x="111337" y="0"/>
                </a:lnTo>
                <a:lnTo>
                  <a:pt x="108410" y="2927"/>
                </a:lnTo>
                <a:lnTo>
                  <a:pt x="2927" y="2927"/>
                </a:lnTo>
                <a:close/>
              </a:path>
              <a:path fill="darken" w="111337" h="21600">
                <a:moveTo>
                  <a:pt x="111337" y="0"/>
                </a:moveTo>
                <a:lnTo>
                  <a:pt x="111337" y="21600"/>
                </a:lnTo>
                <a:lnTo>
                  <a:pt x="108410" y="18673"/>
                </a:lnTo>
                <a:lnTo>
                  <a:pt x="108410" y="2927"/>
                </a:lnTo>
                <a:close/>
              </a:path>
              <a:path fill="darkenLess" w="111337" h="21600">
                <a:moveTo>
                  <a:pt x="111337" y="21600"/>
                </a:moveTo>
                <a:lnTo>
                  <a:pt x="0" y="21600"/>
                </a:lnTo>
                <a:lnTo>
                  <a:pt x="2927" y="18673"/>
                </a:lnTo>
                <a:lnTo>
                  <a:pt x="108410" y="18673"/>
                </a:lnTo>
                <a:close/>
              </a:path>
              <a:path fill="lighten" w="111337" h="21600">
                <a:moveTo>
                  <a:pt x="0" y="21600"/>
                </a:moveTo>
                <a:lnTo>
                  <a:pt x="0" y="0"/>
                </a:lnTo>
                <a:lnTo>
                  <a:pt x="2927" y="2927"/>
                </a:lnTo>
                <a:lnTo>
                  <a:pt x="2927" y="18673"/>
                </a:lnTo>
                <a:close/>
              </a:path>
            </a:pathLst>
          </a:custGeom>
          <a:solidFill>
            <a:srgbClr val="e1f0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0000"/>
                </a:solidFill>
                <a:uFillTx/>
                <a:latin typeface="Arial"/>
                <a:hlinkClick r:id="rId1"/>
              </a:rPr>
              <a:t>DEM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SIS 2007, Geneva 8 – 10 May 2007, Marianne Vik Dysterud - mvd@ssb.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Example from LANGUAGE.XM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684440"/>
            <a:ext cx="8785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15876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Phrase id="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CircleColors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Translation lang="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"&gt;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Circle symbol color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/Translation&gt;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Translation lang="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nb-NO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"&gt;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Farger for sirkel symbol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/Translation&gt;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Translation lang=”</a:t>
            </a:r>
            <a:r>
              <a:rPr b="1" lang="nb-NO" sz="2000" spc="-1" strike="noStrike">
                <a:solidFill>
                  <a:srgbClr val="cc0000"/>
                </a:solidFill>
                <a:latin typeface="Arial"/>
              </a:rPr>
              <a:t>es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”&gt;</a:t>
            </a:r>
            <a:r>
              <a:rPr b="1" lang="nb-NO" sz="2000" spc="-1" strike="noStrike">
                <a:solidFill>
                  <a:srgbClr val="cc0000"/>
                </a:solidFill>
                <a:latin typeface="Arial"/>
              </a:rPr>
              <a:t>Color del símbolo del círculo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/Translation&gt;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Translation lang=”</a:t>
            </a:r>
            <a:r>
              <a:rPr b="1" lang="nb-NO" sz="2000" spc="-1" strike="noStrike">
                <a:solidFill>
                  <a:srgbClr val="008080"/>
                </a:solidFill>
                <a:latin typeface="Arial"/>
              </a:rPr>
              <a:t>de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”&gt;</a:t>
            </a:r>
            <a:r>
              <a:rPr b="1" lang="nb-NO" sz="2000" spc="-1" strike="noStrike">
                <a:solidFill>
                  <a:srgbClr val="008080"/>
                </a:solidFill>
                <a:latin typeface="Arial"/>
              </a:rPr>
              <a:t>Kreissymbolfarbe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/Translation&gt;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/Phrase&gt;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0840" y="3815280"/>
            <a:ext cx="6208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760" rIns="15876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Phrase id="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Translation lang="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"&gt;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/Translation&gt;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Translation lang="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nb-NO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"&gt;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Hjelp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/Translation&gt;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Translation lang=”</a:t>
            </a:r>
            <a:r>
              <a:rPr b="1" lang="nb-NO" sz="2000" spc="-1" strike="noStrike">
                <a:solidFill>
                  <a:srgbClr val="cc0000"/>
                </a:solidFill>
                <a:latin typeface="Arial"/>
              </a:rPr>
              <a:t>es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"&gt;</a:t>
            </a:r>
            <a:r>
              <a:rPr b="1" lang="nb-NO" sz="2000" spc="-1" strike="noStrike">
                <a:solidFill>
                  <a:srgbClr val="cc0000"/>
                </a:solidFill>
                <a:latin typeface="Arial"/>
              </a:rPr>
              <a:t>Ayuda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/Translation&gt;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Translation lang=”</a:t>
            </a:r>
            <a:r>
              <a:rPr b="1" lang="nb-NO" sz="2000" spc="-1" strike="noStrike">
                <a:solidFill>
                  <a:srgbClr val="008080"/>
                </a:solidFill>
                <a:latin typeface="Arial"/>
              </a:rPr>
              <a:t>de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"&gt;</a:t>
            </a:r>
            <a:r>
              <a:rPr b="1" lang="nb-NO" sz="2000" spc="-1" strike="noStrike">
                <a:solidFill>
                  <a:srgbClr val="008080"/>
                </a:solidFill>
                <a:latin typeface="Arial"/>
              </a:rPr>
              <a:t>Hilfe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/Translation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/Phrase&gt;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7524720" y="5734080"/>
            <a:ext cx="1079640" cy="538200"/>
          </a:xfrm>
          <a:custGeom>
            <a:avLst/>
            <a:gdLst>
              <a:gd name="textAreaLeft" fmla="*/ 87120 w 1079640"/>
              <a:gd name="textAreaRight" fmla="*/ 992520 w 1079640"/>
              <a:gd name="textAreaTop" fmla="*/ 87120 h 538200"/>
              <a:gd name="textAreaBottom" fmla="*/ 451080 h 538200"/>
            </a:gdLst>
            <a:ahLst/>
            <a:rect l="textAreaLeft" t="textAreaTop" r="textAreaRight" b="textAreaBottom"/>
            <a:pathLst>
              <a:path w="43316" h="21600">
                <a:moveTo>
                  <a:pt x="0" y="0"/>
                </a:moveTo>
                <a:lnTo>
                  <a:pt x="43316" y="0"/>
                </a:lnTo>
                <a:lnTo>
                  <a:pt x="43316" y="21600"/>
                </a:lnTo>
                <a:lnTo>
                  <a:pt x="0" y="21600"/>
                </a:lnTo>
                <a:close/>
              </a:path>
              <a:path fill="lightenLess" w="43316" h="21600">
                <a:moveTo>
                  <a:pt x="0" y="0"/>
                </a:moveTo>
                <a:lnTo>
                  <a:pt x="43316" y="0"/>
                </a:lnTo>
                <a:lnTo>
                  <a:pt x="39812" y="3504"/>
                </a:lnTo>
                <a:lnTo>
                  <a:pt x="3504" y="3504"/>
                </a:lnTo>
                <a:close/>
              </a:path>
              <a:path fill="darken" w="43316" h="21600">
                <a:moveTo>
                  <a:pt x="43316" y="0"/>
                </a:moveTo>
                <a:lnTo>
                  <a:pt x="43316" y="21600"/>
                </a:lnTo>
                <a:lnTo>
                  <a:pt x="39812" y="18096"/>
                </a:lnTo>
                <a:lnTo>
                  <a:pt x="39812" y="3504"/>
                </a:lnTo>
                <a:close/>
              </a:path>
              <a:path fill="darkenLess" w="43316" h="21600">
                <a:moveTo>
                  <a:pt x="43316" y="21600"/>
                </a:moveTo>
                <a:lnTo>
                  <a:pt x="0" y="21600"/>
                </a:lnTo>
                <a:lnTo>
                  <a:pt x="3504" y="18096"/>
                </a:lnTo>
                <a:lnTo>
                  <a:pt x="39812" y="18096"/>
                </a:lnTo>
                <a:close/>
              </a:path>
              <a:path fill="lighten" w="43316" h="21600">
                <a:moveTo>
                  <a:pt x="0" y="21600"/>
                </a:moveTo>
                <a:lnTo>
                  <a:pt x="0" y="0"/>
                </a:lnTo>
                <a:lnTo>
                  <a:pt x="3504" y="3504"/>
                </a:lnTo>
                <a:lnTo>
                  <a:pt x="3504" y="18096"/>
                </a:lnTo>
                <a:close/>
              </a:path>
            </a:pathLst>
          </a:cu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SIS 2007, Geneva 8 – 10 May 2007, Marianne Vik Dysterud - mvd@ssb.n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DEMO</a:t>
            </a:r>
            <a:endParaRPr b="1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">
            <a:hlinkClick r:id="rId1"/>
          </p:cNvPr>
          <p:cNvSpPr/>
          <p:nvPr/>
        </p:nvSpPr>
        <p:spPr>
          <a:xfrm>
            <a:off x="2124000" y="1557360"/>
            <a:ext cx="5040360" cy="1655640"/>
          </a:xfrm>
          <a:custGeom>
            <a:avLst/>
            <a:gdLst>
              <a:gd name="textAreaLeft" fmla="*/ 129960 w 5040360"/>
              <a:gd name="textAreaRight" fmla="*/ 4910400 w 5040360"/>
              <a:gd name="textAreaTop" fmla="*/ 129960 h 1655640"/>
              <a:gd name="textAreaBottom" fmla="*/ 1525680 h 1655640"/>
            </a:gdLst>
            <a:ahLst/>
            <a:rect l="textAreaLeft" t="textAreaTop" r="textAreaRight" b="textAreaBottom"/>
            <a:pathLst>
              <a:path w="65749" h="21600">
                <a:moveTo>
                  <a:pt x="0" y="0"/>
                </a:moveTo>
                <a:lnTo>
                  <a:pt x="65749" y="0"/>
                </a:lnTo>
                <a:lnTo>
                  <a:pt x="65749" y="21600"/>
                </a:lnTo>
                <a:lnTo>
                  <a:pt x="0" y="21600"/>
                </a:lnTo>
                <a:close/>
              </a:path>
              <a:path fill="lightenLess" w="65749" h="21600">
                <a:moveTo>
                  <a:pt x="0" y="0"/>
                </a:moveTo>
                <a:lnTo>
                  <a:pt x="65749" y="0"/>
                </a:lnTo>
                <a:lnTo>
                  <a:pt x="64051" y="1698"/>
                </a:lnTo>
                <a:lnTo>
                  <a:pt x="1698" y="1698"/>
                </a:lnTo>
                <a:close/>
              </a:path>
              <a:path fill="darken" w="65749" h="21600">
                <a:moveTo>
                  <a:pt x="65749" y="0"/>
                </a:moveTo>
                <a:lnTo>
                  <a:pt x="65749" y="21600"/>
                </a:lnTo>
                <a:lnTo>
                  <a:pt x="64051" y="19902"/>
                </a:lnTo>
                <a:lnTo>
                  <a:pt x="64051" y="1698"/>
                </a:lnTo>
                <a:close/>
              </a:path>
              <a:path fill="darkenLess" w="65749" h="21600">
                <a:moveTo>
                  <a:pt x="65749" y="21600"/>
                </a:moveTo>
                <a:lnTo>
                  <a:pt x="0" y="21600"/>
                </a:lnTo>
                <a:lnTo>
                  <a:pt x="1698" y="19902"/>
                </a:lnTo>
                <a:lnTo>
                  <a:pt x="64051" y="19902"/>
                </a:lnTo>
                <a:close/>
              </a:path>
              <a:path fill="lighten" w="65749" h="21600">
                <a:moveTo>
                  <a:pt x="0" y="21600"/>
                </a:moveTo>
                <a:lnTo>
                  <a:pt x="0" y="0"/>
                </a:lnTo>
                <a:lnTo>
                  <a:pt x="1698" y="1698"/>
                </a:lnTo>
                <a:lnTo>
                  <a:pt x="1698" y="19902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3399"/>
                </a:solidFill>
                <a:latin typeface="Arial"/>
              </a:rPr>
              <a:t>Launch Statban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3399"/>
                </a:solidFill>
                <a:latin typeface="Arial"/>
              </a:rPr>
              <a:t>from www.ssb.no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">
            <a:hlinkClick r:id="rId2"/>
          </p:cNvPr>
          <p:cNvSpPr/>
          <p:nvPr/>
        </p:nvSpPr>
        <p:spPr>
          <a:xfrm>
            <a:off x="2050920" y="3573360"/>
            <a:ext cx="5040360" cy="1656000"/>
          </a:xfrm>
          <a:custGeom>
            <a:avLst/>
            <a:gdLst>
              <a:gd name="textAreaLeft" fmla="*/ 137880 w 5040360"/>
              <a:gd name="textAreaRight" fmla="*/ 4902480 w 5040360"/>
              <a:gd name="textAreaTop" fmla="*/ 137880 h 1656000"/>
              <a:gd name="textAreaBottom" fmla="*/ 1518120 h 1656000"/>
            </a:gdLst>
            <a:ahLst/>
            <a:rect l="textAreaLeft" t="textAreaTop" r="textAreaRight" b="textAreaBottom"/>
            <a:pathLst>
              <a:path w="65734" h="21600">
                <a:moveTo>
                  <a:pt x="0" y="0"/>
                </a:moveTo>
                <a:lnTo>
                  <a:pt x="65734" y="0"/>
                </a:lnTo>
                <a:lnTo>
                  <a:pt x="65734" y="21600"/>
                </a:lnTo>
                <a:lnTo>
                  <a:pt x="0" y="21600"/>
                </a:lnTo>
                <a:close/>
              </a:path>
              <a:path fill="lightenLess" w="65734" h="21600">
                <a:moveTo>
                  <a:pt x="0" y="0"/>
                </a:moveTo>
                <a:lnTo>
                  <a:pt x="65734" y="0"/>
                </a:lnTo>
                <a:lnTo>
                  <a:pt x="63932" y="1802"/>
                </a:lnTo>
                <a:lnTo>
                  <a:pt x="1802" y="1802"/>
                </a:lnTo>
                <a:close/>
              </a:path>
              <a:path fill="darken" w="65734" h="21600">
                <a:moveTo>
                  <a:pt x="65734" y="0"/>
                </a:moveTo>
                <a:lnTo>
                  <a:pt x="65734" y="21600"/>
                </a:lnTo>
                <a:lnTo>
                  <a:pt x="63932" y="19798"/>
                </a:lnTo>
                <a:lnTo>
                  <a:pt x="63932" y="1802"/>
                </a:lnTo>
                <a:close/>
              </a:path>
              <a:path fill="darkenLess" w="65734" h="21600">
                <a:moveTo>
                  <a:pt x="65734" y="21600"/>
                </a:moveTo>
                <a:lnTo>
                  <a:pt x="0" y="21600"/>
                </a:lnTo>
                <a:lnTo>
                  <a:pt x="1802" y="19798"/>
                </a:lnTo>
                <a:lnTo>
                  <a:pt x="63932" y="19798"/>
                </a:lnTo>
                <a:close/>
              </a:path>
              <a:path fill="lighten" w="65734" h="21600">
                <a:moveTo>
                  <a:pt x="0" y="21600"/>
                </a:moveTo>
                <a:lnTo>
                  <a:pt x="0" y="0"/>
                </a:lnTo>
                <a:lnTo>
                  <a:pt x="1802" y="1802"/>
                </a:lnTo>
                <a:lnTo>
                  <a:pt x="1802" y="19798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X-Map2 intern SB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SIS 2007, Geneva 8 – 10 May 2007, Marianne Vik Dysterud - mvd@ssb.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0" r="26822" b="0"/>
          <a:stretch/>
        </p:blipFill>
        <p:spPr>
          <a:xfrm>
            <a:off x="1481040" y="1317600"/>
            <a:ext cx="6475680" cy="51944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From ESRI shape files to valid SVG files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SIS 2007, Geneva 8 – 10 May 2007, Marianne Vik Dysterud - mvd@ssb.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1:24:53Z</dcterms:created>
  <dc:creator>Marianne Vik Dysterud</dc:creator>
  <dc:description/>
  <dc:language>en-US</dc:language>
  <cp:lastModifiedBy>Marianne Vik Dysterud</cp:lastModifiedBy>
  <dcterms:modified xsi:type="dcterms:W3CDTF">2007-04-13T12:29:15Z</dcterms:modified>
  <cp:revision>183</cp:revision>
  <dc:subject/>
  <dc:title>Main Economic Indica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65590897</vt:r8>
  </property>
  <property fmtid="{D5CDD505-2E9C-101B-9397-08002B2CF9AE}" pid="3" name="_AuthorEmail">
    <vt:lpwstr>marianne.vik.dysterud@ssb.no</vt:lpwstr>
  </property>
  <property fmtid="{D5CDD505-2E9C-101B-9397-08002B2CF9AE}" pid="4" name="_AuthorEmailDisplayName">
    <vt:lpwstr>Dysterud, Marianne Vik</vt:lpwstr>
  </property>
  <property fmtid="{D5CDD505-2E9C-101B-9397-08002B2CF9AE}" pid="5" name="_EmailSubject">
    <vt:lpwstr>SV: Presentation of your paper for MSIS 2007</vt:lpwstr>
  </property>
  <property fmtid="{D5CDD505-2E9C-101B-9397-08002B2CF9AE}" pid="6" name="_NewReviewCycle">
    <vt:lpwstr/>
  </property>
</Properties>
</file>