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3.png" ContentType="image/png"/>
  <Override PartName="/ppt/media/image8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692900" cy="10047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692400" cy="100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052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7"/>
          </p:nvPr>
        </p:nvSpPr>
        <p:spPr>
          <a:xfrm>
            <a:off x="3792600" y="-360"/>
            <a:ext cx="29001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MetaMediumLF-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835200" y="754200"/>
            <a:ext cx="50227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66"/>
                </a:solidFill>
                <a:latin typeface="Agfa Rotis Semisans Ex Bold"/>
              </a:rPr>
              <a:t>Click to move the slide</a:t>
            </a:r>
            <a:endParaRPr b="0" lang="en-US" sz="4800" spc="-1" strike="noStrike">
              <a:solidFill>
                <a:srgbClr val="666666"/>
              </a:solidFill>
              <a:latin typeface="Agfa Rotis Semisans Ex Bol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891720" y="4771800"/>
            <a:ext cx="4908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8"/>
          </p:nvPr>
        </p:nvSpPr>
        <p:spPr>
          <a:xfrm>
            <a:off x="-360" y="9545400"/>
            <a:ext cx="290052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MetaMedium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9"/>
          </p:nvPr>
        </p:nvSpPr>
        <p:spPr>
          <a:xfrm>
            <a:off x="3792600" y="9545400"/>
            <a:ext cx="29001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MetaMediumLF-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C202-1C4C-47FE-B7FE-610979E649A9}" type="slidenum"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835200" y="754200"/>
            <a:ext cx="5022720" cy="37670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891720" y="4771800"/>
            <a:ext cx="4908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earl script to download a datacube time-trigger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835200" y="754200"/>
            <a:ext cx="5022720" cy="37670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891720" y="4771800"/>
            <a:ext cx="4908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earl script to download a datacube time-trigger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3792600" y="9545400"/>
            <a:ext cx="29001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A898-12D6-47F9-BDC5-7E20AD791E5F}" type="slidenum"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9545400"/>
            <a:ext cx="290052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-360" y="-360"/>
            <a:ext cx="290052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3792600" y="-360"/>
            <a:ext cx="29001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body"/>
          </p:nvPr>
        </p:nvSpPr>
        <p:spPr>
          <a:xfrm>
            <a:off x="893880" y="4775040"/>
            <a:ext cx="490536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ldImg"/>
          </p:nvPr>
        </p:nvSpPr>
        <p:spPr>
          <a:xfrm>
            <a:off x="917640" y="885960"/>
            <a:ext cx="4771800" cy="3579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3792600" y="9545400"/>
            <a:ext cx="29001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6420-7B4F-4FBE-B734-9F70B01B081C}" type="slidenum"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-360" y="9545400"/>
            <a:ext cx="290052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-360" y="-360"/>
            <a:ext cx="290052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792600" y="-360"/>
            <a:ext cx="29001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body"/>
          </p:nvPr>
        </p:nvSpPr>
        <p:spPr>
          <a:xfrm>
            <a:off x="893880" y="4775040"/>
            <a:ext cx="490536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ldImg"/>
          </p:nvPr>
        </p:nvSpPr>
        <p:spPr>
          <a:xfrm>
            <a:off x="917640" y="885960"/>
            <a:ext cx="4771800" cy="35798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6335-2FCE-4142-B4C3-75F053D22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280" y="405792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0E46-7DA4-4799-AF11-39B9B7AC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080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3DBF-1287-49FF-8B00-00D53027F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3792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928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3792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3659-8295-4113-B521-79B3235A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9280" y="1133640"/>
            <a:ext cx="82774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8D40-E0A0-4AF3-807C-96899FA2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8080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9280" y="405792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8080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3792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3656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928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3792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3656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4319-4933-46B9-B078-D676BBE0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7B2B-BCFF-4634-8640-DF9A972A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2712-31CF-47BC-BD5B-F6588D28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5872-D92B-4C65-9AC7-B369EB6C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9D1C-7973-4F75-8D6F-EB459593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CD55-BD47-4EBF-9DB3-9BDA2B6B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39280" y="1133640"/>
            <a:ext cx="82774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9E70-5AD3-499B-AD2E-B8FE3720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BB4B-B549-40FE-90EA-FBF7D70E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8080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C891-D8B3-4157-B004-091AF483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7CFF-320C-4A13-BF1C-E1FF60EF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9280" y="405792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82B5-AD31-46A0-8192-0E529778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8080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BDFA-65A8-4130-A87A-C6F5AFA8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3792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3656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3928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3792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3656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372F-82F6-42A5-950F-115FD11B1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8619-3A5D-4CB4-A7D9-3690632A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39280" y="1133640"/>
            <a:ext cx="82774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78080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9280" y="405792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78080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3792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13656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3928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3792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13656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FFB6-5092-46F8-80E7-AD43720B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9280" y="1133640"/>
            <a:ext cx="82774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E138-37CF-4D4C-B3D4-557BA255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B894-793A-4F4E-8E09-1212245E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080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34F6-3246-4605-945F-6ED08BD3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4DB2-62EA-4EBE-90C1-8AC6F29D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0760" cy="81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66"/>
                </a:solidFill>
                <a:latin typeface="MetaMediumLF-Roman"/>
              </a:rPr>
              <a:t>Click to edit the title text format</a:t>
            </a: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1" marL="853920" indent="-285480">
              <a:spcBef>
                <a:spcPts val="550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2" marL="1273320" indent="-228600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3" marL="1692360" indent="-22860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4" marL="2111400" indent="-228600">
              <a:spcBef>
                <a:spcPts val="550"/>
              </a:spcBef>
              <a:buClr>
                <a:srgbClr val="990033"/>
              </a:buClr>
              <a:buFont typeface="MetaMediumLF-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5" marL="2111400" indent="-228600">
              <a:spcBef>
                <a:spcPts val="550"/>
              </a:spcBef>
              <a:buClr>
                <a:srgbClr val="000000"/>
              </a:buClr>
              <a:buFont typeface="MetaMediumLF-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6" marL="2111400" indent="-228600">
              <a:spcBef>
                <a:spcPts val="550"/>
              </a:spcBef>
              <a:buClr>
                <a:srgbClr val="000000"/>
              </a:buClr>
              <a:buFont typeface="MetaMediumLF-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6400" y="6351480"/>
            <a:ext cx="107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MetaMediumLF-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A670-F124-4962-9633-C1211995C34B}" type="datetime"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0" y="0"/>
            <a:ext cx="4570560" cy="812880"/>
          </a:xfrm>
          <a:prstGeom prst="rect">
            <a:avLst/>
          </a:prstGeom>
          <a:noFill/>
          <a:ln w="0">
            <a:noFill/>
          </a:ln>
        </p:spPr>
        <p:txBody>
          <a:bodyPr lIns="558000" rIns="0" tIns="0" bIns="108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MetaMedium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etaMediumLF-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204040" y="6351480"/>
            <a:ext cx="70200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MetaMediumLF-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  </a:t>
            </a:r>
            <a:r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Folie </a:t>
            </a:r>
            <a:fld id="{D5F8D16C-55C0-4826-86BB-FD65E25311BB}" type="slidenum"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33520" y="6477120"/>
            <a:ext cx="61182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0" anchor="b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© Federal Statistical Office Germany, II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10052" r="7674" b="10052"/>
          <a:stretch/>
        </p:blipFill>
        <p:spPr>
          <a:xfrm>
            <a:off x="7085160" y="82440"/>
            <a:ext cx="1976400" cy="65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" y="0"/>
            <a:ext cx="9140760" cy="81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1402920"/>
            <a:ext cx="8277480" cy="1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66"/>
                </a:solidFill>
                <a:latin typeface="Agfa Rotis Semisans Ex Bold"/>
              </a:rPr>
              <a:t>Click to edit the title text format</a:t>
            </a:r>
            <a:endParaRPr b="0" lang="en-US" sz="4800" spc="-1" strike="noStrike">
              <a:solidFill>
                <a:srgbClr val="666666"/>
              </a:solidFill>
              <a:latin typeface="Agfa Rotis Semisans Ex Bold"/>
            </a:endParaRPr>
          </a:p>
        </p:txBody>
      </p:sp>
      <p:sp>
        <p:nvSpPr>
          <p:cNvPr id="46" name=""/>
          <p:cNvSpPr/>
          <p:nvPr/>
        </p:nvSpPr>
        <p:spPr>
          <a:xfrm>
            <a:off x="557280" y="6351480"/>
            <a:ext cx="57578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0" anchor="b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©Federal Statistical Office Getman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0052" r="7674" b="10052"/>
          <a:stretch/>
        </p:blipFill>
        <p:spPr>
          <a:xfrm>
            <a:off x="7085160" y="82440"/>
            <a:ext cx="1976400" cy="652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taMediumLF-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MetaMediumLF-Roman"/>
            </a:endParaRPr>
          </a:p>
          <a:p>
            <a:pPr lvl="2" marL="914400" indent="130320" algn="ctr"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taMediumLF-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MetaMediumLF-Roman"/>
            </a:endParaRPr>
          </a:p>
          <a:p>
            <a:pPr lvl="3" marL="1371600" indent="92160" algn="ctr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taMediumLF-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MetaMediumLF-Roman"/>
            </a:endParaRPr>
          </a:p>
          <a:p>
            <a:pPr lvl="4" marL="1828800" indent="54000" algn="ctr">
              <a:spcBef>
                <a:spcPts val="349"/>
              </a:spcBef>
              <a:buClr>
                <a:srgbClr val="990033"/>
              </a:buClr>
              <a:buFont typeface="MetaMediumLF-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MediumLF-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MetaMediumLF-Roman"/>
            </a:endParaRPr>
          </a:p>
          <a:p>
            <a:pPr lvl="5" marL="1828800" indent="54000">
              <a:spcBef>
                <a:spcPts val="349"/>
              </a:spcBef>
              <a:buClr>
                <a:srgbClr val="000000"/>
              </a:buClr>
              <a:buFont typeface="MetaMedium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MediumLF-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MetaMediumLF-Roman"/>
            </a:endParaRPr>
          </a:p>
          <a:p>
            <a:pPr lvl="6" marL="1828800" indent="54000">
              <a:spcBef>
                <a:spcPts val="349"/>
              </a:spcBef>
              <a:buClr>
                <a:srgbClr val="000000"/>
              </a:buClr>
              <a:buFont typeface="MetaMedium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MediumLF-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0760" cy="81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66"/>
                </a:solidFill>
                <a:latin typeface="MetaMediumLF-Roman"/>
              </a:rPr>
              <a:t>Click to edit the title text format</a:t>
            </a: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1" marL="853920" indent="-285480">
              <a:spcBef>
                <a:spcPts val="550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2" marL="1273320" indent="-228600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3" marL="1692360" indent="-22860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4" marL="2111400" indent="-228600">
              <a:spcBef>
                <a:spcPts val="550"/>
              </a:spcBef>
              <a:buClr>
                <a:srgbClr val="990033"/>
              </a:buClr>
              <a:buFont typeface="MetaMediumLF-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5" marL="2111400" indent="-228600">
              <a:spcBef>
                <a:spcPts val="550"/>
              </a:spcBef>
              <a:buClr>
                <a:srgbClr val="000000"/>
              </a:buClr>
              <a:buFont typeface="MetaMediumLF-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6" marL="2111400" indent="-228600">
              <a:spcBef>
                <a:spcPts val="550"/>
              </a:spcBef>
              <a:buClr>
                <a:srgbClr val="000000"/>
              </a:buClr>
              <a:buFont typeface="MetaMediumLF-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7016400" y="6351480"/>
            <a:ext cx="107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MetaMediumLF-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83FC-E5B1-4086-BA67-B53C264C992F}" type="datetime"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0" y="0"/>
            <a:ext cx="4570560" cy="812880"/>
          </a:xfrm>
          <a:prstGeom prst="rect">
            <a:avLst/>
          </a:prstGeom>
          <a:noFill/>
          <a:ln w="0">
            <a:noFill/>
          </a:ln>
        </p:spPr>
        <p:txBody>
          <a:bodyPr lIns="558000" rIns="0" tIns="0" bIns="108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MetaMedium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etaMediumLF-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8204040" y="6351480"/>
            <a:ext cx="70200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MetaMediumLF-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  </a:t>
            </a:r>
            <a:r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Folie </a:t>
            </a:r>
            <a:fld id="{E509FFB3-CB19-4B84-B318-21A8390061C8}" type="slidenum"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6477120"/>
            <a:ext cx="61182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0" anchor="b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© Federal Statistical Office Germany, II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0" t="10052" r="7674" b="10052"/>
          <a:stretch/>
        </p:blipFill>
        <p:spPr>
          <a:xfrm>
            <a:off x="7085160" y="82440"/>
            <a:ext cx="1976400" cy="65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40" y="0"/>
            <a:ext cx="9140760" cy="81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1402920"/>
            <a:ext cx="8277480" cy="1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66"/>
                </a:solidFill>
                <a:latin typeface="Agfa Rotis Semisans Ex Bold"/>
              </a:rPr>
              <a:t>Click to edit the title text format</a:t>
            </a:r>
            <a:endParaRPr b="0" lang="en-US" sz="4800" spc="-1" strike="noStrike">
              <a:solidFill>
                <a:srgbClr val="666666"/>
              </a:solidFill>
              <a:latin typeface="Agfa Rotis Semisans Ex Bold"/>
            </a:endParaRPr>
          </a:p>
        </p:txBody>
      </p:sp>
      <p:sp>
        <p:nvSpPr>
          <p:cNvPr id="131" name=""/>
          <p:cNvSpPr/>
          <p:nvPr/>
        </p:nvSpPr>
        <p:spPr>
          <a:xfrm>
            <a:off x="557280" y="6351480"/>
            <a:ext cx="57578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0" anchor="b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©Federal Statistical Office Getman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0" t="10052" r="7674" b="10052"/>
          <a:stretch/>
        </p:blipFill>
        <p:spPr>
          <a:xfrm>
            <a:off x="7085160" y="82440"/>
            <a:ext cx="1976400" cy="65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-genesis.destatis.de/genesisWS/web" TargetMode="External"/><Relationship Id="rId2" Type="http://schemas.openxmlformats.org/officeDocument/2006/relationships/hyperlink" Target="https://www-genesis.destatis.de/genesisWS/services/ExportService?wsdl" TargetMode="External"/><Relationship Id="rId3" Type="http://schemas.openxmlformats.org/officeDocument/2006/relationships/hyperlink" Target="https://www-genesis.destatis.de/genesisWS/services/ExportService?wsdl" TargetMode="External"/><Relationship Id="rId4" Type="http://schemas.openxmlformats.org/officeDocument/2006/relationships/hyperlink" Target="https://www-genesis.destatis.de/genesisWS/services/ExportService?wsdl" TargetMode="External"/><Relationship Id="rId5" Type="http://schemas.openxmlformats.org/officeDocument/2006/relationships/hyperlink" Target="https://www-genesis.destatis.de/genesisWS/services/GEOMISService?wsdl" TargetMode="External"/><Relationship Id="rId6" Type="http://schemas.openxmlformats.org/officeDocument/2006/relationships/hyperlink" Target="https://www-genesis.destatis.de/genesisWS/services/GEOMISService?wsdl" TargetMode="External"/><Relationship Id="rId7" Type="http://schemas.openxmlformats.org/officeDocument/2006/relationships/hyperlink" Target="https://www-genesis.destatis.de/genesisWS/services/GEOMISService?wsdl" TargetMode="External"/><Relationship Id="rId8" Type="http://schemas.openxmlformats.org/officeDocument/2006/relationships/hyperlink" Target="https://www-genesis.destatis.de/genesisWS/services/RechercheService?wsdl" TargetMode="External"/><Relationship Id="rId9" Type="http://schemas.openxmlformats.org/officeDocument/2006/relationships/hyperlink" Target="https://www-genesis.destatis.de/genesisWS/services/RechercheService?wsdl" TargetMode="External"/><Relationship Id="rId10" Type="http://schemas.openxmlformats.org/officeDocument/2006/relationships/hyperlink" Target="https://www-genesis.destatis.de/genesisWS/services/RechercheService?wsdl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-genesis.destatis.de/genesisWS/services/ExportService?wsdl##" TargetMode="External"/><Relationship Id="rId2" Type="http://schemas.openxmlformats.org/officeDocument/2006/relationships/hyperlink" Target="https://www-genesis.destatis.de/genesisWS/services/ExportService?wsdl##" TargetMode="External"/><Relationship Id="rId3" Type="http://schemas.openxmlformats.org/officeDocument/2006/relationships/hyperlink" Target="https://www-genesis.destatis.de/genesisWS/services/ExportService?wsdl##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86104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666666"/>
                </a:solidFill>
                <a:latin typeface="Times New Roman"/>
              </a:rPr>
              <a:t>Web-services for integrating the central database in the processes for production, dissemination and exchange of statistical data  </a:t>
            </a:r>
            <a:br>
              <a:rPr sz="4400"/>
            </a:br>
            <a:endParaRPr b="0" lang="en-US" sz="4400" spc="-1" strike="noStrike">
              <a:solidFill>
                <a:srgbClr val="666666"/>
              </a:solidFill>
              <a:latin typeface="Agfa Rotis Semisans Ex Bol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-360" y="4868640"/>
            <a:ext cx="8596440" cy="14475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9999"/>
                </a:solidFill>
                <a:latin typeface="Times New Roman"/>
              </a:rPr>
              <a:t>Ernst Schrey ,</a:t>
            </a:r>
            <a:r>
              <a:rPr b="1" lang="de-DE" sz="2000" spc="-1" strike="noStrike">
                <a:solidFill>
                  <a:srgbClr val="999999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999999"/>
                </a:solidFill>
                <a:latin typeface="Times New Roman"/>
              </a:rPr>
              <a:t>Dirk Hollmann</a:t>
            </a:r>
            <a:r>
              <a:rPr b="1" lang="de-DE" sz="2000" spc="-1" strike="noStrike">
                <a:solidFill>
                  <a:srgbClr val="9999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9999"/>
                </a:solidFill>
                <a:latin typeface="Times New Roman"/>
              </a:rPr>
              <a:t>Division IT-Userservice, Statistical and Geografical-Information Systems</a:t>
            </a:r>
            <a:endParaRPr b="0" lang="en-US" sz="20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9999"/>
                </a:solidFill>
                <a:latin typeface="Times New Roman"/>
              </a:rPr>
              <a:t>E-Mail: ernst.schrey@destatis.de,     dirk.hollmann@destatis.de</a:t>
            </a:r>
            <a:endParaRPr b="0" lang="en-US" sz="20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00" y="3715200"/>
            <a:ext cx="511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9999"/>
                </a:solidFill>
                <a:latin typeface="Times New Roman"/>
              </a:rPr>
              <a:t>Meeting on M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9999"/>
                </a:solidFill>
                <a:latin typeface="Times New Roman"/>
              </a:rPr>
              <a:t>Gene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9999"/>
                </a:solidFill>
                <a:latin typeface="Times New Roman"/>
              </a:rPr>
              <a:t>8. -10.5.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7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cc0033"/>
                </a:solidFill>
                <a:latin typeface="Times New Roman"/>
              </a:rPr>
              <a:t>2. Web Services (technical view)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“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Automated service handling between applications on the Internet”   </a:t>
            </a:r>
            <a:endParaRPr b="0" lang="en-US" sz="28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 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Components:</a:t>
            </a:r>
            <a:endParaRPr b="0" lang="en-US" sz="28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 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-SOAP “Business language”</a:t>
            </a:r>
            <a:endParaRPr b="0" lang="en-US" sz="28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 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-WSDL “language of 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 services offered”</a:t>
            </a:r>
            <a:endParaRPr b="0" lang="en-US" sz="28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 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-UDDI “yellow pages</a:t>
            </a:r>
            <a:r>
              <a:rPr b="0" lang="en-GB" sz="2800" spc="-1" strike="noStrike">
                <a:solidFill>
                  <a:srgbClr val="000000"/>
                </a:solidFill>
                <a:latin typeface="MetaMediumLF-Roman"/>
              </a:rPr>
              <a:t>                            </a:t>
            </a:r>
            <a:endParaRPr b="0" lang="en-US" sz="28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611280" y="2581200"/>
          <a:ext cx="3744720" cy="329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581200"/>
                    <a:ext cx="3744720" cy="32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987A-FD84-46BA-92BE-8B9515C7684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515EF1-DD0D-4854-9931-BC5BA44C4D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7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6666"/>
                </a:solidFill>
                <a:latin typeface="Times New Roman"/>
              </a:rPr>
              <a:t>UDDI</a:t>
            </a:r>
            <a:br>
              <a:rPr sz="2400"/>
            </a:br>
            <a:r>
              <a:rPr b="0" lang="en-GB" sz="2400" spc="-1" strike="noStrike" u="sng">
                <a:solidFill>
                  <a:srgbClr val="cc0033"/>
                </a:solidFill>
                <a:uFillTx/>
                <a:latin typeface="Times New Roman"/>
                <a:hlinkClick r:id="rId1"/>
              </a:rPr>
              <a:t>https://www-genesis.destatis.de/genesisWS/web</a:t>
            </a:r>
            <a:br>
              <a:rPr sz="2400"/>
            </a:br>
            <a:r>
              <a:rPr b="1" lang="de-DE" sz="2000" spc="-1" strike="noStrike">
                <a:solidFill>
                  <a:srgbClr val="666666"/>
                </a:solidFill>
                <a:latin typeface="MetaMediumLF-Roman"/>
              </a:rPr>
              <a:t>ExportService </a:t>
            </a:r>
            <a:r>
              <a:rPr b="0" lang="de-DE" sz="2000" spc="-1" strike="noStrike" u="sng">
                <a:solidFill>
                  <a:srgbClr val="cc0033"/>
                </a:solidFill>
                <a:uFillTx/>
                <a:latin typeface="MetaMediumLF-Roman"/>
                <a:hlinkClick r:id="rId2"/>
              </a:rPr>
              <a:t>(</a:t>
            </a:r>
            <a:r>
              <a:rPr b="0" lang="de-DE" sz="2000" spc="-1" strike="noStrike" u="sng">
                <a:solidFill>
                  <a:srgbClr val="cc0033"/>
                </a:solidFill>
                <a:uFillTx/>
                <a:latin typeface="MetaMediumLF-Roman"/>
                <a:hlinkClick r:id="rId3"/>
              </a:rPr>
              <a:t>wsdl</a:t>
            </a:r>
            <a:r>
              <a:rPr b="0" lang="de-DE" sz="2000" spc="-1" strike="noStrike" u="sng">
                <a:solidFill>
                  <a:srgbClr val="cc0033"/>
                </a:solidFill>
                <a:uFillTx/>
                <a:latin typeface="MetaMediumLF-Roman"/>
                <a:hlinkClick r:id="rId4"/>
              </a:rPr>
              <a:t>)</a:t>
            </a:r>
            <a:r>
              <a:rPr b="1" lang="de-DE" sz="2000" spc="-1" strike="noStrike">
                <a:solidFill>
                  <a:srgbClr val="666666"/>
                </a:solidFill>
                <a:latin typeface="MetaMediumLF-Roman"/>
              </a:rPr>
              <a:t>  (see paper)</a:t>
            </a:r>
            <a:br>
              <a:rPr sz="2000"/>
            </a:br>
            <a:r>
              <a:rPr b="1" lang="de-DE" sz="2000" spc="-1" strike="noStrike">
                <a:solidFill>
                  <a:srgbClr val="666666"/>
                </a:solidFill>
                <a:latin typeface="MetaMediumLF-Roman"/>
              </a:rPr>
              <a:t>DatenExport  </a:t>
            </a:r>
            <a:br>
              <a:rPr sz="2000"/>
            </a:br>
            <a:r>
              <a:rPr b="1" lang="de-DE" sz="2000" spc="-1" strike="noStrike">
                <a:solidFill>
                  <a:srgbClr val="666666"/>
                </a:solidFill>
                <a:latin typeface="MetaMediumLF-Roman"/>
              </a:rPr>
              <a:t>TabellenExport </a:t>
            </a:r>
            <a:br>
              <a:rPr sz="2000"/>
            </a:br>
            <a:r>
              <a:rPr b="1" lang="de-DE" sz="2000" spc="-1" strike="noStrike">
                <a:solidFill>
                  <a:srgbClr val="666666"/>
                </a:solidFill>
                <a:latin typeface="MetaMediumLF-Roman"/>
              </a:rPr>
              <a:t>sodi </a:t>
            </a:r>
            <a:br>
              <a:rPr sz="2000"/>
            </a:br>
            <a:r>
              <a:rPr b="1" lang="de-DE" sz="2000" spc="-1" strike="noStrike">
                <a:solidFill>
                  <a:srgbClr val="666666"/>
                </a:solidFill>
                <a:latin typeface="MetaMediumLF-Roman"/>
              </a:rPr>
              <a:t>GEOMISService </a:t>
            </a:r>
            <a:r>
              <a:rPr b="0" lang="de-DE" sz="2000" spc="-1" strike="noStrike" u="sng">
                <a:solidFill>
                  <a:srgbClr val="cc0033"/>
                </a:solidFill>
                <a:uFillTx/>
                <a:latin typeface="MetaMediumLF-Roman"/>
                <a:hlinkClick r:id="rId5"/>
              </a:rPr>
              <a:t>(</a:t>
            </a:r>
            <a:r>
              <a:rPr b="0" lang="de-DE" sz="2000" spc="-1" strike="noStrike" u="sng">
                <a:solidFill>
                  <a:srgbClr val="cc0033"/>
                </a:solidFill>
                <a:uFillTx/>
                <a:latin typeface="MetaMediumLF-Roman"/>
                <a:hlinkClick r:id="rId6"/>
              </a:rPr>
              <a:t>wsdl</a:t>
            </a:r>
            <a:r>
              <a:rPr b="0" lang="de-DE" sz="2000" spc="-1" strike="noStrike" u="sng">
                <a:solidFill>
                  <a:srgbClr val="cc0033"/>
                </a:solidFill>
                <a:uFillTx/>
                <a:latin typeface="MetaMediumLF-Roman"/>
                <a:hlinkClick r:id="rId7"/>
              </a:rPr>
              <a:t>)</a:t>
            </a:r>
            <a:r>
              <a:rPr b="1" lang="de-DE" sz="2000" spc="-1" strike="noStrike">
                <a:solidFill>
                  <a:srgbClr val="666666"/>
                </a:solidFill>
                <a:latin typeface="MetaMediumLF-Roman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666666"/>
                </a:solidFill>
                <a:latin typeface="MetaMediumLF-Roman"/>
              </a:rPr>
              <a:t>GetRecords </a:t>
            </a:r>
            <a:br>
              <a:rPr sz="2000"/>
            </a:br>
            <a:r>
              <a:rPr b="1" lang="de-DE" sz="2000" spc="-1" strike="noStrike">
                <a:solidFill>
                  <a:srgbClr val="666666"/>
                </a:solidFill>
                <a:latin typeface="MetaMediumLF-Roman"/>
              </a:rPr>
              <a:t>RechercheService </a:t>
            </a:r>
            <a:r>
              <a:rPr b="0" lang="de-DE" sz="2000" spc="-1" strike="noStrike" u="sng">
                <a:solidFill>
                  <a:srgbClr val="cc0033"/>
                </a:solidFill>
                <a:uFillTx/>
                <a:latin typeface="MetaMediumLF-Roman"/>
                <a:hlinkClick r:id="rId8"/>
              </a:rPr>
              <a:t>(</a:t>
            </a:r>
            <a:r>
              <a:rPr b="0" lang="de-DE" sz="2000" spc="-1" strike="noStrike" u="sng">
                <a:solidFill>
                  <a:srgbClr val="cc0033"/>
                </a:solidFill>
                <a:uFillTx/>
                <a:latin typeface="MetaMediumLF-Roman"/>
                <a:hlinkClick r:id="rId9"/>
              </a:rPr>
              <a:t>wsdl</a:t>
            </a:r>
            <a:r>
              <a:rPr b="0" lang="de-DE" sz="2000" spc="-1" strike="noStrike" u="sng">
                <a:solidFill>
                  <a:srgbClr val="cc0033"/>
                </a:solidFill>
                <a:uFillTx/>
                <a:latin typeface="MetaMediumLF-Roman"/>
                <a:hlinkClick r:id="rId10"/>
              </a:rPr>
              <a:t>)</a:t>
            </a:r>
            <a:r>
              <a:rPr b="1" lang="de-DE" sz="2000" spc="-1" strike="noStrike">
                <a:solidFill>
                  <a:srgbClr val="666666"/>
                </a:solidFill>
                <a:latin typeface="MetaMediumLF-Roman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666666"/>
                </a:solidFill>
                <a:latin typeface="MetaMediumLF-Roman"/>
              </a:rPr>
              <a:t>DatenKatalog </a:t>
            </a:r>
            <a:br>
              <a:rPr sz="2000"/>
            </a:br>
            <a:r>
              <a:rPr b="1" lang="de-DE" sz="2000" spc="-1" strike="noStrike">
                <a:solidFill>
                  <a:srgbClr val="666666"/>
                </a:solidFill>
                <a:latin typeface="MetaMediumLF-Roman"/>
              </a:rPr>
              <a:t>ErgebnisKatalog </a:t>
            </a:r>
            <a:br>
              <a:rPr sz="2000"/>
            </a:br>
            <a:r>
              <a:rPr b="1" lang="de-DE" sz="2000" spc="-1" strike="noStrike">
                <a:solidFill>
                  <a:srgbClr val="666666"/>
                </a:solidFill>
                <a:latin typeface="MetaMediumLF-Roman"/>
              </a:rPr>
              <a:t>MerkmalsKatalog </a:t>
            </a:r>
            <a:br>
              <a:rPr sz="2000"/>
            </a:br>
            <a:r>
              <a:rPr b="1" lang="de-DE" sz="2000" spc="-1" strike="noStrike">
                <a:solidFill>
                  <a:srgbClr val="666666"/>
                </a:solidFill>
                <a:latin typeface="MetaMediumLF-Roman"/>
              </a:rPr>
              <a:t>StatistikKatalog </a:t>
            </a:r>
            <a:br>
              <a:rPr sz="2000"/>
            </a:br>
            <a:r>
              <a:rPr b="1" lang="de-DE" sz="2000" spc="-1" strike="noStrike">
                <a:solidFill>
                  <a:srgbClr val="666666"/>
                </a:solidFill>
                <a:latin typeface="MetaMediumLF-Roman"/>
              </a:rPr>
              <a:t>TabellenKatalog </a:t>
            </a:r>
            <a:br>
              <a:rPr sz="2000"/>
            </a:br>
            <a:r>
              <a:rPr b="1" lang="de-DE" sz="2000" spc="-1" strike="noStrike">
                <a:solidFill>
                  <a:srgbClr val="666666"/>
                </a:solidFill>
                <a:latin typeface="MetaMediumLF-Roman"/>
              </a:rPr>
              <a:t>ZeitreihenKatalog </a:t>
            </a:r>
            <a:br>
              <a:rPr sz="2000"/>
            </a:br>
            <a:endParaRPr b="0" lang="en-US" sz="20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81CC-2C0B-4FC8-A3F7-B732FE9E9E3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29B43B-FBC0-4AFA-9C1C-2CBE73E2C2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7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6666"/>
                </a:solidFill>
                <a:latin typeface="Times New Roman"/>
              </a:rPr>
              <a:t>SODI- method</a:t>
            </a:r>
            <a:br>
              <a:rPr sz="4400"/>
            </a:br>
            <a:r>
              <a:rPr b="1" lang="en-GB" sz="2000" spc="-1" strike="noStrike">
                <a:solidFill>
                  <a:srgbClr val="666666"/>
                </a:solidFill>
                <a:latin typeface="MetaMediumLF-Roman"/>
              </a:rPr>
              <a:t>&lt;/wsdl:message&gt;</a:t>
            </a:r>
            <a:r>
              <a:rPr b="0" lang="en-GB" sz="2000" spc="-1" strike="noStrike" u="sng">
                <a:solidFill>
                  <a:srgbClr val="cc0033"/>
                </a:solidFill>
                <a:uFillTx/>
                <a:latin typeface="MetaMediumLF-Roman"/>
                <a:hlinkClick r:id="rId1"/>
              </a:rPr>
              <a:t>_x000b_-</a:t>
            </a:r>
            <a:r>
              <a:rPr b="1" lang="en-GB" sz="2000" spc="-1" strike="noStrike">
                <a:solidFill>
                  <a:srgbClr val="666666"/>
                </a:solidFill>
                <a:latin typeface="MetaMediumLF-Roman"/>
              </a:rPr>
              <a:t> &lt;wsdl:message name="sodiRequest"&gt;</a:t>
            </a:r>
            <a:br>
              <a:rPr sz="2000"/>
            </a:br>
            <a:r>
              <a:rPr b="0" lang="en-GB" sz="2000" spc="-1" strike="noStrike">
                <a:solidFill>
                  <a:srgbClr val="666666"/>
                </a:solidFill>
                <a:latin typeface="MetaMediumLF-Roman"/>
              </a:rPr>
              <a:t> </a:t>
            </a:r>
            <a:r>
              <a:rPr b="1" lang="en-GB" sz="2000" spc="-1" strike="noStrike">
                <a:solidFill>
                  <a:srgbClr val="666666"/>
                </a:solidFill>
                <a:latin typeface="MetaMediumLF-Roman"/>
              </a:rPr>
              <a:t> &lt;wsdl:part name="statistic" type="xsd:string" /&gt; </a:t>
            </a:r>
            <a:br>
              <a:rPr sz="2000"/>
            </a:br>
            <a:r>
              <a:rPr b="0" lang="en-GB" sz="2000" spc="-1" strike="noStrike">
                <a:solidFill>
                  <a:srgbClr val="666666"/>
                </a:solidFill>
                <a:latin typeface="MetaMediumLF-Roman"/>
              </a:rPr>
              <a:t> </a:t>
            </a:r>
            <a:r>
              <a:rPr b="1" lang="en-GB" sz="2000" spc="-1" strike="noStrike">
                <a:solidFill>
                  <a:srgbClr val="666666"/>
                </a:solidFill>
                <a:latin typeface="MetaMediumLF-Roman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666666"/>
                </a:solidFill>
                <a:latin typeface="MetaMediumLF-Roman"/>
              </a:rPr>
              <a:t>&lt;/wsdl:message&gt;</a:t>
            </a:r>
            <a:r>
              <a:rPr b="0" lang="en-GB" sz="2000" spc="-1" strike="noStrike" u="sng">
                <a:solidFill>
                  <a:srgbClr val="cc0033"/>
                </a:solidFill>
                <a:uFillTx/>
                <a:latin typeface="MetaMediumLF-Roman"/>
                <a:hlinkClick r:id="rId2"/>
              </a:rPr>
              <a:t>_x000b_-</a:t>
            </a:r>
            <a:r>
              <a:rPr b="1" lang="en-GB" sz="2000" spc="-1" strike="noStrike">
                <a:solidFill>
                  <a:srgbClr val="666666"/>
                </a:solidFill>
                <a:latin typeface="MetaMediumLF-Roman"/>
              </a:rPr>
              <a:t> &lt;wsdl:message name="sodiResponse"&gt;</a:t>
            </a:r>
            <a:br>
              <a:rPr sz="2000"/>
            </a:br>
            <a:r>
              <a:rPr b="0" lang="en-GB" sz="2000" spc="-1" strike="noStrike">
                <a:solidFill>
                  <a:srgbClr val="666666"/>
                </a:solidFill>
                <a:latin typeface="MetaMediumLF-Roman"/>
              </a:rPr>
              <a:t> </a:t>
            </a:r>
            <a:r>
              <a:rPr b="1" lang="en-GB" sz="2000" spc="-1" strike="noStrike">
                <a:solidFill>
                  <a:srgbClr val="666666"/>
                </a:solidFill>
                <a:latin typeface="MetaMediumLF-Roman"/>
              </a:rPr>
              <a:t> &lt;wsdl:part name="sodiReturn" type="xsd:string" /&gt; 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666666"/>
                </a:solidFill>
                <a:latin typeface="MetaMediumLF-Roman"/>
              </a:rPr>
              <a:t> &lt;/wsdl:operation&gt;</a:t>
            </a:r>
            <a:r>
              <a:rPr b="0" lang="de-DE" sz="2000" spc="-1" strike="noStrike" u="sng">
                <a:solidFill>
                  <a:srgbClr val="cc0033"/>
                </a:solidFill>
                <a:uFillTx/>
                <a:latin typeface="MetaMediumLF-Roman"/>
                <a:hlinkClick r:id="rId3"/>
              </a:rPr>
              <a:t>_x000b_-</a:t>
            </a:r>
            <a:r>
              <a:rPr b="1" lang="de-DE" sz="2000" spc="-1" strike="noStrike">
                <a:solidFill>
                  <a:srgbClr val="666666"/>
                </a:solidFill>
                <a:latin typeface="MetaMediumLF-Roman"/>
              </a:rPr>
              <a:t> &lt;wsdl:operation name="sodi" parameterOrder="statistic"&gt;</a:t>
            </a:r>
            <a:br>
              <a:rPr sz="2000"/>
            </a:br>
            <a:r>
              <a:rPr b="0" lang="de-DE" sz="2000" spc="-1" strike="noStrike">
                <a:solidFill>
                  <a:srgbClr val="666666"/>
                </a:solidFill>
                <a:latin typeface="MetaMediumLF-Roman"/>
              </a:rPr>
              <a:t> </a:t>
            </a:r>
            <a:r>
              <a:rPr b="1" lang="de-DE" sz="2000" spc="-1" strike="noStrike">
                <a:solidFill>
                  <a:srgbClr val="666666"/>
                </a:solidFill>
                <a:latin typeface="MetaMediumLF-Roman"/>
              </a:rPr>
              <a:t> </a:t>
            </a:r>
            <a:r>
              <a:rPr b="1" lang="en-GB" sz="2000" spc="-1" strike="noStrike">
                <a:solidFill>
                  <a:srgbClr val="666666"/>
                </a:solidFill>
                <a:latin typeface="MetaMediumLF-Roman"/>
              </a:rPr>
              <a:t>&lt;wsdl:input message="impl:sodiRequest" name="sodiRequest" /&gt; </a:t>
            </a:r>
            <a:br>
              <a:rPr sz="2000"/>
            </a:br>
            <a:r>
              <a:rPr b="0" lang="en-GB" sz="2000" spc="-1" strike="noStrike">
                <a:solidFill>
                  <a:srgbClr val="666666"/>
                </a:solidFill>
                <a:latin typeface="MetaMediumLF-Roman"/>
              </a:rPr>
              <a:t> </a:t>
            </a:r>
            <a:r>
              <a:rPr b="1" lang="en-GB" sz="2000" spc="-1" strike="noStrike">
                <a:solidFill>
                  <a:srgbClr val="666666"/>
                </a:solidFill>
                <a:latin typeface="MetaMediumLF-Roman"/>
              </a:rPr>
              <a:t> &lt;wsdl:output message="impl:sodiResponse" name="sodiResponse" /&gt; </a:t>
            </a:r>
            <a:br>
              <a:rPr sz="2000"/>
            </a:br>
            <a:r>
              <a:rPr b="0" lang="en-GB" sz="2400" spc="-1" strike="noStrike">
                <a:solidFill>
                  <a:srgbClr val="666666"/>
                </a:solidFill>
                <a:latin typeface="MetaMediumLF-Roman"/>
              </a:rPr>
              <a:t> </a:t>
            </a:r>
            <a:r>
              <a:rPr b="1" lang="en-GB" sz="2400" spc="-1" strike="noStrike">
                <a:solidFill>
                  <a:srgbClr val="666666"/>
                </a:solidFill>
                <a:latin typeface="MetaMediumLF-Roman"/>
              </a:rPr>
              <a:t> </a:t>
            </a:r>
            <a:r>
              <a:rPr b="1" lang="en-GB" sz="2000" spc="-1" strike="noStrike">
                <a:solidFill>
                  <a:srgbClr val="666666"/>
                </a:solidFill>
                <a:latin typeface="MetaMediumLF-Roman"/>
              </a:rPr>
              <a:t>&lt;/wsdl:operation&gt;</a:t>
            </a:r>
            <a:endParaRPr b="0" lang="en-US" sz="20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BD08-AE73-4CAB-AF92-4C1ECED3AF1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68CA6F-B4C5-43BB-BC58-4A92116E6D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666666"/>
                </a:solidFill>
                <a:latin typeface="MetaMediumLF-Roman"/>
              </a:rPr>
              <a:t>Infrastructure</a:t>
            </a:r>
            <a:r>
              <a:rPr b="0" lang="en-GB" sz="3400" spc="-1" strike="noStrike">
                <a:solidFill>
                  <a:srgbClr val="cc0033"/>
                </a:solidFill>
                <a:latin typeface="MetaMediumLF-Roman"/>
              </a:rPr>
              <a:t> </a:t>
            </a: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626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MetaMediumLF-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755640" y="1671480"/>
            <a:ext cx="7777080" cy="453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C1EB-E4CC-4238-9707-7BA8A9527E2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04AAB-71EF-4DE4-BB27-181281DFAE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7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6666"/>
                </a:solidFill>
                <a:latin typeface="Times New Roman"/>
              </a:rPr>
              <a:t>3. Use cases (I)</a:t>
            </a:r>
            <a:br>
              <a:rPr sz="4400"/>
            </a:br>
            <a:r>
              <a:rPr b="0" lang="en-GB" sz="4400" spc="-1" strike="noStrike">
                <a:solidFill>
                  <a:srgbClr val="666666"/>
                </a:solidFill>
                <a:latin typeface="Times New Roman"/>
              </a:rPr>
              <a:t>-</a:t>
            </a:r>
            <a:r>
              <a:rPr b="1" lang="en-GB" sz="4400" spc="-1" strike="noStrike">
                <a:solidFill>
                  <a:srgbClr val="666666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666666"/>
                </a:solidFill>
                <a:latin typeface="Times New Roman"/>
              </a:rPr>
              <a:t>Geo portal </a:t>
            </a:r>
            <a:r>
              <a:rPr b="1" lang="en-GB" sz="2800" spc="-1" strike="noStrike">
                <a:solidFill>
                  <a:srgbClr val="666666"/>
                </a:solidFill>
                <a:latin typeface="Times New Roman"/>
              </a:rPr>
              <a:t>	</a:t>
            </a:r>
            <a:br>
              <a:rPr sz="2800"/>
            </a:br>
            <a:r>
              <a:rPr b="1" lang="en-GB" sz="2800" spc="-1" strike="noStrike">
                <a:solidFill>
                  <a:srgbClr val="666666"/>
                </a:solidFill>
                <a:latin typeface="Times New Roman"/>
              </a:rPr>
              <a:t>Federal Portal for geo-coded data search engine</a:t>
            </a:r>
            <a:br>
              <a:rPr sz="2800"/>
            </a:br>
            <a:r>
              <a:rPr b="1" lang="en-GB" sz="2800" spc="-1" strike="noStrike">
                <a:solidFill>
                  <a:srgbClr val="666666"/>
                </a:solidFill>
                <a:latin typeface="Times New Roman"/>
              </a:rPr>
              <a:t>- University Halle / Commercial data providers</a:t>
            </a:r>
            <a:br>
              <a:rPr sz="2800"/>
            </a:br>
            <a:r>
              <a:rPr b="1" lang="en-GB" sz="2800" spc="-1" strike="noStrike">
                <a:solidFill>
                  <a:srgbClr val="666666"/>
                </a:solidFill>
                <a:latin typeface="Times New Roman"/>
              </a:rPr>
              <a:t>Access to a lot of tables or cubes every month (same structure but updated data or depending of date of update)</a:t>
            </a:r>
            <a:br>
              <a:rPr sz="2800"/>
            </a:br>
            <a:r>
              <a:rPr b="1" lang="en-GB" sz="2800" spc="-1" strike="noStrike">
                <a:solidFill>
                  <a:srgbClr val="666666"/>
                </a:solidFill>
                <a:latin typeface="Times New Roman"/>
              </a:rPr>
              <a:t>- SRW </a:t>
            </a:r>
            <a:br>
              <a:rPr sz="2800"/>
            </a:br>
            <a:r>
              <a:rPr b="1" lang="en-GB" sz="2800" spc="-1" strike="noStrike">
                <a:solidFill>
                  <a:srgbClr val="666666"/>
                </a:solidFill>
                <a:latin typeface="Times New Roman"/>
              </a:rPr>
              <a:t>Access to data from an interface the user is familiar with (e.g. EXCEL)</a:t>
            </a:r>
            <a:br>
              <a:rPr sz="2800"/>
            </a:br>
            <a:r>
              <a:rPr b="1" lang="en-GB" sz="2800" spc="-1" strike="noStrike">
                <a:solidFill>
                  <a:srgbClr val="666666"/>
                </a:solidFill>
                <a:latin typeface="Times New Roman"/>
              </a:rPr>
              <a:t>- Eurostat</a:t>
            </a:r>
            <a:br>
              <a:rPr sz="2800"/>
            </a:br>
            <a:r>
              <a:rPr b="1" lang="en-GB" sz="2800" spc="-1" strike="noStrike">
                <a:solidFill>
                  <a:srgbClr val="666666"/>
                </a:solidFill>
                <a:latin typeface="Times New Roman"/>
              </a:rPr>
              <a:t>SDMX open database Interchange (SODI)</a:t>
            </a:r>
            <a:endParaRPr b="0" lang="en-US" sz="28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7584-83BE-4E46-8E8F-D704CA6981C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678D2-0BD8-48EF-8803-5344ADAEB2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7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6666"/>
                </a:solidFill>
                <a:latin typeface="Times New Roman"/>
              </a:rPr>
              <a:t>  </a:t>
            </a:r>
            <a:r>
              <a:rPr b="1" lang="en-GB" sz="4400" spc="-1" strike="noStrike">
                <a:solidFill>
                  <a:srgbClr val="666666"/>
                </a:solidFill>
                <a:latin typeface="Times New Roman"/>
              </a:rPr>
              <a:t>Use cases (II)</a:t>
            </a:r>
            <a:br>
              <a:rPr sz="4400"/>
            </a:br>
            <a:r>
              <a:rPr b="0" lang="en-GB" sz="4400" spc="-1" strike="noStrike">
                <a:solidFill>
                  <a:srgbClr val="666666"/>
                </a:solidFill>
                <a:latin typeface="Times New Roman"/>
              </a:rPr>
              <a:t>- </a:t>
            </a:r>
            <a:r>
              <a:rPr b="1" lang="en-GB" sz="2800" spc="-1" strike="noStrike">
                <a:solidFill>
                  <a:srgbClr val="666666"/>
                </a:solidFill>
                <a:latin typeface="Times New Roman"/>
              </a:rPr>
              <a:t>DESTATIS</a:t>
            </a:r>
            <a:br>
              <a:rPr sz="2800"/>
            </a:br>
            <a:r>
              <a:rPr b="1" lang="en-GB" sz="2800" spc="-1" strike="noStrike">
                <a:solidFill>
                  <a:srgbClr val="666666"/>
                </a:solidFill>
                <a:latin typeface="Times New Roman"/>
              </a:rPr>
              <a:t>application integration</a:t>
            </a:r>
            <a:r>
              <a:rPr b="0" lang="en-GB" sz="2800" spc="-1" strike="noStrike">
                <a:solidFill>
                  <a:srgbClr val="666666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666666"/>
                </a:solidFill>
                <a:latin typeface="Times New Roman"/>
              </a:rPr>
              <a:t>of database GENESIS with </a:t>
            </a:r>
            <a:br>
              <a:rPr sz="2800"/>
            </a:br>
            <a:r>
              <a:rPr b="1" lang="en-GB" sz="2800" spc="-1" strike="noStrike">
                <a:solidFill>
                  <a:srgbClr val="666666"/>
                </a:solidFill>
                <a:latin typeface="Times New Roman"/>
              </a:rPr>
              <a:t>-tools for analysis and reporting (SAS) used by subject matter statisticians</a:t>
            </a:r>
            <a:br>
              <a:rPr sz="2800"/>
            </a:br>
            <a:r>
              <a:rPr b="1" lang="en-GB" sz="2800" spc="-1" strike="noStrike">
                <a:solidFill>
                  <a:srgbClr val="666666"/>
                </a:solidFill>
                <a:latin typeface="Times New Roman"/>
              </a:rPr>
              <a:t>-Intranet search engine </a:t>
            </a:r>
            <a:endParaRPr b="0" lang="en-US" sz="28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B4D6-405C-4285-A1A6-BF48D7B57B4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A11F4-AF97-4358-A529-5EDF943B5F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6666"/>
                </a:solidFill>
                <a:latin typeface="Times New Roman"/>
              </a:rPr>
              <a:t>4. How to use Web Services (I)</a:t>
            </a:r>
            <a:br>
              <a:rPr sz="4400"/>
            </a:br>
            <a:r>
              <a:rPr b="1" lang="en-GB" sz="2000" spc="-1" strike="noStrike">
                <a:solidFill>
                  <a:srgbClr val="666666"/>
                </a:solidFill>
                <a:latin typeface="Times New Roman"/>
              </a:rPr>
              <a:t>(Java)</a:t>
            </a:r>
            <a:br>
              <a:rPr sz="2000"/>
            </a:br>
            <a:endParaRPr b="0" lang="en-US" sz="20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626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MetaMediumLF-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1116000" y="1681200"/>
            <a:ext cx="6408720" cy="480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AA9E-3FA2-4B0A-992B-81A21266B5E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4687B-0BA0-43DA-8165-97ADB39AC9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6666"/>
                </a:solidFill>
                <a:latin typeface="Times New Roman"/>
              </a:rPr>
              <a:t>How to use Web Services (II)</a:t>
            </a:r>
            <a:br>
              <a:rPr sz="4400"/>
            </a:br>
            <a:r>
              <a:rPr b="1" lang="en-GB" sz="2000" spc="-1" strike="noStrike">
                <a:solidFill>
                  <a:srgbClr val="666666"/>
                </a:solidFill>
                <a:latin typeface="Times New Roman"/>
              </a:rPr>
              <a:t>(EXCEL VBA)</a:t>
            </a:r>
            <a:br>
              <a:rPr sz="4400"/>
            </a:br>
            <a:endParaRPr b="0" lang="en-US" sz="20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626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MetaMediumLF-Roman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1403280" y="1693800"/>
            <a:ext cx="6624720" cy="456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4496-589B-4A82-B12B-A975A63DCE7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592CE3-E883-4023-9234-B69F533BC4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6666"/>
                </a:solidFill>
                <a:latin typeface="Times New Roman"/>
              </a:rPr>
              <a:t>How to use Web Services (III)</a:t>
            </a:r>
            <a:br>
              <a:rPr sz="4400"/>
            </a:br>
            <a:r>
              <a:rPr b="1" lang="en-GB" sz="2000" spc="-1" strike="noStrike">
                <a:solidFill>
                  <a:srgbClr val="666666"/>
                </a:solidFill>
                <a:latin typeface="Times New Roman"/>
              </a:rPr>
              <a:t>(Pearl)</a:t>
            </a:r>
            <a:endParaRPr b="0" lang="en-US" sz="20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626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2200" y="1555560"/>
            <a:ext cx="68821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MetaMediumLF-Roman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#!/opt/bin/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use stri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use SOAP::Lite +trace =&gt; qw(debug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my $kennung="</a:t>
            </a:r>
            <a:r>
              <a:rPr b="0" i="1" lang="en-GB" sz="2000" spc="-1" strike="noStrike">
                <a:solidFill>
                  <a:srgbClr val="000000"/>
                </a:solidFill>
                <a:latin typeface="MetaMediumLF-Roman"/>
              </a:rPr>
              <a:t>TestIt</a:t>
            </a: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my $pw="</a:t>
            </a:r>
            <a:r>
              <a:rPr b="0" i="1" lang="en-GB" sz="2000" spc="-1" strike="noStrike">
                <a:solidFill>
                  <a:srgbClr val="000000"/>
                </a:solidFill>
                <a:latin typeface="MetaMediumLF-Roman"/>
              </a:rPr>
              <a:t>geheim</a:t>
            </a: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my $server="</a:t>
            </a:r>
            <a:r>
              <a:rPr b="0" i="1" lang="en-GB" sz="2000" spc="-1" strike="noStrike">
                <a:solidFill>
                  <a:srgbClr val="000000"/>
                </a:solidFill>
                <a:latin typeface="MetaMediumLF-Roman"/>
              </a:rPr>
              <a:t>01.02.03.04</a:t>
            </a: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my  $proxy="</a:t>
            </a:r>
            <a:r>
              <a:rPr b="0" i="1" lang="en-GB" sz="2000" spc="-1" strike="noStrike">
                <a:solidFill>
                  <a:srgbClr val="000000"/>
                </a:solidFill>
                <a:latin typeface="MetaMediumLF-Roman"/>
              </a:rPr>
              <a:t>01.02.03.04</a:t>
            </a: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$ENV{HTTP_proxy} = "</a:t>
            </a:r>
            <a:r>
              <a:rPr b="0" i="1" lang="en-GB" sz="2000" spc="-1" strike="noStrike">
                <a:solidFill>
                  <a:srgbClr val="000000"/>
                </a:solidFill>
                <a:latin typeface="MetaMediumLF-Roman"/>
              </a:rPr>
              <a:t>http://$proxy</a:t>
            </a: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"; # unsere Fire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my $soap = SOAP::L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-&gt; uri("</a:t>
            </a:r>
            <a:r>
              <a:rPr b="0" i="1" lang="en-GB" sz="2000" spc="-1" strike="noStrike">
                <a:solidFill>
                  <a:srgbClr val="000000"/>
                </a:solidFill>
                <a:latin typeface="MetaMediumLF-Roman"/>
              </a:rPr>
              <a:t>http://$server</a:t>
            </a: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/genesisWS/web/ExportService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-&gt; proxy("</a:t>
            </a:r>
            <a:r>
              <a:rPr b="0" i="1" lang="en-GB" sz="2000" spc="-1" strike="noStrike">
                <a:solidFill>
                  <a:srgbClr val="000000"/>
                </a:solidFill>
                <a:latin typeface="MetaMediumLF-Roman"/>
              </a:rPr>
              <a:t>http://$server</a:t>
            </a: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/genesisWS/web/ExportService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etaMediumLF-Roman"/>
              </a:rPr>
              <a:t>my @params = 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etaMediumLF-Roman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MetaMediumLF-Roman"/>
              </a:rPr>
              <a:t>SOAP::Data-&gt;name(kennung            =&gt; $kennung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etaMediumLF-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SOAP::Data-&gt;name(passwort           =&gt; $pw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D4D6-659C-453B-A2D6-54A9F26D0F4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36F443-826B-4BDB-84EB-53C7BB6C9C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6666"/>
                </a:solidFill>
                <a:latin typeface="Times New Roman"/>
              </a:rPr>
              <a:t>5 Usability and accessibility</a:t>
            </a:r>
            <a:br>
              <a:rPr sz="4400"/>
            </a:br>
            <a:r>
              <a:rPr b="1" lang="en-GB" sz="2400" spc="-1" strike="noStrike">
                <a:solidFill>
                  <a:srgbClr val="666666"/>
                </a:solidFill>
                <a:latin typeface="Times New Roman"/>
              </a:rPr>
              <a:t>The use of Web Services for GENESIS allows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666666"/>
                </a:solidFill>
                <a:latin typeface="Times New Roman"/>
              </a:rPr>
              <a:t>- automation of access without human interaction, depending of a lot of parameters (time, update of database,…)  </a:t>
            </a:r>
            <a:br>
              <a:rPr sz="2400"/>
            </a:br>
            <a:r>
              <a:rPr b="1" lang="en-GB" sz="2400" spc="-1" strike="noStrike">
                <a:solidFill>
                  <a:srgbClr val="666666"/>
                </a:solidFill>
                <a:latin typeface="Times New Roman"/>
              </a:rPr>
              <a:t>- building process chains or application integration  (SOA), </a:t>
            </a:r>
            <a:br>
              <a:rPr sz="2400"/>
            </a:br>
            <a:r>
              <a:rPr b="1" lang="en-GB" sz="2400" spc="-1" strike="noStrike">
                <a:solidFill>
                  <a:srgbClr val="666666"/>
                </a:solidFill>
                <a:latin typeface="Times New Roman"/>
              </a:rPr>
              <a:t>- “hiding” of GENESIS access in software the user is familiar with, so that the user needs no training effort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666666"/>
                </a:solidFill>
                <a:latin typeface="Times New Roman"/>
              </a:rPr>
              <a:t>the result is a win in </a:t>
            </a:r>
            <a:br>
              <a:rPr sz="2400"/>
            </a:br>
            <a:r>
              <a:rPr b="1" lang="en-GB" sz="2400" spc="-1" strike="noStrike">
                <a:solidFill>
                  <a:srgbClr val="666666"/>
                </a:solidFill>
                <a:latin typeface="Times New Roman"/>
              </a:rPr>
              <a:t>usability and accessibility </a:t>
            </a:r>
            <a:br>
              <a:rPr sz="2400"/>
            </a:br>
            <a:r>
              <a:rPr b="1" lang="en-GB" sz="2400" spc="-1" strike="noStrike">
                <a:solidFill>
                  <a:srgbClr val="666666"/>
                </a:solidFill>
                <a:latin typeface="Times New Roman"/>
              </a:rPr>
              <a:t>for GENESIS and the integrated systems</a:t>
            </a:r>
            <a:endParaRPr b="0" lang="en-US" sz="2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CEC9-439D-437E-8D68-B5D27D034CDA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D7AB9-7DBD-4BD3-B0A3-841C31461E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7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666666"/>
                </a:solidFill>
                <a:latin typeface="Times New Roman"/>
              </a:rPr>
              <a:t>Agenda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1. Central Database GENESIS</a:t>
            </a:r>
            <a:br>
              <a:rPr sz="4000"/>
            </a:b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2. Web Services (technical view) </a:t>
            </a:r>
            <a:br>
              <a:rPr sz="4000"/>
            </a:b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3. Use Cases </a:t>
            </a:r>
            <a:br>
              <a:rPr sz="4000"/>
            </a:b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4. How to use Web Services</a:t>
            </a:r>
            <a:br>
              <a:rPr sz="4000"/>
            </a:b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5. Benefit of Web Services for usability and accessibility</a:t>
            </a:r>
            <a:br>
              <a:rPr sz="4000"/>
            </a:br>
            <a:endParaRPr b="0" lang="en-US" sz="40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B621-BF13-4DF6-AFC3-09DDB31FECD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CD59B-EFB7-4BC5-830B-D7E39C26FB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cc0033"/>
                </a:solidFill>
                <a:latin typeface="Times New Roman"/>
              </a:rPr>
              <a:t>GENESIS ...</a:t>
            </a:r>
            <a:br>
              <a:rPr sz="2800"/>
            </a:br>
            <a:r>
              <a:rPr b="1" lang="de-DE" sz="2800" spc="-1" strike="noStrike">
                <a:solidFill>
                  <a:srgbClr val="cc0033"/>
                </a:solidFill>
                <a:latin typeface="Times New Roman"/>
              </a:rPr>
              <a:t>... a data cube</a:t>
            </a:r>
            <a:endParaRPr b="0" lang="en-US" sz="2800" spc="-1" strike="noStrike">
              <a:solidFill>
                <a:srgbClr val="666666"/>
              </a:solidFill>
              <a:latin typeface="MetaMediumLF-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523880" y="3581280"/>
            <a:ext cx="3019320" cy="1904400"/>
            <a:chOff x="1523880" y="3581280"/>
            <a:chExt cx="3019320" cy="1904400"/>
          </a:xfrm>
        </p:grpSpPr>
        <p:grpSp>
          <p:nvGrpSpPr>
            <p:cNvPr id="183" name=""/>
            <p:cNvGrpSpPr/>
            <p:nvPr/>
          </p:nvGrpSpPr>
          <p:grpSpPr>
            <a:xfrm>
              <a:off x="1786320" y="3581280"/>
              <a:ext cx="2756880" cy="1642320"/>
              <a:chOff x="1786320" y="3581280"/>
              <a:chExt cx="2756880" cy="1642320"/>
            </a:xfrm>
          </p:grpSpPr>
          <p:sp>
            <p:nvSpPr>
              <p:cNvPr id="184" name=""/>
              <p:cNvSpPr/>
              <p:nvPr/>
            </p:nvSpPr>
            <p:spPr>
              <a:xfrm>
                <a:off x="1786320" y="4709520"/>
                <a:ext cx="51156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160360" y="4709520"/>
                <a:ext cx="51336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536200" y="4709520"/>
                <a:ext cx="51156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910240" y="4709520"/>
                <a:ext cx="51012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282840" y="470952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655440" y="4709520"/>
                <a:ext cx="51444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032720" y="470952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786320" y="4331520"/>
                <a:ext cx="51156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160360" y="4331520"/>
                <a:ext cx="51336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536200" y="4331520"/>
                <a:ext cx="51156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910240" y="4331520"/>
                <a:ext cx="51012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82840" y="4331520"/>
                <a:ext cx="51048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655440" y="4331520"/>
                <a:ext cx="51444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032720" y="4331520"/>
                <a:ext cx="51048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786320" y="3956040"/>
                <a:ext cx="51156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160360" y="3956040"/>
                <a:ext cx="51336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536200" y="3956040"/>
                <a:ext cx="51156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910240" y="3956040"/>
                <a:ext cx="51012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282840" y="395604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655440" y="3956040"/>
                <a:ext cx="51444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032720" y="395604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786320" y="3581280"/>
                <a:ext cx="51156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160360" y="3581280"/>
                <a:ext cx="51336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536200" y="3581280"/>
                <a:ext cx="51156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910240" y="3581280"/>
                <a:ext cx="51012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282840" y="358128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655440" y="3581280"/>
                <a:ext cx="51444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032720" y="358128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1654920" y="3710520"/>
              <a:ext cx="2756880" cy="1645560"/>
              <a:chOff x="1654920" y="3710520"/>
              <a:chExt cx="2756880" cy="1645560"/>
            </a:xfrm>
          </p:grpSpPr>
          <p:sp>
            <p:nvSpPr>
              <p:cNvPr id="213" name=""/>
              <p:cNvSpPr/>
              <p:nvPr/>
            </p:nvSpPr>
            <p:spPr>
              <a:xfrm>
                <a:off x="1654920" y="484200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032200" y="4842000"/>
                <a:ext cx="51012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404440" y="484200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778480" y="484200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151440" y="4842000"/>
                <a:ext cx="51480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528360" y="484200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901320" y="484200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654920" y="446364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032200" y="4463640"/>
                <a:ext cx="51012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404440" y="446364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778480" y="446364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151440" y="4463640"/>
                <a:ext cx="51480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528360" y="446364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901320" y="446364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54920" y="408852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032200" y="4088520"/>
                <a:ext cx="51012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404440" y="408852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778480" y="408852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151440" y="4088520"/>
                <a:ext cx="51480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528360" y="408852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901320" y="408852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654920" y="3710520"/>
                <a:ext cx="51048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032200" y="3710520"/>
                <a:ext cx="51012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404440" y="3710520"/>
                <a:ext cx="51048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778480" y="3710520"/>
                <a:ext cx="51048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151440" y="3710520"/>
                <a:ext cx="51480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528360" y="3710520"/>
                <a:ext cx="51048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901320" y="3710520"/>
                <a:ext cx="51048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1523880" y="3840120"/>
              <a:ext cx="2756160" cy="1645560"/>
              <a:chOff x="1523880" y="3840120"/>
              <a:chExt cx="2756160" cy="1645560"/>
            </a:xfrm>
          </p:grpSpPr>
          <p:sp>
            <p:nvSpPr>
              <p:cNvPr id="242" name=""/>
              <p:cNvSpPr/>
              <p:nvPr/>
            </p:nvSpPr>
            <p:spPr>
              <a:xfrm>
                <a:off x="1523880" y="4971960"/>
                <a:ext cx="51012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900800" y="497196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273400" y="4971960"/>
                <a:ext cx="51012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647440" y="4971960"/>
                <a:ext cx="51012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20040" y="4971960"/>
                <a:ext cx="51480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97320" y="497196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769920" y="4971960"/>
                <a:ext cx="51012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523880" y="4593240"/>
                <a:ext cx="51012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900800" y="459324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273400" y="4593240"/>
                <a:ext cx="51012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647440" y="4593240"/>
                <a:ext cx="51012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20040" y="4593240"/>
                <a:ext cx="51480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397320" y="459324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769920" y="4593240"/>
                <a:ext cx="51012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3880" y="4218480"/>
                <a:ext cx="51012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900800" y="421848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273400" y="4218480"/>
                <a:ext cx="51012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647440" y="4218480"/>
                <a:ext cx="51012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020040" y="4218480"/>
                <a:ext cx="51480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397320" y="421848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769920" y="4218480"/>
                <a:ext cx="51012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523880" y="3840120"/>
                <a:ext cx="510120" cy="5173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00800" y="3840120"/>
                <a:ext cx="510480" cy="5173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73400" y="3840120"/>
                <a:ext cx="510120" cy="5173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647440" y="3840120"/>
                <a:ext cx="510120" cy="5173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020040" y="3840120"/>
                <a:ext cx="514800" cy="5173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397320" y="3840120"/>
                <a:ext cx="510480" cy="5173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769920" y="3840120"/>
                <a:ext cx="510120" cy="5173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0" name=""/>
          <p:cNvSpPr/>
          <p:nvPr/>
        </p:nvSpPr>
        <p:spPr>
          <a:xfrm>
            <a:off x="4876920" y="1066680"/>
            <a:ext cx="4070160" cy="236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6666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666666"/>
                </a:solidFill>
                <a:latin typeface="Times New Roman"/>
              </a:rPr>
              <a:t>wages per hour and per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1500"/>
              </a:spcBef>
              <a:buClr>
                <a:srgbClr val="666666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666666"/>
                </a:solidFill>
                <a:latin typeface="Times New Roman"/>
              </a:rPr>
              <a:t>S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228600">
              <a:lnSpc>
                <a:spcPct val="100000"/>
              </a:lnSpc>
              <a:spcBef>
                <a:spcPts val="1500"/>
              </a:spcBef>
              <a:buClr>
                <a:srgbClr val="666666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666666"/>
                </a:solidFill>
                <a:latin typeface="Times New Roman"/>
              </a:rPr>
              <a:t>Lä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33400" indent="-171360">
              <a:lnSpc>
                <a:spcPct val="100000"/>
              </a:lnSpc>
              <a:spcBef>
                <a:spcPts val="1500"/>
              </a:spcBef>
              <a:buClr>
                <a:srgbClr val="666666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666666"/>
                </a:solidFill>
                <a:latin typeface="Times New Roman"/>
              </a:rPr>
              <a:t>2000 till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533840" y="4224240"/>
            <a:ext cx="2271600" cy="1347480"/>
            <a:chOff x="4533840" y="4224240"/>
            <a:chExt cx="2271600" cy="1347480"/>
          </a:xfrm>
        </p:grpSpPr>
        <p:sp>
          <p:nvSpPr>
            <p:cNvPr id="272" name=""/>
            <p:cNvSpPr/>
            <p:nvPr/>
          </p:nvSpPr>
          <p:spPr>
            <a:xfrm>
              <a:off x="5881680" y="4224240"/>
              <a:ext cx="92376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de3ba"/>
              </a:solidFill>
              <a:miter/>
            </a:ln>
            <a:effectLst>
              <a:outerShdw dist="107932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4533840" y="4572000"/>
              <a:ext cx="1144800" cy="820800"/>
              <a:chOff x="4533840" y="4572000"/>
              <a:chExt cx="1144800" cy="820800"/>
            </a:xfrm>
          </p:grpSpPr>
          <p:sp>
            <p:nvSpPr>
              <p:cNvPr id="274" name=""/>
              <p:cNvSpPr/>
              <p:nvPr/>
            </p:nvSpPr>
            <p:spPr>
              <a:xfrm>
                <a:off x="4533840" y="4572000"/>
                <a:ext cx="1144800" cy="820800"/>
              </a:xfrm>
              <a:custGeom>
                <a:avLst/>
                <a:gdLst/>
                <a:ahLst/>
                <a:rect l="l" t="t" r="r" b="b"/>
                <a:pathLst>
                  <a:path w="721" h="517">
                    <a:moveTo>
                      <a:pt x="84" y="516"/>
                    </a:moveTo>
                    <a:lnTo>
                      <a:pt x="336" y="516"/>
                    </a:lnTo>
                    <a:lnTo>
                      <a:pt x="648" y="211"/>
                    </a:lnTo>
                    <a:lnTo>
                      <a:pt x="720" y="211"/>
                    </a:lnTo>
                    <a:lnTo>
                      <a:pt x="636" y="0"/>
                    </a:lnTo>
                    <a:lnTo>
                      <a:pt x="216" y="199"/>
                    </a:lnTo>
                    <a:lnTo>
                      <a:pt x="324" y="199"/>
                    </a:lnTo>
                    <a:lnTo>
                      <a:pt x="0" y="516"/>
                    </a:lnTo>
                    <a:lnTo>
                      <a:pt x="84" y="516"/>
                    </a:lnTo>
                  </a:path>
                </a:pathLst>
              </a:custGeom>
              <a:solidFill>
                <a:srgbClr val="cc0033"/>
              </a:solidFill>
              <a:ln w="0">
                <a:noFill/>
              </a:ln>
              <a:effectLst>
                <a:outerShdw dist="107932" dir="2700000" blurRad="0" rotWithShape="0">
                  <a:srgbClr val="99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5" name=""/>
              <p:cNvGrpSpPr/>
              <p:nvPr/>
            </p:nvGrpSpPr>
            <p:grpSpPr>
              <a:xfrm>
                <a:off x="4768920" y="4940280"/>
                <a:ext cx="615960" cy="349200"/>
                <a:chOff x="4768920" y="4940280"/>
                <a:chExt cx="615960" cy="34920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5111640" y="4940280"/>
                  <a:ext cx="273240" cy="63360"/>
                </a:xfrm>
                <a:prstGeom prst="parallelogram">
                  <a:avLst>
                    <a:gd name="adj" fmla="val 107793"/>
                  </a:avLst>
                </a:prstGeom>
                <a:solidFill>
                  <a:srgbClr val="cc00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940280" y="5092560"/>
                  <a:ext cx="273240" cy="63720"/>
                </a:xfrm>
                <a:prstGeom prst="parallelogram">
                  <a:avLst>
                    <a:gd name="adj" fmla="val 107183"/>
                  </a:avLst>
                </a:prstGeom>
                <a:solidFill>
                  <a:srgbClr val="cc00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768920" y="5226120"/>
                  <a:ext cx="272880" cy="63360"/>
                </a:xfrm>
                <a:prstGeom prst="parallelogram">
                  <a:avLst>
                    <a:gd name="adj" fmla="val 107650"/>
                  </a:avLst>
                </a:prstGeom>
                <a:solidFill>
                  <a:srgbClr val="cc00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9" name=""/>
            <p:cNvGrpSpPr/>
            <p:nvPr/>
          </p:nvGrpSpPr>
          <p:grpSpPr>
            <a:xfrm>
              <a:off x="5180040" y="4890960"/>
              <a:ext cx="879480" cy="680760"/>
              <a:chOff x="5180040" y="4890960"/>
              <a:chExt cx="879480" cy="680760"/>
            </a:xfrm>
          </p:grpSpPr>
          <p:sp>
            <p:nvSpPr>
              <p:cNvPr id="280" name=""/>
              <p:cNvSpPr/>
              <p:nvPr/>
            </p:nvSpPr>
            <p:spPr>
              <a:xfrm>
                <a:off x="5180040" y="5291280"/>
                <a:ext cx="517320" cy="28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380880" indent="-380880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400" spc="-1" strike="noStrike">
                    <a:solidFill>
                      <a:srgbClr val="790015"/>
                    </a:solidFill>
                    <a:latin typeface="Arial Narrow"/>
                  </a:rPr>
                  <a:t>20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1" name=""/>
              <p:cNvGrpSpPr/>
              <p:nvPr/>
            </p:nvGrpSpPr>
            <p:grpSpPr>
              <a:xfrm>
                <a:off x="5313240" y="4890960"/>
                <a:ext cx="746280" cy="471240"/>
                <a:chOff x="5313240" y="4890960"/>
                <a:chExt cx="746280" cy="4712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5313240" y="5081760"/>
                  <a:ext cx="51768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de-DE" sz="1400" spc="-1" strike="noStrike">
                      <a:solidFill>
                        <a:srgbClr val="790015"/>
                      </a:solidFill>
                      <a:latin typeface="Arial Narrow"/>
                    </a:rPr>
                    <a:t>200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541840" y="4890960"/>
                  <a:ext cx="51768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de-DE" sz="1400" spc="-1" strike="noStrike">
                      <a:solidFill>
                        <a:srgbClr val="790015"/>
                      </a:solidFill>
                      <a:latin typeface="Arial Narrow"/>
                    </a:rPr>
                    <a:t>200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84" name=""/>
          <p:cNvGrpSpPr/>
          <p:nvPr/>
        </p:nvGrpSpPr>
        <p:grpSpPr>
          <a:xfrm>
            <a:off x="1274760" y="5457960"/>
            <a:ext cx="4592520" cy="1065960"/>
            <a:chOff x="1274760" y="5457960"/>
            <a:chExt cx="4592520" cy="1065960"/>
          </a:xfrm>
        </p:grpSpPr>
        <p:grpSp>
          <p:nvGrpSpPr>
            <p:cNvPr id="285" name=""/>
            <p:cNvGrpSpPr/>
            <p:nvPr/>
          </p:nvGrpSpPr>
          <p:grpSpPr>
            <a:xfrm>
              <a:off x="1274760" y="5457960"/>
              <a:ext cx="4592520" cy="1065960"/>
              <a:chOff x="1274760" y="5457960"/>
              <a:chExt cx="4592520" cy="1065960"/>
            </a:xfrm>
          </p:grpSpPr>
          <p:sp>
            <p:nvSpPr>
              <p:cNvPr id="286" name=""/>
              <p:cNvSpPr/>
              <p:nvPr/>
            </p:nvSpPr>
            <p:spPr>
              <a:xfrm>
                <a:off x="4724280" y="5867280"/>
                <a:ext cx="1143000" cy="363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de3ba"/>
                </a:solidFill>
                <a:miter/>
              </a:ln>
              <a:effectLst>
                <a:outerShdw dist="107932" dir="2700000" blurRad="0" rotWithShape="0">
                  <a:srgbClr val="99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„</a:t>
                </a: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Land“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400040" y="5457960"/>
                <a:ext cx="3124440" cy="971280"/>
              </a:xfrm>
              <a:prstGeom prst="rightArrow">
                <a:avLst>
                  <a:gd name="adj1" fmla="val 50000"/>
                  <a:gd name="adj2" fmla="val 45050"/>
                </a:avLst>
              </a:prstGeom>
              <a:solidFill>
                <a:srgbClr val="cc0033"/>
              </a:solidFill>
              <a:ln w="0">
                <a:noFill/>
              </a:ln>
              <a:effectLst>
                <a:outerShdw dist="107932" dir="2700000" blurRad="0" rotWithShape="0">
                  <a:srgbClr val="99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8" name=""/>
              <p:cNvGrpSpPr/>
              <p:nvPr/>
            </p:nvGrpSpPr>
            <p:grpSpPr>
              <a:xfrm>
                <a:off x="1274760" y="6243480"/>
                <a:ext cx="2616120" cy="280440"/>
                <a:chOff x="1274760" y="6243480"/>
                <a:chExt cx="2616120" cy="28044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674720" y="6243480"/>
                  <a:ext cx="51768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de-DE" sz="1400" spc="-1" strike="noStrike">
                      <a:solidFill>
                        <a:srgbClr val="790015"/>
                      </a:solidFill>
                      <a:latin typeface="Arial Narrow"/>
                    </a:rPr>
                    <a:t>H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1274760" y="6243480"/>
                  <a:ext cx="51768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de-DE" sz="1400" spc="-1" strike="noStrike">
                      <a:solidFill>
                        <a:srgbClr val="790015"/>
                      </a:solidFill>
                      <a:latin typeface="Arial Narrow"/>
                    </a:rPr>
                    <a:t>SH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417760" y="6243480"/>
                  <a:ext cx="51768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de-DE" sz="1400" spc="-1" strike="noStrike">
                      <a:solidFill>
                        <a:srgbClr val="790015"/>
                      </a:solidFill>
                      <a:latin typeface="Arial Narrow"/>
                    </a:rPr>
                    <a:t>N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055960" y="6243480"/>
                  <a:ext cx="51732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de-DE" sz="1400" spc="-1" strike="noStrike">
                      <a:solidFill>
                        <a:srgbClr val="790015"/>
                      </a:solidFill>
                      <a:latin typeface="Arial Narrow"/>
                    </a:rPr>
                    <a:t>B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817720" y="6243480"/>
                  <a:ext cx="107316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de-DE" sz="1400" spc="-1" strike="noStrike">
                      <a:solidFill>
                        <a:srgbClr val="790015"/>
                      </a:solidFill>
                      <a:latin typeface="Arial Narrow"/>
                    </a:rPr>
                    <a:t>NRW   . . .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1546200" y="5818320"/>
              <a:ext cx="2335320" cy="272880"/>
              <a:chOff x="1546200" y="5818320"/>
              <a:chExt cx="2335320" cy="272880"/>
            </a:xfrm>
          </p:grpSpPr>
          <p:sp>
            <p:nvSpPr>
              <p:cNvPr id="295" name=""/>
              <p:cNvSpPr/>
              <p:nvPr/>
            </p:nvSpPr>
            <p:spPr>
              <a:xfrm>
                <a:off x="2270160" y="5818320"/>
                <a:ext cx="87120" cy="272880"/>
              </a:xfrm>
              <a:prstGeom prst="rect">
                <a:avLst/>
              </a:prstGeom>
              <a:solidFill>
                <a:srgbClr val="99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651040" y="5818320"/>
                <a:ext cx="87480" cy="272880"/>
              </a:xfrm>
              <a:prstGeom prst="rect">
                <a:avLst/>
              </a:prstGeom>
              <a:solidFill>
                <a:srgbClr val="99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908000" y="5818320"/>
                <a:ext cx="87480" cy="272880"/>
              </a:xfrm>
              <a:prstGeom prst="rect">
                <a:avLst/>
              </a:prstGeom>
              <a:solidFill>
                <a:srgbClr val="99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546200" y="5818320"/>
                <a:ext cx="87480" cy="272880"/>
              </a:xfrm>
              <a:prstGeom prst="rect">
                <a:avLst/>
              </a:prstGeom>
              <a:solidFill>
                <a:srgbClr val="99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794040" y="5818320"/>
                <a:ext cx="87480" cy="272880"/>
              </a:xfrm>
              <a:prstGeom prst="rect">
                <a:avLst/>
              </a:prstGeom>
              <a:solidFill>
                <a:srgbClr val="99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432240" y="5818320"/>
                <a:ext cx="87120" cy="272880"/>
              </a:xfrm>
              <a:prstGeom prst="rect">
                <a:avLst/>
              </a:prstGeom>
              <a:solidFill>
                <a:srgbClr val="99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070080" y="5818320"/>
                <a:ext cx="87480" cy="272880"/>
              </a:xfrm>
              <a:prstGeom prst="rect">
                <a:avLst/>
              </a:prstGeom>
              <a:solidFill>
                <a:srgbClr val="99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2" name=""/>
          <p:cNvGrpSpPr/>
          <p:nvPr/>
        </p:nvGrpSpPr>
        <p:grpSpPr>
          <a:xfrm>
            <a:off x="0" y="3124080"/>
            <a:ext cx="1599480" cy="2970720"/>
            <a:chOff x="0" y="3124080"/>
            <a:chExt cx="1599480" cy="2970720"/>
          </a:xfrm>
        </p:grpSpPr>
        <p:grpSp>
          <p:nvGrpSpPr>
            <p:cNvPr id="303" name=""/>
            <p:cNvGrpSpPr/>
            <p:nvPr/>
          </p:nvGrpSpPr>
          <p:grpSpPr>
            <a:xfrm>
              <a:off x="0" y="3124080"/>
              <a:ext cx="1599480" cy="2970720"/>
              <a:chOff x="0" y="3124080"/>
              <a:chExt cx="1599480" cy="2970720"/>
            </a:xfrm>
          </p:grpSpPr>
          <p:sp>
            <p:nvSpPr>
              <p:cNvPr id="304" name=""/>
              <p:cNvSpPr/>
              <p:nvPr/>
            </p:nvSpPr>
            <p:spPr>
              <a:xfrm>
                <a:off x="594360" y="3124080"/>
                <a:ext cx="882360" cy="36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07932" dir="2700000" blurRad="0" rotWithShape="0">
                  <a:srgbClr val="99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Se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16200000">
                <a:off x="-114480" y="4380480"/>
                <a:ext cx="2325240" cy="1103400"/>
              </a:xfrm>
              <a:prstGeom prst="rightArrow">
                <a:avLst>
                  <a:gd name="adj1" fmla="val 50000"/>
                  <a:gd name="adj2" fmla="val 50742"/>
                </a:avLst>
              </a:prstGeom>
              <a:solidFill>
                <a:srgbClr val="cc0033"/>
              </a:solidFill>
              <a:ln w="0">
                <a:noFill/>
              </a:ln>
              <a:effectLst>
                <a:outerShdw dist="107932" dir="2700000" blurRad="0" rotWithShape="0">
                  <a:srgbClr val="99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0" y="4453560"/>
                <a:ext cx="820440" cy="1507680"/>
                <a:chOff x="0" y="4453560"/>
                <a:chExt cx="820440" cy="15076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0" y="5680080"/>
                  <a:ext cx="665280" cy="28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0" y="5292720"/>
                  <a:ext cx="820440" cy="28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0" y="4906800"/>
                  <a:ext cx="82044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de-DE" sz="1400" spc="-1" strike="noStrike">
                      <a:solidFill>
                        <a:srgbClr val="790015"/>
                      </a:solidFill>
                      <a:latin typeface="Arial Narrow"/>
                    </a:rPr>
                    <a:t>femal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0" y="4453560"/>
                  <a:ext cx="82044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de-DE" sz="1400" spc="-1" strike="noStrike">
                      <a:solidFill>
                        <a:srgbClr val="790015"/>
                      </a:solidFill>
                      <a:latin typeface="Arial Narrow"/>
                    </a:rPr>
                    <a:t>mal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1" name=""/>
            <p:cNvGrpSpPr/>
            <p:nvPr/>
          </p:nvGrpSpPr>
          <p:grpSpPr>
            <a:xfrm>
              <a:off x="897120" y="4509000"/>
              <a:ext cx="350640" cy="1347120"/>
              <a:chOff x="897120" y="4509000"/>
              <a:chExt cx="350640" cy="1347120"/>
            </a:xfrm>
          </p:grpSpPr>
          <p:sp>
            <p:nvSpPr>
              <p:cNvPr id="312" name=""/>
              <p:cNvSpPr/>
              <p:nvPr/>
            </p:nvSpPr>
            <p:spPr>
              <a:xfrm>
                <a:off x="897120" y="4939560"/>
                <a:ext cx="350640" cy="98280"/>
              </a:xfrm>
              <a:prstGeom prst="rect">
                <a:avLst/>
              </a:prstGeom>
              <a:solidFill>
                <a:srgbClr val="cc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97120" y="4509000"/>
                <a:ext cx="350640" cy="98640"/>
              </a:xfrm>
              <a:prstGeom prst="rect">
                <a:avLst/>
              </a:prstGeom>
              <a:solidFill>
                <a:srgbClr val="cc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97120" y="5348520"/>
                <a:ext cx="350640" cy="98640"/>
              </a:xfrm>
              <a:prstGeom prst="rect">
                <a:avLst/>
              </a:prstGeom>
              <a:solidFill>
                <a:srgbClr val="cc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97120" y="5757480"/>
                <a:ext cx="350640" cy="98640"/>
              </a:xfrm>
              <a:prstGeom prst="rect">
                <a:avLst/>
              </a:prstGeom>
              <a:solidFill>
                <a:srgbClr val="cc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316" name=""/>
          <p:cNvGraphicFramePr/>
          <p:nvPr/>
        </p:nvGraphicFramePr>
        <p:xfrm>
          <a:off x="203040" y="6603840"/>
          <a:ext cx="132084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6603840"/>
                    <a:ext cx="132084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1523880" y="472428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76520" y="39625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441972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57400" y="3962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57400" y="39625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438280" y="39625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676520" y="358092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438280" y="358092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057400" y="358092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2819520" y="358092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200400" y="358092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581280" y="358092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962520" y="358092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19520" y="39625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00400" y="39625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581280" y="39625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962520" y="39625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114800" y="43434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676520" y="3809880"/>
            <a:ext cx="259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828800" y="365760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523880" y="39625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14800" y="39625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267080" y="380988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19720" y="3657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38080" y="4952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495680" y="358128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4114800" y="358092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114800" y="51055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3880" y="548640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4566-BDD1-4428-8421-2A201D300EF4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D47393-CAC0-47B7-A0E5-E1113369BBA8}" type="datetime1">
              <a:rPr lang="en-US"/>
              <a:t>07/31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cc0033"/>
                </a:solidFill>
                <a:latin typeface="Times New Roman"/>
              </a:rPr>
              <a:t>Data cell</a:t>
            </a:r>
            <a:r>
              <a:rPr b="0" lang="de-DE" sz="3000" spc="-1" strike="noStrike">
                <a:solidFill>
                  <a:srgbClr val="666666"/>
                </a:solidFill>
                <a:latin typeface="MetaMediumLF-Roman"/>
              </a:rPr>
              <a:t> </a:t>
            </a:r>
            <a:r>
              <a:rPr b="0" lang="de-DE" sz="3000" spc="-1" strike="noStrike">
                <a:solidFill>
                  <a:srgbClr val="cc0033"/>
                </a:solidFill>
                <a:latin typeface="MetaMediumLF-Roman"/>
              </a:rPr>
              <a:t>and c</a:t>
            </a:r>
            <a:r>
              <a:rPr b="1" lang="de-DE" sz="2800" spc="-1" strike="noStrike">
                <a:solidFill>
                  <a:srgbClr val="cc0033"/>
                </a:solidFill>
                <a:latin typeface="Times New Roman"/>
              </a:rPr>
              <a:t>ontent(s) (value, flags) </a:t>
            </a:r>
            <a:endParaRPr b="0" lang="en-US" sz="2800" spc="-1" strike="noStrike">
              <a:solidFill>
                <a:srgbClr val="666666"/>
              </a:solidFill>
              <a:latin typeface="MetaMediumLF-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2514600" y="2616120"/>
            <a:ext cx="6451560" cy="3487680"/>
            <a:chOff x="2514600" y="2616120"/>
            <a:chExt cx="6451560" cy="3487680"/>
          </a:xfrm>
        </p:grpSpPr>
        <p:sp>
          <p:nvSpPr>
            <p:cNvPr id="349" name=""/>
            <p:cNvSpPr/>
            <p:nvPr/>
          </p:nvSpPr>
          <p:spPr>
            <a:xfrm>
              <a:off x="3911760" y="2616120"/>
              <a:ext cx="5054400" cy="2997360"/>
            </a:xfrm>
            <a:prstGeom prst="rect">
              <a:avLst/>
            </a:prstGeom>
            <a:solidFill>
              <a:srgbClr val="fde3ba"/>
            </a:solidFill>
            <a:ln w="507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59120" y="2997360"/>
              <a:ext cx="4997520" cy="2997000"/>
            </a:xfrm>
            <a:prstGeom prst="rect">
              <a:avLst/>
            </a:prstGeom>
            <a:solidFill>
              <a:srgbClr val="fde3ba"/>
            </a:solidFill>
            <a:ln w="507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ontent 2: wages per hour</a:t>
              </a: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78400" y="3411360"/>
              <a:ext cx="4949640" cy="2692440"/>
            </a:xfrm>
            <a:prstGeom prst="rect">
              <a:avLst/>
            </a:prstGeom>
            <a:solidFill>
              <a:srgbClr val="fde3ba"/>
            </a:solidFill>
            <a:ln w="507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ontent 1: wages per month</a:t>
              </a: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790015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val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790015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fla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- quality                e = estima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- disclos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- default val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514600" y="5200560"/>
              <a:ext cx="857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158760" y="1968480"/>
            <a:ext cx="2882880" cy="1892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330120" y="2103120"/>
            <a:ext cx="2643120" cy="1681560"/>
            <a:chOff x="330120" y="2103120"/>
            <a:chExt cx="2643120" cy="1681560"/>
          </a:xfrm>
        </p:grpSpPr>
        <p:grpSp>
          <p:nvGrpSpPr>
            <p:cNvPr id="355" name=""/>
            <p:cNvGrpSpPr/>
            <p:nvPr/>
          </p:nvGrpSpPr>
          <p:grpSpPr>
            <a:xfrm>
              <a:off x="816120" y="2152800"/>
              <a:ext cx="1525320" cy="1054080"/>
              <a:chOff x="816120" y="2152800"/>
              <a:chExt cx="1525320" cy="105408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947880" y="2152800"/>
                <a:ext cx="1393560" cy="904680"/>
                <a:chOff x="947880" y="2152800"/>
                <a:chExt cx="1393560" cy="90468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947880" y="2778120"/>
                  <a:ext cx="25380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136520" y="2778120"/>
                  <a:ext cx="25740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328760" y="2778120"/>
                  <a:ext cx="25380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519200" y="2778120"/>
                  <a:ext cx="25236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708200" y="2778120"/>
                  <a:ext cx="25380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897200" y="2778120"/>
                  <a:ext cx="25560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090880" y="2778120"/>
                  <a:ext cx="25056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947880" y="2568600"/>
                  <a:ext cx="2538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136520" y="2568600"/>
                  <a:ext cx="2574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328760" y="2568600"/>
                  <a:ext cx="2538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519200" y="2568600"/>
                  <a:ext cx="25236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708200" y="2568600"/>
                  <a:ext cx="2538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897200" y="2568600"/>
                  <a:ext cx="2556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090880" y="2568600"/>
                  <a:ext cx="25056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947880" y="2362320"/>
                  <a:ext cx="25380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136520" y="2362320"/>
                  <a:ext cx="25740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328760" y="2362320"/>
                  <a:ext cx="25380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519200" y="2362320"/>
                  <a:ext cx="25236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708200" y="2362320"/>
                  <a:ext cx="25380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897200" y="2362320"/>
                  <a:ext cx="25560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090880" y="2362320"/>
                  <a:ext cx="25056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947880" y="2152800"/>
                  <a:ext cx="2538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136520" y="2152800"/>
                  <a:ext cx="2574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328760" y="2152800"/>
                  <a:ext cx="2538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519200" y="2152800"/>
                  <a:ext cx="25236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708200" y="2152800"/>
                  <a:ext cx="2538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897200" y="2152800"/>
                  <a:ext cx="2556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090880" y="2152800"/>
                  <a:ext cx="25056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880920" y="2217600"/>
                <a:ext cx="1401840" cy="916200"/>
                <a:chOff x="880920" y="2217600"/>
                <a:chExt cx="1401840" cy="91620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880920" y="2849400"/>
                  <a:ext cx="25560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074600" y="2849400"/>
                  <a:ext cx="25416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265400" y="2849400"/>
                  <a:ext cx="25380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455840" y="2849400"/>
                  <a:ext cx="25236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644480" y="2849400"/>
                  <a:ext cx="25740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838160" y="2849400"/>
                  <a:ext cx="25416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028960" y="2849400"/>
                  <a:ext cx="25380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880920" y="2638440"/>
                  <a:ext cx="255600" cy="2840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1074600" y="2638440"/>
                  <a:ext cx="254160" cy="2840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1265400" y="2638440"/>
                  <a:ext cx="253800" cy="2840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455840" y="2638440"/>
                  <a:ext cx="252360" cy="2840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644480" y="2638440"/>
                  <a:ext cx="257400" cy="2840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1838160" y="2638440"/>
                  <a:ext cx="254160" cy="2840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028960" y="2638440"/>
                  <a:ext cx="253800" cy="2840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880920" y="2427120"/>
                  <a:ext cx="25560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074600" y="2427120"/>
                  <a:ext cx="25416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265400" y="2427120"/>
                  <a:ext cx="25380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455840" y="2427120"/>
                  <a:ext cx="25236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644480" y="2427120"/>
                  <a:ext cx="25740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1838160" y="2427120"/>
                  <a:ext cx="25416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028960" y="2427120"/>
                  <a:ext cx="25380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880920" y="2217600"/>
                  <a:ext cx="2556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074600" y="2217600"/>
                  <a:ext cx="25416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265400" y="2217600"/>
                  <a:ext cx="2538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455840" y="2217600"/>
                  <a:ext cx="25236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644480" y="2217600"/>
                  <a:ext cx="2574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838160" y="2217600"/>
                  <a:ext cx="25416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028960" y="2217600"/>
                  <a:ext cx="2538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816120" y="2281320"/>
                <a:ext cx="1409400" cy="925560"/>
                <a:chOff x="816120" y="2281320"/>
                <a:chExt cx="1409400" cy="92556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816120" y="2921040"/>
                  <a:ext cx="25380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1009800" y="2921040"/>
                  <a:ext cx="25380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200240" y="2921040"/>
                  <a:ext cx="25560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1390680" y="2921040"/>
                  <a:ext cx="25884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1584360" y="2921040"/>
                  <a:ext cx="25884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1776240" y="2921040"/>
                  <a:ext cx="25740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968480" y="2921040"/>
                  <a:ext cx="25704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816120" y="2706840"/>
                  <a:ext cx="253800" cy="2854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1009800" y="2706840"/>
                  <a:ext cx="253800" cy="2854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1200240" y="2706840"/>
                  <a:ext cx="255600" cy="2854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390680" y="2706840"/>
                  <a:ext cx="258840" cy="2854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584360" y="2706840"/>
                  <a:ext cx="258840" cy="2854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776240" y="2706840"/>
                  <a:ext cx="257400" cy="2854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968480" y="2706840"/>
                  <a:ext cx="257040" cy="2854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816120" y="2495520"/>
                  <a:ext cx="25380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1009800" y="2495520"/>
                  <a:ext cx="25380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1200240" y="2495520"/>
                  <a:ext cx="25560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1390680" y="2495520"/>
                  <a:ext cx="25884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1584360" y="2495520"/>
                  <a:ext cx="25884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1776240" y="2495520"/>
                  <a:ext cx="25740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1968480" y="2495520"/>
                  <a:ext cx="25704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816120" y="2281320"/>
                  <a:ext cx="253800" cy="2872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1009800" y="2281320"/>
                  <a:ext cx="253800" cy="2872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1200240" y="2281320"/>
                  <a:ext cx="255600" cy="2872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1390680" y="2281320"/>
                  <a:ext cx="258840" cy="2872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1584360" y="2281320"/>
                  <a:ext cx="258840" cy="2872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1776240" y="2281320"/>
                  <a:ext cx="257400" cy="2872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2" name=""/>
            <p:cNvSpPr/>
            <p:nvPr/>
          </p:nvSpPr>
          <p:spPr>
            <a:xfrm>
              <a:off x="1960560" y="2290680"/>
              <a:ext cx="254160" cy="282600"/>
            </a:xfrm>
            <a:prstGeom prst="cube">
              <a:avLst>
                <a:gd name="adj" fmla="val 24995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330120" y="2103120"/>
              <a:ext cx="419040" cy="1104840"/>
              <a:chOff x="330120" y="2103120"/>
              <a:chExt cx="419040" cy="1104840"/>
            </a:xfrm>
          </p:grpSpPr>
          <p:sp>
            <p:nvSpPr>
              <p:cNvPr id="444" name=""/>
              <p:cNvSpPr/>
              <p:nvPr/>
            </p:nvSpPr>
            <p:spPr>
              <a:xfrm rot="16200000">
                <a:off x="-12600" y="2445840"/>
                <a:ext cx="1104840" cy="419040"/>
              </a:xfrm>
              <a:prstGeom prst="rightArrow">
                <a:avLst>
                  <a:gd name="adj1" fmla="val 50000"/>
                  <a:gd name="adj2" fmla="val 63486"/>
                </a:avLst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5" name=""/>
              <p:cNvGrpSpPr/>
              <p:nvPr/>
            </p:nvGrpSpPr>
            <p:grpSpPr>
              <a:xfrm>
                <a:off x="484200" y="2454120"/>
                <a:ext cx="130320" cy="644760"/>
                <a:chOff x="484200" y="2454120"/>
                <a:chExt cx="130320" cy="64476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484200" y="2662200"/>
                  <a:ext cx="130320" cy="4140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484200" y="2454120"/>
                  <a:ext cx="130320" cy="4284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484200" y="2859120"/>
                  <a:ext cx="130320" cy="4140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84200" y="3056040"/>
                  <a:ext cx="130320" cy="4284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0" name=""/>
            <p:cNvGrpSpPr/>
            <p:nvPr/>
          </p:nvGrpSpPr>
          <p:grpSpPr>
            <a:xfrm>
              <a:off x="816120" y="3268800"/>
              <a:ext cx="1560240" cy="515880"/>
              <a:chOff x="816120" y="3268800"/>
              <a:chExt cx="1560240" cy="515880"/>
            </a:xfrm>
          </p:grpSpPr>
          <p:sp>
            <p:nvSpPr>
              <p:cNvPr id="451" name=""/>
              <p:cNvSpPr/>
              <p:nvPr/>
            </p:nvSpPr>
            <p:spPr>
              <a:xfrm>
                <a:off x="816120" y="3268800"/>
                <a:ext cx="1560240" cy="515880"/>
              </a:xfrm>
              <a:prstGeom prst="rightArrow">
                <a:avLst>
                  <a:gd name="adj1" fmla="val 50000"/>
                  <a:gd name="adj2" fmla="val 42356"/>
                </a:avLst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884160" y="3460680"/>
                <a:ext cx="1170000" cy="144360"/>
                <a:chOff x="884160" y="3460680"/>
                <a:chExt cx="1170000" cy="14436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1249200" y="3460680"/>
                  <a:ext cx="38160" cy="14436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1441440" y="3460680"/>
                  <a:ext cx="38160" cy="14436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1068480" y="3460680"/>
                  <a:ext cx="36360" cy="14436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884160" y="3460680"/>
                  <a:ext cx="38160" cy="14436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2017800" y="3460680"/>
                  <a:ext cx="36360" cy="14436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836720" y="3460680"/>
                  <a:ext cx="34920" cy="14436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652760" y="3460680"/>
                  <a:ext cx="37800" cy="14436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0" name=""/>
            <p:cNvGrpSpPr/>
            <p:nvPr/>
          </p:nvGrpSpPr>
          <p:grpSpPr>
            <a:xfrm>
              <a:off x="2395440" y="2779560"/>
              <a:ext cx="577800" cy="447840"/>
              <a:chOff x="2395440" y="2779560"/>
              <a:chExt cx="577800" cy="447840"/>
            </a:xfrm>
          </p:grpSpPr>
          <p:sp>
            <p:nvSpPr>
              <p:cNvPr id="461" name=""/>
              <p:cNvSpPr/>
              <p:nvPr/>
            </p:nvSpPr>
            <p:spPr>
              <a:xfrm>
                <a:off x="2395440" y="2779560"/>
                <a:ext cx="577800" cy="447840"/>
              </a:xfrm>
              <a:custGeom>
                <a:avLst/>
                <a:gdLst/>
                <a:ahLst/>
                <a:rect l="l" t="t" r="r" b="b"/>
                <a:pathLst>
                  <a:path w="364" h="282">
                    <a:moveTo>
                      <a:pt x="42" y="281"/>
                    </a:moveTo>
                    <a:lnTo>
                      <a:pt x="169" y="281"/>
                    </a:lnTo>
                    <a:lnTo>
                      <a:pt x="327" y="115"/>
                    </a:lnTo>
                    <a:lnTo>
                      <a:pt x="363" y="115"/>
                    </a:lnTo>
                    <a:lnTo>
                      <a:pt x="321" y="0"/>
                    </a:lnTo>
                    <a:lnTo>
                      <a:pt x="109" y="109"/>
                    </a:lnTo>
                    <a:lnTo>
                      <a:pt x="163" y="109"/>
                    </a:lnTo>
                    <a:lnTo>
                      <a:pt x="0" y="281"/>
                    </a:lnTo>
                    <a:lnTo>
                      <a:pt x="42" y="281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2" name=""/>
              <p:cNvGrpSpPr/>
              <p:nvPr/>
            </p:nvGrpSpPr>
            <p:grpSpPr>
              <a:xfrm>
                <a:off x="2517840" y="2982960"/>
                <a:ext cx="303120" cy="185760"/>
                <a:chOff x="2517840" y="2982960"/>
                <a:chExt cx="303120" cy="18576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2690640" y="2982960"/>
                  <a:ext cx="130320" cy="28440"/>
                </a:xfrm>
                <a:prstGeom prst="parallelogram">
                  <a:avLst>
                    <a:gd name="adj" fmla="val 114536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603520" y="3065400"/>
                  <a:ext cx="131760" cy="28800"/>
                </a:xfrm>
                <a:prstGeom prst="parallelogram">
                  <a:avLst>
                    <a:gd name="adj" fmla="val 114354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517840" y="3138480"/>
                  <a:ext cx="131760" cy="30240"/>
                </a:xfrm>
                <a:prstGeom prst="parallelogram">
                  <a:avLst>
                    <a:gd name="adj" fmla="val 108908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66" name=""/>
          <p:cNvGrpSpPr/>
          <p:nvPr/>
        </p:nvGrpSpPr>
        <p:grpSpPr>
          <a:xfrm>
            <a:off x="-119520" y="2666880"/>
            <a:ext cx="6959880" cy="3566520"/>
            <a:chOff x="-119520" y="2666880"/>
            <a:chExt cx="6959880" cy="3566520"/>
          </a:xfrm>
        </p:grpSpPr>
        <p:grpSp>
          <p:nvGrpSpPr>
            <p:cNvPr id="467" name=""/>
            <p:cNvGrpSpPr/>
            <p:nvPr/>
          </p:nvGrpSpPr>
          <p:grpSpPr>
            <a:xfrm>
              <a:off x="-119520" y="2666880"/>
              <a:ext cx="2640240" cy="3566520"/>
              <a:chOff x="-119520" y="2666880"/>
              <a:chExt cx="2640240" cy="3566520"/>
            </a:xfrm>
          </p:grpSpPr>
          <p:grpSp>
            <p:nvGrpSpPr>
              <p:cNvPr id="468" name=""/>
              <p:cNvGrpSpPr/>
              <p:nvPr/>
            </p:nvGrpSpPr>
            <p:grpSpPr>
              <a:xfrm>
                <a:off x="152280" y="2666880"/>
                <a:ext cx="1924200" cy="3508560"/>
                <a:chOff x="152280" y="2666880"/>
                <a:chExt cx="1924200" cy="350856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152280" y="4186080"/>
                  <a:ext cx="1924200" cy="198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flipH="1">
                  <a:off x="1499760" y="2666880"/>
                  <a:ext cx="567360" cy="14097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1" name=""/>
              <p:cNvSpPr/>
              <p:nvPr/>
            </p:nvSpPr>
            <p:spPr>
              <a:xfrm>
                <a:off x="180000" y="4456080"/>
                <a:ext cx="234072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380880" indent="-380880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 Narrow"/>
                  </a:rPr>
                  <a:t>Wages per mont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15000" y="4265640"/>
                <a:ext cx="220212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380880" indent="-380880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 Narrow"/>
                  </a:rPr>
                  <a:t>Wages per hou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70120" y="4108320"/>
                <a:ext cx="17640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380880" indent="-380880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00120" y="5619600"/>
                <a:ext cx="17676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380880" indent="-380880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47760" y="5995800"/>
                <a:ext cx="142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-119520" y="5952960"/>
                <a:ext cx="1900440" cy="28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380880" indent="-380880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400" spc="-1" strike="noStrike">
                    <a:solidFill>
                      <a:srgbClr val="ffffff"/>
                    </a:solidFill>
                    <a:latin typeface="Arial Narrow"/>
                  </a:rPr>
                  <a:t>14.50 ; e;;0.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43920" y="4182840"/>
              <a:ext cx="6796440" cy="1982880"/>
              <a:chOff x="43920" y="4182840"/>
              <a:chExt cx="6796440" cy="1982880"/>
            </a:xfrm>
          </p:grpSpPr>
          <p:sp>
            <p:nvSpPr>
              <p:cNvPr id="478" name=""/>
              <p:cNvSpPr/>
              <p:nvPr/>
            </p:nvSpPr>
            <p:spPr>
              <a:xfrm>
                <a:off x="328680" y="4500360"/>
                <a:ext cx="142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96080" y="4329000"/>
                <a:ext cx="1429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765080" y="4506840"/>
                <a:ext cx="0" cy="149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932480" y="4344840"/>
                <a:ext cx="0" cy="149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3920" y="5796000"/>
                <a:ext cx="1900440" cy="28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380880" indent="-380880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400" spc="-1" strike="noStrike">
                    <a:solidFill>
                      <a:srgbClr val="ffffff"/>
                    </a:solidFill>
                    <a:latin typeface="Arial Narrow"/>
                  </a:rPr>
                  <a:t>2391 ; e ;;0.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22200" y="4506840"/>
                <a:ext cx="0" cy="149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89960" y="4325760"/>
                <a:ext cx="0" cy="149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39000" y="4182840"/>
                <a:ext cx="0" cy="1492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14800" y="5824440"/>
                <a:ext cx="1429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63480" y="5672160"/>
                <a:ext cx="1429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153000" y="5683320"/>
                <a:ext cx="49644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897160" y="5248080"/>
                <a:ext cx="94320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380880" indent="-380880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80880" indent="-380880">
                  <a:lnSpc>
                    <a:spcPct val="90000"/>
                  </a:lnSpc>
                  <a:spcBef>
                    <a:spcPts val="337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br>
                  <a:rPr sz="900"/>
                </a:b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F218-2A2C-4C04-AC44-260C654634E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CF1280-3602-4C57-8786-6C55892FABBC}" type="datetime1">
              <a:rPr lang="en-US"/>
              <a:t>07/31/26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280" y="1133280"/>
            <a:ext cx="8277480" cy="1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33"/>
                </a:solidFill>
                <a:latin typeface="MetaMediumLF-Roman"/>
              </a:rPr>
              <a:t>Hierarchical list of subjects</a:t>
            </a: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24680" cy="449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1595-1994-4B9F-90A5-45A79DB6762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58083-CDAA-494D-8A5A-CC71705FA3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9280" y="914400"/>
            <a:ext cx="8277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33"/>
                </a:solidFill>
                <a:latin typeface="MetaMediumLF-Roman"/>
              </a:rPr>
              <a:t>How a table is defined and access to it</a:t>
            </a: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39152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770A-CAA9-4923-B35C-83BB8416F27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83A411-C000-44DC-9AE5-FCAA5675C8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280" y="914400"/>
            <a:ext cx="8277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33"/>
                </a:solidFill>
                <a:latin typeface="MetaMediumLF-Roman"/>
              </a:rPr>
              <a:t>Presentation of a table</a:t>
            </a: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467480" cy="44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9D13-D1E2-4785-8F45-A0E55626056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827C46-8A4C-4CE3-B6B1-F38A98D3AB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3962520" y="28954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6000" spc="-1" strike="noStrike">
                <a:solidFill>
                  <a:srgbClr val="cc0033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503520" y="3367080"/>
            <a:ext cx="3276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351240" y="1295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a50021"/>
                </a:solidFill>
                <a:latin typeface="Times New Roman"/>
              </a:rPr>
              <a:t>GENESIS</a:t>
            </a:r>
            <a:r>
              <a:rPr b="1" lang="de-DE" sz="2800" spc="-1" strike="noStrike">
                <a:solidFill>
                  <a:srgbClr val="cc0066"/>
                </a:solidFill>
                <a:latin typeface="Times New Roman"/>
              </a:rPr>
              <a:t>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5103720" y="1295280"/>
            <a:ext cx="4038480" cy="3214800"/>
            <a:chOff x="5103720" y="1295280"/>
            <a:chExt cx="4038480" cy="3214800"/>
          </a:xfrm>
        </p:grpSpPr>
        <p:sp>
          <p:nvSpPr>
            <p:cNvPr id="502" name=""/>
            <p:cNvSpPr/>
            <p:nvPr/>
          </p:nvSpPr>
          <p:spPr>
            <a:xfrm>
              <a:off x="5103720" y="1981080"/>
              <a:ext cx="990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cc0066"/>
                  </a:solidFill>
                  <a:latin typeface="MetaNormalLF-Roman"/>
                </a:rPr>
                <a:t>Java-Client (Apple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3" name="" descr=""/>
            <p:cNvPicPr/>
            <p:nvPr/>
          </p:nvPicPr>
          <p:blipFill>
            <a:blip r:embed="rId1"/>
            <a:stretch/>
          </p:blipFill>
          <p:spPr>
            <a:xfrm>
              <a:off x="5941800" y="1295280"/>
              <a:ext cx="1925640" cy="12985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999999"/>
              </a:outerShdw>
            </a:effectLst>
          </p:spPr>
        </p:pic>
        <p:grpSp>
          <p:nvGrpSpPr>
            <p:cNvPr id="504" name=""/>
            <p:cNvGrpSpPr/>
            <p:nvPr/>
          </p:nvGrpSpPr>
          <p:grpSpPr>
            <a:xfrm>
              <a:off x="7846920" y="1905120"/>
              <a:ext cx="1295280" cy="2604960"/>
              <a:chOff x="7846920" y="1905120"/>
              <a:chExt cx="1295280" cy="2604960"/>
            </a:xfrm>
          </p:grpSpPr>
          <p:sp>
            <p:nvSpPr>
              <p:cNvPr id="505" name=""/>
              <p:cNvSpPr/>
              <p:nvPr/>
            </p:nvSpPr>
            <p:spPr>
              <a:xfrm>
                <a:off x="8304120" y="1919160"/>
                <a:ext cx="0" cy="2590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846920" y="19051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8380080" y="1905120"/>
                <a:ext cx="7621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cc0066"/>
                    </a:solidFill>
                    <a:latin typeface="MetaNormalLF-Roman"/>
                  </a:rPr>
                  <a:t>Java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cc0066"/>
                    </a:solidFill>
                    <a:latin typeface="MetaNormalLF-Roman"/>
                  </a:rPr>
                  <a:t>Cli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336699"/>
                    </a:solidFill>
                    <a:latin typeface="Times New Roman"/>
                  </a:rPr>
                  <a:t> </a:t>
                </a:r>
                <a:r>
                  <a:rPr b="1" lang="de-DE" sz="1600" spc="-1" strike="noStrike">
                    <a:solidFill>
                      <a:srgbClr val="336699"/>
                    </a:solidFill>
                    <a:latin typeface="Times New Roman"/>
                  </a:rPr>
                  <a:t>(GUI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8" name=""/>
          <p:cNvGrpSpPr/>
          <p:nvPr/>
        </p:nvGrpSpPr>
        <p:grpSpPr>
          <a:xfrm>
            <a:off x="6323040" y="4495680"/>
            <a:ext cx="2666520" cy="1447920"/>
            <a:chOff x="6323040" y="4495680"/>
            <a:chExt cx="2666520" cy="1447920"/>
          </a:xfrm>
        </p:grpSpPr>
        <p:pic>
          <p:nvPicPr>
            <p:cNvPr id="509" name="" descr=""/>
            <p:cNvPicPr/>
            <p:nvPr/>
          </p:nvPicPr>
          <p:blipFill>
            <a:blip r:embed="rId2"/>
            <a:stretch/>
          </p:blipFill>
          <p:spPr>
            <a:xfrm>
              <a:off x="6323040" y="4876920"/>
              <a:ext cx="1523880" cy="10666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  <p:sp>
          <p:nvSpPr>
            <p:cNvPr id="510" name=""/>
            <p:cNvSpPr/>
            <p:nvPr/>
          </p:nvSpPr>
          <p:spPr>
            <a:xfrm>
              <a:off x="6932520" y="44956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846920" y="4815000"/>
              <a:ext cx="1142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cc0066"/>
                  </a:solidFill>
                  <a:latin typeface="MetaNormalLF-Roman"/>
                </a:rPr>
                <a:t>Menue driven inter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531720" y="4495680"/>
            <a:ext cx="8001000" cy="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648320" y="4557600"/>
            <a:ext cx="0" cy="39528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352680" y="455760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etaNormalLF-Roman"/>
              </a:rPr>
              <a:t>LIN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62120" y="45576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etaNormalLF-Roman"/>
              </a:rPr>
              <a:t>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133720" y="4495680"/>
            <a:ext cx="0" cy="38124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57400" y="4419720"/>
            <a:ext cx="152280" cy="15228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572000" y="4419720"/>
            <a:ext cx="152280" cy="15228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4876920"/>
            <a:ext cx="2259000" cy="114120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62120" y="5105520"/>
            <a:ext cx="720720" cy="6094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etaNormalLF-Roman"/>
              </a:rPr>
              <a:t>Middl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etaNormalLF-Roman"/>
              </a:rPr>
              <a:t>ware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555920" y="4925880"/>
            <a:ext cx="1290600" cy="992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00200" y="4952880"/>
            <a:ext cx="98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a50021"/>
                </a:solidFill>
                <a:latin typeface="Times New Roman"/>
              </a:rPr>
              <a:t>GE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00200" y="5257800"/>
            <a:ext cx="744480" cy="49536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200320" y="5373720"/>
            <a:ext cx="595440" cy="495360"/>
          </a:xfrm>
          <a:prstGeom prst="flowChartMagneticDisk">
            <a:avLst/>
          </a:prstGeom>
          <a:gradFill rotWithShape="0">
            <a:gsLst>
              <a:gs pos="0">
                <a:srgbClr val="004675"/>
              </a:gs>
              <a:gs pos="100000">
                <a:srgbClr val="0099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23880" y="5334120"/>
            <a:ext cx="85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cccccc"/>
                </a:solidFill>
                <a:latin typeface="Times New Roman"/>
              </a:rPr>
              <a:t>NATU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209680" y="548640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cccccc"/>
                </a:solidFill>
                <a:latin typeface="Times New Roman"/>
              </a:rPr>
              <a:t>Adab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4862520"/>
            <a:ext cx="2259000" cy="114156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146480" y="4911840"/>
            <a:ext cx="1290600" cy="992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191120" y="4938840"/>
            <a:ext cx="98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a50021"/>
                </a:solidFill>
                <a:latin typeface="Times New Roman"/>
              </a:rPr>
              <a:t>GE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5243400"/>
            <a:ext cx="744480" cy="49536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791240" y="5359320"/>
            <a:ext cx="595080" cy="495360"/>
          </a:xfrm>
          <a:prstGeom prst="flowChartMagneticDisk">
            <a:avLst/>
          </a:prstGeom>
          <a:gradFill rotWithShape="0">
            <a:gsLst>
              <a:gs pos="0">
                <a:srgbClr val="004675"/>
              </a:gs>
              <a:gs pos="100000">
                <a:srgbClr val="0099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14800" y="5319720"/>
            <a:ext cx="85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cccccc"/>
                </a:solidFill>
                <a:latin typeface="Times New Roman"/>
              </a:rPr>
              <a:t>NATU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800600" y="547200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cccccc"/>
                </a:solidFill>
                <a:latin typeface="Times New Roman"/>
              </a:rPr>
              <a:t>Adab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146560" y="3665520"/>
            <a:ext cx="762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3317760" y="2994120"/>
            <a:ext cx="1752840" cy="1675800"/>
            <a:chOff x="3317760" y="2994120"/>
            <a:chExt cx="1752840" cy="1675800"/>
          </a:xfrm>
        </p:grpSpPr>
        <p:grpSp>
          <p:nvGrpSpPr>
            <p:cNvPr id="536" name=""/>
            <p:cNvGrpSpPr/>
            <p:nvPr/>
          </p:nvGrpSpPr>
          <p:grpSpPr>
            <a:xfrm>
              <a:off x="3317760" y="2994120"/>
              <a:ext cx="1752840" cy="1599480"/>
              <a:chOff x="3317760" y="2994120"/>
              <a:chExt cx="1752840" cy="1599480"/>
            </a:xfrm>
          </p:grpSpPr>
          <p:grpSp>
            <p:nvGrpSpPr>
              <p:cNvPr id="537" name=""/>
              <p:cNvGrpSpPr/>
              <p:nvPr/>
            </p:nvGrpSpPr>
            <p:grpSpPr>
              <a:xfrm>
                <a:off x="3317760" y="2994120"/>
                <a:ext cx="1752840" cy="1599480"/>
                <a:chOff x="3317760" y="2994120"/>
                <a:chExt cx="1752840" cy="159948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4156200" y="3831840"/>
                  <a:ext cx="0" cy="761760"/>
                </a:xfrm>
                <a:prstGeom prst="line">
                  <a:avLst/>
                </a:prstGeom>
                <a:ln w="2844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3317760" y="2994120"/>
                  <a:ext cx="1752840" cy="10425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66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0" name=""/>
              <p:cNvSpPr/>
              <p:nvPr/>
            </p:nvSpPr>
            <p:spPr>
              <a:xfrm>
                <a:off x="3774960" y="3298680"/>
                <a:ext cx="1094040" cy="418680"/>
              </a:xfrm>
              <a:prstGeom prst="rect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800" spc="-1" strike="noStrike">
                    <a:solidFill>
                      <a:srgbClr val="cccccc"/>
                    </a:solidFill>
                    <a:latin typeface="MetaNormalLF-Roman"/>
                  </a:rPr>
                  <a:t>Web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800" spc="-1" strike="noStrike">
                    <a:solidFill>
                      <a:srgbClr val="cccccc"/>
                    </a:solidFill>
                    <a:latin typeface="MetaNormalLF-Roman"/>
                  </a:rPr>
                  <a:t>  </a:t>
                </a:r>
                <a:r>
                  <a:rPr b="1" lang="de-DE" sz="1800" spc="-1" strike="noStrike">
                    <a:solidFill>
                      <a:srgbClr val="cccccc"/>
                    </a:solidFill>
                    <a:latin typeface="MetaNormalLF-Roman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4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546360" y="3222360"/>
                <a:ext cx="536760" cy="536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42" name=""/>
            <p:cNvSpPr/>
            <p:nvPr/>
          </p:nvSpPr>
          <p:spPr>
            <a:xfrm>
              <a:off x="4079880" y="4517640"/>
              <a:ext cx="152280" cy="152280"/>
            </a:xfrm>
            <a:prstGeom prst="ellipse">
              <a:avLst/>
            </a:prstGeom>
            <a:solidFill>
              <a:srgbClr val="3366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4384800" y="1989000"/>
            <a:ext cx="1523880" cy="1004760"/>
            <a:chOff x="4384800" y="1989000"/>
            <a:chExt cx="1523880" cy="1004760"/>
          </a:xfrm>
        </p:grpSpPr>
        <p:sp>
          <p:nvSpPr>
            <p:cNvPr id="544" name=""/>
            <p:cNvSpPr/>
            <p:nvPr/>
          </p:nvSpPr>
          <p:spPr>
            <a:xfrm>
              <a:off x="4384800" y="200304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384800" y="198900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2556000" y="2003400"/>
            <a:ext cx="1447560" cy="990720"/>
            <a:chOff x="2556000" y="2003400"/>
            <a:chExt cx="1447560" cy="990720"/>
          </a:xfrm>
        </p:grpSpPr>
        <p:sp>
          <p:nvSpPr>
            <p:cNvPr id="547" name=""/>
            <p:cNvSpPr/>
            <p:nvPr/>
          </p:nvSpPr>
          <p:spPr>
            <a:xfrm>
              <a:off x="2556000" y="20034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003560" y="200340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631960" y="3513240"/>
            <a:ext cx="990360" cy="732960"/>
            <a:chOff x="2631960" y="3513240"/>
            <a:chExt cx="990360" cy="732960"/>
          </a:xfrm>
        </p:grpSpPr>
        <p:sp>
          <p:nvSpPr>
            <p:cNvPr id="550" name=""/>
            <p:cNvSpPr/>
            <p:nvPr/>
          </p:nvSpPr>
          <p:spPr>
            <a:xfrm>
              <a:off x="2631960" y="351324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31960" y="366552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cc0066"/>
                  </a:solidFill>
                  <a:latin typeface="MetaNormalLF-Roman"/>
                </a:rPr>
                <a:t>XML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cc0066"/>
                  </a:solidFill>
                  <a:latin typeface="MetaNormalLF-Roman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760320" y="2895480"/>
            <a:ext cx="1828800" cy="12193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988920" y="3352680"/>
            <a:ext cx="144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etaNormalLF-Roman"/>
              </a:rPr>
              <a:t>Integration von GENESIS-Tabell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4"/>
          <a:stretch/>
        </p:blipFill>
        <p:spPr>
          <a:xfrm>
            <a:off x="1065240" y="2971800"/>
            <a:ext cx="904680" cy="38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5" name=""/>
          <p:cNvGraphicFramePr/>
          <p:nvPr/>
        </p:nvGraphicFramePr>
        <p:xfrm>
          <a:off x="762120" y="1295280"/>
          <a:ext cx="182880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1295280"/>
                    <a:ext cx="1828800" cy="1295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557" name=""/>
          <p:cNvSpPr/>
          <p:nvPr/>
        </p:nvSpPr>
        <p:spPr>
          <a:xfrm>
            <a:off x="2590920" y="198108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cc0066"/>
                </a:solidFill>
                <a:latin typeface="MetaNormalLF-Roman"/>
              </a:rPr>
              <a:t>HTML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cc0066"/>
                </a:solidFill>
                <a:latin typeface="MetaNormalLF-Roman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01760" y="685800"/>
            <a:ext cx="60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MetaNormalLF-Roman"/>
              </a:rPr>
              <a:t>different clients - identical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352680" y="5105520"/>
            <a:ext cx="720720" cy="6094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etaNormalLF-Roman"/>
              </a:rPr>
              <a:t>Middl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etaNormalLF-Roman"/>
              </a:rPr>
              <a:t>ware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930E-7204-41D1-98BF-7A38261A0295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B63D5C-1131-4E7C-AE8F-DD427992F7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7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6666"/>
                </a:solidFill>
                <a:latin typeface="Times New Roman"/>
              </a:rPr>
              <a:t>Conclusion</a:t>
            </a:r>
            <a:br>
              <a:rPr sz="4400"/>
            </a:br>
            <a:r>
              <a:rPr b="1" lang="en-GB" sz="2400" spc="-1" strike="noStrike">
                <a:solidFill>
                  <a:srgbClr val="666666"/>
                </a:solidFill>
                <a:latin typeface="Times New Roman"/>
              </a:rPr>
              <a:t>Genesis was designed that all user needs like </a:t>
            </a:r>
            <a:br>
              <a:rPr sz="2400"/>
            </a:br>
            <a:r>
              <a:rPr b="1" lang="en-GB" sz="2400" spc="-1" strike="noStrike">
                <a:solidFill>
                  <a:srgbClr val="666666"/>
                </a:solidFill>
                <a:latin typeface="Times New Roman"/>
              </a:rPr>
              <a:t>- Retrieval of data and metadata</a:t>
            </a:r>
            <a:br>
              <a:rPr sz="2400"/>
            </a:br>
            <a:r>
              <a:rPr b="1" lang="en-GB" sz="2400" spc="-1" strike="noStrike">
                <a:solidFill>
                  <a:srgbClr val="666666"/>
                </a:solidFill>
                <a:latin typeface="Times New Roman"/>
              </a:rPr>
              <a:t>- Design of  special views to data </a:t>
            </a:r>
            <a:br>
              <a:rPr sz="2400"/>
            </a:br>
            <a:r>
              <a:rPr b="1" lang="en-GB" sz="2400" spc="-1" strike="noStrike">
                <a:solidFill>
                  <a:srgbClr val="666666"/>
                </a:solidFill>
                <a:latin typeface="Times New Roman"/>
              </a:rPr>
              <a:t>- Access to data objects (table, cube, catalogues, quality flag, date of last update, …)</a:t>
            </a:r>
            <a:br>
              <a:rPr sz="2400"/>
            </a:br>
            <a:r>
              <a:rPr b="1" lang="en-GB" sz="2400" spc="-1" strike="noStrike">
                <a:solidFill>
                  <a:srgbClr val="666666"/>
                </a:solidFill>
                <a:latin typeface="Times New Roman"/>
              </a:rPr>
              <a:t>for internal and external users are provided by different Clients (Java, HTML, …)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666666"/>
                </a:solidFill>
                <a:latin typeface="Times New Roman"/>
              </a:rPr>
              <a:t>all seems nice, but…  </a:t>
            </a:r>
            <a:br>
              <a:rPr sz="2400"/>
            </a:br>
            <a:r>
              <a:rPr b="1" lang="en-GB" sz="3400" spc="-1" strike="noStrike">
                <a:solidFill>
                  <a:srgbClr val="666666"/>
                </a:solidFill>
                <a:latin typeface="Times New Roman"/>
              </a:rPr>
              <a:t>You ever need a human being to use the clients</a:t>
            </a:r>
            <a:br>
              <a:rPr sz="3400"/>
            </a:b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003F-2BE9-4A09-B950-649B9E4EF6D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F7F8F-55E9-4D2A-A441-678353D6A0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1T11:48:16Z</dcterms:created>
  <dc:creator>Schrey-E</dc:creator>
  <dc:description/>
  <dc:language>en-US</dc:language>
  <cp:lastModifiedBy>Schrey-E</cp:lastModifiedBy>
  <cp:lastPrinted>2003-10-28T16:32:09Z</cp:lastPrinted>
  <dcterms:modified xsi:type="dcterms:W3CDTF">2007-05-04T07:34:48Z</dcterms:modified>
  <cp:revision>84</cp:revision>
  <dc:subject/>
  <dc:title>Umsetzung des Betriebs -und Nutzungskonzepts von GENESIS in Verbindung mit der Einführung neuer Auswertungs- und Analysewerkzeuge</dc:title>
</cp:coreProperties>
</file>