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3597-10FE-4103-B715-7BD7B844CF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4898-B27A-4B50-A371-E684209D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4061-1A5C-4D81-B876-034DED05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77BB-0B28-4F6F-9140-C9C463E00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F2A2-BA02-4E14-AB2A-EA6D701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75D9-32F1-4232-88FE-46C324E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3E3B-36A6-4E4B-9936-5D022E0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D207-6210-4672-B994-6D4F134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51C1-12AD-40D7-991E-7271AF39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2603-353F-411E-BFFB-1A276AB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9181-FFF2-4ED9-ABD1-A661C99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0605-3F24-4FBE-BDF1-0B5E5D74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7420-6E4E-4A39-887C-27A0FB43DBBD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8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xperiences Using the Eye Tracking Method to Test Web Site Usabil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IS, 8-10 May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5157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nnegrete Wul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atistics 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wu@dst.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3c"/>
                </a:solidFill>
                <a:latin typeface="Arial"/>
              </a:rPr>
              <a:t>Task 3 – Search result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92360" y="1600200"/>
          <a:ext cx="597528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00200"/>
                    <a:ext cx="59752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3c"/>
                </a:solidFill>
                <a:latin typeface="Arial"/>
              </a:rPr>
              <a:t>Task 6 Swedish citizens in Denmark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1282680"/>
            <a:ext cx="6840720" cy="5570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71640" y="1413000"/>
            <a:ext cx="792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8880" y="1628640"/>
            <a:ext cx="125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692000" y="184428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Evaluation of the metho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280" y="1295280"/>
            <a:ext cx="360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 + think a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46080" y="12952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tracking + follow up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with think a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Lessons learne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ft side column too co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structure by subjec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ingful lables on al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side column hardly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lp information not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in upper left side not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xt lines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ces more important than simil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Demo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recorded user 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Who visits the web site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,000 visitors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% adul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% first tim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24360" y="1268280"/>
          <a:ext cx="504036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268280"/>
                    <a:ext cx="504036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d3c"/>
                </a:solidFill>
                <a:latin typeface="Arial"/>
              </a:rPr>
              <a:t>Collecting information on usability</a:t>
            </a:r>
            <a:endParaRPr b="1" lang="en-US" sz="17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34936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1080" y="1484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, simulta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5800" y="54450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, ref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20160" y="3952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21800" y="4005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1960" y="1916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11600" y="5084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36640" y="263520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taneous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4240" y="2616120"/>
            <a:ext cx="194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observation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ty, think a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06560" y="270828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ye tr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09160" y="450864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veys, open ques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1520" y="450864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veys closed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458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96960" y="450684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lin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0600" y="486900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 back from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0200" y="45086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int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The Set up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common actions on our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ersons among typica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10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riteria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de on altern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Equipmen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built into a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camera and infra ligh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eye movements  and transforms them to what the user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627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Metho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leader introduces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as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as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Task 1 </a:t>
            </a:r>
            <a:r>
              <a:rPr b="1" i="1" lang="en-GB" sz="2800" spc="-1" strike="noStrike">
                <a:solidFill>
                  <a:srgbClr val="003d3c"/>
                </a:solidFill>
                <a:latin typeface="Arial"/>
              </a:rPr>
              <a:t>Find information on municipalie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26920" y="1052640"/>
            <a:ext cx="7848720" cy="5065560"/>
            <a:chOff x="826920" y="1052640"/>
            <a:chExt cx="7848720" cy="506556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826920" y="1052640"/>
              <a:ext cx="784872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042920" y="2205000"/>
              <a:ext cx="792360" cy="5032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8000" y="3860640"/>
              <a:ext cx="1368360" cy="12240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0000" y="4581360"/>
              <a:ext cx="18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08560" y="4673520"/>
              <a:ext cx="52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2960" y="47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795640" y="4724280"/>
              <a:ext cx="576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0920" y="2060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763640" y="2205000"/>
              <a:ext cx="43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42920" y="981000"/>
          <a:ext cx="7012080" cy="4653000"/>
        </p:xfrm>
        <a:graphic>
          <a:graphicData uri="http://schemas.openxmlformats.org/drawingml/2006/table">
            <a:tbl>
              <a:tblPr/>
              <a:tblGrid>
                <a:gridCol w="2089080"/>
                <a:gridCol w="1656000"/>
                <a:gridCol w="1655640"/>
                <a:gridCol w="1611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in minutes: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ve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: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3c"/>
                </a:solidFill>
                <a:latin typeface="Arial"/>
              </a:rPr>
              <a:t>Task 1 Municipality information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11280" y="1197000"/>
          <a:ext cx="792144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792144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356000" y="5300640"/>
            <a:ext cx="792360" cy="4320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300640"/>
            <a:ext cx="1657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icipalit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11280" y="1844640"/>
            <a:ext cx="8001720" cy="2232000"/>
            <a:chOff x="611280" y="1844640"/>
            <a:chExt cx="8001720" cy="2232000"/>
          </a:xfrm>
        </p:grpSpPr>
        <p:sp>
          <p:nvSpPr>
            <p:cNvPr id="217" name=""/>
            <p:cNvSpPr/>
            <p:nvPr/>
          </p:nvSpPr>
          <p:spPr>
            <a:xfrm>
              <a:off x="6804000" y="1844640"/>
              <a:ext cx="792360" cy="64764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280" y="3429000"/>
              <a:ext cx="792000" cy="64764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31560" y="2133720"/>
              <a:ext cx="10814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te 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451640" y="2060280"/>
              <a:ext cx="720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4360" y="366552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your 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1258920" y="3715920"/>
              <a:ext cx="504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2421000"/>
              <a:ext cx="792000" cy="431640"/>
            </a:xfrm>
            <a:prstGeom prst="ellipse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1960" y="2781360"/>
              <a:ext cx="1802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nicipality 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1619280" y="2636640"/>
              <a:ext cx="5047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 flipV="1">
            <a:off x="4932000" y="551628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7:33:51Z</dcterms:created>
  <dc:creator>Annegrete Wulff</dc:creator>
  <dc:description/>
  <dc:language>en-US</dc:language>
  <cp:lastModifiedBy>Annegrete Wulff</cp:lastModifiedBy>
  <dcterms:modified xsi:type="dcterms:W3CDTF">2007-04-30T08:54:11Z</dcterms:modified>
  <cp:revision>5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1346918</vt:r8>
  </property>
  <property fmtid="{D5CDD505-2E9C-101B-9397-08002B2CF9AE}" pid="3" name="_AuthorEmail">
    <vt:lpwstr>AWU@dst.dk</vt:lpwstr>
  </property>
  <property fmtid="{D5CDD505-2E9C-101B-9397-08002B2CF9AE}" pid="4" name="_AuthorEmailDisplayName">
    <vt:lpwstr>Annegrete Wulff</vt:lpwstr>
  </property>
  <property fmtid="{D5CDD505-2E9C-101B-9397-08002B2CF9AE}" pid="5" name="_EmailSubject">
    <vt:lpwstr>Power Point Presentation to MSIS meeting (paper 11)</vt:lpwstr>
  </property>
</Properties>
</file>