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41B-D6DA-44CB-A614-1381422B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1DF-6697-4991-B8C7-D67386FE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993-0CA1-416C-9C26-8B359158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B7B-8B4A-4CB3-8202-9B0E4AD0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6F58-B83C-4C0A-A16C-FFD749A6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6503-FEBA-4401-98A6-080C12B5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1584-01F5-43F4-B9C8-2174B9A9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716D-AE36-4646-A20B-06219DFF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72E9-C9A3-41CF-90F7-F1A67359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9A58-31A7-4367-969A-EBB57E70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C8EC-28E0-4492-8332-2F4287D9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7F4-47FA-412C-A517-30687410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BB01-7D50-4577-BD79-9EA52AE9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4E81-9EBE-4C15-9FD2-354549C5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FD3A-409C-4131-BE3C-66ED04F1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2690-07A1-42F4-AED0-14C93631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3CCC-A019-41D1-8958-FDD55F36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0D3-BB62-4451-8609-1CC1771B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946-2DDF-4FBC-AB43-178620DD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B96-9682-4035-A7B3-F85B45C5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5F9-7D21-4F0C-8CB6-3BD43FAC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155-4D61-42EC-BC13-C46F7B9C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D44-3A26-4571-ABC2-90B028EE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4FD-7A29-4C61-A24B-693DC948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3320-6C6C-4E81-8361-50167AD2DF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E35F-737A-4B62-B2E8-B01004E02F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00000" y="191628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ko Jir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3429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0000"/>
                </a:solidFill>
                <a:latin typeface="Verdana"/>
              </a:rPr>
              <a:t>I S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1762200" y="1870200"/>
            <a:ext cx="5753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762200" y="1870200"/>
            <a:ext cx="5753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755640" y="2060640"/>
            <a:ext cx="360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Branka Petk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ra Nik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Božo Grb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agoda Ljub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elena Ćekl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Dejan Šinik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Radoje Ajduk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leksandar Petk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84720" y="2276640"/>
            <a:ext cx="338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lja Mus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da Vujn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elena Milojk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Ljiljana Stojan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o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Đer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rjana Grbić Il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Statistical Office of the Republic of Ser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elgrade, 5 Milana Rakica 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hone</a:t>
            </a:r>
            <a:r>
              <a:rPr b="0" lang="sr-CS" sz="20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+381 11 2412-9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ax</a:t>
            </a:r>
            <a:r>
              <a:rPr b="0" lang="sr-CS" sz="20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+381 11 411-26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formation phone/fax</a:t>
            </a:r>
            <a:r>
              <a:rPr b="0" lang="sr-CS" sz="20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+381 11 2401-28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library and archives +381 11 2412-922/ext 25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124000" y="4581360"/>
            <a:ext cx="1658880" cy="13687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2360" y="4581360"/>
            <a:ext cx="1658880" cy="13687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19640" y="5157720"/>
            <a:ext cx="1185840" cy="473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229360"/>
            <a:ext cx="1185840" cy="473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2276640"/>
            <a:ext cx="1297080" cy="431640"/>
          </a:xfrm>
          <a:custGeom>
            <a:avLst/>
            <a:gdLst>
              <a:gd name="textAreaLeft" fmla="*/ 285120 w 1297080"/>
              <a:gd name="textAreaRight" fmla="*/ 1011960 w 129708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2924280"/>
            <a:ext cx="115236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3573360"/>
            <a:ext cx="115236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928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234936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87280" y="2349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Data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2924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Logical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357336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Tabu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3357720"/>
            <a:ext cx="43200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400536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2349360"/>
            <a:ext cx="36036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2276640"/>
            <a:ext cx="1297080" cy="431640"/>
          </a:xfrm>
          <a:custGeom>
            <a:avLst/>
            <a:gdLst>
              <a:gd name="textAreaLeft" fmla="*/ 285120 w 1297080"/>
              <a:gd name="textAreaRight" fmla="*/ 1011960 w 129708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4720" y="2924280"/>
            <a:ext cx="115272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44720" y="3573360"/>
            <a:ext cx="1152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60720" y="234936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16360" y="2349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Data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2924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Logical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3573360"/>
            <a:ext cx="13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Tabu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4800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556000" y="3357720"/>
            <a:ext cx="287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3357720"/>
            <a:ext cx="100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8764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5640" y="400536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83280" y="2276640"/>
            <a:ext cx="1297080" cy="431640"/>
          </a:xfrm>
          <a:custGeom>
            <a:avLst/>
            <a:gdLst>
              <a:gd name="textAreaLeft" fmla="*/ 285120 w 1297080"/>
              <a:gd name="textAreaRight" fmla="*/ 1011960 w 129708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2924280"/>
            <a:ext cx="115236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56360" y="3573360"/>
            <a:ext cx="115236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72360" y="234936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7640" y="2349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Data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3280" y="2924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Logical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83280" y="357336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Tabu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5964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2276640"/>
            <a:ext cx="36036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2349360"/>
            <a:ext cx="36036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40360" y="2781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95640" y="3357720"/>
            <a:ext cx="36036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347640" y="3141720"/>
            <a:ext cx="280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779640" y="4005360"/>
            <a:ext cx="237636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042920" y="2349360"/>
            <a:ext cx="7489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Logic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abulating (dissemination &amp; publis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895400" y="2639880"/>
            <a:ext cx="2133720" cy="473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95400" y="5010120"/>
            <a:ext cx="2133720" cy="118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T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(output tables, "expor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5400" y="3351240"/>
            <a:ext cx="2133720" cy="11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(Logical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62840" y="3587760"/>
            <a:ext cx="1658880" cy="21337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4537080"/>
            <a:ext cx="1185840" cy="473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a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028760" y="2133720"/>
            <a:ext cx="2774880" cy="3587400"/>
            <a:chOff x="4028760" y="2133720"/>
            <a:chExt cx="2774880" cy="3587400"/>
          </a:xfrm>
        </p:grpSpPr>
        <p:sp>
          <p:nvSpPr>
            <p:cNvPr id="278" name=""/>
            <p:cNvSpPr/>
            <p:nvPr/>
          </p:nvSpPr>
          <p:spPr>
            <a:xfrm>
              <a:off x="5036400" y="2133720"/>
              <a:ext cx="1767240" cy="478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9a0000"/>
                  </a:solidFill>
                  <a:latin typeface="Times New Roman"/>
                </a:rPr>
                <a:t>SURVEY</a:t>
              </a:r>
              <a:r>
                <a:rPr b="0" lang="en-US" sz="1800" spc="-1" strike="noStrike">
                  <a:solidFill>
                    <a:srgbClr val="9a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9a0000"/>
                  </a:solidFill>
                  <a:latin typeface="Times New Roman"/>
                </a:rPr>
                <a:t>(IS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029120" y="2373480"/>
              <a:ext cx="1007280" cy="4770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028760" y="2612160"/>
              <a:ext cx="1513800" cy="143352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029120" y="2612160"/>
              <a:ext cx="2016720" cy="310896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029120" y="3112920"/>
            <a:ext cx="2133720" cy="1187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29120" y="4300560"/>
            <a:ext cx="2133720" cy="47304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028760" y="5248440"/>
            <a:ext cx="2133720" cy="7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rcRect l="3363" t="10347" r="26124" b="17928"/>
          <a:stretch/>
        </p:blipFill>
        <p:spPr>
          <a:xfrm>
            <a:off x="1233360" y="1843200"/>
            <a:ext cx="68724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763640" y="1870200"/>
            <a:ext cx="5753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762200" y="1870200"/>
            <a:ext cx="5753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762200" y="1870200"/>
            <a:ext cx="5753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763640" y="1870200"/>
            <a:ext cx="5753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9:06:05Z</dcterms:created>
  <dc:creator>KORISNIK</dc:creator>
  <dc:description/>
  <dc:language>en-US</dc:language>
  <cp:lastModifiedBy>f61uk22</cp:lastModifiedBy>
  <dcterms:modified xsi:type="dcterms:W3CDTF">2007-04-24T11:23:41Z</dcterms:modified>
  <cp:revision>14</cp:revision>
  <dc:subject/>
  <dc:title>PowerPoint Presentation</dc:title>
</cp:coreProperties>
</file>