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FF6-FD6A-4613-9358-4297CEAA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E2E-7D07-481D-9CE6-F6D7B7A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E97-7B7E-43C3-88C4-2EC18D69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D1C-35DD-4188-9D39-9A2DFB92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F1B3-22CE-4042-87DF-F08F1904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18E2-C746-4C45-A2F2-D92E1D81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3285-A355-4CD3-943F-1EA9664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603-5CC8-4788-9728-694FF175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1FB-119D-49EE-AE86-72E1F1D3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284F-3B04-4F10-A4D1-44F219E2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865C-9A98-46FB-AC4F-127B2E5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920-E209-45EB-BE89-E78DBA78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2B16-CAF6-43D9-8612-CD19A7C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FCE-FF6A-4D09-A33C-DCB7328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F7B-05D6-4D3D-9872-B06F7EDE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8C34-2429-411F-86D4-4E9926C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8E2-1B2C-4A93-A849-B600CEB5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F29-298A-4278-AFF6-3CBD2FF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DC1-4D38-47CA-847E-59B34CE1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9DE-D4DD-4F14-A4F5-752B76D2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597-56BF-4134-ACC8-D7132F2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B56-1909-4F8C-A6FB-AD363A3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B2-5CDF-4D34-B59B-75FE2E9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C38-67D6-4EC9-B20A-F403F14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0C8-AA80-4AAF-B023-597126E0F5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2DE3-42DC-46ED-A3E2-1E97F8CD8D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191628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ko Jir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3429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00"/>
                </a:solidFill>
                <a:latin typeface="Verdana"/>
              </a:rPr>
              <a:t>I S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755640" y="2060640"/>
            <a:ext cx="36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ranka Pet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ra Nik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ožo Grb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goda Ljub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elena Ćek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ejan Šini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adoje Ajdu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leksandar Pet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4720" y="2276640"/>
            <a:ext cx="338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lja Mus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da Vujn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elena Miloj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jiljana Stojan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o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Đer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rjana Grbić I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Statistical Office of the Republic of Ser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lgrade, 5 Milana Rakica 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hone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2412-9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411-26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phone/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+381 11 2401-28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ibrary and archives +381 11 2412-922/ext 2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24000" y="4581360"/>
            <a:ext cx="1658880" cy="1368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4581360"/>
            <a:ext cx="1658880" cy="1368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515772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22936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924280"/>
            <a:ext cx="1152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3573360"/>
            <a:ext cx="1152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349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573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3357720"/>
            <a:ext cx="43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00536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34936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924280"/>
            <a:ext cx="115272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4720" y="3573360"/>
            <a:ext cx="115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357336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56000" y="3357720"/>
            <a:ext cx="287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35772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4005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2924280"/>
            <a:ext cx="1152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6360" y="3573360"/>
            <a:ext cx="1152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7236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2349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328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3280" y="3573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227664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234936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2781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95640" y="3357720"/>
            <a:ext cx="360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347640" y="3141720"/>
            <a:ext cx="280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79640" y="4005360"/>
            <a:ext cx="23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42920" y="2349360"/>
            <a:ext cx="7489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abulating (dissemination &amp; pub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95400" y="2639880"/>
            <a:ext cx="2133720" cy="473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95400" y="5010120"/>
            <a:ext cx="2133720" cy="11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(output tables, "expor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5400" y="3351240"/>
            <a:ext cx="2133720" cy="11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(Logical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62840" y="3587760"/>
            <a:ext cx="1658880" cy="2133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453708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028760" y="2133720"/>
            <a:ext cx="2774880" cy="3587400"/>
            <a:chOff x="4028760" y="2133720"/>
            <a:chExt cx="2774880" cy="3587400"/>
          </a:xfrm>
        </p:grpSpPr>
        <p:sp>
          <p:nvSpPr>
            <p:cNvPr id="278" name=""/>
            <p:cNvSpPr/>
            <p:nvPr/>
          </p:nvSpPr>
          <p:spPr>
            <a:xfrm>
              <a:off x="5036400" y="2133720"/>
              <a:ext cx="1767240" cy="47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9a0000"/>
                  </a:solidFill>
                  <a:latin typeface="Times New Roman"/>
                </a:rPr>
                <a:t>SURVEY</a:t>
              </a:r>
              <a:r>
                <a:rPr b="0" lang="en-US" sz="1800" spc="-1" strike="noStrike">
                  <a:solidFill>
                    <a:srgbClr val="9a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9a0000"/>
                  </a:solidFill>
                  <a:latin typeface="Times New Roman"/>
                </a:rPr>
                <a:t>(IS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29120" y="2373480"/>
              <a:ext cx="1007280" cy="4770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028760" y="2612160"/>
              <a:ext cx="1513800" cy="14335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029120" y="2612160"/>
              <a:ext cx="2016720" cy="310896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029120" y="3112920"/>
            <a:ext cx="2133720" cy="1187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29120" y="4300560"/>
            <a:ext cx="2133720" cy="47304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28760" y="5248440"/>
            <a:ext cx="2133720" cy="7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3363" t="10347" r="26124" b="17928"/>
          <a:stretch/>
        </p:blipFill>
        <p:spPr>
          <a:xfrm>
            <a:off x="1233360" y="1843200"/>
            <a:ext cx="68724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76364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76364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06:05Z</dcterms:created>
  <dc:creator>KORISNIK</dc:creator>
  <dc:description/>
  <dc:language>en-US</dc:language>
  <cp:lastModifiedBy>f61uk22</cp:lastModifiedBy>
  <dcterms:modified xsi:type="dcterms:W3CDTF">2007-04-24T11:23:41Z</dcterms:modified>
  <cp:revision>14</cp:revision>
  <dc:subject/>
  <dc:title>PowerPoint Presentation</dc:title>
</cp:coreProperties>
</file>