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925B8-8A37-4CA7-8EA6-E7F7AAEC3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8E4A6-B2BB-472E-9AD0-7AC0B7C59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BBE05-11B5-4A50-B34B-BDE1D6460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D8898-28DD-4411-BF68-1A0913CD1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DA03D-3BEC-4D36-BD80-6478F48B9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CD442-9470-4A21-9EAB-B195D27E2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3B7B8-D8E9-4515-99FD-41D69D428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5D75A-9B03-4523-ACBE-B2BE4D1B1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9280" y="0"/>
            <a:ext cx="7772400" cy="4673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4F695-81CA-4675-93FF-217BA7751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2619B-B6F7-4E53-86AC-176A20244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DE178-40C5-4CE1-9BA9-3F199C3AF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0BE3C-E5E0-4BA6-B0B7-871FDBD6F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F9754-0CB6-45EA-B46F-ADDF890FA0D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27000"/>
            <a:ext cx="910764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hyperlink" Target="http://www.epsebe.ca/"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mailto:annie.giguere@stat.gouv.qc.ca" TargetMode="External"/><Relationship Id="rId2" Type="http://schemas.openxmlformats.org/officeDocument/2006/relationships/hyperlink" Target="mailto:madeleine.filion@stat.gouv.qc.ca" TargetMode="External"/><Relationship Id="rId3" Type="http://schemas.openxmlformats.org/officeDocument/2006/relationships/hyperlink" Target="http://www.stat.gouv.qc.ca/"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6934320"/>
          </a:xfrm>
          <a:prstGeom prst="rect">
            <a:avLst/>
          </a:prstGeom>
          <a:ln w="0">
            <a:noFill/>
          </a:ln>
        </p:spPr>
      </p:pic>
      <p:sp>
        <p:nvSpPr>
          <p:cNvPr id="43" name=""/>
          <p:cNvSpPr/>
          <p:nvPr/>
        </p:nvSpPr>
        <p:spPr>
          <a:xfrm>
            <a:off x="414360" y="692280"/>
            <a:ext cx="74707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mote access to research data files resulting from linkag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Status of current project</a:t>
            </a:r>
            <a:endParaRPr b="0" lang="en-US" sz="38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The service platform will be in operation in the summer of 2007.</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0000"/>
                </a:solidFill>
                <a:uFillTx/>
                <a:latin typeface="Times New Roman"/>
                <a:hlinkClick r:id="rId1"/>
              </a:rPr>
              <a:t>www.epsebe.c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Presented by </a:t>
            </a:r>
            <a:r>
              <a:rPr b="0" lang="fr-FR" sz="3200" spc="-1" strike="noStrike">
                <a:solidFill>
                  <a:srgbClr val="000000"/>
                </a:solidFill>
                <a:latin typeface="Times New Roman"/>
              </a:rPr>
              <a:t>Annie Giguère and Madeleine Filion</a:t>
            </a:r>
            <a:endParaRPr b="0" lang="en-US" sz="32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Times New Roman"/>
                <a:hlinkClick r:id="rId1"/>
              </a:rPr>
              <a:t>annie.giguere@stat.gouv.qc.ca</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Times New Roman"/>
                <a:hlinkClick r:id="rId2"/>
              </a:rPr>
              <a:t>madeleine.filion@stat.gouv.qc.c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Institut de la statistique du Québec</a:t>
            </a:r>
            <a:r>
              <a:rPr b="0" lang="fr-CA" sz="3200" spc="-1" strike="noStrike">
                <a:solidFill>
                  <a:srgbClr val="000000"/>
                </a:solidFill>
                <a:latin typeface="Times New Roman"/>
              </a:rPr>
              <a:t>, Canad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0000"/>
                </a:solidFill>
                <a:uFillTx/>
                <a:latin typeface="Times New Roman"/>
                <a:hlinkClick r:id="rId3"/>
              </a:rPr>
              <a:t>www.stat.gouv.qc.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000000"/>
                </a:solidFill>
                <a:latin typeface="Times New Roman"/>
              </a:rPr>
              <a:t>Introduction</a:t>
            </a:r>
            <a:endParaRPr b="0" lang="en-US" sz="38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recent years, the Institut de la statistique du Québec (ISQ), the official statistical agency of the province of Québec (Canada)</a:t>
            </a:r>
            <a:r>
              <a:rPr b="0" lang="en-GB" sz="3200" spc="-1" strike="noStrike">
                <a:solidFill>
                  <a:srgbClr val="000000"/>
                </a:solidFill>
                <a:latin typeface="Times New Roman"/>
              </a:rPr>
              <a:t> </a:t>
            </a:r>
            <a:r>
              <a:rPr b="0" lang="en-US" sz="3200" spc="-1" strike="noStrike">
                <a:solidFill>
                  <a:srgbClr val="000000"/>
                </a:solidFill>
                <a:latin typeface="Times New Roman"/>
              </a:rPr>
              <a:t>has been faced with:</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crease in demand for statistical information and a growing diversity of user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s, particularly researchers, who are increasingly seeking access to microdata files they can process themselves.</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000000"/>
                </a:solidFill>
                <a:latin typeface="Times New Roman"/>
              </a:rPr>
              <a:t>Introduction</a:t>
            </a:r>
            <a:endParaRPr b="0" lang="en-US" sz="38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2004, a partnership project with a network of researchers and other government agencies was launched.</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talks about the transmission of private information have been carried out according to Québec’s privacy protection legislation.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by researchers to confidential information taken from administrative files is a complex process when the information is requested from different holder agenci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SQ was chosen to host the service platfor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General description</a:t>
            </a: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rvice platform is not a data warehouse.</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rvice is accessible by means of an Internet portal, through which researchers can submit their requests, follow up on them, and make remote use of the research fi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Submission of researcher’s request</a:t>
            </a: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help the researcher formulate his request, there is a search engine on the Internet portal that can consult the dictionary in order to obtain information on a specific data source or a holder of informatio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lso possible to search by keyword, year of data source, categories or data source own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Processing of researcher’s request</a:t>
            </a:r>
            <a:endParaRPr b="0" lang="en-US" sz="38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the research file resulting from linka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 the risk of disclosing confidential inform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Remote access to research file</a:t>
            </a:r>
            <a:endParaRPr b="0" lang="en-US" sz="38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evel </a:t>
            </a:r>
            <a:r>
              <a:rPr b="0" lang="en-GB" sz="2800" spc="-1" strike="noStrike">
                <a:solidFill>
                  <a:srgbClr val="000000"/>
                </a:solidFill>
                <a:latin typeface="Times New Roman"/>
              </a:rPr>
              <a:t>security measures</a:t>
            </a:r>
            <a:r>
              <a:rPr b="0" lang="fr-CA" sz="2800" spc="-1" strike="noStrike">
                <a:solidFill>
                  <a:srgbClr val="000000"/>
                </a:solidFill>
                <a:latin typeface="Times New Roman"/>
              </a:rPr>
              <a:t> for </a:t>
            </a:r>
            <a:r>
              <a:rPr b="0" lang="en-US" sz="2800" spc="-1" strike="noStrike">
                <a:solidFill>
                  <a:srgbClr val="000000"/>
                </a:solidFill>
                <a:latin typeface="Times New Roman"/>
              </a:rPr>
              <a:t>authentication of the researcher are requir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possible for the researcher to download or print the data or results</a:t>
            </a:r>
            <a:r>
              <a:rPr b="0" lang="en-GB" sz="2800" spc="-1" strike="noStrike">
                <a:solidFill>
                  <a:srgbClr val="000000"/>
                </a:solidFill>
                <a:latin typeface="Times New Roman"/>
              </a:rPr>
              <a:t> </a:t>
            </a:r>
            <a:r>
              <a:rPr b="0" lang="en-US" sz="2800" spc="-1" strike="noStrike">
                <a:solidFill>
                  <a:srgbClr val="000000"/>
                </a:solidFill>
                <a:latin typeface="Times New Roman"/>
              </a:rPr>
              <a:t>of his analy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ser’s work session is recorded and can be studied at any time (in real or delayed time).</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Environment &amp; Development</a:t>
            </a:r>
            <a:endParaRPr b="0" lang="en-US" sz="38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ts used: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cle Fusion Middleware 10G (AS and BPEL, Collaboration Suite, DB)</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ze Linux</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Is u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cle ADF, Oracle BPEL, Jasper Reports, JAAS, XML, PL/SQ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tools u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cle Jdeveloper, Tortoise, DMS Loading To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Added values</a:t>
            </a:r>
            <a:endParaRPr b="0" lang="en-US" sz="38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w servic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es researc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s new means to the research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lerates the current access proces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ocation of the service platform at the ISQ provides guarantees that the confidentiality and security of the data will be ensured, given our legal oversight (statistical secrecy) and normative framework in that regar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59">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9">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9">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23:10:23Z</dcterms:created>
  <dc:creator>Annie Giguère et Madeleine Filion</dc:creator>
  <dc:description/>
  <dc:language>en-US</dc:language>
  <cp:lastModifiedBy>Madeleine Filion</cp:lastModifiedBy>
  <dcterms:modified xsi:type="dcterms:W3CDTF">2007-05-02T18:25:19Z</dcterms:modified>
  <cp:revision>31</cp:revision>
  <dc:subject/>
  <dc:title>Remote access to research files resulting from linkages</dc:title>
</cp:coreProperties>
</file>