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17CF2-3E04-4A0F-BAE3-5431DEB72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8D07C-A493-44BD-9F74-8052053BD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020C1-0E4D-4C25-ACB6-39BFA9F8F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53FB9-9029-4536-8907-01FE25E10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CF7BB-7ABA-4C1B-962E-DA2F5F5D1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6C47B-7559-4BEA-884B-542285FBB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15839-11C3-44FB-A853-AA00987BF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C7369-FF98-44CC-B9D5-FC0E44A61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0"/>
            <a:ext cx="777240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D43EF-9F07-47CA-88B6-A7A998B2A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94B2C-5470-4F6C-864B-E0434D71A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40203-5843-4C8E-A38A-7F32DE21C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91917-DEFC-44EA-B178-9F0257CD0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12F2-F11A-4FD0-8292-42BB9FB59B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27000"/>
            <a:ext cx="910764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http://www.epsebe.c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annie.giguere@stat.gouv.qc.ca" TargetMode="External"/><Relationship Id="rId2" Type="http://schemas.openxmlformats.org/officeDocument/2006/relationships/hyperlink" Target="mailto:madeleine.filion@stat.gouv.qc.ca" TargetMode="External"/><Relationship Id="rId3" Type="http://schemas.openxmlformats.org/officeDocument/2006/relationships/hyperlink" Target="http://www.stat.gouv.qc.ca/"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934320"/>
          </a:xfrm>
          <a:prstGeom prst="rect">
            <a:avLst/>
          </a:prstGeom>
          <a:ln w="0">
            <a:noFill/>
          </a:ln>
        </p:spPr>
      </p:pic>
      <p:sp>
        <p:nvSpPr>
          <p:cNvPr id="43" name=""/>
          <p:cNvSpPr/>
          <p:nvPr/>
        </p:nvSpPr>
        <p:spPr>
          <a:xfrm>
            <a:off x="414360" y="692280"/>
            <a:ext cx="7470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mote access to research data files resulting from linkag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tatus of current project</a:t>
            </a:r>
            <a:endParaRPr b="0" lang="en-US" sz="38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he service platform will be in operation in the summer of 200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Times New Roman"/>
                <a:hlinkClick r:id="rId1"/>
              </a:rPr>
              <a:t>www.epsebe.c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Presented by </a:t>
            </a:r>
            <a:r>
              <a:rPr b="0" lang="fr-FR" sz="3200" spc="-1" strike="noStrike">
                <a:solidFill>
                  <a:srgbClr val="000000"/>
                </a:solidFill>
                <a:latin typeface="Times New Roman"/>
              </a:rPr>
              <a:t>Annie Giguère and Madeleine Filion</a:t>
            </a:r>
            <a:endParaRPr b="0" lang="en-US" sz="32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hlinkClick r:id="rId1"/>
              </a:rPr>
              <a:t>annie.giguere@stat.gouv.qc.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hlinkClick r:id="rId2"/>
              </a:rPr>
              <a:t>madeleine.filion@stat.gouv.qc.c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nstitut de la statistique du Québec</a:t>
            </a:r>
            <a:r>
              <a:rPr b="0" lang="fr-CA" sz="3200" spc="-1" strike="noStrike">
                <a:solidFill>
                  <a:srgbClr val="000000"/>
                </a:solidFill>
                <a:latin typeface="Times New Roman"/>
              </a:rPr>
              <a:t>, Canad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Times New Roman"/>
                <a:hlinkClick r:id="rId3"/>
              </a:rPr>
              <a:t>www.stat.gouv.qc.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000000"/>
                </a:solidFill>
                <a:latin typeface="Times New Roman"/>
              </a:rPr>
              <a:t>Introduction</a:t>
            </a:r>
            <a:endParaRPr b="0" lang="en-US" sz="38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cent years, the Institut de la statistique du Québec (ISQ), the official statistical agency of the province of Québec (Canada)</a:t>
            </a:r>
            <a:r>
              <a:rPr b="0" lang="en-GB" sz="3200" spc="-1" strike="noStrike">
                <a:solidFill>
                  <a:srgbClr val="000000"/>
                </a:solidFill>
                <a:latin typeface="Times New Roman"/>
              </a:rPr>
              <a:t> </a:t>
            </a:r>
            <a:r>
              <a:rPr b="0" lang="en-US" sz="3200" spc="-1" strike="noStrike">
                <a:solidFill>
                  <a:srgbClr val="000000"/>
                </a:solidFill>
                <a:latin typeface="Times New Roman"/>
              </a:rPr>
              <a:t>has been faced wit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crease in demand for statistical information and a growing diversity of us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s, particularly researchers, who are increasingly seeking access to microdata files they can process themselv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000000"/>
                </a:solidFill>
                <a:latin typeface="Times New Roman"/>
              </a:rPr>
              <a:t>Introduction</a:t>
            </a:r>
            <a:endParaRPr b="0" lang="en-US" sz="38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4, a partnership project with a network of researchers and other government agencies was launch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alks about the transmission of private information have been carried out according to Québec’s privacy protection legislation.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by researchers to confidential information taken from administrative files is a complex process when the information is requested from different holder agenci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SQ was chosen to host the service platfor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General description</a:t>
            </a: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vice platform is not a data warehous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vice is accessible by means of an Internet portal, through which researchers can submit their requests, follow up on them, and make remote use of the research fi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of researcher’s request</a:t>
            </a: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help the researcher formulate his request, there is a search engine on the Internet portal that can consult the dictionary in order to obtain information on a specific data source or a holder of inform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lso possible to search by keyword, year of data source, categories or data source ow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Processing of researcher’s request</a:t>
            </a:r>
            <a:endParaRPr b="0" lang="en-US" sz="38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the research file resulting from link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the risk of disclosing confidential inform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Remote access to research file</a:t>
            </a:r>
            <a:endParaRPr b="0" lang="en-US" sz="3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evel </a:t>
            </a:r>
            <a:r>
              <a:rPr b="0" lang="en-GB" sz="2800" spc="-1" strike="noStrike">
                <a:solidFill>
                  <a:srgbClr val="000000"/>
                </a:solidFill>
                <a:latin typeface="Times New Roman"/>
              </a:rPr>
              <a:t>security measures</a:t>
            </a:r>
            <a:r>
              <a:rPr b="0" lang="fr-CA" sz="2800" spc="-1" strike="noStrike">
                <a:solidFill>
                  <a:srgbClr val="000000"/>
                </a:solidFill>
                <a:latin typeface="Times New Roman"/>
              </a:rPr>
              <a:t> for </a:t>
            </a:r>
            <a:r>
              <a:rPr b="0" lang="en-US" sz="2800" spc="-1" strike="noStrike">
                <a:solidFill>
                  <a:srgbClr val="000000"/>
                </a:solidFill>
                <a:latin typeface="Times New Roman"/>
              </a:rPr>
              <a:t>authentication of the researcher are requ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possible for the researcher to download or print the data or results</a:t>
            </a:r>
            <a:r>
              <a:rPr b="0" lang="en-GB" sz="2800" spc="-1" strike="noStrike">
                <a:solidFill>
                  <a:srgbClr val="000000"/>
                </a:solidFill>
                <a:latin typeface="Times New Roman"/>
              </a:rPr>
              <a:t> </a:t>
            </a:r>
            <a:r>
              <a:rPr b="0" lang="en-US" sz="2800" spc="-1" strike="noStrike">
                <a:solidFill>
                  <a:srgbClr val="000000"/>
                </a:solidFill>
                <a:latin typeface="Times New Roman"/>
              </a:rPr>
              <a:t>of his analy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er’s work session is recorded and can be studied at any time (in real or delayed tim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Environment &amp; Development</a:t>
            </a:r>
            <a:endParaRPr b="0" lang="en-US" sz="38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s use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 Fusion Middleware 10G (AS and BPEL, Collaboration Suite, D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ze Linux</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Is u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 ADF, Oracle BPEL, Jasper Reports, JAAS, XML, PL/SQ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tools u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 Jdeveloper, Tortoise, DMS Loading To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dded values</a:t>
            </a:r>
            <a:endParaRPr b="0" lang="en-US" sz="38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w servi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s resear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s new means to the research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lerates the current access proc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ation of the service platform at the ISQ provides guarantees that the confidentiality and security of the data will be ensured, given our legal oversight (statistical secrecy) and normative framework in that rega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5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23:10:23Z</dcterms:created>
  <dc:creator>Annie Giguère et Madeleine Filion</dc:creator>
  <dc:description/>
  <dc:language>en-US</dc:language>
  <cp:lastModifiedBy>Madeleine Filion</cp:lastModifiedBy>
  <dcterms:modified xsi:type="dcterms:W3CDTF">2007-05-02T18:25:19Z</dcterms:modified>
  <cp:revision>31</cp:revision>
  <dc:subject/>
  <dc:title>Remote access to research files resulting from linkages</dc:title>
</cp:coreProperties>
</file>