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95E1-64CE-4FAB-8CBD-F9A33040D28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87560" y="87300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tistical information is stored in a number of separate subject matter systems.  The life cycle of the data transformation is embedded into each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system is linked to the underlying meta-data and referenc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formation stores are held in different data management systems (eg. SAS,  Notes and Sybase) and although stored in similar data formats, they are not all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lassifications are not used uniforma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integration/confrontation etc. very diffic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changes to the information store or transformation lifecycle are required across the subject areas there are changes required in each system (eg. Steps,  Imaging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87560" y="87300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in difference between the current framework and the new framework is creation of 3 standard information stores that cross the traditional subject matte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formation stores can be seen as the output from each of the processes:  Collect, Process and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trengthening of the application of common classifications and standards across subject matter areas,  with transparent exceptions that are proactively man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collecting processing metadata as a bi-product of a more automated end to end statistical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tandardised,  well understood framework will reduce the risk,  time and cost of new statistical develop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enable confrontation of a range of data (both series and cross subj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productivity information to support process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interfaces to maintain between statistical data systems and reference and meta-data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2F0-0975-4464-A806-79B6ECBA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F4A-B95A-471E-AE29-F19D7B8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521-1490-4033-9D72-C10A8512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DE0-EC4F-49A7-B668-255D782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D9FF-9348-4C6F-BA6D-637BFB5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775C-074B-499D-B52E-1FCF834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393-9416-486E-B2C9-71DEF52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FEB-B322-4C32-AAD0-BCC0EB44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245E-E43A-4FF8-A7B0-BD11525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6EE-398B-44A6-B33A-4BBE874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D847-83A1-4BD7-8869-C6DCDB8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223-F521-4534-A068-6C7B3BB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EE4-88A0-49B2-803F-0BB4CD1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CE8A-4889-426D-B2C6-0D482D4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48D-E1FC-405E-AA96-1E0FA34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498C-4819-4730-8261-05873481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0920-5B72-461F-8BC4-2F9CAF91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5A0-7F97-4CC9-93AA-9A846AB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B85-9AAC-4CC0-8F54-4D6D121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DF3-37F1-4E8F-8005-C97D99F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3BA-6225-481F-A51A-AC3CC91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DA3-4C87-4E9C-968A-DD2E043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03C-36D1-4464-9935-5616F11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8DA-3B41-44B5-9768-68C7616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054A-8DD3-4A07-BFB6-7E2843F512B3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A63D-796D-4664-B733-E43C7A659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357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model Transformation Strateg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mTS): Transforming our Busines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IS Presentation May 2007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y Dunnet (gary.dunnet@stats.govt.nz)</a:t>
            </a:r>
            <a:br>
              <a:rPr sz="3200"/>
            </a:b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reating a New Business Model for a National Statistical Office if the 21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Century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68400" y="1143000"/>
            <a:ext cx="7205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632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orkflow Run Progres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12536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684360" y="0"/>
          <a:ext cx="7885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0"/>
                    <a:ext cx="7885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Lessons learn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Adoption takes a significant mind shift away from ‘survey model’ to ‘enterprise model’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Expecting generic services from ‘survey based’ projects difficult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Don’t develop Enterprise model while dev</a:t>
            </a: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eloping ‘survey based’ projects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Skilled resources difficult to recruit or grow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Governance is critical to deliver generic solutions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The move from ‘silos’ is often under-estimated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Don’t expect to get it right first time – evolution rather than revolution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28600" y="0"/>
            <a:ext cx="9372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76520"/>
            <a:ext cx="1219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&amp; INF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433680"/>
            <a:ext cx="6324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adata Store (statistical,  e.g. S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967200"/>
            <a:ext cx="6324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erence Data Store (e.g. BF,  C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6904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90480"/>
            <a:ext cx="1295640" cy="5335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690480"/>
            <a:ext cx="1295280" cy="5335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690480"/>
            <a:ext cx="1981080" cy="533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8580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85800"/>
            <a:ext cx="1066680" cy="538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618080"/>
            <a:ext cx="63244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ftware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00868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cument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38020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agement Information - HR &amp; Finance Data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473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7200" y="76320"/>
            <a:ext cx="70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s New Zealand Current Inform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9360" y="1279440"/>
            <a:ext cx="149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Generic Business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54952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CS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752480"/>
            <a:ext cx="2743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MS, 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0574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E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05740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36232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2362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29304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b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236232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66688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971800"/>
            <a:ext cx="1752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7524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8"/>
                </a:lnTo>
                <a:cubicBezTo>
                  <a:pt x="10800" y="9698"/>
                  <a:pt x="5400" y="10598"/>
                  <a:pt x="0" y="10598"/>
                </a:cubicBezTo>
                <a:cubicBezTo>
                  <a:pt x="5400" y="10598"/>
                  <a:pt x="10800" y="11498"/>
                  <a:pt x="10800" y="123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93356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ange of information stores by subject area (sil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76320" y="0"/>
            <a:ext cx="9372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833480"/>
            <a:ext cx="31240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838080"/>
            <a:ext cx="990360" cy="53352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281400"/>
            <a:ext cx="64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adata Store (statistical/process/knowled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738600"/>
            <a:ext cx="64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erence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9048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685800"/>
            <a:ext cx="838080" cy="533520"/>
          </a:xfrm>
          <a:custGeom>
            <a:avLst/>
            <a:gdLst>
              <a:gd name="textAreaLeft" fmla="*/ 0 w 838080"/>
              <a:gd name="textAreaRight" fmla="*/ 838440 w 838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68580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85800"/>
            <a:ext cx="2133720" cy="5335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69048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73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00440" y="7632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s New Zealand Future Inform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9360" y="1279440"/>
            <a:ext cx="149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Generic Business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9051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833480"/>
            <a:ext cx="2438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18334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22906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2747880"/>
            <a:ext cx="60948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638600"/>
            <a:ext cx="63244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ftware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502920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cument Regis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400720"/>
            <a:ext cx="7696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agement Information - HR &amp; Finance Data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913040"/>
            <a:ext cx="18478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confidentiali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py of ID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ly separ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19051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1905120"/>
            <a:ext cx="762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0574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How did we do it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Identified the key (10) components of our information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Service Orientated Architecture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Developed Generic Business Process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Development approach from ‘stove-pipes’ to ‘components’ and ‘core’ team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Governance – Architectural Reviews &amp; Staged Funding Model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Re-use of component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57320" y="1752480"/>
            <a:ext cx="395136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752480"/>
            <a:ext cx="331128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7880" y="3057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Out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9720" y="3446640"/>
            <a:ext cx="6969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6280" y="344664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9800" y="3046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In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92880" y="1776240"/>
            <a:ext cx="1296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0" y="4646520"/>
            <a:ext cx="739764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58840" y="463716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Meta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640" y="494028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23280" y="51562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2920" y="53658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2000" y="5738760"/>
            <a:ext cx="7397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. Reference Data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73240" y="1814400"/>
            <a:ext cx="520704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4. Analyt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3240" y="219564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5. Information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60640" y="257652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6.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76364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46160" y="3446640"/>
            <a:ext cx="73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57320" y="4176720"/>
            <a:ext cx="21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6840" y="42354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. Responden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421956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. Custom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880" y="4176720"/>
            <a:ext cx="2444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31040" y="3503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331040" y="293220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31040" y="2360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082520" y="3529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82520" y="295704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82520" y="2386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7517160" y="3679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RA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7572600" y="3120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6597000" y="2749680"/>
            <a:ext cx="174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Outp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04000" y="2750760"/>
            <a:ext cx="208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Multi-Modal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7470360" y="1926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U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493400" y="2522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911520" y="36795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E-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029600" y="31341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936360" y="19443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946440" y="244620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Adm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7031880" y="269424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Official Statistics System &amp; Data 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38920" y="342756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33560" y="3376440"/>
            <a:ext cx="5373720" cy="673200"/>
          </a:xfrm>
          <a:prstGeom prst="rightArrow">
            <a:avLst>
              <a:gd name="adj1" fmla="val 68602"/>
              <a:gd name="adj2" fmla="val 115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6560" y="3427560"/>
            <a:ext cx="696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4920" y="177156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5156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4940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5372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268280"/>
            <a:ext cx="7397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. 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SOA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12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orkflow Design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212840"/>
            <a:ext cx="6983640" cy="5240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407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773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68400" y="1143000"/>
            <a:ext cx="7205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7-05-05T05:55:11Z</dcterms:modified>
  <cp:revision>41</cp:revision>
  <dc:subject/>
  <dc:title>PowerPoint Presentation</dc:title>
</cp:coreProperties>
</file>