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342-0D61-4109-84B8-5FB59DCE6C1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87560" y="87300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tistical information is stored in a number of separate subject matter systems.  The life cycle of the data transformation is embedded into each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system is linked to the underlying meta-data and referenc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formation stores are held in different data management systems (eg. SAS,  Notes and Sybase) and although stored in similar data formats, they are not all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lassifications are not used uniforma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integration/confrontation etc. very diffic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changes to the information store or transformation lifecycle are required across the subject areas there are changes required in each system (eg. Steps,  Imaging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87560" y="87300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in difference between the current framework and the new framework is creation of 3 standard information stores that cross the traditional subject matte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formation stores can be seen as the output from each of the processes:  Collect, Process and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trengthening of the application of common classifications and standards across subject matter areas,  with transparent exceptions that are proactively man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collecting processing metadata as a bi-product of a more automated end to end statistical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tandardised,  well understood framework will reduce the risk,  time and cost of new statistical develop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enable confrontation of a range of data (both series and cross subj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productivity information to support process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interfaces to maintain between statistical data systems and reference and meta-data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C1E-F654-4037-98EF-9DF6FA5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273-D940-4B28-8754-CC48620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B56-A01A-4179-9DDA-249BC915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678-5BC2-4C16-85C5-415D835D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758-EFAC-4232-9004-00DC16D4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313D-BE8A-4285-97CE-041A679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0B47-7AD0-4911-975D-1DCE3F2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322F-60BB-4AB4-8F64-3F38D43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73B8-EC4E-4910-A15C-A51FB5BA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DA5-951C-4B1A-9554-D1B2708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039-BE9E-4C89-A9AF-A7370EE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236-5302-4AE7-8D6F-D0A5A93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E167-5FBC-4110-AC31-9D1F5A1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D109-02A3-492D-AF91-9C5CB4E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253-7695-4850-9F24-ADF654F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FB51-50F8-4365-99B0-3616F3B5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EF9-E888-4461-8740-99F9C615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EB0-72D1-42E0-924B-FF022A97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5E0-38E9-4BE2-975E-EDF2BD32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18F-F7C4-4CD7-B4B2-3AF2917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A6C-6759-4ACF-AD9D-5AB0F12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D25-B810-45F3-836F-A8DA417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3BA-72F8-4DDA-BFBA-3415171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B1F-DBC1-42B2-8D9E-5B63940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6E2-4A5D-468C-A3E9-110A25426B38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BF3-15C3-48EA-BF12-FE3C4FB9BC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357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model Transformation Strateg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mTS): Transforming our Busines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IS Presentation May 2007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y Dunnet (gary.dunnet@stats.govt.nz)</a:t>
            </a:r>
            <a:br>
              <a:rPr sz="3200"/>
            </a:b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reating a New Business Model for a National Statistical Office if the 21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Century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68400" y="1143000"/>
            <a:ext cx="7205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632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orkflow Run Progres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12536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684360" y="0"/>
          <a:ext cx="7885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0"/>
                    <a:ext cx="7885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Lessons learn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Adoption takes a significant mind shift away from ‘survey model’ to ‘enterprise model’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Expecting generic services from ‘survey based’ projects difficult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Don’t develop Enterprise model while dev</a:t>
            </a: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eloping ‘survey based’ projects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Skilled resources difficult to recruit or grow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Governance is critical to deliver generic solutions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The move from ‘silos’ is often under-estimated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Don’t expect to get it right first time – evolution rather than revolution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28600" y="0"/>
            <a:ext cx="9372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76520"/>
            <a:ext cx="1219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&amp; INF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433680"/>
            <a:ext cx="6324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adata Store (statistical,  e.g. S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967200"/>
            <a:ext cx="6324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erence Data Store (e.g. BF,  C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6904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90480"/>
            <a:ext cx="1295640" cy="5335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690480"/>
            <a:ext cx="1295280" cy="5335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690480"/>
            <a:ext cx="1981080" cy="533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8580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85800"/>
            <a:ext cx="1066680" cy="538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618080"/>
            <a:ext cx="63244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ftware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00868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cument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38020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agement Information - HR &amp; Finance Data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473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7200" y="76320"/>
            <a:ext cx="70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s New Zealand Current Inform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9360" y="1279440"/>
            <a:ext cx="149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Generic Business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54952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CS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752480"/>
            <a:ext cx="2743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MS, 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0574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E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05740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36232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2362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29304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b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236232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66688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97180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7524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8"/>
                </a:lnTo>
                <a:cubicBezTo>
                  <a:pt x="10800" y="9698"/>
                  <a:pt x="5400" y="10598"/>
                  <a:pt x="0" y="10598"/>
                </a:cubicBezTo>
                <a:cubicBezTo>
                  <a:pt x="5400" y="10598"/>
                  <a:pt x="10800" y="11498"/>
                  <a:pt x="10800" y="123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93356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ange of information stores by subject area (sil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76320" y="0"/>
            <a:ext cx="9372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833480"/>
            <a:ext cx="31240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838080"/>
            <a:ext cx="990360" cy="53352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281400"/>
            <a:ext cx="64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adata Store (statistical/process/knowled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738600"/>
            <a:ext cx="64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erence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9048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685800"/>
            <a:ext cx="838080" cy="533520"/>
          </a:xfrm>
          <a:custGeom>
            <a:avLst/>
            <a:gdLst>
              <a:gd name="textAreaLeft" fmla="*/ 0 w 838080"/>
              <a:gd name="textAreaRight" fmla="*/ 838440 w 838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68580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85800"/>
            <a:ext cx="2133720" cy="5335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69048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73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00440" y="7632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s New Zealand Future Inform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9360" y="1279440"/>
            <a:ext cx="149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Generic Business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9051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833480"/>
            <a:ext cx="2438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18334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22906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2747880"/>
            <a:ext cx="60948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638600"/>
            <a:ext cx="63244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ftware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502920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cument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40072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agement Information - HR &amp; Finance Data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913040"/>
            <a:ext cx="18478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confidentiali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py of ID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ly separ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19051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1905120"/>
            <a:ext cx="762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0574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How did we do it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Identified the key (10) components of our information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Service Orientated Architecture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Developed Generic Business Process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Development approach from ‘stove-pipes’ to ‘components’ and ‘core’ team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Governance – Architectural Reviews &amp; Staged Funding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Re-use of component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57320" y="1752480"/>
            <a:ext cx="395136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752480"/>
            <a:ext cx="331128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7880" y="3057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Out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9720" y="3446640"/>
            <a:ext cx="6969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6280" y="344664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9800" y="3046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In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92880" y="1776240"/>
            <a:ext cx="1296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0" y="4646520"/>
            <a:ext cx="739764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58840" y="463716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Meta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640" y="494028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23280" y="51562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2920" y="53658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2000" y="5738760"/>
            <a:ext cx="7397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. Reference Data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73240" y="1814400"/>
            <a:ext cx="520704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4. Analyt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3240" y="219564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5. Information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60640" y="257652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6.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76364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46160" y="3446640"/>
            <a:ext cx="73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57320" y="4176720"/>
            <a:ext cx="21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6840" y="42354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. Responden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21956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. Custom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880" y="4176720"/>
            <a:ext cx="2444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31040" y="3503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331040" y="293220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31040" y="2360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082520" y="3529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82520" y="295704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82520" y="2386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7517160" y="3679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RA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7572600" y="3120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6597000" y="2749680"/>
            <a:ext cx="174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Outp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04000" y="2750760"/>
            <a:ext cx="208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Multi-Modal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7470360" y="1926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U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493400" y="2522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911520" y="36795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E-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029600" y="31341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936360" y="19443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946440" y="244620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Adm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7031880" y="269424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Official Statistics System &amp; Data 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38920" y="342756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33560" y="3376440"/>
            <a:ext cx="5373720" cy="673200"/>
          </a:xfrm>
          <a:prstGeom prst="rightArrow">
            <a:avLst>
              <a:gd name="adj1" fmla="val 68602"/>
              <a:gd name="adj2" fmla="val 115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6560" y="3427560"/>
            <a:ext cx="696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4920" y="177156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5156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4940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5372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268280"/>
            <a:ext cx="7397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. 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SOA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12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orkflow Design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212840"/>
            <a:ext cx="6983640" cy="5240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68400" y="1143000"/>
            <a:ext cx="7205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7-05-05T05:55:11Z</dcterms:modified>
  <cp:revision>41</cp:revision>
  <dc:subject/>
  <dc:title>PowerPoint Presentation</dc:title>
</cp:coreProperties>
</file>