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43770B-B17E-470D-B5AF-32567A3E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4D7DD9-BB06-4BF7-BE9B-4786FB8B5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AAF309-8BB3-4303-A58F-61B18BEA6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39C7A4-6531-4052-AD4A-FA3DC030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8254F8-69E4-4800-BD68-146D5621F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D1BB88-053A-45E1-9977-3BA65DBDD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odd databases, all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ndard interfaces XML, web services, in line with standards being developed under the SDMX 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you see, aims are similar to those of many other statistical ag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are interested in sharing solutions with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tWorks, Meta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already 4 international orgs have received the complete MetaStor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4FA907-ECD4-413B-8D06-1BF59AE62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5B2-292E-4134-94A2-1104AA85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B5E-C18F-4BD1-9D47-05A5DA8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6ED-A806-4FD3-AA67-7143B461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E14-4256-490B-91F8-2421A86F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338-FB2C-4C1E-A717-73062BC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5D1-DEBC-4DF5-B6E6-C57377C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14B-9D63-4D1A-A794-C22AE67F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1E3-1D98-45D7-8C0C-65432649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8B1-E37A-46AC-B7F5-21FD22FE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375-2517-497B-BE9D-60DB18EC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66B-F324-4A22-889B-B2F348CC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DA0-93EE-4FF6-9087-2721F7A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8F9F-A54B-4B41-A0EB-C52320F64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::/ODMA/:PCDOCS/DMSDR1S/2408779/Documents%20and%20Settings/sevans.EVANSINCORPORAT/Local%20Settings/KTILMANS/Local%20Settings/Temporary%20Internet%20Files/OLK57A/window.status=sClickToViewProp%3Breturn%20true%3B" TargetMode="External"/><Relationship Id="rId2" Type="http://schemas.openxmlformats.org/officeDocument/2006/relationships/hyperlink" Target="file:///::/ODMA/:PCDOCS/DMSDR1S/2408779/Documents%20and%20Settings/sevans.EVANSINCORPORAT/Local%20Settings/KTILMANS/Local%20Settings/Temporary%20Internet%20Files/OLK57A/window.status=sClickToViewProp%3Breturn%20true%3B" TargetMode="External"/><Relationship Id="rId3" Type="http://schemas.openxmlformats.org/officeDocument/2006/relationships/hyperlink" Target="file:///::/ODMA/:PCDOCS/DMSDR1S/2408779/Documents%20and%20Settings/sevans.EVANSINCORPORAT/Local%20Settings/KTILMANS/Local%20Settings/Temporary%20Internet%20Files/OLK57A/window.status=sClickToViewProp%3Breturn%20true%3B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hyperlink" Target="file:///::/ODMA/:PCDOCS/DMSDR1S/2408779/Documents%20and%20Settings/sevans.EVANSINCORPORAT/Local%20Settings/KTILMANS/Local%20Settings/Temporary%20Internet%20Files/OLK57A/window.status=sClickToViewProp%3Breturn%20true%3B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1480" y="14320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2050"/>
                </a:solidFill>
                <a:latin typeface="Verdana"/>
              </a:rPr>
              <a:t>Implementing a Statistical Data Warehouse: The Case for a Strong 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4735080"/>
            <a:ext cx="6400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 Italic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27400" y="607860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on the Management of Statistical Information Systems (MSIS), Geneva, May 8-10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01680" y="4518000"/>
            <a:ext cx="455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CD:  Lars Thygesen, Douglas Pat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F:  Cathy Wright, Patrick Hinderda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61a"/>
                </a:solidFill>
                <a:latin typeface="Arial"/>
              </a:rPr>
              <a:t>Delivering the Data Warehouse </a:t>
            </a:r>
            <a:br>
              <a:rPr sz="3200"/>
            </a:br>
            <a:r>
              <a:rPr b="1" lang="en-US" sz="3200" spc="-1" strike="noStrike">
                <a:solidFill>
                  <a:srgbClr val="9e061a"/>
                </a:solidFill>
                <a:latin typeface="Arial"/>
              </a:rPr>
              <a:t>Technology – Just one piece of the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29000" y="4572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ork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3520" y="1066680"/>
            <a:ext cx="7162200" cy="5333760"/>
            <a:chOff x="533520" y="1066680"/>
            <a:chExt cx="7162200" cy="5333760"/>
          </a:xfrm>
        </p:grpSpPr>
        <p:grpSp>
          <p:nvGrpSpPr>
            <p:cNvPr id="306" name=""/>
            <p:cNvGrpSpPr/>
            <p:nvPr/>
          </p:nvGrpSpPr>
          <p:grpSpPr>
            <a:xfrm>
              <a:off x="533520" y="1066680"/>
              <a:ext cx="7162200" cy="5333760"/>
              <a:chOff x="533520" y="1066680"/>
              <a:chExt cx="7162200" cy="5333760"/>
            </a:xfrm>
          </p:grpSpPr>
          <p:sp>
            <p:nvSpPr>
              <p:cNvPr id="307" name="Puzzle3"/>
              <p:cNvSpPr/>
              <p:nvPr/>
            </p:nvSpPr>
            <p:spPr>
              <a:xfrm>
                <a:off x="4021560" y="1066680"/>
                <a:ext cx="2814840" cy="28346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Puzzle2"/>
              <p:cNvSpPr/>
              <p:nvPr/>
            </p:nvSpPr>
            <p:spPr>
              <a:xfrm>
                <a:off x="3202560" y="3131640"/>
                <a:ext cx="4493160" cy="25815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Puzzle4"/>
              <p:cNvSpPr/>
              <p:nvPr/>
            </p:nvSpPr>
            <p:spPr>
              <a:xfrm>
                <a:off x="1463400" y="3099600"/>
                <a:ext cx="2709000" cy="33008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Puzzle1"/>
              <p:cNvSpPr/>
              <p:nvPr/>
            </p:nvSpPr>
            <p:spPr>
              <a:xfrm>
                <a:off x="533520" y="1924200"/>
                <a:ext cx="4549320" cy="19677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2209680" y="3048120"/>
              <a:ext cx="3810240" cy="106884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INFORMATION MANAG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33520" y="1066680"/>
            <a:ext cx="7162200" cy="5333760"/>
            <a:chOff x="533520" y="1066680"/>
            <a:chExt cx="7162200" cy="5333760"/>
          </a:xfrm>
        </p:grpSpPr>
        <p:grpSp>
          <p:nvGrpSpPr>
            <p:cNvPr id="313" name=""/>
            <p:cNvGrpSpPr/>
            <p:nvPr/>
          </p:nvGrpSpPr>
          <p:grpSpPr>
            <a:xfrm>
              <a:off x="533520" y="1066680"/>
              <a:ext cx="7162200" cy="5333760"/>
              <a:chOff x="533520" y="1066680"/>
              <a:chExt cx="7162200" cy="5333760"/>
            </a:xfrm>
          </p:grpSpPr>
          <p:sp>
            <p:nvSpPr>
              <p:cNvPr id="314" name="Puzzle3"/>
              <p:cNvSpPr/>
              <p:nvPr/>
            </p:nvSpPr>
            <p:spPr>
              <a:xfrm>
                <a:off x="4021560" y="1066680"/>
                <a:ext cx="2814840" cy="2834640"/>
              </a:xfrm>
              <a:prstGeom prst="pie">
                <a:avLst/>
              </a:prstGeom>
              <a:solidFill>
                <a:srgbClr val="ffbe7d">
                  <a:alpha val="7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Puzzle2"/>
              <p:cNvSpPr/>
              <p:nvPr/>
            </p:nvSpPr>
            <p:spPr>
              <a:xfrm>
                <a:off x="3202560" y="3131640"/>
                <a:ext cx="4493160" cy="2581560"/>
              </a:xfrm>
              <a:prstGeom prst="pie">
                <a:avLst/>
              </a:prstGeom>
              <a:solidFill>
                <a:srgbClr val="ffff99">
                  <a:alpha val="7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Puzzle4"/>
              <p:cNvSpPr/>
              <p:nvPr/>
            </p:nvSpPr>
            <p:spPr>
              <a:xfrm>
                <a:off x="1463400" y="3099600"/>
                <a:ext cx="2709000" cy="3300840"/>
              </a:xfrm>
              <a:prstGeom prst="pie">
                <a:avLst/>
              </a:prstGeom>
              <a:solidFill>
                <a:srgbClr val="d8ebb3">
                  <a:alpha val="7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Puzzle1"/>
              <p:cNvSpPr/>
              <p:nvPr/>
            </p:nvSpPr>
            <p:spPr>
              <a:xfrm>
                <a:off x="533520" y="1924200"/>
                <a:ext cx="4549320" cy="1967760"/>
              </a:xfrm>
              <a:prstGeom prst="pie">
                <a:avLst/>
              </a:prstGeom>
              <a:solidFill>
                <a:srgbClr val="ccccff">
                  <a:alpha val="7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022480" y="3749760"/>
              <a:ext cx="148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ork Pract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71600" y="2743200"/>
              <a:ext cx="283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nagement Man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18160" y="401940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0920" y="442584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93760" y="5032440"/>
              <a:ext cx="14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 rot="10800000">
              <a:off x="4343040" y="2102400"/>
              <a:ext cx="19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Gover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The Outcome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-depth OECD and IMF collaboration since Dec 2006 – OECD staff at IMF in Febr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doption of IMF.Stat:  World and Regional Economic Outlooks, International Financial Statistics databases will go live May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U to be signed shor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ekly conferenc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itiating discussion of plans for joint development of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OECD Data Warehou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OECD.Stat established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cess to OLIS (government)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cess via Internet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ew dissemination policy 2007-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lready shared components with other organ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he Business Perspective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ame business: production and dissemination of econom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uch of our data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oth organizations support data sharing via SD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imilar organisationa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Why not combine forces to jointly develop a data warehou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61a"/>
                </a:solidFill>
                <a:latin typeface="Arial"/>
                <a:ea typeface="Arial"/>
              </a:rPr>
              <a:t>The Business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048120"/>
            <a:ext cx="20574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1676520"/>
            <a:ext cx="14475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676520"/>
            <a:ext cx="16765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ro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752480"/>
            <a:ext cx="1371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t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1371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-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181480"/>
            <a:ext cx="16002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5181480"/>
            <a:ext cx="19810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tter document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age,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, arch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data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3352680"/>
            <a:ext cx="1447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r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181480"/>
            <a:ext cx="16765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—”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ut”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15000" y="2590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666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048120" y="44197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4419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he Technology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milar development/integration platform and almost identical runtime environments (MS Windows server and clients, MS SQL Server, MS .NET Framework, MS Office su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llaboration tools (MS Sharepoint and Team Foundati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ign code base, functional requirements, development resources, deployment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OECD Statistical Information System (SIS)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24000" y="2276640"/>
            <a:ext cx="8495640" cy="3240720"/>
            <a:chOff x="324000" y="2276640"/>
            <a:chExt cx="8495640" cy="3240720"/>
          </a:xfrm>
        </p:grpSpPr>
        <p:sp>
          <p:nvSpPr>
            <p:cNvPr id="80" name=""/>
            <p:cNvSpPr/>
            <p:nvPr/>
          </p:nvSpPr>
          <p:spPr>
            <a:xfrm>
              <a:off x="493920" y="2276640"/>
              <a:ext cx="186804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51400" y="2276640"/>
              <a:ext cx="204048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78440" y="2276640"/>
              <a:ext cx="187056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Dissemi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18280" y="4494240"/>
              <a:ext cx="2520" cy="34092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09880" y="5070240"/>
              <a:ext cx="1698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78400" y="5070240"/>
              <a:ext cx="179532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3920" y="3470400"/>
              <a:ext cx="509040" cy="51192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617560"/>
              <a:ext cx="2208240" cy="2899800"/>
            </a:xfrm>
            <a:custGeom>
              <a:avLst/>
              <a:gdLst>
                <a:gd name="textAreaLeft" fmla="*/ 107640 w 2208240"/>
                <a:gd name="textAreaRight" fmla="*/ 2100600 w 2208240"/>
                <a:gd name="textAreaTop" fmla="*/ 107640 h 2899800"/>
                <a:gd name="textAreaBottom" fmla="*/ 2792160 h 2899800"/>
              </a:gdLst>
              <a:ahLst/>
              <a:rect l="textAreaLeft" t="textAreaTop" r="textAreaRight" b="textAreaBottom"/>
              <a:pathLst>
                <a:path w="21600" h="28363">
                  <a:moveTo>
                    <a:pt x="3600" y="0"/>
                  </a:moveTo>
                  <a:arcTo wR="3600" hR="3600" stAng="16200000" swAng="-5400000"/>
                  <a:lnTo>
                    <a:pt x="0" y="24763"/>
                  </a:lnTo>
                  <a:arcTo wR="3600" hR="3600" stAng="10800000" swAng="-5400000"/>
                  <a:lnTo>
                    <a:pt x="18000" y="28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1480" y="2617560"/>
              <a:ext cx="2377800" cy="2899800"/>
            </a:xfrm>
            <a:custGeom>
              <a:avLst/>
              <a:gdLst>
                <a:gd name="textAreaLeft" fmla="*/ 115920 w 2377800"/>
                <a:gd name="textAreaRight" fmla="*/ 2261880 w 2377800"/>
                <a:gd name="textAreaTop" fmla="*/ 115920 h 2899800"/>
                <a:gd name="textAreaBottom" fmla="*/ 2783880 h 2899800"/>
              </a:gdLst>
              <a:ahLst/>
              <a:rect l="textAreaLeft" t="textAreaTop" r="textAreaRight" b="textAreaBottom"/>
              <a:pathLst>
                <a:path w="21600" h="26341">
                  <a:moveTo>
                    <a:pt x="3600" y="0"/>
                  </a:moveTo>
                  <a:arcTo wR="3600" hR="3600" stAng="16200000" swAng="-5400000"/>
                  <a:lnTo>
                    <a:pt x="0" y="22741"/>
                  </a:lnTo>
                  <a:arcTo wR="3600" hR="3600" stAng="10800000" swAng="-5400000"/>
                  <a:lnTo>
                    <a:pt x="18000" y="263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08880" y="2617560"/>
              <a:ext cx="2210400" cy="2899800"/>
            </a:xfrm>
            <a:custGeom>
              <a:avLst/>
              <a:gdLst>
                <a:gd name="textAreaLeft" fmla="*/ 107640 w 2210400"/>
                <a:gd name="textAreaRight" fmla="*/ 2102760 w 2210400"/>
                <a:gd name="textAreaTop" fmla="*/ 107640 h 2899800"/>
                <a:gd name="textAreaBottom" fmla="*/ 2792160 h 2899800"/>
              </a:gdLst>
              <a:ahLst/>
              <a:rect l="textAreaLeft" t="textAreaTop" r="textAreaRight" b="textAreaBottom"/>
              <a:pathLst>
                <a:path w="21600" h="28336">
                  <a:moveTo>
                    <a:pt x="3600" y="0"/>
                  </a:moveTo>
                  <a:arcTo wR="3600" hR="3600" stAng="16200000" swAng="-5400000"/>
                  <a:lnTo>
                    <a:pt x="0" y="24736"/>
                  </a:lnTo>
                  <a:arcTo wR="3600" hR="3600" stAng="10800000" swAng="-5400000"/>
                  <a:lnTo>
                    <a:pt x="18000" y="283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3920" y="2787840"/>
              <a:ext cx="186804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Data Prod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(incl. </a:t>
              </a:r>
              <a:r>
                <a:rPr b="1" lang="en-US" sz="1200" spc="-1" strike="noStrike">
                  <a:solidFill>
                    <a:srgbClr val="000080"/>
                  </a:solidFill>
                  <a:latin typeface="Verdana"/>
                  <a:ea typeface="Arial"/>
                </a:rPr>
                <a:t>StatWorks</a:t>
              </a: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73240" y="3470400"/>
              <a:ext cx="509040" cy="51192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2920" y="3470400"/>
              <a:ext cx="509040" cy="51192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3480" y="4323600"/>
              <a:ext cx="15289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94559"/>
                  </a:solidFill>
                  <a:latin typeface="Verdana"/>
                  <a:ea typeface="Arial"/>
                </a:rPr>
                <a:t>MetaStore</a:t>
              </a:r>
              <a:r>
                <a:rPr b="1" lang="en-US" sz="1200" spc="-1" strike="noStrike">
                  <a:solidFill>
                    <a:srgbClr val="000080"/>
                  </a:solidFill>
                  <a:latin typeface="Verdana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82640" y="4664880"/>
              <a:ext cx="679320" cy="682200"/>
            </a:xfrm>
            <a:prstGeom prst="can">
              <a:avLst>
                <a:gd name="adj" fmla="val 2625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eaeaea"/>
                </a:gs>
                <a:gs pos="100000">
                  <a:srgbClr val="ff000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82920" y="3458520"/>
              <a:ext cx="679320" cy="682200"/>
            </a:xfrm>
            <a:prstGeom prst="can">
              <a:avLst>
                <a:gd name="adj" fmla="val 21388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cccc"/>
                </a:gs>
                <a:gs pos="100000">
                  <a:srgbClr val="cc0000"/>
                </a:gs>
              </a:gsLst>
              <a:lin ang="10800000"/>
            </a:gradFill>
            <a:ln w="64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4664880"/>
              <a:ext cx="135864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Statis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Meta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11960" y="2617560"/>
              <a:ext cx="169848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Verdana"/>
                  <a:ea typeface="Arial"/>
                </a:rPr>
                <a:t>OECD.Sta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49400" y="2958840"/>
              <a:ext cx="16984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Corporate Data 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11920" y="4835160"/>
              <a:ext cx="339480" cy="340920"/>
            </a:xfrm>
            <a:prstGeom prst="flowChartSummingJunction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4840" y="4103280"/>
              <a:ext cx="4680" cy="9666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01800" y="3811680"/>
              <a:ext cx="2520" cy="13647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0800" y="4854240"/>
              <a:ext cx="339480" cy="340920"/>
            </a:xfrm>
            <a:prstGeom prst="rightArrow">
              <a:avLst>
                <a:gd name="adj1" fmla="val 55556"/>
                <a:gd name="adj2" fmla="val 69444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8f8f8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1800" y="4494240"/>
              <a:ext cx="6793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XM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2320" y="3811680"/>
              <a:ext cx="339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5176440"/>
              <a:ext cx="339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3480" y="3982680"/>
              <a:ext cx="0" cy="1702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22480" y="3982680"/>
              <a:ext cx="0" cy="68220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43160" y="3982680"/>
              <a:ext cx="0" cy="1702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480" y="4152960"/>
              <a:ext cx="1358640" cy="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89720" y="4835160"/>
              <a:ext cx="339480" cy="340920"/>
            </a:xfrm>
            <a:prstGeom prst="flowChartSummingJunction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40120" y="3129120"/>
              <a:ext cx="84924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97480" y="4103280"/>
              <a:ext cx="0" cy="9666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59280" y="4494240"/>
              <a:ext cx="6793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XM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86720" y="4854240"/>
              <a:ext cx="339480" cy="340920"/>
            </a:xfrm>
            <a:prstGeom prst="rightArrow">
              <a:avLst>
                <a:gd name="adj1" fmla="val 55556"/>
                <a:gd name="adj2" fmla="val 69444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8f8f8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422400" y="3129120"/>
              <a:ext cx="16560" cy="19407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93400" y="2958840"/>
              <a:ext cx="13262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Web 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Webpage"/>
            <p:cNvSpPr/>
            <p:nvPr/>
          </p:nvSpPr>
          <p:spPr>
            <a:xfrm>
              <a:off x="6778440" y="2958840"/>
              <a:ext cx="339480" cy="34092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6948720" y="3129120"/>
              <a:ext cx="37692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438960" y="3129120"/>
              <a:ext cx="339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Webpage"/>
            <p:cNvSpPr/>
            <p:nvPr/>
          </p:nvSpPr>
          <p:spPr>
            <a:xfrm>
              <a:off x="6778440" y="3982680"/>
              <a:ext cx="509760" cy="51120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99960" y="4103280"/>
              <a:ext cx="1209960" cy="11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Boo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C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et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38960" y="4152960"/>
              <a:ext cx="339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09280" y="4792680"/>
              <a:ext cx="339480" cy="340920"/>
            </a:xfrm>
            <a:prstGeom prst="can">
              <a:avLst>
                <a:gd name="adj" fmla="val 20972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cddrive"/>
            <p:cNvSpPr/>
            <p:nvPr/>
          </p:nvSpPr>
          <p:spPr>
            <a:xfrm>
              <a:off x="7278840" y="4963320"/>
              <a:ext cx="339480" cy="34092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70196"/>
                  </a:srgbClr>
                </a:gs>
                <a:gs pos="100000">
                  <a:srgbClr val="eaeaea"/>
                </a:gs>
              </a:gsLst>
              <a:lin ang="54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69440" y="4963320"/>
              <a:ext cx="421920" cy="360360"/>
            </a:xfrm>
            <a:prstGeom prst="verticalScroll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4572000"/>
            <a:ext cx="8839440" cy="276480"/>
          </a:xfrm>
          <a:prstGeom prst="rect">
            <a:avLst/>
          </a:prstGeom>
          <a:solidFill>
            <a:srgbClr val="ffcc00">
              <a:alpha val="9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F-Wide                   Metadata               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59760" y="4235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114300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06668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438280"/>
            <a:ext cx="1752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61a"/>
                </a:solidFill>
                <a:latin typeface="Arial"/>
                <a:ea typeface="Arial"/>
              </a:rPr>
              <a:t>IMF Information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143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 Por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191120" y="1066680"/>
            <a:ext cx="1523880" cy="685800"/>
            <a:chOff x="4191120" y="1066680"/>
            <a:chExt cx="1523880" cy="685800"/>
          </a:xfrm>
        </p:grpSpPr>
        <p:sp>
          <p:nvSpPr>
            <p:cNvPr id="135" name=""/>
            <p:cNvSpPr/>
            <p:nvPr/>
          </p:nvSpPr>
          <p:spPr>
            <a:xfrm>
              <a:off x="4191120" y="1066680"/>
              <a:ext cx="1523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43400" y="12193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F.O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391520" y="1371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n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437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276720"/>
            <a:ext cx="2057400" cy="990360"/>
          </a:xfrm>
          <a:prstGeom prst="rect">
            <a:avLst/>
          </a:prstGeom>
          <a:solidFill>
            <a:srgbClr val="ffcc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nomic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0574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181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533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5334120"/>
            <a:ext cx="609840" cy="685800"/>
            <a:chOff x="152280" y="5334120"/>
            <a:chExt cx="609840" cy="685800"/>
          </a:xfrm>
        </p:grpSpPr>
        <p:sp>
          <p:nvSpPr>
            <p:cNvPr id="147" name=""/>
            <p:cNvSpPr/>
            <p:nvPr/>
          </p:nvSpPr>
          <p:spPr>
            <a:xfrm>
              <a:off x="152280" y="5334120"/>
              <a:ext cx="53352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280" y="556272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Desk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057400" y="5334120"/>
            <a:ext cx="1143000" cy="6858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556272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ercial Data &amp;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5257800"/>
            <a:ext cx="609840" cy="685800"/>
            <a:chOff x="1066680" y="5257800"/>
            <a:chExt cx="609840" cy="685800"/>
          </a:xfrm>
        </p:grpSpPr>
        <p:sp>
          <p:nvSpPr>
            <p:cNvPr id="152" name=""/>
            <p:cNvSpPr/>
            <p:nvPr/>
          </p:nvSpPr>
          <p:spPr>
            <a:xfrm>
              <a:off x="1143000" y="5257800"/>
              <a:ext cx="53352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548640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O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00200" y="5943600"/>
            <a:ext cx="609480" cy="703080"/>
            <a:chOff x="1600200" y="5943600"/>
            <a:chExt cx="609480" cy="703080"/>
          </a:xfrm>
        </p:grpSpPr>
        <p:sp>
          <p:nvSpPr>
            <p:cNvPr id="155" name=""/>
            <p:cNvSpPr/>
            <p:nvPr/>
          </p:nvSpPr>
          <p:spPr>
            <a:xfrm>
              <a:off x="1600200" y="5943600"/>
              <a:ext cx="53316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60958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ther Dept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09480" y="6019920"/>
            <a:ext cx="609480" cy="685800"/>
            <a:chOff x="609480" y="6019920"/>
            <a:chExt cx="609480" cy="685800"/>
          </a:xfrm>
        </p:grpSpPr>
        <p:sp>
          <p:nvSpPr>
            <p:cNvPr id="159" name=""/>
            <p:cNvSpPr/>
            <p:nvPr/>
          </p:nvSpPr>
          <p:spPr>
            <a:xfrm>
              <a:off x="685440" y="6019920"/>
              <a:ext cx="53352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480" y="62485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819520" y="6156360"/>
            <a:ext cx="1066680" cy="6858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646128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ument St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14800" y="6172200"/>
            <a:ext cx="1143000" cy="685800"/>
            <a:chOff x="4114800" y="6172200"/>
            <a:chExt cx="1143000" cy="685800"/>
          </a:xfrm>
        </p:grpSpPr>
        <p:sp>
          <p:nvSpPr>
            <p:cNvPr id="164" name=""/>
            <p:cNvSpPr/>
            <p:nvPr/>
          </p:nvSpPr>
          <p:spPr>
            <a:xfrm>
              <a:off x="4114800" y="6172200"/>
              <a:ext cx="114300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64771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media 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505320" y="5334120"/>
            <a:ext cx="1066680" cy="685800"/>
            <a:chOff x="3505320" y="5334120"/>
            <a:chExt cx="1066680" cy="685800"/>
          </a:xfrm>
        </p:grpSpPr>
        <p:sp>
          <p:nvSpPr>
            <p:cNvPr id="167" name=""/>
            <p:cNvSpPr/>
            <p:nvPr/>
          </p:nvSpPr>
          <p:spPr>
            <a:xfrm>
              <a:off x="3505320" y="5334120"/>
              <a:ext cx="106668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05320" y="556272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pt Docs and 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19520" y="5181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5181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5181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5334120"/>
            <a:ext cx="609840" cy="685800"/>
            <a:chOff x="152280" y="5334120"/>
            <a:chExt cx="609840" cy="685800"/>
          </a:xfrm>
        </p:grpSpPr>
        <p:sp>
          <p:nvSpPr>
            <p:cNvPr id="175" name=""/>
            <p:cNvSpPr/>
            <p:nvPr/>
          </p:nvSpPr>
          <p:spPr>
            <a:xfrm>
              <a:off x="152280" y="5334120"/>
              <a:ext cx="53352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280" y="556272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sk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105520" y="5334120"/>
            <a:ext cx="609480" cy="8380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556272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ACTS Prod 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1240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2952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143000" y="167616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143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3716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e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ac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orkflo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219320" y="1752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1295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ub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1600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 Di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657600" y="15998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129528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 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6002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ata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010280" y="1599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19920" y="5334120"/>
            <a:ext cx="609480" cy="838080"/>
            <a:chOff x="6019920" y="5334120"/>
            <a:chExt cx="609480" cy="838080"/>
          </a:xfrm>
        </p:grpSpPr>
        <p:sp>
          <p:nvSpPr>
            <p:cNvPr id="201" name=""/>
            <p:cNvSpPr/>
            <p:nvPr/>
          </p:nvSpPr>
          <p:spPr>
            <a:xfrm>
              <a:off x="6019920" y="5334120"/>
              <a:ext cx="609480" cy="8380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5880" y="556236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FIN Prod 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781680" y="5334120"/>
            <a:ext cx="685440" cy="838080"/>
            <a:chOff x="6781680" y="5334120"/>
            <a:chExt cx="685440" cy="838080"/>
          </a:xfrm>
        </p:grpSpPr>
        <p:sp>
          <p:nvSpPr>
            <p:cNvPr id="204" name=""/>
            <p:cNvSpPr/>
            <p:nvPr/>
          </p:nvSpPr>
          <p:spPr>
            <a:xfrm>
              <a:off x="6781680" y="5334120"/>
              <a:ext cx="685440" cy="8380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7360" y="5562360"/>
              <a:ext cx="59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TAIMS Prod 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620120" y="5334120"/>
            <a:ext cx="609480" cy="838080"/>
            <a:chOff x="7620120" y="5334120"/>
            <a:chExt cx="609480" cy="838080"/>
          </a:xfrm>
        </p:grpSpPr>
        <p:sp>
          <p:nvSpPr>
            <p:cNvPr id="207" name=""/>
            <p:cNvSpPr/>
            <p:nvPr/>
          </p:nvSpPr>
          <p:spPr>
            <a:xfrm>
              <a:off x="7620120" y="5334120"/>
              <a:ext cx="609480" cy="8380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96080" y="556236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HR Prod 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05920" y="5334120"/>
            <a:ext cx="609480" cy="8380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150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22096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rmation Resource Cat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54160" y="24685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rectory of Exp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960" y="27385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rmation Standards and Guidel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2354400"/>
            <a:ext cx="57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265560" y="258444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35200" y="27381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594360"/>
            <a:ext cx="1525680" cy="32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ernal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594360"/>
            <a:ext cx="1525680" cy="32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594360"/>
            <a:ext cx="1905120" cy="32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Business Partn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5029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345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276720"/>
            <a:ext cx="2209680" cy="990360"/>
          </a:xfrm>
          <a:prstGeom prst="rect">
            <a:avLst/>
          </a:prstGeom>
          <a:solidFill>
            <a:srgbClr val="a50021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/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3276720"/>
            <a:ext cx="2133720" cy="990360"/>
          </a:xfrm>
          <a:prstGeom prst="rect">
            <a:avLst/>
          </a:prstGeom>
          <a:solidFill>
            <a:srgbClr val="a50021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inistr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859000" y="-205740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87880" y="4273560"/>
            <a:ext cx="0" cy="8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02"/>
          <p:cNvSpPr/>
          <p:nvPr/>
        </p:nvSpPr>
        <p:spPr>
          <a:xfrm>
            <a:off x="1828800" y="21337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0" y="15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050"/>
                </a:solidFill>
                <a:latin typeface="Arial"/>
                <a:ea typeface="Arial"/>
              </a:rPr>
              <a:t>IMF Statistical Information Management Enviro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908840" y="1143000"/>
            <a:ext cx="473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20"/>
          <p:cNvSpPr/>
          <p:nvPr/>
        </p:nvSpPr>
        <p:spPr>
          <a:xfrm>
            <a:off x="2743200" y="5334120"/>
            <a:ext cx="1752480" cy="838080"/>
          </a:xfrm>
          <a:prstGeom prst="roundRect">
            <a:avLst>
              <a:gd name="adj" fmla="val 15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2"/>
          <p:cNvSpPr/>
          <p:nvPr/>
        </p:nvSpPr>
        <p:spPr>
          <a:xfrm>
            <a:off x="228600" y="3429000"/>
            <a:ext cx="1752480" cy="762120"/>
          </a:xfrm>
          <a:prstGeom prst="roundRect">
            <a:avLst>
              <a:gd name="adj" fmla="val 15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391520" y="914400"/>
            <a:ext cx="1447560" cy="36576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3657600"/>
              <a:gd name="textAreaBottom" fmla="*/ 3587040 h 3657600"/>
            </a:gdLst>
            <a:ahLst/>
            <a:rect l="textAreaLeft" t="textAreaTop" r="textAreaRight" b="textAreaBottom"/>
            <a:pathLst>
              <a:path w="21600" h="54569">
                <a:moveTo>
                  <a:pt x="3600" y="0"/>
                </a:moveTo>
                <a:arcTo wR="3600" hR="3600" stAng="16200000" swAng="-5400000"/>
                <a:lnTo>
                  <a:pt x="0" y="50969"/>
                </a:lnTo>
                <a:arcTo wR="3600" hR="3600" stAng="10800000" swAng="-5400000"/>
                <a:lnTo>
                  <a:pt x="18000" y="54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>
              <a:alpha val="65000"/>
            </a:srgbClr>
          </a:solid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ebpage"/>
          <p:cNvSpPr/>
          <p:nvPr/>
        </p:nvSpPr>
        <p:spPr>
          <a:xfrm>
            <a:off x="7467480" y="2209680"/>
            <a:ext cx="45720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j0353994"/>
          <p:cNvPicPr/>
          <p:nvPr/>
        </p:nvPicPr>
        <p:blipFill>
          <a:blip r:embed="rId4"/>
          <a:stretch/>
        </p:blipFill>
        <p:spPr>
          <a:xfrm>
            <a:off x="7467480" y="3809880"/>
            <a:ext cx="4572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7"/>
          <p:cNvGraphicFramePr/>
          <p:nvPr/>
        </p:nvGraphicFramePr>
        <p:xfrm>
          <a:off x="7391520" y="2895480"/>
          <a:ext cx="5331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895480"/>
                    <a:ext cx="533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4"/>
          <p:cNvSpPr/>
          <p:nvPr/>
        </p:nvSpPr>
        <p:spPr>
          <a:xfrm>
            <a:off x="7924680" y="205740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MF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784872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Pub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8001000" y="164304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ddddd"/>
                </a:solidFill>
                <a:latin typeface="Tahoma"/>
                <a:ea typeface="Arial"/>
              </a:rPr>
              <a:t>E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7238880" y="9907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2"/>
          <p:cNvSpPr/>
          <p:nvPr/>
        </p:nvSpPr>
        <p:spPr>
          <a:xfrm>
            <a:off x="228600" y="4724280"/>
            <a:ext cx="8610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Metadata (MetaStore, DSB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49"/>
          <p:cNvSpPr/>
          <p:nvPr/>
        </p:nvSpPr>
        <p:spPr>
          <a:xfrm>
            <a:off x="228600" y="1752480"/>
            <a:ext cx="1752480" cy="762120"/>
          </a:xfrm>
          <a:prstGeom prst="roundRect">
            <a:avLst>
              <a:gd name="adj" fmla="val 15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7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9"/>
          <p:cNvSpPr/>
          <p:nvPr/>
        </p:nvSpPr>
        <p:spPr>
          <a:xfrm>
            <a:off x="5257800" y="4876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97"/>
          <p:cNvSpPr/>
          <p:nvPr/>
        </p:nvSpPr>
        <p:spPr>
          <a:xfrm>
            <a:off x="5029200" y="1219320"/>
            <a:ext cx="1444680" cy="2895480"/>
          </a:xfrm>
          <a:custGeom>
            <a:avLst/>
            <a:gdLst>
              <a:gd name="textAreaLeft" fmla="*/ 70200 w 1444680"/>
              <a:gd name="textAreaRight" fmla="*/ 1374480 w 1444680"/>
              <a:gd name="textAreaTop" fmla="*/ 70200 h 2895480"/>
              <a:gd name="textAreaBottom" fmla="*/ 2825280 h 2895480"/>
            </a:gdLst>
            <a:ahLst/>
            <a:rect l="textAreaLeft" t="textAreaTop" r="textAreaRight" b="textAreaBottom"/>
            <a:pathLst>
              <a:path w="21600" h="43286">
                <a:moveTo>
                  <a:pt x="3600" y="0"/>
                </a:moveTo>
                <a:arcTo wR="3600" hR="3600" stAng="16200000" swAng="-5400000"/>
                <a:lnTo>
                  <a:pt x="0" y="39686"/>
                </a:lnTo>
                <a:arcTo wR="3600" hR="3600" stAng="10800000" swAng="-5400000"/>
                <a:lnTo>
                  <a:pt x="18000" y="43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>
              <a:alpha val="65000"/>
            </a:srgbClr>
          </a:solid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5"/>
          <p:cNvSpPr/>
          <p:nvPr/>
        </p:nvSpPr>
        <p:spPr>
          <a:xfrm>
            <a:off x="5181480" y="227016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RE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xternal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3"/>
          <p:cNvSpPr/>
          <p:nvPr/>
        </p:nvSpPr>
        <p:spPr>
          <a:xfrm>
            <a:off x="4952880" y="134136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conom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are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F.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85"/>
          <p:cNvSpPr/>
          <p:nvPr/>
        </p:nvSpPr>
        <p:spPr>
          <a:xfrm>
            <a:off x="190512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28600" y="914400"/>
            <a:ext cx="1447920" cy="36576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3657600"/>
              <a:gd name="textAreaBottom" fmla="*/ 3587040 h 3657600"/>
            </a:gdLst>
            <a:ahLst/>
            <a:rect l="textAreaLeft" t="textAreaTop" r="textAreaRight" b="textAreaBottom"/>
            <a:pathLst>
              <a:path w="21600" h="54556">
                <a:moveTo>
                  <a:pt x="3600" y="0"/>
                </a:moveTo>
                <a:arcTo wR="3600" hR="3600" stAng="16200000" swAng="-5400000"/>
                <a:lnTo>
                  <a:pt x="0" y="50956"/>
                </a:lnTo>
                <a:arcTo wR="3600" hR="3600" stAng="10800000" swAng="-5400000"/>
                <a:lnTo>
                  <a:pt x="18000" y="545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>
              <a:alpha val="65000"/>
            </a:srgbClr>
          </a:solid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0"/>
          <p:cNvSpPr/>
          <p:nvPr/>
        </p:nvSpPr>
        <p:spPr>
          <a:xfrm>
            <a:off x="266760" y="9907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8"/>
          <p:cNvSpPr/>
          <p:nvPr/>
        </p:nvSpPr>
        <p:spPr>
          <a:xfrm>
            <a:off x="0" y="2286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ICS (Excel/SDMXM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89"/>
          <p:cNvGrpSpPr/>
          <p:nvPr/>
        </p:nvGrpSpPr>
        <p:grpSpPr>
          <a:xfrm>
            <a:off x="533520" y="1523880"/>
            <a:ext cx="914040" cy="641160"/>
            <a:chOff x="533520" y="1523880"/>
            <a:chExt cx="914040" cy="641160"/>
          </a:xfrm>
        </p:grpSpPr>
        <p:sp>
          <p:nvSpPr>
            <p:cNvPr id="263" name="AutoShape 90"/>
            <p:cNvSpPr/>
            <p:nvPr/>
          </p:nvSpPr>
          <p:spPr>
            <a:xfrm>
              <a:off x="533520" y="1523880"/>
              <a:ext cx="914040" cy="64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Picture 91" descr="j0199142[1]"/>
            <p:cNvPicPr/>
            <p:nvPr/>
          </p:nvPicPr>
          <p:blipFill>
            <a:blip r:embed="rId8"/>
            <a:stretch/>
          </p:blipFill>
          <p:spPr>
            <a:xfrm>
              <a:off x="634680" y="1603800"/>
              <a:ext cx="651960" cy="48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125"/>
          <p:cNvSpPr/>
          <p:nvPr/>
        </p:nvSpPr>
        <p:spPr>
          <a:xfrm>
            <a:off x="343080" y="3276720"/>
            <a:ext cx="1218960" cy="1066680"/>
          </a:xfrm>
          <a:prstGeom prst="flowChartMagneticDisk">
            <a:avLst/>
          </a:prstGeom>
          <a:solidFill>
            <a:srgbClr val="bdcc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22"/>
          <p:cNvSpPr/>
          <p:nvPr/>
        </p:nvSpPr>
        <p:spPr>
          <a:xfrm>
            <a:off x="2666880" y="1219320"/>
            <a:ext cx="1447920" cy="28954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895480"/>
              <a:gd name="textAreaBottom" fmla="*/ 2824920 h 2895480"/>
            </a:gdLst>
            <a:ahLst/>
            <a:rect l="textAreaLeft" t="textAreaTop" r="textAreaRight" b="textAreaBottom"/>
            <a:pathLst>
              <a:path w="21600" h="43189">
                <a:moveTo>
                  <a:pt x="3600" y="0"/>
                </a:moveTo>
                <a:arcTo wR="3600" hR="3600" stAng="16200000" swAng="-5400000"/>
                <a:lnTo>
                  <a:pt x="0" y="39589"/>
                </a:lnTo>
                <a:arcTo wR="3600" hR="3600" stAng="10800000" swAng="-5400000"/>
                <a:lnTo>
                  <a:pt x="18000" y="4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>
              <a:alpha val="65000"/>
            </a:srgbClr>
          </a:solid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37"/>
          <p:cNvGrpSpPr/>
          <p:nvPr/>
        </p:nvGrpSpPr>
        <p:grpSpPr>
          <a:xfrm>
            <a:off x="2743200" y="2422440"/>
            <a:ext cx="1295280" cy="855360"/>
            <a:chOff x="2743200" y="2422440"/>
            <a:chExt cx="1295280" cy="855360"/>
          </a:xfrm>
        </p:grpSpPr>
        <p:pic>
          <p:nvPicPr>
            <p:cNvPr id="268" name="Picture 123" descr="j0196042"/>
            <p:cNvPicPr/>
            <p:nvPr/>
          </p:nvPicPr>
          <p:blipFill>
            <a:blip r:embed="rId9"/>
            <a:stretch/>
          </p:blipFill>
          <p:spPr>
            <a:xfrm>
              <a:off x="2743200" y="2557800"/>
              <a:ext cx="60948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24"/>
            <p:cNvSpPr/>
            <p:nvPr/>
          </p:nvSpPr>
          <p:spPr>
            <a:xfrm>
              <a:off x="3276720" y="2422440"/>
              <a:ext cx="7617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re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ep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Exc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rem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27"/>
          <p:cNvSpPr/>
          <p:nvPr/>
        </p:nvSpPr>
        <p:spPr>
          <a:xfrm>
            <a:off x="5486400" y="35053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conometr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28"/>
          <p:cNvSpPr/>
          <p:nvPr/>
        </p:nvSpPr>
        <p:spPr>
          <a:xfrm>
            <a:off x="2590920" y="12193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136"/>
          <p:cNvGrpSpPr/>
          <p:nvPr/>
        </p:nvGrpSpPr>
        <p:grpSpPr>
          <a:xfrm>
            <a:off x="2666880" y="3355920"/>
            <a:ext cx="1524240" cy="455760"/>
            <a:chOff x="2666880" y="3355920"/>
            <a:chExt cx="1524240" cy="455760"/>
          </a:xfrm>
        </p:grpSpPr>
        <p:sp>
          <p:nvSpPr>
            <p:cNvPr id="273" name="Text Box 28"/>
            <p:cNvSpPr/>
            <p:nvPr/>
          </p:nvSpPr>
          <p:spPr>
            <a:xfrm>
              <a:off x="3276720" y="341316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e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rem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4" name="Object 29"/>
            <p:cNvGraphicFramePr/>
            <p:nvPr/>
          </p:nvGraphicFramePr>
          <p:xfrm>
            <a:off x="2666880" y="3355920"/>
            <a:ext cx="762120" cy="448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75" name="Object 2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66880" y="3355920"/>
                      <a:ext cx="762120" cy="44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" name="Line 160"/>
          <p:cNvSpPr/>
          <p:nvPr/>
        </p:nvSpPr>
        <p:spPr>
          <a:xfrm flipV="1">
            <a:off x="914400" y="4571640"/>
            <a:ext cx="0" cy="3049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61"/>
          <p:cNvSpPr/>
          <p:nvPr/>
        </p:nvSpPr>
        <p:spPr>
          <a:xfrm flipV="1">
            <a:off x="3352680" y="4114440"/>
            <a:ext cx="0" cy="7621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2"/>
          <p:cNvSpPr/>
          <p:nvPr/>
        </p:nvSpPr>
        <p:spPr>
          <a:xfrm flipV="1">
            <a:off x="5791320" y="4114440"/>
            <a:ext cx="0" cy="7621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63"/>
          <p:cNvSpPr/>
          <p:nvPr/>
        </p:nvSpPr>
        <p:spPr>
          <a:xfrm flipV="1">
            <a:off x="8077320" y="4571640"/>
            <a:ext cx="0" cy="3049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66"/>
          <p:cNvSpPr/>
          <p:nvPr/>
        </p:nvSpPr>
        <p:spPr>
          <a:xfrm>
            <a:off x="380880" y="3276720"/>
            <a:ext cx="1143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xternal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OE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Global Ins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Haver Analy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Bloomber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67"/>
          <p:cNvSpPr/>
          <p:nvPr/>
        </p:nvSpPr>
        <p:spPr>
          <a:xfrm>
            <a:off x="1654200" y="5165640"/>
            <a:ext cx="558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2050"/>
                </a:solidFill>
                <a:latin typeface="Tahoma"/>
                <a:ea typeface="Arial"/>
              </a:rPr>
              <a:t>Supporting Capital and </a:t>
            </a:r>
            <a:r>
              <a:rPr b="0" i="1" lang="en-US" sz="2000" spc="-1" strike="noStrike">
                <a:solidFill>
                  <a:srgbClr val="ba2050"/>
                </a:solidFill>
                <a:latin typeface="Tahoma"/>
                <a:ea typeface="Arial"/>
              </a:rPr>
              <a:t>Administrative</a:t>
            </a:r>
            <a:r>
              <a:rPr b="0" lang="en-US" sz="2000" spc="-1" strike="noStrike">
                <a:solidFill>
                  <a:srgbClr val="ba2050"/>
                </a:solidFill>
                <a:latin typeface="Tahoma"/>
                <a:ea typeface="Arial"/>
              </a:rPr>
              <a:t>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82"/>
          <p:cNvSpPr/>
          <p:nvPr/>
        </p:nvSpPr>
        <p:spPr>
          <a:xfrm>
            <a:off x="7620120" y="3962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CD 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84" descr="EI_iconsFinal"/>
          <p:cNvPicPr/>
          <p:nvPr/>
        </p:nvPicPr>
        <p:blipFill>
          <a:blip r:embed="rId12"/>
          <a:stretch/>
        </p:blipFill>
        <p:spPr>
          <a:xfrm>
            <a:off x="5105520" y="356544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91"/>
          <p:cNvSpPr/>
          <p:nvPr/>
        </p:nvSpPr>
        <p:spPr>
          <a:xfrm>
            <a:off x="3276720" y="18129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92" descr="edffnl1"/>
          <p:cNvPicPr/>
          <p:nvPr/>
        </p:nvPicPr>
        <p:blipFill>
          <a:blip r:embed="rId13"/>
          <a:stretch/>
        </p:blipFill>
        <p:spPr>
          <a:xfrm>
            <a:off x="2743200" y="1752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8" descr="Picture1"/>
          <p:cNvPicPr/>
          <p:nvPr/>
        </p:nvPicPr>
        <p:blipFill>
          <a:blip r:embed="rId14"/>
          <a:stretch/>
        </p:blipFill>
        <p:spPr>
          <a:xfrm>
            <a:off x="7467480" y="1490760"/>
            <a:ext cx="493920" cy="5666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203"/>
          <p:cNvSpPr/>
          <p:nvPr/>
        </p:nvSpPr>
        <p:spPr>
          <a:xfrm>
            <a:off x="4191120" y="205740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04"/>
          <p:cNvSpPr/>
          <p:nvPr/>
        </p:nvSpPr>
        <p:spPr>
          <a:xfrm>
            <a:off x="6553080" y="21337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205"/>
          <p:cNvSpPr/>
          <p:nvPr/>
        </p:nvSpPr>
        <p:spPr>
          <a:xfrm>
            <a:off x="5029200" y="3124080"/>
            <a:ext cx="1447920" cy="0"/>
          </a:xfrm>
          <a:prstGeom prst="line">
            <a:avLst/>
          </a:prstGeom>
          <a:ln w="2232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06"/>
          <p:cNvSpPr/>
          <p:nvPr/>
        </p:nvSpPr>
        <p:spPr>
          <a:xfrm>
            <a:off x="4952880" y="3154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20"/>
          <p:cNvSpPr/>
          <p:nvPr/>
        </p:nvSpPr>
        <p:spPr>
          <a:xfrm>
            <a:off x="211320" y="5562720"/>
            <a:ext cx="1812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17 .Net Migration(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021 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056 SDM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21"/>
          <p:cNvSpPr/>
          <p:nvPr/>
        </p:nvSpPr>
        <p:spPr>
          <a:xfrm>
            <a:off x="2209680" y="5486400"/>
            <a:ext cx="2514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46 WEO Production Redesig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060 Metadata 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17 .Net migration (ED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#000019 EDF Enhanc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#00031 Balance Sheet Approach IT10112 Financial Soundness Indic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052 EDF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37 Metadata Reposi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22"/>
          <p:cNvSpPr/>
          <p:nvPr/>
        </p:nvSpPr>
        <p:spPr>
          <a:xfrm>
            <a:off x="6972480" y="5562720"/>
            <a:ext cx="2085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#000030 Economic Data Diss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9009 E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23"/>
          <p:cNvSpPr/>
          <p:nvPr/>
        </p:nvSpPr>
        <p:spPr>
          <a:xfrm>
            <a:off x="4987080" y="5562720"/>
            <a:ext cx="214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30 ED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#000041 Economist Models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9320 Econometric 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45 High End Comp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Elbow Connector 69"/>
          <p:cNvCxnSpPr/>
          <p:nvPr/>
        </p:nvCxnSpPr>
        <p:spPr>
          <a:xfrm flipV="1">
            <a:off x="1905120" y="2818800"/>
            <a:ext cx="3048480" cy="1462680"/>
          </a:xfrm>
          <a:prstGeom prst="bentConnector3">
            <a:avLst>
              <a:gd name="adj1" fmla="val 79674"/>
            </a:avLst>
          </a:prstGeom>
          <a:ln w="76320">
            <a:solidFill>
              <a:srgbClr val="00cc99"/>
            </a:solidFill>
            <a:prstDash val="sysDot"/>
            <a:round/>
            <a:tailEnd len="med" type="arrow" w="med"/>
          </a:ln>
        </p:spPr>
      </p:cxnSp>
      <p:sp>
        <p:nvSpPr>
          <p:cNvPr id="296" name=""/>
          <p:cNvSpPr/>
          <p:nvPr/>
        </p:nvSpPr>
        <p:spPr>
          <a:xfrm>
            <a:off x="6781680" y="1676520"/>
            <a:ext cx="609840" cy="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1066680"/>
            <a:ext cx="0" cy="60984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160020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48320" y="990360"/>
            <a:ext cx="0" cy="60948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990720"/>
            <a:ext cx="1905120" cy="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Unicode MS"/>
              </a:rPr>
              <a:t>Memorandum of 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Responsibilities and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haring of further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ooling of technic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imilar to Open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pen to other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04:08:56Z</dcterms:created>
  <dc:creator>Trial User</dc:creator>
  <dc:description/>
  <dc:language>en-US</dc:language>
  <cp:lastModifiedBy>Cwright</cp:lastModifiedBy>
  <dcterms:modified xsi:type="dcterms:W3CDTF">2007-05-03T15:28:25Z</dcterms:modified>
  <cp:revision>423</cp:revision>
  <dc:subject/>
  <dc:title>PowerPoint Presentation</dc:title>
</cp:coreProperties>
</file>