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07626E-AE9D-46DE-AE92-D336C8D67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36EEDF-064D-4332-93A5-8C881AC8F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E4C99D-F572-419A-BE0C-B786D101C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45129A-7ADC-49BA-9C9E-DBFFB5D9B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75CBA0-9E00-45F8-A069-91736C25D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4603B2-BA7A-4274-A313-26965D2CC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 odd databases, all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ndard interfaces XML, web services, in line with standards being developed under the SDMX initi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 you see, aims are similar to those of many other statistical agen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are interested in sharing solutions with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tWorks, MetaS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already 4 international orgs have received the complete MetaStore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1D78E2-DB2D-41AB-8F48-75E645051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12A-7D63-446F-83C5-F7345595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336-A8F8-4972-ADE6-45EE743C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978-EF87-4FBB-BB68-2FF0D544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6A0-9D39-41D1-ACE3-D40AADDC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889B-2ED9-4559-BA30-53FC001C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C9C8-AA63-41D7-B209-7C8C77E9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CDF-A484-4ACC-B6C3-7911238A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E53E-455D-427B-BFC4-D37FDCD4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89B4-16F5-434B-A5F4-7CCA8BD5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F89-8FA8-4066-A4BB-F0C66BDC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36FE-0ED0-49A0-B09C-912D893A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258E-FAD7-4146-82D7-71BAF164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FEB3-AC6A-4941-96A9-284EE7FA6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::/ODMA/:PCDOCS/DMSDR1S/2408779/Documents%20and%20Settings/sevans.EVANSINCORPORAT/Local%20Settings/KTILMANS/Local%20Settings/Temporary%20Internet%20Files/OLK57A/window.status=sClickToViewProp%3Breturn%20true%3B" TargetMode="External"/><Relationship Id="rId2" Type="http://schemas.openxmlformats.org/officeDocument/2006/relationships/hyperlink" Target="file:///::/ODMA/:PCDOCS/DMSDR1S/2408779/Documents%20and%20Settings/sevans.EVANSINCORPORAT/Local%20Settings/KTILMANS/Local%20Settings/Temporary%20Internet%20Files/OLK57A/window.status=sClickToViewProp%3Breturn%20true%3B" TargetMode="External"/><Relationship Id="rId3" Type="http://schemas.openxmlformats.org/officeDocument/2006/relationships/hyperlink" Target="file:///::/ODMA/:PCDOCS/DMSDR1S/2408779/Documents%20and%20Settings/sevans.EVANSINCORPORAT/Local%20Settings/KTILMANS/Local%20Settings/Temporary%20Internet%20Files/OLK57A/window.status=sClickToViewProp%3Breturn%20true%3B" TargetMode="External"/><Relationship Id="rId4" Type="http://schemas.openxmlformats.org/officeDocument/2006/relationships/image" Target="../media/image3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hyperlink" Target="file:///::/ODMA/:PCDOCS/DMSDR1S/2408779/Documents%20and%20Settings/sevans.EVANSINCORPORAT/Local%20Settings/KTILMANS/Local%20Settings/Temporary%20Internet%20Files/OLK57A/window.status=sClickToViewProp%3Breturn%20true%3B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1480" y="14320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2050"/>
                </a:solidFill>
                <a:latin typeface="Verdana"/>
              </a:rPr>
              <a:t>Implementing a Statistical Data Warehouse: The Case for a Strong Part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47920" y="4735080"/>
            <a:ext cx="640080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 Italic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27400" y="6078600"/>
            <a:ext cx="56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on the Management of Statistical Information Systems (MSIS), Geneva, May 8-10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01680" y="4518000"/>
            <a:ext cx="455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CD:  Lars Thygesen, Douglas Pat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F:  Cathy Wright, Patrick Hinderda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061a"/>
                </a:solidFill>
                <a:latin typeface="Arial"/>
              </a:rPr>
              <a:t>Delivering the Data Warehouse </a:t>
            </a:r>
            <a:br>
              <a:rPr sz="3200"/>
            </a:br>
            <a:r>
              <a:rPr b="1" lang="en-US" sz="3200" spc="-1" strike="noStrike">
                <a:solidFill>
                  <a:srgbClr val="9e061a"/>
                </a:solidFill>
                <a:latin typeface="Arial"/>
              </a:rPr>
              <a:t>Technology – Just one piece of the puzz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29000" y="4572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ork Prac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33520" y="1066680"/>
            <a:ext cx="7162200" cy="5333760"/>
            <a:chOff x="533520" y="1066680"/>
            <a:chExt cx="7162200" cy="5333760"/>
          </a:xfrm>
        </p:grpSpPr>
        <p:grpSp>
          <p:nvGrpSpPr>
            <p:cNvPr id="306" name=""/>
            <p:cNvGrpSpPr/>
            <p:nvPr/>
          </p:nvGrpSpPr>
          <p:grpSpPr>
            <a:xfrm>
              <a:off x="533520" y="1066680"/>
              <a:ext cx="7162200" cy="5333760"/>
              <a:chOff x="533520" y="1066680"/>
              <a:chExt cx="7162200" cy="5333760"/>
            </a:xfrm>
          </p:grpSpPr>
          <p:sp>
            <p:nvSpPr>
              <p:cNvPr id="307" name="Puzzle3"/>
              <p:cNvSpPr/>
              <p:nvPr/>
            </p:nvSpPr>
            <p:spPr>
              <a:xfrm>
                <a:off x="4021560" y="1066680"/>
                <a:ext cx="2814840" cy="283464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Puzzle2"/>
              <p:cNvSpPr/>
              <p:nvPr/>
            </p:nvSpPr>
            <p:spPr>
              <a:xfrm>
                <a:off x="3202560" y="3131640"/>
                <a:ext cx="4493160" cy="258156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Puzzle4"/>
              <p:cNvSpPr/>
              <p:nvPr/>
            </p:nvSpPr>
            <p:spPr>
              <a:xfrm>
                <a:off x="1463400" y="3099600"/>
                <a:ext cx="2709000" cy="330084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Puzzle1"/>
              <p:cNvSpPr/>
              <p:nvPr/>
            </p:nvSpPr>
            <p:spPr>
              <a:xfrm>
                <a:off x="533520" y="1924200"/>
                <a:ext cx="4549320" cy="196776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2209680" y="3048120"/>
              <a:ext cx="3810240" cy="106884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INFORMATION MANAG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33520" y="1066680"/>
            <a:ext cx="7162200" cy="5333760"/>
            <a:chOff x="533520" y="1066680"/>
            <a:chExt cx="7162200" cy="5333760"/>
          </a:xfrm>
        </p:grpSpPr>
        <p:grpSp>
          <p:nvGrpSpPr>
            <p:cNvPr id="313" name=""/>
            <p:cNvGrpSpPr/>
            <p:nvPr/>
          </p:nvGrpSpPr>
          <p:grpSpPr>
            <a:xfrm>
              <a:off x="533520" y="1066680"/>
              <a:ext cx="7162200" cy="5333760"/>
              <a:chOff x="533520" y="1066680"/>
              <a:chExt cx="7162200" cy="5333760"/>
            </a:xfrm>
          </p:grpSpPr>
          <p:sp>
            <p:nvSpPr>
              <p:cNvPr id="314" name="Puzzle3"/>
              <p:cNvSpPr/>
              <p:nvPr/>
            </p:nvSpPr>
            <p:spPr>
              <a:xfrm>
                <a:off x="4021560" y="1066680"/>
                <a:ext cx="2814840" cy="2834640"/>
              </a:xfrm>
              <a:prstGeom prst="pie">
                <a:avLst/>
              </a:prstGeom>
              <a:solidFill>
                <a:srgbClr val="ffbe7d">
                  <a:alpha val="7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Puzzle2"/>
              <p:cNvSpPr/>
              <p:nvPr/>
            </p:nvSpPr>
            <p:spPr>
              <a:xfrm>
                <a:off x="3202560" y="3131640"/>
                <a:ext cx="4493160" cy="2581560"/>
              </a:xfrm>
              <a:prstGeom prst="pie">
                <a:avLst/>
              </a:prstGeom>
              <a:solidFill>
                <a:srgbClr val="ffff99">
                  <a:alpha val="7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Puzzle4"/>
              <p:cNvSpPr/>
              <p:nvPr/>
            </p:nvSpPr>
            <p:spPr>
              <a:xfrm>
                <a:off x="1463400" y="3099600"/>
                <a:ext cx="2709000" cy="3300840"/>
              </a:xfrm>
              <a:prstGeom prst="pie">
                <a:avLst/>
              </a:prstGeom>
              <a:solidFill>
                <a:srgbClr val="d8ebb3">
                  <a:alpha val="7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Puzzle1"/>
              <p:cNvSpPr/>
              <p:nvPr/>
            </p:nvSpPr>
            <p:spPr>
              <a:xfrm>
                <a:off x="533520" y="1924200"/>
                <a:ext cx="4549320" cy="1967760"/>
              </a:xfrm>
              <a:prstGeom prst="pie">
                <a:avLst/>
              </a:prstGeom>
              <a:solidFill>
                <a:srgbClr val="ccccff">
                  <a:alpha val="7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022480" y="3749760"/>
              <a:ext cx="148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Work Pract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71600" y="2743200"/>
              <a:ext cx="283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anagement Man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718160" y="401940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90920" y="442584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93760" y="5032440"/>
              <a:ext cx="14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 rot="10800000">
              <a:off x="4343040" y="2102400"/>
              <a:ext cx="193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Gover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Unicode MS"/>
              </a:rPr>
              <a:t>The Outcome to 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-depth OECD and IMF collaboration since Dec 2006 – OECD staff at IMF in Febru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doption of IMF.Stat:  World and Regional Economic Outlooks, International Financial Statistics databases will go live May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OU to be signed shor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eekly conferenc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itiating discussion of plans for joint development of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Unicode MS"/>
              </a:rPr>
              <a:t>OECD Data Warehou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OECD.Stat established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ccess to OLIS (government)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ccess via Internet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New dissemination policy 2007-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lready shared components with other organis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The Business Perspective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ame business: production and dissemination of economic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Much of our data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Both organizations support data sharing via SDM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imilar organisational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Why not combine forces to jointly develop a data warehou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061a"/>
                </a:solidFill>
                <a:latin typeface="Arial"/>
                <a:ea typeface="Arial"/>
              </a:rPr>
              <a:t>The Business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3048120"/>
            <a:ext cx="20574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1676520"/>
            <a:ext cx="144756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1676520"/>
            <a:ext cx="16765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rov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752480"/>
            <a:ext cx="13716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t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3352680"/>
            <a:ext cx="13716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st-eff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5181480"/>
            <a:ext cx="16002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5181480"/>
            <a:ext cx="19810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tter documenta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age,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ol, archi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data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3352680"/>
            <a:ext cx="14479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r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5181480"/>
            <a:ext cx="16765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—”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bout”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4419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3809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3809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715000" y="25909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2666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048120" y="44197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44197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The Technology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milar development/integration platform and almost identical runtime environments (MS Windows server and clients, MS SQL Server, MS .NET Framework, MS Office su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llaboration tools (MS Sharepoint and Team Foundation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lign code base, functional requirements, development resources, deployment 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Unicode MS"/>
              </a:rPr>
              <a:t>OECD Statistical Information System (SIS)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24000" y="2276640"/>
            <a:ext cx="8495640" cy="3240720"/>
            <a:chOff x="324000" y="2276640"/>
            <a:chExt cx="8495640" cy="3240720"/>
          </a:xfrm>
        </p:grpSpPr>
        <p:sp>
          <p:nvSpPr>
            <p:cNvPr id="80" name=""/>
            <p:cNvSpPr/>
            <p:nvPr/>
          </p:nvSpPr>
          <p:spPr>
            <a:xfrm>
              <a:off x="493920" y="2276640"/>
              <a:ext cx="186804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51400" y="2276640"/>
              <a:ext cx="204048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Sto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78440" y="2276640"/>
              <a:ext cx="187056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Dissemin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18280" y="4494240"/>
              <a:ext cx="2520" cy="34092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09880" y="5070240"/>
              <a:ext cx="169848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78400" y="5070240"/>
              <a:ext cx="179532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3920" y="3470400"/>
              <a:ext cx="509040" cy="511920"/>
            </a:xfrm>
            <a:prstGeom prst="can">
              <a:avLst>
                <a:gd name="adj" fmla="val 21444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2617560"/>
              <a:ext cx="2208240" cy="2899800"/>
            </a:xfrm>
            <a:custGeom>
              <a:avLst/>
              <a:gdLst>
                <a:gd name="textAreaLeft" fmla="*/ 107640 w 2208240"/>
                <a:gd name="textAreaRight" fmla="*/ 2100600 w 2208240"/>
                <a:gd name="textAreaTop" fmla="*/ 107640 h 2899800"/>
                <a:gd name="textAreaBottom" fmla="*/ 2792160 h 2899800"/>
              </a:gdLst>
              <a:ahLst/>
              <a:rect l="textAreaLeft" t="textAreaTop" r="textAreaRight" b="textAreaBottom"/>
              <a:pathLst>
                <a:path w="21600" h="28363">
                  <a:moveTo>
                    <a:pt x="3600" y="0"/>
                  </a:moveTo>
                  <a:arcTo wR="3600" hR="3600" stAng="16200000" swAng="-5400000"/>
                  <a:lnTo>
                    <a:pt x="0" y="24763"/>
                  </a:lnTo>
                  <a:arcTo wR="3600" hR="3600" stAng="10800000" swAng="-5400000"/>
                  <a:lnTo>
                    <a:pt x="18000" y="28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81480" y="2617560"/>
              <a:ext cx="2377800" cy="2899800"/>
            </a:xfrm>
            <a:custGeom>
              <a:avLst/>
              <a:gdLst>
                <a:gd name="textAreaLeft" fmla="*/ 115920 w 2377800"/>
                <a:gd name="textAreaRight" fmla="*/ 2261880 w 2377800"/>
                <a:gd name="textAreaTop" fmla="*/ 115920 h 2899800"/>
                <a:gd name="textAreaBottom" fmla="*/ 2783880 h 2899800"/>
              </a:gdLst>
              <a:ahLst/>
              <a:rect l="textAreaLeft" t="textAreaTop" r="textAreaRight" b="textAreaBottom"/>
              <a:pathLst>
                <a:path w="21600" h="26341">
                  <a:moveTo>
                    <a:pt x="3600" y="0"/>
                  </a:moveTo>
                  <a:arcTo wR="3600" hR="3600" stAng="16200000" swAng="-5400000"/>
                  <a:lnTo>
                    <a:pt x="0" y="22741"/>
                  </a:lnTo>
                  <a:arcTo wR="3600" hR="3600" stAng="10800000" swAng="-5400000"/>
                  <a:lnTo>
                    <a:pt x="18000" y="263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08880" y="2617560"/>
              <a:ext cx="2210400" cy="2899800"/>
            </a:xfrm>
            <a:custGeom>
              <a:avLst/>
              <a:gdLst>
                <a:gd name="textAreaLeft" fmla="*/ 107640 w 2210400"/>
                <a:gd name="textAreaRight" fmla="*/ 2102760 w 2210400"/>
                <a:gd name="textAreaTop" fmla="*/ 107640 h 2899800"/>
                <a:gd name="textAreaBottom" fmla="*/ 2792160 h 2899800"/>
              </a:gdLst>
              <a:ahLst/>
              <a:rect l="textAreaLeft" t="textAreaTop" r="textAreaRight" b="textAreaBottom"/>
              <a:pathLst>
                <a:path w="21600" h="28336">
                  <a:moveTo>
                    <a:pt x="3600" y="0"/>
                  </a:moveTo>
                  <a:arcTo wR="3600" hR="3600" stAng="16200000" swAng="-5400000"/>
                  <a:lnTo>
                    <a:pt x="0" y="24736"/>
                  </a:lnTo>
                  <a:arcTo wR="3600" hR="3600" stAng="10800000" swAng="-5400000"/>
                  <a:lnTo>
                    <a:pt x="18000" y="283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3920" y="2787840"/>
              <a:ext cx="1868040" cy="6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Data Produ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(incl. </a:t>
              </a:r>
              <a:r>
                <a:rPr b="1" lang="en-US" sz="1200" spc="-1" strike="noStrike">
                  <a:solidFill>
                    <a:srgbClr val="000080"/>
                  </a:solidFill>
                  <a:latin typeface="Verdana"/>
                  <a:ea typeface="Arial"/>
                </a:rPr>
                <a:t>StatWorks</a:t>
              </a:r>
              <a:r>
                <a:rPr b="1" lang="en-US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73240" y="3470400"/>
              <a:ext cx="509040" cy="511920"/>
            </a:xfrm>
            <a:prstGeom prst="can">
              <a:avLst>
                <a:gd name="adj" fmla="val 21444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52920" y="3470400"/>
              <a:ext cx="509040" cy="511920"/>
            </a:xfrm>
            <a:prstGeom prst="can">
              <a:avLst>
                <a:gd name="adj" fmla="val 21444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3480" y="4323600"/>
              <a:ext cx="15289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94559"/>
                  </a:solidFill>
                  <a:latin typeface="Verdana"/>
                  <a:ea typeface="Arial"/>
                </a:rPr>
                <a:t>MetaStore</a:t>
              </a:r>
              <a:r>
                <a:rPr b="1" lang="en-US" sz="1200" spc="-1" strike="noStrike">
                  <a:solidFill>
                    <a:srgbClr val="000080"/>
                  </a:solidFill>
                  <a:latin typeface="Verdana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82640" y="4664880"/>
              <a:ext cx="679320" cy="682200"/>
            </a:xfrm>
            <a:prstGeom prst="can">
              <a:avLst>
                <a:gd name="adj" fmla="val 2625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eaeaea"/>
                </a:gs>
                <a:gs pos="100000">
                  <a:srgbClr val="ff000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82920" y="3458520"/>
              <a:ext cx="679320" cy="682200"/>
            </a:xfrm>
            <a:prstGeom prst="can">
              <a:avLst>
                <a:gd name="adj" fmla="val 21388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cccc"/>
                </a:gs>
                <a:gs pos="100000">
                  <a:srgbClr val="cc0000"/>
                </a:gs>
              </a:gsLst>
              <a:lin ang="10800000"/>
            </a:gradFill>
            <a:ln w="64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4664880"/>
              <a:ext cx="1358640" cy="6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Statist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Meta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11960" y="2617560"/>
              <a:ext cx="169848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Verdana"/>
                  <a:ea typeface="Arial"/>
                </a:rPr>
                <a:t>OECD.Sta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49400" y="2958840"/>
              <a:ext cx="16984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Corporate Data Wareh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11920" y="4835160"/>
              <a:ext cx="339480" cy="340920"/>
            </a:xfrm>
            <a:prstGeom prst="flowChartSummingJunction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04840" y="4103280"/>
              <a:ext cx="4680" cy="96660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01800" y="3811680"/>
              <a:ext cx="2520" cy="136476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90800" y="4854240"/>
              <a:ext cx="339480" cy="340920"/>
            </a:xfrm>
            <a:prstGeom prst="rightArrow">
              <a:avLst>
                <a:gd name="adj1" fmla="val 55556"/>
                <a:gd name="adj2" fmla="val 69444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f8f8f8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01800" y="4494240"/>
              <a:ext cx="6793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XM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62320" y="3811680"/>
              <a:ext cx="33948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62320" y="5176440"/>
              <a:ext cx="33948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3480" y="3982680"/>
              <a:ext cx="0" cy="17028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22480" y="3982680"/>
              <a:ext cx="0" cy="68220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43160" y="3982680"/>
              <a:ext cx="0" cy="17028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3480" y="4152960"/>
              <a:ext cx="1358640" cy="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89720" y="4835160"/>
              <a:ext cx="339480" cy="340920"/>
            </a:xfrm>
            <a:prstGeom prst="flowChartSummingJunction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40120" y="3129120"/>
              <a:ext cx="84924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97480" y="4103280"/>
              <a:ext cx="0" cy="96660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59280" y="4494240"/>
              <a:ext cx="6793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XM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86720" y="4854240"/>
              <a:ext cx="339480" cy="340920"/>
            </a:xfrm>
            <a:prstGeom prst="rightArrow">
              <a:avLst>
                <a:gd name="adj1" fmla="val 55556"/>
                <a:gd name="adj2" fmla="val 69444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f8f8f8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6422400" y="3129120"/>
              <a:ext cx="16560" cy="194076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93400" y="2958840"/>
              <a:ext cx="13262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On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Web 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Webpage"/>
            <p:cNvSpPr/>
            <p:nvPr/>
          </p:nvSpPr>
          <p:spPr>
            <a:xfrm>
              <a:off x="6778440" y="2958840"/>
              <a:ext cx="339480" cy="340920"/>
            </a:xfrm>
            <a:prstGeom prst="pie">
              <a:avLst/>
            </a:prstGeom>
            <a:gradFill rotWithShape="0">
              <a:gsLst>
                <a:gs pos="0">
                  <a:srgbClr val="808080">
                    <a:alpha val="44313"/>
                  </a:srgbClr>
                </a:gs>
                <a:gs pos="100000">
                  <a:srgbClr val="eaeaea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6948720" y="3129120"/>
              <a:ext cx="376920" cy="3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438960" y="3129120"/>
              <a:ext cx="33948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Webpage"/>
            <p:cNvSpPr/>
            <p:nvPr/>
          </p:nvSpPr>
          <p:spPr>
            <a:xfrm>
              <a:off x="6778440" y="3982680"/>
              <a:ext cx="509760" cy="511200"/>
            </a:xfrm>
            <a:prstGeom prst="pie">
              <a:avLst/>
            </a:prstGeom>
            <a:gradFill rotWithShape="0">
              <a:gsLst>
                <a:gs pos="0">
                  <a:srgbClr val="808080">
                    <a:alpha val="44313"/>
                  </a:srgbClr>
                </a:gs>
                <a:gs pos="100000">
                  <a:srgbClr val="eaeaea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99960" y="4103280"/>
              <a:ext cx="1209960" cy="11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Boo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C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9999"/>
                  </a:solidFill>
                  <a:latin typeface="Verdana"/>
                  <a:ea typeface="Arial"/>
                </a:rPr>
                <a:t>et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38960" y="4152960"/>
              <a:ext cx="33948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09280" y="4792680"/>
              <a:ext cx="339480" cy="340920"/>
            </a:xfrm>
            <a:prstGeom prst="can">
              <a:avLst>
                <a:gd name="adj" fmla="val 20972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cddrive"/>
            <p:cNvSpPr/>
            <p:nvPr/>
          </p:nvSpPr>
          <p:spPr>
            <a:xfrm>
              <a:off x="7278840" y="4963320"/>
              <a:ext cx="339480" cy="340920"/>
            </a:xfrm>
            <a:prstGeom prst="pie">
              <a:avLst/>
            </a:prstGeom>
            <a:gradFill rotWithShape="0">
              <a:gsLst>
                <a:gs pos="0">
                  <a:srgbClr val="808080">
                    <a:alpha val="70196"/>
                  </a:srgbClr>
                </a:gs>
                <a:gs pos="100000">
                  <a:srgbClr val="eaeaea"/>
                </a:gs>
              </a:gsLst>
              <a:lin ang="54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69440" y="4963320"/>
              <a:ext cx="421920" cy="360360"/>
            </a:xfrm>
            <a:prstGeom prst="verticalScroll">
              <a:avLst>
                <a:gd name="adj" fmla="val 2500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4572000"/>
            <a:ext cx="8839440" cy="276480"/>
          </a:xfrm>
          <a:prstGeom prst="rect">
            <a:avLst/>
          </a:prstGeom>
          <a:solidFill>
            <a:srgbClr val="ffcc00">
              <a:alpha val="9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F-Wide                   Metadata               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59760" y="42354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114300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1066680"/>
            <a:ext cx="1524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2438280"/>
            <a:ext cx="1752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061a"/>
                </a:solidFill>
                <a:latin typeface="Arial"/>
                <a:ea typeface="Arial"/>
              </a:rPr>
              <a:t>IMF Information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11430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 Por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191120" y="1066680"/>
            <a:ext cx="1523880" cy="685800"/>
            <a:chOff x="4191120" y="1066680"/>
            <a:chExt cx="1523880" cy="685800"/>
          </a:xfrm>
        </p:grpSpPr>
        <p:sp>
          <p:nvSpPr>
            <p:cNvPr id="135" name=""/>
            <p:cNvSpPr/>
            <p:nvPr/>
          </p:nvSpPr>
          <p:spPr>
            <a:xfrm>
              <a:off x="4191120" y="1066680"/>
              <a:ext cx="1523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43400" y="121932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F.OR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391520" y="1371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ran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437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n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276720"/>
            <a:ext cx="2057400" cy="990360"/>
          </a:xfrm>
          <a:prstGeom prst="rect">
            <a:avLst/>
          </a:prstGeom>
          <a:solidFill>
            <a:srgbClr val="ffcc00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nomic 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re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205740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0100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5181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533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280" y="5334120"/>
            <a:ext cx="609840" cy="685800"/>
            <a:chOff x="152280" y="5334120"/>
            <a:chExt cx="609840" cy="685800"/>
          </a:xfrm>
        </p:grpSpPr>
        <p:sp>
          <p:nvSpPr>
            <p:cNvPr id="147" name=""/>
            <p:cNvSpPr/>
            <p:nvPr/>
          </p:nvSpPr>
          <p:spPr>
            <a:xfrm>
              <a:off x="152280" y="5334120"/>
              <a:ext cx="533520" cy="68580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280" y="556272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Desk 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057400" y="5334120"/>
            <a:ext cx="1143000" cy="6858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556272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ercial Data &amp; 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066680" y="5257800"/>
            <a:ext cx="609840" cy="685800"/>
            <a:chOff x="1066680" y="5257800"/>
            <a:chExt cx="609840" cy="685800"/>
          </a:xfrm>
        </p:grpSpPr>
        <p:sp>
          <p:nvSpPr>
            <p:cNvPr id="152" name=""/>
            <p:cNvSpPr/>
            <p:nvPr/>
          </p:nvSpPr>
          <p:spPr>
            <a:xfrm>
              <a:off x="1143000" y="5257800"/>
              <a:ext cx="533520" cy="68580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66680" y="548640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O 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600200" y="5943600"/>
            <a:ext cx="609480" cy="703080"/>
            <a:chOff x="1600200" y="5943600"/>
            <a:chExt cx="609480" cy="703080"/>
          </a:xfrm>
        </p:grpSpPr>
        <p:sp>
          <p:nvSpPr>
            <p:cNvPr id="155" name=""/>
            <p:cNvSpPr/>
            <p:nvPr/>
          </p:nvSpPr>
          <p:spPr>
            <a:xfrm>
              <a:off x="1600200" y="5943600"/>
              <a:ext cx="533160" cy="68580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60958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ther Dept 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09480" y="6019920"/>
            <a:ext cx="609480" cy="685800"/>
            <a:chOff x="609480" y="6019920"/>
            <a:chExt cx="609480" cy="685800"/>
          </a:xfrm>
        </p:grpSpPr>
        <p:sp>
          <p:nvSpPr>
            <p:cNvPr id="159" name=""/>
            <p:cNvSpPr/>
            <p:nvPr/>
          </p:nvSpPr>
          <p:spPr>
            <a:xfrm>
              <a:off x="685440" y="6019920"/>
              <a:ext cx="533520" cy="68580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9480" y="62485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 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819520" y="6156360"/>
            <a:ext cx="1066680" cy="6858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646128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cument St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114800" y="6172200"/>
            <a:ext cx="1143000" cy="685800"/>
            <a:chOff x="4114800" y="6172200"/>
            <a:chExt cx="1143000" cy="685800"/>
          </a:xfrm>
        </p:grpSpPr>
        <p:sp>
          <p:nvSpPr>
            <p:cNvPr id="164" name=""/>
            <p:cNvSpPr/>
            <p:nvPr/>
          </p:nvSpPr>
          <p:spPr>
            <a:xfrm>
              <a:off x="4114800" y="6172200"/>
              <a:ext cx="1143000" cy="68580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14800" y="647712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media 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505320" y="5334120"/>
            <a:ext cx="1066680" cy="685800"/>
            <a:chOff x="3505320" y="5334120"/>
            <a:chExt cx="1066680" cy="685800"/>
          </a:xfrm>
        </p:grpSpPr>
        <p:sp>
          <p:nvSpPr>
            <p:cNvPr id="167" name=""/>
            <p:cNvSpPr/>
            <p:nvPr/>
          </p:nvSpPr>
          <p:spPr>
            <a:xfrm>
              <a:off x="3505320" y="5334120"/>
              <a:ext cx="1066680" cy="68580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05320" y="5562720"/>
              <a:ext cx="99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pt Docs and Fi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19520" y="5181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819520" y="518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5181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5181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52280" y="5334120"/>
            <a:ext cx="609840" cy="685800"/>
            <a:chOff x="152280" y="5334120"/>
            <a:chExt cx="609840" cy="685800"/>
          </a:xfrm>
        </p:grpSpPr>
        <p:sp>
          <p:nvSpPr>
            <p:cNvPr id="175" name=""/>
            <p:cNvSpPr/>
            <p:nvPr/>
          </p:nvSpPr>
          <p:spPr>
            <a:xfrm>
              <a:off x="152280" y="5334120"/>
              <a:ext cx="533520" cy="68580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2280" y="556272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sk 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105520" y="5334120"/>
            <a:ext cx="609480" cy="83808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556272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ACTS Prod 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312408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0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2952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152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143000" y="167616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143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3716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e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ntac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orkflo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219320" y="1752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1295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ub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16002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fo Dis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657600" y="159984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91320" y="129528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fo Ex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160020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ata Coll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010280" y="1599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019920" y="5334120"/>
            <a:ext cx="609480" cy="838080"/>
            <a:chOff x="6019920" y="5334120"/>
            <a:chExt cx="609480" cy="838080"/>
          </a:xfrm>
        </p:grpSpPr>
        <p:sp>
          <p:nvSpPr>
            <p:cNvPr id="201" name=""/>
            <p:cNvSpPr/>
            <p:nvPr/>
          </p:nvSpPr>
          <p:spPr>
            <a:xfrm>
              <a:off x="6019920" y="5334120"/>
              <a:ext cx="609480" cy="8380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95880" y="556236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iFIN Prod 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781680" y="5334120"/>
            <a:ext cx="685440" cy="838080"/>
            <a:chOff x="6781680" y="5334120"/>
            <a:chExt cx="685440" cy="838080"/>
          </a:xfrm>
        </p:grpSpPr>
        <p:sp>
          <p:nvSpPr>
            <p:cNvPr id="204" name=""/>
            <p:cNvSpPr/>
            <p:nvPr/>
          </p:nvSpPr>
          <p:spPr>
            <a:xfrm>
              <a:off x="6781680" y="5334120"/>
              <a:ext cx="685440" cy="8380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7360" y="5562360"/>
              <a:ext cx="59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TAIMS Prod 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7620120" y="5334120"/>
            <a:ext cx="609480" cy="838080"/>
            <a:chOff x="7620120" y="5334120"/>
            <a:chExt cx="609480" cy="838080"/>
          </a:xfrm>
        </p:grpSpPr>
        <p:sp>
          <p:nvSpPr>
            <p:cNvPr id="207" name=""/>
            <p:cNvSpPr/>
            <p:nvPr/>
          </p:nvSpPr>
          <p:spPr>
            <a:xfrm>
              <a:off x="7620120" y="5334120"/>
              <a:ext cx="609480" cy="8380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96080" y="556236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HR Prod 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8305920" y="5334120"/>
            <a:ext cx="609480" cy="83808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57150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220968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formation Resource Cata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54160" y="246852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irectory of Expe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5960" y="273852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formation Standards and Guidel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19640" y="2354400"/>
            <a:ext cx="576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265560" y="258444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535200" y="273816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594360"/>
            <a:ext cx="1525680" cy="32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nternal U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83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594360"/>
            <a:ext cx="1525680" cy="32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48320" y="83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0" y="594360"/>
            <a:ext cx="1905120" cy="32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Business Partn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838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5029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485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29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2468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5345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3276720"/>
            <a:ext cx="2209680" cy="990360"/>
          </a:xfrm>
          <a:prstGeom prst="rect">
            <a:avLst/>
          </a:prstGeom>
          <a:solidFill>
            <a:srgbClr val="a50021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cument/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osi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3276720"/>
            <a:ext cx="2133720" cy="990360"/>
          </a:xfrm>
          <a:prstGeom prst="rect">
            <a:avLst/>
          </a:prstGeom>
          <a:solidFill>
            <a:srgbClr val="a50021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ministrat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Ware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859000" y="-205740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87880" y="4273560"/>
            <a:ext cx="0" cy="88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202"/>
          <p:cNvSpPr/>
          <p:nvPr/>
        </p:nvSpPr>
        <p:spPr>
          <a:xfrm>
            <a:off x="1828800" y="2133720"/>
            <a:ext cx="762120" cy="533160"/>
          </a:xfrm>
          <a:prstGeom prst="rightArrow">
            <a:avLst>
              <a:gd name="adj1" fmla="val 50000"/>
              <a:gd name="adj2" fmla="val 3573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0" y="152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2050"/>
                </a:solidFill>
                <a:latin typeface="Arial"/>
                <a:ea typeface="Arial"/>
              </a:rPr>
              <a:t>IMF Statistical Information Management Enviro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7908840" y="1143000"/>
            <a:ext cx="473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20"/>
          <p:cNvSpPr/>
          <p:nvPr/>
        </p:nvSpPr>
        <p:spPr>
          <a:xfrm>
            <a:off x="2743200" y="5334120"/>
            <a:ext cx="1752480" cy="838080"/>
          </a:xfrm>
          <a:prstGeom prst="roundRect">
            <a:avLst>
              <a:gd name="adj" fmla="val 15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22"/>
          <p:cNvSpPr/>
          <p:nvPr/>
        </p:nvSpPr>
        <p:spPr>
          <a:xfrm>
            <a:off x="228600" y="3429000"/>
            <a:ext cx="1752480" cy="762120"/>
          </a:xfrm>
          <a:prstGeom prst="roundRect">
            <a:avLst>
              <a:gd name="adj" fmla="val 15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7391520" y="914400"/>
            <a:ext cx="1447560" cy="365760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3657600"/>
              <a:gd name="textAreaBottom" fmla="*/ 3587040 h 3657600"/>
            </a:gdLst>
            <a:ahLst/>
            <a:rect l="textAreaLeft" t="textAreaTop" r="textAreaRight" b="textAreaBottom"/>
            <a:pathLst>
              <a:path w="21600" h="54569">
                <a:moveTo>
                  <a:pt x="3600" y="0"/>
                </a:moveTo>
                <a:arcTo wR="3600" hR="3600" stAng="16200000" swAng="-5400000"/>
                <a:lnTo>
                  <a:pt x="0" y="50969"/>
                </a:lnTo>
                <a:arcTo wR="3600" hR="3600" stAng="10800000" swAng="-5400000"/>
                <a:lnTo>
                  <a:pt x="18000" y="54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>
              <a:alpha val="65000"/>
            </a:srgbClr>
          </a:solidFill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Webpage"/>
          <p:cNvSpPr/>
          <p:nvPr/>
        </p:nvSpPr>
        <p:spPr>
          <a:xfrm>
            <a:off x="7467480" y="2209680"/>
            <a:ext cx="457200" cy="5335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6" descr="j0353994"/>
          <p:cNvPicPr/>
          <p:nvPr/>
        </p:nvPicPr>
        <p:blipFill>
          <a:blip r:embed="rId4"/>
          <a:stretch/>
        </p:blipFill>
        <p:spPr>
          <a:xfrm>
            <a:off x="7467480" y="3809880"/>
            <a:ext cx="45720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7"/>
          <p:cNvGraphicFramePr/>
          <p:nvPr/>
        </p:nvGraphicFramePr>
        <p:xfrm>
          <a:off x="7391520" y="2895480"/>
          <a:ext cx="53316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2895480"/>
                    <a:ext cx="533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14"/>
          <p:cNvSpPr/>
          <p:nvPr/>
        </p:nvSpPr>
        <p:spPr>
          <a:xfrm>
            <a:off x="7924680" y="205740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MF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Stati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7848720" y="3124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Pub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8001000" y="164304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ddddd"/>
                </a:solidFill>
                <a:latin typeface="Tahoma"/>
                <a:ea typeface="Arial"/>
              </a:rPr>
              <a:t>ED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1"/>
          <p:cNvSpPr/>
          <p:nvPr/>
        </p:nvSpPr>
        <p:spPr>
          <a:xfrm>
            <a:off x="7238880" y="99072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se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2"/>
          <p:cNvSpPr/>
          <p:nvPr/>
        </p:nvSpPr>
        <p:spPr>
          <a:xfrm>
            <a:off x="228600" y="4724280"/>
            <a:ext cx="8610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Metadata (MetaStore, DSB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49"/>
          <p:cNvSpPr/>
          <p:nvPr/>
        </p:nvSpPr>
        <p:spPr>
          <a:xfrm>
            <a:off x="228600" y="1752480"/>
            <a:ext cx="1752480" cy="762120"/>
          </a:xfrm>
          <a:prstGeom prst="roundRect">
            <a:avLst>
              <a:gd name="adj" fmla="val 15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7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79"/>
          <p:cNvSpPr/>
          <p:nvPr/>
        </p:nvSpPr>
        <p:spPr>
          <a:xfrm>
            <a:off x="5257800" y="48769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97"/>
          <p:cNvSpPr/>
          <p:nvPr/>
        </p:nvSpPr>
        <p:spPr>
          <a:xfrm>
            <a:off x="5029200" y="1219320"/>
            <a:ext cx="1444680" cy="2895480"/>
          </a:xfrm>
          <a:custGeom>
            <a:avLst/>
            <a:gdLst>
              <a:gd name="textAreaLeft" fmla="*/ 70200 w 1444680"/>
              <a:gd name="textAreaRight" fmla="*/ 1374480 w 1444680"/>
              <a:gd name="textAreaTop" fmla="*/ 70200 h 2895480"/>
              <a:gd name="textAreaBottom" fmla="*/ 2825280 h 2895480"/>
            </a:gdLst>
            <a:ahLst/>
            <a:rect l="textAreaLeft" t="textAreaTop" r="textAreaRight" b="textAreaBottom"/>
            <a:pathLst>
              <a:path w="21600" h="43286">
                <a:moveTo>
                  <a:pt x="3600" y="0"/>
                </a:moveTo>
                <a:arcTo wR="3600" hR="3600" stAng="16200000" swAng="-5400000"/>
                <a:lnTo>
                  <a:pt x="0" y="39686"/>
                </a:lnTo>
                <a:arcTo wR="3600" hR="3600" stAng="10800000" swAng="-5400000"/>
                <a:lnTo>
                  <a:pt x="18000" y="432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>
              <a:alpha val="65000"/>
            </a:srgbClr>
          </a:solidFill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75"/>
          <p:cNvSpPr/>
          <p:nvPr/>
        </p:nvSpPr>
        <p:spPr>
          <a:xfrm>
            <a:off x="5181480" y="2270160"/>
            <a:ext cx="114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I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W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RE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External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83"/>
          <p:cNvSpPr/>
          <p:nvPr/>
        </p:nvSpPr>
        <p:spPr>
          <a:xfrm>
            <a:off x="4952880" y="134136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conomic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are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MF.S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85"/>
          <p:cNvSpPr/>
          <p:nvPr/>
        </p:nvSpPr>
        <p:spPr>
          <a:xfrm>
            <a:off x="1905120" y="2895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228600" y="914400"/>
            <a:ext cx="1447920" cy="365760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3657600"/>
              <a:gd name="textAreaBottom" fmla="*/ 3587040 h 3657600"/>
            </a:gdLst>
            <a:ahLst/>
            <a:rect l="textAreaLeft" t="textAreaTop" r="textAreaRight" b="textAreaBottom"/>
            <a:pathLst>
              <a:path w="21600" h="54556">
                <a:moveTo>
                  <a:pt x="3600" y="0"/>
                </a:moveTo>
                <a:arcTo wR="3600" hR="3600" stAng="16200000" swAng="-5400000"/>
                <a:lnTo>
                  <a:pt x="0" y="50956"/>
                </a:lnTo>
                <a:arcTo wR="3600" hR="3600" stAng="10800000" swAng="-5400000"/>
                <a:lnTo>
                  <a:pt x="18000" y="545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>
              <a:alpha val="65000"/>
            </a:srgbClr>
          </a:solidFill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60"/>
          <p:cNvSpPr/>
          <p:nvPr/>
        </p:nvSpPr>
        <p:spPr>
          <a:xfrm>
            <a:off x="266760" y="9907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l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88"/>
          <p:cNvSpPr/>
          <p:nvPr/>
        </p:nvSpPr>
        <p:spPr>
          <a:xfrm>
            <a:off x="0" y="22860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ICS (Excel/SDMXM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89"/>
          <p:cNvGrpSpPr/>
          <p:nvPr/>
        </p:nvGrpSpPr>
        <p:grpSpPr>
          <a:xfrm>
            <a:off x="533520" y="1523880"/>
            <a:ext cx="914040" cy="641160"/>
            <a:chOff x="533520" y="1523880"/>
            <a:chExt cx="914040" cy="641160"/>
          </a:xfrm>
        </p:grpSpPr>
        <p:sp>
          <p:nvSpPr>
            <p:cNvPr id="263" name="AutoShape 90"/>
            <p:cNvSpPr/>
            <p:nvPr/>
          </p:nvSpPr>
          <p:spPr>
            <a:xfrm>
              <a:off x="533520" y="1523880"/>
              <a:ext cx="914040" cy="64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Picture 91" descr="j0199142[1]"/>
            <p:cNvPicPr/>
            <p:nvPr/>
          </p:nvPicPr>
          <p:blipFill>
            <a:blip r:embed="rId8"/>
            <a:stretch/>
          </p:blipFill>
          <p:spPr>
            <a:xfrm>
              <a:off x="634680" y="1603800"/>
              <a:ext cx="651960" cy="48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AutoShape 125"/>
          <p:cNvSpPr/>
          <p:nvPr/>
        </p:nvSpPr>
        <p:spPr>
          <a:xfrm>
            <a:off x="343080" y="3276720"/>
            <a:ext cx="1218960" cy="1066680"/>
          </a:xfrm>
          <a:prstGeom prst="flowChartMagneticDisk">
            <a:avLst/>
          </a:prstGeom>
          <a:solidFill>
            <a:srgbClr val="bdcc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122"/>
          <p:cNvSpPr/>
          <p:nvPr/>
        </p:nvSpPr>
        <p:spPr>
          <a:xfrm>
            <a:off x="2666880" y="1219320"/>
            <a:ext cx="1447920" cy="289548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2895480"/>
              <a:gd name="textAreaBottom" fmla="*/ 2824920 h 2895480"/>
            </a:gdLst>
            <a:ahLst/>
            <a:rect l="textAreaLeft" t="textAreaTop" r="textAreaRight" b="textAreaBottom"/>
            <a:pathLst>
              <a:path w="21600" h="43189">
                <a:moveTo>
                  <a:pt x="3600" y="0"/>
                </a:moveTo>
                <a:arcTo wR="3600" hR="3600" stAng="16200000" swAng="-5400000"/>
                <a:lnTo>
                  <a:pt x="0" y="39589"/>
                </a:lnTo>
                <a:arcTo wR="3600" hR="3600" stAng="10800000" swAng="-5400000"/>
                <a:lnTo>
                  <a:pt x="18000" y="43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>
              <a:alpha val="65000"/>
            </a:srgbClr>
          </a:solidFill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37"/>
          <p:cNvGrpSpPr/>
          <p:nvPr/>
        </p:nvGrpSpPr>
        <p:grpSpPr>
          <a:xfrm>
            <a:off x="2743200" y="2422440"/>
            <a:ext cx="1295280" cy="855360"/>
            <a:chOff x="2743200" y="2422440"/>
            <a:chExt cx="1295280" cy="855360"/>
          </a:xfrm>
        </p:grpSpPr>
        <p:pic>
          <p:nvPicPr>
            <p:cNvPr id="268" name="Picture 123" descr="j0196042"/>
            <p:cNvPicPr/>
            <p:nvPr/>
          </p:nvPicPr>
          <p:blipFill>
            <a:blip r:embed="rId9"/>
            <a:stretch/>
          </p:blipFill>
          <p:spPr>
            <a:xfrm>
              <a:off x="2743200" y="2557800"/>
              <a:ext cx="60948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124"/>
            <p:cNvSpPr/>
            <p:nvPr/>
          </p:nvSpPr>
          <p:spPr>
            <a:xfrm>
              <a:off x="3276720" y="2422440"/>
              <a:ext cx="7617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Are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Dep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DM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Exc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Arem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Text Box 127"/>
          <p:cNvSpPr/>
          <p:nvPr/>
        </p:nvSpPr>
        <p:spPr>
          <a:xfrm>
            <a:off x="5486400" y="350532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Econometri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28"/>
          <p:cNvSpPr/>
          <p:nvPr/>
        </p:nvSpPr>
        <p:spPr>
          <a:xfrm>
            <a:off x="2590920" y="12193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136"/>
          <p:cNvGrpSpPr/>
          <p:nvPr/>
        </p:nvGrpSpPr>
        <p:grpSpPr>
          <a:xfrm>
            <a:off x="2666880" y="3355920"/>
            <a:ext cx="1524240" cy="455760"/>
            <a:chOff x="2666880" y="3355920"/>
            <a:chExt cx="1524240" cy="455760"/>
          </a:xfrm>
        </p:grpSpPr>
        <p:sp>
          <p:nvSpPr>
            <p:cNvPr id="273" name="Text Box 28"/>
            <p:cNvSpPr/>
            <p:nvPr/>
          </p:nvSpPr>
          <p:spPr>
            <a:xfrm>
              <a:off x="3276720" y="341316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Resear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Arem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4" name="Object 29"/>
            <p:cNvGraphicFramePr/>
            <p:nvPr/>
          </p:nvGraphicFramePr>
          <p:xfrm>
            <a:off x="2666880" y="3355920"/>
            <a:ext cx="762120" cy="4489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75" name="Object 29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666880" y="3355920"/>
                      <a:ext cx="762120" cy="44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6" name="Line 160"/>
          <p:cNvSpPr/>
          <p:nvPr/>
        </p:nvSpPr>
        <p:spPr>
          <a:xfrm flipV="1">
            <a:off x="914400" y="4571640"/>
            <a:ext cx="0" cy="30492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61"/>
          <p:cNvSpPr/>
          <p:nvPr/>
        </p:nvSpPr>
        <p:spPr>
          <a:xfrm flipV="1">
            <a:off x="3352680" y="4114440"/>
            <a:ext cx="0" cy="76212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62"/>
          <p:cNvSpPr/>
          <p:nvPr/>
        </p:nvSpPr>
        <p:spPr>
          <a:xfrm flipV="1">
            <a:off x="5791320" y="4114440"/>
            <a:ext cx="0" cy="76212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63"/>
          <p:cNvSpPr/>
          <p:nvPr/>
        </p:nvSpPr>
        <p:spPr>
          <a:xfrm flipV="1">
            <a:off x="8077320" y="4571640"/>
            <a:ext cx="0" cy="30492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66"/>
          <p:cNvSpPr/>
          <p:nvPr/>
        </p:nvSpPr>
        <p:spPr>
          <a:xfrm>
            <a:off x="380880" y="3276720"/>
            <a:ext cx="11430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External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OEC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Global Ins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Haver Analy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Bloomber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67"/>
          <p:cNvSpPr/>
          <p:nvPr/>
        </p:nvSpPr>
        <p:spPr>
          <a:xfrm>
            <a:off x="1654200" y="5165640"/>
            <a:ext cx="558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2050"/>
                </a:solidFill>
                <a:latin typeface="Tahoma"/>
                <a:ea typeface="Arial"/>
              </a:rPr>
              <a:t>Supporting Capital and </a:t>
            </a:r>
            <a:r>
              <a:rPr b="0" i="1" lang="en-US" sz="2000" spc="-1" strike="noStrike">
                <a:solidFill>
                  <a:srgbClr val="ba2050"/>
                </a:solidFill>
                <a:latin typeface="Tahoma"/>
                <a:ea typeface="Arial"/>
              </a:rPr>
              <a:t>Administrative</a:t>
            </a:r>
            <a:r>
              <a:rPr b="0" lang="en-US" sz="2000" spc="-1" strike="noStrike">
                <a:solidFill>
                  <a:srgbClr val="ba2050"/>
                </a:solidFill>
                <a:latin typeface="Tahoma"/>
                <a:ea typeface="Arial"/>
              </a:rPr>
              <a:t> Pro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82"/>
          <p:cNvSpPr/>
          <p:nvPr/>
        </p:nvSpPr>
        <p:spPr>
          <a:xfrm>
            <a:off x="7620120" y="3962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CD R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84" descr="EI_iconsFinal"/>
          <p:cNvPicPr/>
          <p:nvPr/>
        </p:nvPicPr>
        <p:blipFill>
          <a:blip r:embed="rId12"/>
          <a:stretch/>
        </p:blipFill>
        <p:spPr>
          <a:xfrm>
            <a:off x="5105520" y="3565440"/>
            <a:ext cx="457200" cy="3049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191"/>
          <p:cNvSpPr/>
          <p:nvPr/>
        </p:nvSpPr>
        <p:spPr>
          <a:xfrm>
            <a:off x="3276720" y="181296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Stati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ED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192" descr="edffnl1"/>
          <p:cNvPicPr/>
          <p:nvPr/>
        </p:nvPicPr>
        <p:blipFill>
          <a:blip r:embed="rId13"/>
          <a:stretch/>
        </p:blipFill>
        <p:spPr>
          <a:xfrm>
            <a:off x="2743200" y="1752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98" descr="Picture1"/>
          <p:cNvPicPr/>
          <p:nvPr/>
        </p:nvPicPr>
        <p:blipFill>
          <a:blip r:embed="rId14"/>
          <a:stretch/>
        </p:blipFill>
        <p:spPr>
          <a:xfrm>
            <a:off x="7467480" y="1490760"/>
            <a:ext cx="493920" cy="5666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203"/>
          <p:cNvSpPr/>
          <p:nvPr/>
        </p:nvSpPr>
        <p:spPr>
          <a:xfrm>
            <a:off x="4191120" y="2057400"/>
            <a:ext cx="761760" cy="533520"/>
          </a:xfrm>
          <a:prstGeom prst="rightArrow">
            <a:avLst>
              <a:gd name="adj1" fmla="val 50000"/>
              <a:gd name="adj2" fmla="val 35695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204"/>
          <p:cNvSpPr/>
          <p:nvPr/>
        </p:nvSpPr>
        <p:spPr>
          <a:xfrm>
            <a:off x="6553080" y="2133720"/>
            <a:ext cx="762120" cy="533160"/>
          </a:xfrm>
          <a:prstGeom prst="rightArrow">
            <a:avLst>
              <a:gd name="adj1" fmla="val 50000"/>
              <a:gd name="adj2" fmla="val 3573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205"/>
          <p:cNvSpPr/>
          <p:nvPr/>
        </p:nvSpPr>
        <p:spPr>
          <a:xfrm>
            <a:off x="5029200" y="3124080"/>
            <a:ext cx="1447920" cy="0"/>
          </a:xfrm>
          <a:prstGeom prst="line">
            <a:avLst/>
          </a:prstGeom>
          <a:ln w="2232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06"/>
          <p:cNvSpPr/>
          <p:nvPr/>
        </p:nvSpPr>
        <p:spPr>
          <a:xfrm>
            <a:off x="4952880" y="3154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ata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20"/>
          <p:cNvSpPr/>
          <p:nvPr/>
        </p:nvSpPr>
        <p:spPr>
          <a:xfrm>
            <a:off x="211320" y="5562720"/>
            <a:ext cx="1812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10117 .Net Migration(I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10021 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10056 SDM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21"/>
          <p:cNvSpPr/>
          <p:nvPr/>
        </p:nvSpPr>
        <p:spPr>
          <a:xfrm>
            <a:off x="2209680" y="5486400"/>
            <a:ext cx="25146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10146 WEO Production Redesig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10060 Metadata Ex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10117 .Net migration (EDF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#000019 EDF Enhanc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#00031 Balance Sheet Approach IT10112 Financial Soundness Indic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10052 EDF 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10137 Metadata Reposi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22"/>
          <p:cNvSpPr/>
          <p:nvPr/>
        </p:nvSpPr>
        <p:spPr>
          <a:xfrm>
            <a:off x="6972480" y="5562720"/>
            <a:ext cx="2085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#000030 Economic Data Diss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9009 ED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223"/>
          <p:cNvSpPr/>
          <p:nvPr/>
        </p:nvSpPr>
        <p:spPr>
          <a:xfrm>
            <a:off x="4987080" y="5562720"/>
            <a:ext cx="214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10130 ED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#000041 Economist Models S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9320 Econometric Soft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IT10145 High End Comp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Elbow Connector 69"/>
          <p:cNvCxnSpPr/>
          <p:nvPr/>
        </p:nvCxnSpPr>
        <p:spPr>
          <a:xfrm flipV="1">
            <a:off x="1905120" y="2818800"/>
            <a:ext cx="3048480" cy="1462680"/>
          </a:xfrm>
          <a:prstGeom prst="bentConnector3">
            <a:avLst>
              <a:gd name="adj1" fmla="val 79674"/>
            </a:avLst>
          </a:prstGeom>
          <a:ln w="76320">
            <a:solidFill>
              <a:srgbClr val="00cc99"/>
            </a:solidFill>
            <a:prstDash val="sysDot"/>
            <a:round/>
            <a:tailEnd len="med" type="arrow" w="med"/>
          </a:ln>
        </p:spPr>
      </p:cxnSp>
      <p:sp>
        <p:nvSpPr>
          <p:cNvPr id="296" name=""/>
          <p:cNvSpPr/>
          <p:nvPr/>
        </p:nvSpPr>
        <p:spPr>
          <a:xfrm>
            <a:off x="6781680" y="1676520"/>
            <a:ext cx="609840" cy="0"/>
          </a:xfrm>
          <a:prstGeom prst="line">
            <a:avLst/>
          </a:prstGeom>
          <a:ln w="76320">
            <a:solidFill>
              <a:srgbClr val="00cc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1066680"/>
            <a:ext cx="0" cy="609840"/>
          </a:xfrm>
          <a:prstGeom prst="line">
            <a:avLst/>
          </a:prstGeom>
          <a:ln w="7632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160020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648320" y="990360"/>
            <a:ext cx="0" cy="609480"/>
          </a:xfrm>
          <a:prstGeom prst="line">
            <a:avLst/>
          </a:prstGeom>
          <a:ln w="7632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990720"/>
            <a:ext cx="1905120" cy="0"/>
          </a:xfrm>
          <a:prstGeom prst="line">
            <a:avLst/>
          </a:prstGeom>
          <a:ln w="7632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 Unicode MS"/>
              </a:rPr>
              <a:t>Memorandum of Understa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Responsibilities and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haring of further develop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Pooling of technical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imilar to Open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pen to other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04:08:56Z</dcterms:created>
  <dc:creator>Trial User</dc:creator>
  <dc:description/>
  <dc:language>en-US</dc:language>
  <cp:lastModifiedBy>Cwright</cp:lastModifiedBy>
  <dcterms:modified xsi:type="dcterms:W3CDTF">2007-05-03T15:28:25Z</dcterms:modified>
  <cp:revision>423</cp:revision>
  <dc:subject/>
  <dc:title>PowerPoint Presentation</dc:title>
</cp:coreProperties>
</file>