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703-75A6-465B-BA85-5E582C84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2DE-B7D6-463B-BF32-72660A03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25C-FE24-453E-9034-C2DA70E9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946-6CBD-4B68-80FE-5E1C6362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AF6-96FB-44D1-BE18-64907839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3AE-6FDE-4012-B57B-519A124E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01D-842D-485E-BB80-E5BAFC1D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EE5-F5C5-487E-8A49-FC3A5D96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7CB-9AF7-4139-BE1D-1E946836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858-EDF4-4FCC-8BE5-A3D94960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E8C-C551-4567-9234-026FB6C6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BAD-B2A7-49AA-8BA8-5AB75AA1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8F1C-F6A0-4802-91C5-60D6539AC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sessing Disclosure Risk in Microdata using Record Level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46560" y="3500280"/>
            <a:ext cx="489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alie Shlom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iversity of Southampt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for National Statistic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.shlomo@soton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500280"/>
            <a:ext cx="40338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is Skinn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versity of Southampt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.J.Skinner@soton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280" y="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9680" y="380520"/>
            <a:ext cx="521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small departures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638680" y="838080"/>
          <a:ext cx="232272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838080"/>
                    <a:ext cx="23227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33280" y="162180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bias of                 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352680" y="1600200"/>
          <a:ext cx="31608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600200"/>
                    <a:ext cx="3160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116000" y="2637000"/>
          <a:ext cx="676908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637000"/>
                    <a:ext cx="67690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56840" y="3961800"/>
            <a:ext cx="4089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model to minim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859280" y="4149720"/>
          <a:ext cx="576360" cy="4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4149720"/>
                    <a:ext cx="5763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800" y="4960080"/>
            <a:ext cx="6581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choosing model to minimis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124000" y="5661000"/>
          <a:ext cx="360036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5661000"/>
                    <a:ext cx="3600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0" y="647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189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ias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373320"/>
            <a:ext cx="669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imising Over- (Under-) Disp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90920" y="1295280"/>
          <a:ext cx="360036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95280"/>
                    <a:ext cx="3600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915480" y="228852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27280" y="2276640"/>
          <a:ext cx="187344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2276640"/>
                    <a:ext cx="18734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085760" y="3141720"/>
          <a:ext cx="4255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3141720"/>
                    <a:ext cx="4255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474560" y="3141360"/>
            <a:ext cx="675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s degree of over- or under-disp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42920" y="3860640"/>
          <a:ext cx="128124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3860640"/>
                    <a:ext cx="1281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335320" y="3787920"/>
            <a:ext cx="5392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s hypothesis of equal disp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5589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meron and Trivedi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534600"/>
            <a:ext cx="78454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reas with population of  944,793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’ Key: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 (2), Sex (2), Age (101),  Marital Status (6),  Ethnicity (17), Economic Activity (10)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2,080 cell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’ Key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except Age (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3,440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30492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amples from 2001 UK C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333360"/>
            <a:ext cx="835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key,  Simple random sample of size 18,8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val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opulation uniques in s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of               over sample uniqu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0" y="1600200"/>
          <a:ext cx="107964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1600200"/>
                    <a:ext cx="1079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050920" y="2133720"/>
          <a:ext cx="64800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133720"/>
                    <a:ext cx="648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324480" y="2133720"/>
          <a:ext cx="1513080" cy="45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2133720"/>
                    <a:ext cx="151308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2120760"/>
            <a:ext cx="10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077320" y="3886200"/>
          <a:ext cx="22860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77320" y="3886200"/>
                    <a:ext cx="228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0" y="2120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352680" y="4038480"/>
          <a:ext cx="22860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4038480"/>
                    <a:ext cx="228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2120760"/>
            <a:ext cx="12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0" y="4038480"/>
          <a:ext cx="26208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038480"/>
                    <a:ext cx="262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0" y="2120760"/>
            <a:ext cx="10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715000" y="4191120"/>
          <a:ext cx="228600" cy="29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4191120"/>
                    <a:ext cx="2286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212076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934320" y="4191120"/>
          <a:ext cx="27612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191120"/>
                    <a:ext cx="276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80880" y="3581280"/>
          <a:ext cx="8423280" cy="1914480"/>
        </p:xfrm>
        <a:graphic>
          <a:graphicData uri="http://schemas.openxmlformats.org/drawingml/2006/table">
            <a:tbl>
              <a:tblPr/>
              <a:tblGrid>
                <a:gridCol w="2423880"/>
                <a:gridCol w="1278000"/>
                <a:gridCol w="1231920"/>
                <a:gridCol w="1320840"/>
                <a:gridCol w="1193760"/>
                <a:gridCol w="9748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eron-Trived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pend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2-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0"/>
            <a:ext cx="8991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Key, Simple random sample of size 4,72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valu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743200" y="1143000"/>
          <a:ext cx="11430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143000"/>
                    <a:ext cx="1143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4191120" y="1143000"/>
          <a:ext cx="12477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143000"/>
                    <a:ext cx="1247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8001000" y="3048120"/>
          <a:ext cx="2286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1000" y="3048120"/>
                    <a:ext cx="228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895480" y="3276720"/>
          <a:ext cx="27468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3276720"/>
                    <a:ext cx="274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3962520" y="3276720"/>
          <a:ext cx="31248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276720"/>
                    <a:ext cx="31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486400" y="3352680"/>
          <a:ext cx="228600" cy="29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352680"/>
                    <a:ext cx="22860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6781680" y="3352680"/>
          <a:ext cx="27648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1680" y="3352680"/>
                    <a:ext cx="2764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28600" y="2514600"/>
          <a:ext cx="8534520" cy="2714760"/>
        </p:xfrm>
        <a:graphic>
          <a:graphicData uri="http://schemas.openxmlformats.org/drawingml/2006/table">
            <a:tbl>
              <a:tblPr/>
              <a:tblGrid>
                <a:gridCol w="2209680"/>
                <a:gridCol w="1143000"/>
                <a:gridCol w="1295640"/>
                <a:gridCol w="1447560"/>
                <a:gridCol w="1143000"/>
                <a:gridCol w="1295640"/>
              </a:tblGrid>
              <a:tr h="49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Estim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Cameron-Trive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Independ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97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385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0.0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0.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0.02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All 2-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3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1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-0.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-7.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0.0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2280" y="152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Search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1143000"/>
            <a:ext cx="84582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ing solution: all 2-way interactions log-linea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ing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ping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U method of Drezner, Marcoulides and Salhi (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52280" y="152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rge key, Simple random sample of size 9,448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ue values 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76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95480" y="457200"/>
          <a:ext cx="1067040" cy="4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57200"/>
                    <a:ext cx="1067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39387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572000" y="457200"/>
          <a:ext cx="134316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57200"/>
                    <a:ext cx="13431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743200" y="914400"/>
          <a:ext cx="20016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914400"/>
                    <a:ext cx="2001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114800" y="914400"/>
          <a:ext cx="22860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914400"/>
                    <a:ext cx="228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5410080" y="914400"/>
          <a:ext cx="190800" cy="25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914400"/>
                    <a:ext cx="1908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6781680" y="914400"/>
          <a:ext cx="238320" cy="3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1680" y="914400"/>
                    <a:ext cx="2383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7924680" y="914400"/>
          <a:ext cx="200160" cy="3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24680" y="914400"/>
                    <a:ext cx="2001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8600" y="914400"/>
          <a:ext cx="8610480" cy="5775480"/>
        </p:xfrm>
        <a:graphic>
          <a:graphicData uri="http://schemas.openxmlformats.org/drawingml/2006/table">
            <a:tbl>
              <a:tblPr/>
              <a:tblGrid>
                <a:gridCol w="2013120"/>
                <a:gridCol w="1319040"/>
                <a:gridCol w="1319040"/>
                <a:gridCol w="1320840"/>
                <a:gridCol w="1319400"/>
                <a:gridCol w="1319040"/>
              </a:tblGrid>
              <a:tr h="44244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2-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a*s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a*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a*m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a*et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a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s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a*m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a*et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a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m*et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m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t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0.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52280" y="152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ue values 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76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268360" y="189000"/>
          <a:ext cx="106704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89000"/>
                    <a:ext cx="10670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9387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708360" y="189000"/>
          <a:ext cx="13431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89000"/>
                    <a:ext cx="1343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708360" y="620640"/>
          <a:ext cx="20016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620640"/>
                    <a:ext cx="2001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859280" y="620640"/>
          <a:ext cx="22860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620640"/>
                    <a:ext cx="228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012000" y="620640"/>
          <a:ext cx="190440" cy="2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620640"/>
                    <a:ext cx="19044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7164360" y="620640"/>
          <a:ext cx="238320" cy="3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4360" y="620640"/>
                    <a:ext cx="2383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8101080" y="620640"/>
          <a:ext cx="199800" cy="3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01080" y="620640"/>
                    <a:ext cx="1998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79280" y="620640"/>
          <a:ext cx="8610840" cy="5943600"/>
        </p:xfrm>
        <a:graphic>
          <a:graphicData uri="http://schemas.openxmlformats.org/drawingml/2006/table">
            <a:tbl>
              <a:tblPr/>
              <a:tblGrid>
                <a:gridCol w="3024360"/>
                <a:gridCol w="1319040"/>
                <a:gridCol w="1008000"/>
                <a:gridCol w="1152720"/>
                <a:gridCol w="1079640"/>
                <a:gridCol w="1027080"/>
              </a:tblGrid>
              <a:tr h="44244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{et*ec}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0.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{ea*s}{et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2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{ea*a}{et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a*et}{et*ec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0.0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0.20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s*a}{et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s*m}{et*ec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s*et}{et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2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s*ec}{et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a*et}{et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{m*et}{et*ec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m*ec}{et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In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{ea}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 Out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{et*ec}(ea*s} {ea*a}{ea*m}{ea*et}{ea*ec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28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In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{s}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 Out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{et*ec}(ea*s} {s*a}{s*m}{s*et}{s*e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2280" y="152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0920" y="1628640"/>
          <a:ext cx="856908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5690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1187280" y="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cord Level Risk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404640"/>
            <a:ext cx="87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ferred Model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ea}{s*a}{s*m}(s*et}{s*ec}{a*m}{a*et}{a*ec}(m*et}{m*ec}</a:t>
            </a: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ue Global Risk:                     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imated Global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780000" y="836640"/>
          <a:ext cx="1066680" cy="3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836640"/>
                    <a:ext cx="10666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5292720" y="836640"/>
          <a:ext cx="134316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836640"/>
                    <a:ext cx="1343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708360" y="1197000"/>
                <a:ext cx="12970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292720" y="1197000"/>
                <a:ext cx="13748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52280" y="152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cord Level Risk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404640"/>
            <a:ext cx="87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ferred Model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ea}{s*a}{s*m}(s*et}{s*ec}{a*m}{a*et}{a*ec}(m*et}{m*ec}</a:t>
            </a: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ue Global Risk:                     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imated Global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780000" y="836640"/>
          <a:ext cx="106668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836640"/>
                    <a:ext cx="10666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292720" y="836640"/>
          <a:ext cx="13431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836640"/>
                    <a:ext cx="1343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708360" y="1197000"/>
                <a:ext cx="12970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292720" y="1197000"/>
                <a:ext cx="13748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9" name=""/>
          <p:cNvGraphicFramePr/>
          <p:nvPr/>
        </p:nvGraphicFramePr>
        <p:xfrm>
          <a:off x="539640" y="2421000"/>
          <a:ext cx="8064720" cy="3584520"/>
        </p:xfrm>
        <a:graphic>
          <a:graphicData uri="http://schemas.openxmlformats.org/drawingml/2006/table">
            <a:tbl>
              <a:tblPr/>
              <a:tblGrid>
                <a:gridCol w="1613160"/>
                <a:gridCol w="1612800"/>
                <a:gridCol w="1612800"/>
                <a:gridCol w="1612800"/>
                <a:gridCol w="16131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 Record Level Risk Mea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Estimated Record Level Risk Mea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– 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 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,8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,9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– 0.7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7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 –   1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,9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2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1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Hebrew)"/>
                        </a:rPr>
                        <a:t>2,3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401760"/>
            <a:ext cx="8001000" cy="46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closure Risk Assessment for Micro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tegorical key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measurement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ord level risk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gregated to file level measures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52280" y="152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143000"/>
            <a:ext cx="8458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del selection by assessing over-, under-disp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risk estimates for models with nearly Poiss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disp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rther work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   stratification of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   complex survey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0"/>
            <a:ext cx="8381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cord Level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ord with combination of key variable val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ple count with same combinatio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 count with same combinatio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consider sample unique records     , i.e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 Pr(population unique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 Pr(correct match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20120" y="1371600"/>
          <a:ext cx="2808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1371600"/>
                    <a:ext cx="2808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400800" y="2133720"/>
          <a:ext cx="39060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133720"/>
                    <a:ext cx="3906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934320" y="3048120"/>
          <a:ext cx="345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3048120"/>
                    <a:ext cx="345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943600" y="3886200"/>
          <a:ext cx="28116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886200"/>
                    <a:ext cx="2811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010280" y="3886200"/>
          <a:ext cx="863640" cy="45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3886200"/>
                    <a:ext cx="863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16000" y="4724280"/>
          <a:ext cx="654120" cy="48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00" y="4724280"/>
                    <a:ext cx="654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715000" y="4724280"/>
          <a:ext cx="2481120" cy="455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4724280"/>
                    <a:ext cx="24811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187280" y="5445000"/>
          <a:ext cx="692280" cy="505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87280" y="5445000"/>
                    <a:ext cx="692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029200" y="5638680"/>
          <a:ext cx="2435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29200" y="5638680"/>
                    <a:ext cx="2435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3020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ed File-level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52480" y="1295280"/>
          <a:ext cx="5715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95280"/>
                    <a:ext cx="5715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911880" y="2102400"/>
            <a:ext cx="733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number of population uniques in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79640" y="3141720"/>
          <a:ext cx="479268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141720"/>
                    <a:ext cx="4792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68360" y="400572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number of correct matches among  sample uniques to the popul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             sample u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63640" y="5877000"/>
          <a:ext cx="695520" cy="27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5877000"/>
                    <a:ext cx="6955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550080"/>
            <a:ext cx="79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ima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inference abou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level measures            and       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for sample uniqu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level measures                   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0" y="2209680"/>
          <a:ext cx="51912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09680"/>
                    <a:ext cx="51912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72200" y="2209680"/>
          <a:ext cx="46044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209680"/>
                    <a:ext cx="4604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886200" y="2819520"/>
          <a:ext cx="22068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2819520"/>
                    <a:ext cx="2206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284720" y="3645000"/>
          <a:ext cx="120960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4720" y="3645000"/>
                    <a:ext cx="1209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477120" y="3581280"/>
          <a:ext cx="128592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3581280"/>
                    <a:ext cx="1285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28600" y="609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2720" y="30240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-linea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484280"/>
            <a:ext cx="864072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ependent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                                 ,           sampling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25600" y="2079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32000" y="2205000"/>
          <a:ext cx="51912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05000"/>
                    <a:ext cx="5191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132000" y="2276640"/>
          <a:ext cx="115272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276640"/>
                    <a:ext cx="11527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8028000" y="2276640"/>
          <a:ext cx="351000" cy="45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2276640"/>
                    <a:ext cx="35100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223080" y="4350240"/>
            <a:ext cx="119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00000" y="3505320"/>
          <a:ext cx="22320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3505320"/>
                    <a:ext cx="2232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4292640"/>
          <a:ext cx="215928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4292640"/>
                    <a:ext cx="2159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257800" y="4365720"/>
          <a:ext cx="322200" cy="32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4365720"/>
                    <a:ext cx="3222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95280" y="537372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e       by maximum likelihood              ,     ,     ,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5120" y="5410080"/>
          <a:ext cx="312480" cy="405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5120" y="5410080"/>
                    <a:ext cx="31248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629400" y="5410080"/>
          <a:ext cx="33480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29400" y="5410080"/>
                    <a:ext cx="334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943600" y="56386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62920" y="5410080"/>
          <a:ext cx="37764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62920" y="5410080"/>
                    <a:ext cx="377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96080" y="5410080"/>
          <a:ext cx="258840" cy="43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96080" y="5410080"/>
                    <a:ext cx="258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29600" y="5410080"/>
          <a:ext cx="301680" cy="43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229600" y="5410080"/>
                    <a:ext cx="301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066680" y="1479600"/>
                <a:ext cx="32004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oisso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π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495680" y="1447920"/>
                <a:ext cx="4419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oisson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21000"/>
            <a:ext cx="8723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0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nner and Holmes (1998, JOS): good properti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all two-way interactions log-linear model,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where:                                        ,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493120" y="1557360"/>
          <a:ext cx="33480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3120" y="1557360"/>
                    <a:ext cx="334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81080" y="2438280"/>
          <a:ext cx="2540160" cy="4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438280"/>
                    <a:ext cx="25401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29040" y="3500280"/>
            <a:ext cx="851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mir and Skinner (2006, JOS): good properti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           under all two-way interactions mode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 need for           term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3962520"/>
          <a:ext cx="39060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962520"/>
                    <a:ext cx="3906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514600" y="3962520"/>
          <a:ext cx="4395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3962520"/>
                    <a:ext cx="4395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352680" y="4343400"/>
          <a:ext cx="36540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4343400"/>
                    <a:ext cx="365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638680" y="2362320"/>
                <a:ext cx="19051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000" y="912960"/>
            <a:ext cx="7751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wo-way interactions model performs well, bu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evidence of some model-dependenc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      in neighborhood of this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010280" y="2209680"/>
          <a:ext cx="30348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2209680"/>
                    <a:ext cx="3034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219320" y="2666880"/>
          <a:ext cx="3189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666880"/>
                    <a:ext cx="318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85920" y="4192200"/>
            <a:ext cx="83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ndency for risk to decrease as model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reases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476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del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280" y="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813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6256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67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05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95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406080"/>
            <a:ext cx="777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ness of fit tes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rs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lihood rat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C, B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very large and sparse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7:48:25Z</dcterms:created>
  <dc:creator>לשכה מרכזית לסטטיסטיקה</dc:creator>
  <dc:description/>
  <dc:language>en-US</dc:language>
  <cp:lastModifiedBy>Natalie</cp:lastModifiedBy>
  <dcterms:modified xsi:type="dcterms:W3CDTF">2005-10-29T17:26:07Z</dcterms:modified>
  <cp:revision>102</cp:revision>
  <dc:subject/>
  <dc:title>מצגת של PowerPoint</dc:title>
</cp:coreProperties>
</file>