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A44B-3FA6-4E48-AE54-CE014B326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339F-AC15-4867-923B-A9820AF2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C09F6-6BD6-4D2D-952F-E65576012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B1AF2-3307-4E54-88D0-3CB2BDEC0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F9B2D-CDAE-4299-8729-73415AF5F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888FC-200E-404C-A5D7-8B00A8236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ADCE-B9A6-4B82-A713-6295D508E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F651-BEB6-4E60-8136-ADF452E5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73508-5A7F-457B-8D1E-102765AB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3C57-3D1B-4506-AB68-B2A28958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98C6-BD7A-4FF5-B9BE-2226169B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37B6-6DA6-4715-9A43-0AB88E9B5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AB53-FA3D-4FC8-9FAB-C08AC1AD8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0773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P 7.</a:t>
            </a:r>
            <a:br>
              <a:rPr sz="2800"/>
            </a:br>
            <a:r>
              <a:rPr b="1" lang="en-GB" sz="2800" spc="-1" strike="noStrike">
                <a:solidFill>
                  <a:srgbClr val="000000"/>
                </a:solidFill>
                <a:latin typeface="Arial"/>
              </a:rPr>
              <a:t>ANalytical  Data  Research  by  Email  and Web </a:t>
            </a:r>
            <a:br>
              <a:rPr sz="2800"/>
            </a:br>
            <a:r>
              <a:rPr b="1" lang="en-GB" sz="2800" spc="-1" strike="noStrike">
                <a:solidFill>
                  <a:srgbClr val="000000"/>
                </a:solidFill>
                <a:latin typeface="Arial"/>
              </a:rPr>
              <a:t>(ANDREW)</a:t>
            </a:r>
            <a:endParaRPr b="0" lang="en-US" sz="2800" spc="-1" strike="noStrike">
              <a:solidFill>
                <a:srgbClr val="000000"/>
              </a:solidFill>
              <a:latin typeface="Arial"/>
            </a:endParaRPr>
          </a:p>
        </p:txBody>
      </p:sp>
      <p:sp>
        <p:nvSpPr>
          <p:cNvPr id="4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jay Gambhir and Kenneth W. Harr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search Data Center, National Center for Health Statistics, Centers for Disease Control and Prevention, Hyattsville, MD 20782, USA, rdca@cdc.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type of ANDREW created in 1998 to supplement on-site Statistical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time, evolved into independent research tool with certain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system under development to address the limitations and to provide greatly improved and new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Layou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lly automated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e registered subscribers round the c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esearch proposal is required for sub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limit on data requests submission but results returned to a specific registered email add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eatur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layered authentication procedures to ward off unauthorized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 level validation of a data request for its suitability to ANDRE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amp; Handling of Disclosure Vio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Fea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ust</a:t>
            </a:r>
            <a:r>
              <a:rPr b="0" lang="en-GB" sz="3200" spc="-1" strike="noStrike">
                <a:solidFill>
                  <a:srgbClr val="000000"/>
                </a:solidFill>
                <a:latin typeface="Arial"/>
              </a:rPr>
              <a:t> disclosure limitation check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mulative data retrieval and confidential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language suppor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guage free GUI data acc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ous software engineering process geared towards regular induction of improvements and enhancements to the system as dictated by the feedback from the user community and by the internal system performance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8:56:20Z</dcterms:created>
  <dc:creator>Vgambhir</dc:creator>
  <dc:description/>
  <dc:language>en-US</dc:language>
  <cp:lastModifiedBy>Vgambhir</cp:lastModifiedBy>
  <dcterms:modified xsi:type="dcterms:W3CDTF">2005-10-24T16:33:02Z</dcterms:modified>
  <cp:revision>5</cp:revision>
  <dc:subject/>
  <dc:title>ANalytical  Data  Research  by  Email  and Web  (ANDREW) Vijay Gambhir and Kenneth W. Harris, Research Data Center, National Center for Health Statistics, Centers for Disease Control and Prevention, Hyattsville, MD 20782, USA, rdca@cdc.gov</dc:title>
</cp:coreProperties>
</file>