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6DE-C850-4EFD-8B65-2A1FB9CE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519-EC65-45B7-AF2B-3611754C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DBB-8553-4FE7-A181-64915405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67D-3AFA-424D-A3C5-28CE24CD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801C-565B-4AD4-B61D-FCAAAB8D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970-5044-496C-9908-73C2E51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AF0-14B5-4846-9A5F-64812BC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D4F0-4924-4F22-8C69-F18F03A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CC11-51E7-445D-9C8A-6074303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1C07-9BC1-438B-B83C-79FB534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5C15-98B1-42AD-8BCA-FFEB57B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190-BE6B-408A-A44B-D05CE13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D4E-CDD6-4C9E-B032-0FEE738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A8A2-2164-4512-AFE6-64801AF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945D-3E77-4F1F-BDBC-7F3EA29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DDB-D81F-477B-9D1D-24E2C86D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CD5-F1D1-4008-B5F7-B0D85ADB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6F8-4FAB-45A7-AFDD-669FC86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6FA-EDEF-4857-B7D4-DECB5DC0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EEC-AB7F-4288-B3C1-0F8789FC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622-2F53-4E88-BEF1-7F625AF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740-CB6C-412F-B861-49133D5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11F-C081-405C-B107-329A924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A3D-2D0B-4595-B0CD-E0605FEE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435CD5-2DDB-4312-95DB-E06E66D8E318}" type="slidenum">
              <a:rPr b="0" lang="en-GB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380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57320" y="5546880"/>
            <a:ext cx="519120" cy="882360"/>
            <a:chOff x="157320" y="5546880"/>
            <a:chExt cx="519120" cy="882360"/>
          </a:xfrm>
        </p:grpSpPr>
        <p:sp>
          <p:nvSpPr>
            <p:cNvPr id="7" name=""/>
            <p:cNvSpPr/>
            <p:nvPr/>
          </p:nvSpPr>
          <p:spPr>
            <a:xfrm>
              <a:off x="504720" y="5778360"/>
              <a:ext cx="87480" cy="98640"/>
            </a:xfrm>
            <a:custGeom>
              <a:avLst/>
              <a:gdLst/>
              <a:ahLst/>
              <a:rect l="l" t="t" r="r" b="b"/>
              <a:pathLst>
                <a:path w="882" h="1004">
                  <a:moveTo>
                    <a:pt x="320" y="321"/>
                  </a:moveTo>
                  <a:lnTo>
                    <a:pt x="561" y="321"/>
                  </a:lnTo>
                  <a:lnTo>
                    <a:pt x="561" y="682"/>
                  </a:lnTo>
                  <a:lnTo>
                    <a:pt x="320" y="682"/>
                  </a:lnTo>
                  <a:lnTo>
                    <a:pt x="320" y="321"/>
                  </a:lnTo>
                  <a:close/>
                  <a:moveTo>
                    <a:pt x="0" y="0"/>
                  </a:moveTo>
                  <a:lnTo>
                    <a:pt x="882" y="0"/>
                  </a:lnTo>
                  <a:lnTo>
                    <a:pt x="882" y="1004"/>
                  </a:ln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8760" y="5689440"/>
              <a:ext cx="235080" cy="271800"/>
            </a:xfrm>
            <a:custGeom>
              <a:avLst/>
              <a:gdLst/>
              <a:ahLst/>
              <a:rect l="l" t="t" r="r" b="b"/>
              <a:pathLst>
                <a:path w="2367" h="2729">
                  <a:moveTo>
                    <a:pt x="0" y="0"/>
                  </a:moveTo>
                  <a:lnTo>
                    <a:pt x="2367" y="0"/>
                  </a:lnTo>
                  <a:lnTo>
                    <a:pt x="2367" y="1203"/>
                  </a:lnTo>
                  <a:lnTo>
                    <a:pt x="1164" y="1203"/>
                  </a:lnTo>
                  <a:lnTo>
                    <a:pt x="1164" y="1565"/>
                  </a:lnTo>
                  <a:lnTo>
                    <a:pt x="2367" y="1565"/>
                  </a:lnTo>
                  <a:lnTo>
                    <a:pt x="2367" y="2729"/>
                  </a:lnTo>
                  <a:lnTo>
                    <a:pt x="0" y="2729"/>
                  </a:lnTo>
                  <a:lnTo>
                    <a:pt x="0" y="0"/>
                  </a:lnTo>
                  <a:close/>
                  <a:moveTo>
                    <a:pt x="321" y="362"/>
                  </a:moveTo>
                  <a:lnTo>
                    <a:pt x="2046" y="362"/>
                  </a:lnTo>
                  <a:lnTo>
                    <a:pt x="2046" y="882"/>
                  </a:lnTo>
                  <a:lnTo>
                    <a:pt x="843" y="882"/>
                  </a:lnTo>
                  <a:lnTo>
                    <a:pt x="843" y="1887"/>
                  </a:lnTo>
                  <a:lnTo>
                    <a:pt x="2046" y="1887"/>
                  </a:lnTo>
                  <a:lnTo>
                    <a:pt x="2046" y="2409"/>
                  </a:lnTo>
                  <a:lnTo>
                    <a:pt x="321" y="2409"/>
                  </a:lnTo>
                  <a:lnTo>
                    <a:pt x="32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7320" y="5996160"/>
              <a:ext cx="517320" cy="433080"/>
            </a:xfrm>
            <a:custGeom>
              <a:avLst/>
              <a:gdLst/>
              <a:ahLst/>
              <a:rect l="l" t="t" r="r" b="b"/>
              <a:pathLst>
                <a:path w="5216" h="4376">
                  <a:moveTo>
                    <a:pt x="5216" y="0"/>
                  </a:moveTo>
                  <a:lnTo>
                    <a:pt x="0" y="0"/>
                  </a:lnTo>
                  <a:lnTo>
                    <a:pt x="1" y="2770"/>
                  </a:lnTo>
                  <a:lnTo>
                    <a:pt x="4053" y="2771"/>
                  </a:lnTo>
                  <a:lnTo>
                    <a:pt x="4053" y="3212"/>
                  </a:lnTo>
                  <a:lnTo>
                    <a:pt x="1" y="3211"/>
                  </a:lnTo>
                  <a:lnTo>
                    <a:pt x="1" y="4376"/>
                  </a:lnTo>
                  <a:lnTo>
                    <a:pt x="5216" y="4376"/>
                  </a:lnTo>
                  <a:lnTo>
                    <a:pt x="5216" y="1605"/>
                  </a:lnTo>
                  <a:lnTo>
                    <a:pt x="1165" y="1605"/>
                  </a:lnTo>
                  <a:lnTo>
                    <a:pt x="1165" y="1164"/>
                  </a:lnTo>
                  <a:lnTo>
                    <a:pt x="5216" y="1164"/>
                  </a:lnTo>
                  <a:lnTo>
                    <a:pt x="5216" y="0"/>
                  </a:lnTo>
                  <a:close/>
                  <a:moveTo>
                    <a:pt x="321" y="321"/>
                  </a:moveTo>
                  <a:lnTo>
                    <a:pt x="4895" y="321"/>
                  </a:lnTo>
                  <a:lnTo>
                    <a:pt x="4895" y="842"/>
                  </a:lnTo>
                  <a:lnTo>
                    <a:pt x="843" y="842"/>
                  </a:lnTo>
                  <a:lnTo>
                    <a:pt x="843" y="1926"/>
                  </a:lnTo>
                  <a:lnTo>
                    <a:pt x="4895" y="1926"/>
                  </a:lnTo>
                  <a:lnTo>
                    <a:pt x="4895" y="4055"/>
                  </a:lnTo>
                  <a:lnTo>
                    <a:pt x="321" y="4055"/>
                  </a:lnTo>
                  <a:lnTo>
                    <a:pt x="321" y="3533"/>
                  </a:lnTo>
                  <a:lnTo>
                    <a:pt x="4374" y="3533"/>
                  </a:lnTo>
                  <a:lnTo>
                    <a:pt x="4374" y="2449"/>
                  </a:lnTo>
                  <a:lnTo>
                    <a:pt x="321" y="2449"/>
                  </a:lnTo>
                  <a:lnTo>
                    <a:pt x="32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22280" y="5546880"/>
              <a:ext cx="254160" cy="414360"/>
            </a:xfrm>
            <a:custGeom>
              <a:avLst/>
              <a:gdLst/>
              <a:ahLst/>
              <a:rect l="l" t="t" r="r" b="b"/>
              <a:pathLst>
                <a:path w="2567" h="4174">
                  <a:moveTo>
                    <a:pt x="321" y="321"/>
                  </a:moveTo>
                  <a:lnTo>
                    <a:pt x="843" y="321"/>
                  </a:lnTo>
                  <a:lnTo>
                    <a:pt x="843" y="1806"/>
                  </a:lnTo>
                  <a:lnTo>
                    <a:pt x="2246" y="1806"/>
                  </a:lnTo>
                  <a:lnTo>
                    <a:pt x="2246" y="3854"/>
                  </a:lnTo>
                  <a:lnTo>
                    <a:pt x="321" y="3854"/>
                  </a:lnTo>
                  <a:lnTo>
                    <a:pt x="321" y="321"/>
                  </a:lnTo>
                  <a:close/>
                  <a:moveTo>
                    <a:pt x="0" y="0"/>
                  </a:moveTo>
                  <a:lnTo>
                    <a:pt x="1163" y="0"/>
                  </a:lnTo>
                  <a:lnTo>
                    <a:pt x="1163" y="1444"/>
                  </a:lnTo>
                  <a:lnTo>
                    <a:pt x="2567" y="1444"/>
                  </a:lnTo>
                  <a:lnTo>
                    <a:pt x="2567" y="4174"/>
                  </a:lnTo>
                  <a:lnTo>
                    <a:pt x="0" y="4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F0B181-056D-45F7-8E82-CD1D5F6FE571}" type="slidenum">
              <a:rPr b="0" lang="en-GB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380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7320" y="5546880"/>
            <a:ext cx="519120" cy="882360"/>
            <a:chOff x="157320" y="5546880"/>
            <a:chExt cx="519120" cy="882360"/>
          </a:xfrm>
        </p:grpSpPr>
        <p:sp>
          <p:nvSpPr>
            <p:cNvPr id="53" name=""/>
            <p:cNvSpPr/>
            <p:nvPr/>
          </p:nvSpPr>
          <p:spPr>
            <a:xfrm>
              <a:off x="504720" y="5778360"/>
              <a:ext cx="87480" cy="98640"/>
            </a:xfrm>
            <a:custGeom>
              <a:avLst/>
              <a:gdLst/>
              <a:ahLst/>
              <a:rect l="l" t="t" r="r" b="b"/>
              <a:pathLst>
                <a:path w="882" h="1004">
                  <a:moveTo>
                    <a:pt x="320" y="321"/>
                  </a:moveTo>
                  <a:lnTo>
                    <a:pt x="561" y="321"/>
                  </a:lnTo>
                  <a:lnTo>
                    <a:pt x="561" y="682"/>
                  </a:lnTo>
                  <a:lnTo>
                    <a:pt x="320" y="682"/>
                  </a:lnTo>
                  <a:lnTo>
                    <a:pt x="320" y="321"/>
                  </a:lnTo>
                  <a:close/>
                  <a:moveTo>
                    <a:pt x="0" y="0"/>
                  </a:moveTo>
                  <a:lnTo>
                    <a:pt x="882" y="0"/>
                  </a:lnTo>
                  <a:lnTo>
                    <a:pt x="882" y="1004"/>
                  </a:ln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8760" y="5689440"/>
              <a:ext cx="235080" cy="271800"/>
            </a:xfrm>
            <a:custGeom>
              <a:avLst/>
              <a:gdLst/>
              <a:ahLst/>
              <a:rect l="l" t="t" r="r" b="b"/>
              <a:pathLst>
                <a:path w="2367" h="2729">
                  <a:moveTo>
                    <a:pt x="0" y="0"/>
                  </a:moveTo>
                  <a:lnTo>
                    <a:pt x="2367" y="0"/>
                  </a:lnTo>
                  <a:lnTo>
                    <a:pt x="2367" y="1203"/>
                  </a:lnTo>
                  <a:lnTo>
                    <a:pt x="1164" y="1203"/>
                  </a:lnTo>
                  <a:lnTo>
                    <a:pt x="1164" y="1565"/>
                  </a:lnTo>
                  <a:lnTo>
                    <a:pt x="2367" y="1565"/>
                  </a:lnTo>
                  <a:lnTo>
                    <a:pt x="2367" y="2729"/>
                  </a:lnTo>
                  <a:lnTo>
                    <a:pt x="0" y="2729"/>
                  </a:lnTo>
                  <a:lnTo>
                    <a:pt x="0" y="0"/>
                  </a:lnTo>
                  <a:close/>
                  <a:moveTo>
                    <a:pt x="321" y="362"/>
                  </a:moveTo>
                  <a:lnTo>
                    <a:pt x="2046" y="362"/>
                  </a:lnTo>
                  <a:lnTo>
                    <a:pt x="2046" y="882"/>
                  </a:lnTo>
                  <a:lnTo>
                    <a:pt x="843" y="882"/>
                  </a:lnTo>
                  <a:lnTo>
                    <a:pt x="843" y="1887"/>
                  </a:lnTo>
                  <a:lnTo>
                    <a:pt x="2046" y="1887"/>
                  </a:lnTo>
                  <a:lnTo>
                    <a:pt x="2046" y="2409"/>
                  </a:lnTo>
                  <a:lnTo>
                    <a:pt x="321" y="2409"/>
                  </a:lnTo>
                  <a:lnTo>
                    <a:pt x="32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7320" y="5996160"/>
              <a:ext cx="517320" cy="433080"/>
            </a:xfrm>
            <a:custGeom>
              <a:avLst/>
              <a:gdLst/>
              <a:ahLst/>
              <a:rect l="l" t="t" r="r" b="b"/>
              <a:pathLst>
                <a:path w="5216" h="4376">
                  <a:moveTo>
                    <a:pt x="5216" y="0"/>
                  </a:moveTo>
                  <a:lnTo>
                    <a:pt x="0" y="0"/>
                  </a:lnTo>
                  <a:lnTo>
                    <a:pt x="1" y="2770"/>
                  </a:lnTo>
                  <a:lnTo>
                    <a:pt x="4053" y="2771"/>
                  </a:lnTo>
                  <a:lnTo>
                    <a:pt x="4053" y="3212"/>
                  </a:lnTo>
                  <a:lnTo>
                    <a:pt x="1" y="3211"/>
                  </a:lnTo>
                  <a:lnTo>
                    <a:pt x="1" y="4376"/>
                  </a:lnTo>
                  <a:lnTo>
                    <a:pt x="5216" y="4376"/>
                  </a:lnTo>
                  <a:lnTo>
                    <a:pt x="5216" y="1605"/>
                  </a:lnTo>
                  <a:lnTo>
                    <a:pt x="1165" y="1605"/>
                  </a:lnTo>
                  <a:lnTo>
                    <a:pt x="1165" y="1164"/>
                  </a:lnTo>
                  <a:lnTo>
                    <a:pt x="5216" y="1164"/>
                  </a:lnTo>
                  <a:lnTo>
                    <a:pt x="5216" y="0"/>
                  </a:lnTo>
                  <a:close/>
                  <a:moveTo>
                    <a:pt x="321" y="321"/>
                  </a:moveTo>
                  <a:lnTo>
                    <a:pt x="4895" y="321"/>
                  </a:lnTo>
                  <a:lnTo>
                    <a:pt x="4895" y="842"/>
                  </a:lnTo>
                  <a:lnTo>
                    <a:pt x="843" y="842"/>
                  </a:lnTo>
                  <a:lnTo>
                    <a:pt x="843" y="1926"/>
                  </a:lnTo>
                  <a:lnTo>
                    <a:pt x="4895" y="1926"/>
                  </a:lnTo>
                  <a:lnTo>
                    <a:pt x="4895" y="4055"/>
                  </a:lnTo>
                  <a:lnTo>
                    <a:pt x="321" y="4055"/>
                  </a:lnTo>
                  <a:lnTo>
                    <a:pt x="321" y="3533"/>
                  </a:lnTo>
                  <a:lnTo>
                    <a:pt x="4374" y="3533"/>
                  </a:lnTo>
                  <a:lnTo>
                    <a:pt x="4374" y="2449"/>
                  </a:lnTo>
                  <a:lnTo>
                    <a:pt x="321" y="2449"/>
                  </a:lnTo>
                  <a:lnTo>
                    <a:pt x="32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2280" y="5546880"/>
              <a:ext cx="254160" cy="414360"/>
            </a:xfrm>
            <a:custGeom>
              <a:avLst/>
              <a:gdLst/>
              <a:ahLst/>
              <a:rect l="l" t="t" r="r" b="b"/>
              <a:pathLst>
                <a:path w="2567" h="4174">
                  <a:moveTo>
                    <a:pt x="321" y="321"/>
                  </a:moveTo>
                  <a:lnTo>
                    <a:pt x="843" y="321"/>
                  </a:lnTo>
                  <a:lnTo>
                    <a:pt x="843" y="1806"/>
                  </a:lnTo>
                  <a:lnTo>
                    <a:pt x="2246" y="1806"/>
                  </a:lnTo>
                  <a:lnTo>
                    <a:pt x="2246" y="3854"/>
                  </a:lnTo>
                  <a:lnTo>
                    <a:pt x="321" y="3854"/>
                  </a:lnTo>
                  <a:lnTo>
                    <a:pt x="321" y="321"/>
                  </a:lnTo>
                  <a:close/>
                  <a:moveTo>
                    <a:pt x="0" y="0"/>
                  </a:moveTo>
                  <a:lnTo>
                    <a:pt x="1163" y="0"/>
                  </a:lnTo>
                  <a:lnTo>
                    <a:pt x="1163" y="1444"/>
                  </a:lnTo>
                  <a:lnTo>
                    <a:pt x="2567" y="1444"/>
                  </a:lnTo>
                  <a:lnTo>
                    <a:pt x="2567" y="4174"/>
                  </a:lnTo>
                  <a:lnTo>
                    <a:pt x="0" y="4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OnSite@Home</a:t>
            </a:r>
            <a:br>
              <a:rPr sz="3600"/>
            </a:b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Remote Access at Statistics Netherland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co Hundepool and Peter-Paul de Wo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73920" y="38149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First experiences of pilot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2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lo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Til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workstations (Windows PC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, no re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like own desktop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onclusions and remark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2520" indent="-18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ing counterpart of traditional on-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ity issues ‘under control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of output labour intensive but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provide access to MUC’s as w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61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Site@Hom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rst experiences of pi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clusions and re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565000"/>
            <a:ext cx="345600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micro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play around with the data, without confidentiality checks until final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2320" y="2565360"/>
            <a:ext cx="3200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t premises 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irect contact with colleag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working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989000"/>
            <a:ext cx="655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microdata: only on-site (i.e., at S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5662440"/>
            <a:ext cx="36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safe set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2320" y="5662440"/>
            <a:ext cx="34876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office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nSite@Home facility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le with on-site concerning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/7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64000" y="3068640"/>
            <a:ext cx="360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Site@Ho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tric 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I Certific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name + Pass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Functional aspec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4334040"/>
            <a:ext cx="936720" cy="804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8000" y="1557360"/>
            <a:ext cx="65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ly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authorised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users allo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068640"/>
            <a:ext cx="3168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ditional on-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can not enter nor leave SN unaccompan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64360" y="4044960"/>
            <a:ext cx="930240" cy="13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1989000"/>
            <a:ext cx="65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92880" indent="-9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selected research instit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2880" indent="-9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under con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Functional aspec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73360"/>
            <a:ext cx="65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(Micro) data stay at S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708280"/>
            <a:ext cx="3168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ditional on-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separate from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cal pri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loppy, USB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708280"/>
            <a:ext cx="3240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Site@Ho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separate from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rix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Functional aspec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773360"/>
            <a:ext cx="655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ecking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2708280"/>
            <a:ext cx="3600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ditional on-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ed output checked by SN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708280"/>
            <a:ext cx="36003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Site@Ho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ed output checked by SN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echnical aspec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38280" y="870120"/>
            <a:ext cx="648036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echnical aspec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965160"/>
            <a:ext cx="7632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2:53:40Z</dcterms:created>
  <dc:creator>Peter-Paul de Wolf</dc:creator>
  <dc:description/>
  <dc:language>en-US</dc:language>
  <cp:lastModifiedBy>Peter-Paul de Wolf</cp:lastModifiedBy>
  <cp:lastPrinted>1997-01-15T14:42:22Z</cp:lastPrinted>
  <dcterms:modified xsi:type="dcterms:W3CDTF">2006-03-31T09:52:15Z</dcterms:modified>
  <cp:revision>2</cp:revision>
  <dc:subject/>
  <dc:title>OnSite@Home Remote Access at Statistics Netherl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9374544</vt:r8>
  </property>
  <property fmtid="{D5CDD505-2E9C-101B-9397-08002B2CF9AE}" pid="3" name="_AuthorEmail">
    <vt:lpwstr>PWOF@CBS.nl</vt:lpwstr>
  </property>
  <property fmtid="{D5CDD505-2E9C-101B-9397-08002B2CF9AE}" pid="4" name="_AuthorEmailDisplayName">
    <vt:lpwstr>Wolf, dr. ir  P.P. de</vt:lpwstr>
  </property>
  <property fmtid="{D5CDD505-2E9C-101B-9397-08002B2CF9AE}" pid="5" name="_EmailSubject">
    <vt:lpwstr>Question concerning paper UNECE/Eurostat work session on SDC</vt:lpwstr>
  </property>
</Properties>
</file>