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4B3-02FE-4944-B42E-72B326BA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3FC-DC80-4F1A-97BB-3339DBE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69B-15AD-4DAC-85AA-C9305037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C26-D2E9-48B1-BFD8-B2E5962E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028-84AB-4706-83EC-85B0AE68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A1E-3FF6-4ED5-A7D3-5D7FAA03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7C5-7E1B-48AF-BE2B-76104421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6DB-747A-4CB0-8AF3-BEEA6F4B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EA1-B062-48D4-A82D-BF2100B4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A23-D1FD-4051-971B-86C2500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FB8-6D54-4B33-ACF3-4E97AC99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242-A27C-41B5-8B71-5399C1D7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90F5-9EC2-4987-83B8-4893557AF84F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168360" cy="525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979640" y="5013360"/>
            <a:ext cx="57960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anst521 BT"/>
              </a:rPr>
              <a:t>Ana Dulce P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24000" y="5516640"/>
            <a:ext cx="2160720" cy="360360"/>
            <a:chOff x="2124000" y="5516640"/>
            <a:chExt cx="2160720" cy="360360"/>
          </a:xfrm>
        </p:grpSpPr>
        <p:sp>
          <p:nvSpPr>
            <p:cNvPr id="45" name=""/>
            <p:cNvSpPr/>
            <p:nvPr/>
          </p:nvSpPr>
          <p:spPr>
            <a:xfrm>
              <a:off x="2124000" y="5516640"/>
              <a:ext cx="216000" cy="216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13080" y="551664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2000" y="5516640"/>
              <a:ext cx="865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08360" y="5516640"/>
              <a:ext cx="576360" cy="216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84360" y="5661000"/>
              <a:ext cx="576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324000" y="162828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3573360"/>
            <a:ext cx="5472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808080"/>
                </a:solidFill>
                <a:latin typeface="Arial"/>
              </a:rPr>
              <a:t>Work session on statistical confidenti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Humanst521 BT"/>
              </a:rPr>
              <a:t>Geneva, 9 - 11 Novemb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936720" cy="62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3779640" y="549360"/>
            <a:ext cx="39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1341360"/>
            <a:ext cx="7201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808080"/>
                </a:solidFill>
                <a:latin typeface="Humanst521 BT"/>
              </a:rPr>
              <a:t>Statistics </a:t>
            </a:r>
            <a:r>
              <a:rPr b="0" lang="en-GB" sz="4400" spc="-1" strike="noStrike">
                <a:solidFill>
                  <a:srgbClr val="808080"/>
                </a:solidFill>
                <a:latin typeface="Humanst521 BT"/>
              </a:rPr>
              <a:t>and</a:t>
            </a:r>
            <a:r>
              <a:rPr b="0" lang="pt-PT" sz="4400" spc="-1" strike="noStrike">
                <a:solidFill>
                  <a:srgbClr val="808080"/>
                </a:solidFill>
                <a:latin typeface="Humanst521 BT"/>
              </a:rPr>
              <a:t> confidentiality - the Portugue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53E-B7A3-4821-9722-BD82309262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2060640"/>
            <a:ext cx="7632720" cy="245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briga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63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C93-BA3A-46A0-9058-CAECB09CAE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6049800" cy="86364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10920" y="198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1989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0800000">
            <a:off x="463680" y="2275920"/>
            <a:ext cx="581040" cy="2454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Humanst521 B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1557360"/>
            <a:ext cx="7345440" cy="5127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5000"/>
              </a:lnSpc>
              <a:spcBef>
                <a:spcPts val="1500"/>
              </a:spcBef>
              <a:buClr>
                <a:srgbClr val="cc0000"/>
              </a:buClr>
              <a:buFont typeface="Humanst5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Cross legal references concerning 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5000"/>
              </a:lnSpc>
              <a:spcBef>
                <a:spcPts val="1500"/>
              </a:spcBef>
              <a:buClr>
                <a:srgbClr val="cc0000"/>
              </a:buClr>
              <a:buFont typeface="Humanst5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Organization of the Portuguese Statistical System – INE (NSI) Statistics Council (SC), other public          bo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5000"/>
              </a:lnSpc>
              <a:spcBef>
                <a:spcPts val="1500"/>
              </a:spcBef>
              <a:buClr>
                <a:srgbClr val="cc0000"/>
              </a:buClr>
              <a:buFont typeface="Humanst5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Definition, importance and boundaries of confidentiality i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5000"/>
              </a:lnSpc>
              <a:spcBef>
                <a:spcPts val="1500"/>
              </a:spcBef>
              <a:buClr>
                <a:srgbClr val="cc0000"/>
              </a:buClr>
              <a:buFont typeface="Humanst5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Humanst521 BT"/>
              </a:rPr>
              <a:t>The future of statistical confidentiality: what exists, what may be improved, what can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8360" y="765000"/>
            <a:ext cx="2160720" cy="360360"/>
            <a:chOff x="468360" y="765000"/>
            <a:chExt cx="2160720" cy="360360"/>
          </a:xfrm>
        </p:grpSpPr>
        <p:sp>
          <p:nvSpPr>
            <p:cNvPr id="61" name=""/>
            <p:cNvSpPr/>
            <p:nvPr/>
          </p:nvSpPr>
          <p:spPr>
            <a:xfrm>
              <a:off x="468360" y="765000"/>
              <a:ext cx="216000" cy="216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7440" y="76500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16360" y="765000"/>
              <a:ext cx="865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2720" y="765000"/>
              <a:ext cx="576360" cy="216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8720" y="909360"/>
              <a:ext cx="576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9E3-EEDB-40A3-91C9-70032A8F4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71640" y="3357720"/>
            <a:ext cx="7272360" cy="168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ational Statistical Law -  nº 6/89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Law 294/2001 – access, collection and processing personal data obtained through administrative 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Cross legal references concerning confidenti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77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76720" y="5013360"/>
            <a:ext cx="388800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Personal Data Protection L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Law 67/9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413000"/>
            <a:ext cx="6697800" cy="20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Council Regulation 1588/90 - Transmission of Confidential Statistical Data from INE to Eurost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Statistical Law – Council Regulation CE/322/9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Commission Regulation 831/2002, Access of scientific researchers to Confidential European Statistic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0000"/>
                </a:solidFill>
                <a:latin typeface="Arial"/>
              </a:rPr>
              <a:t>The Personal Data Directive – 95/46/E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19A-E3D4-498F-8529-0308712919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1916280"/>
            <a:ext cx="7272360" cy="37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E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main purpo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al production: data collection, processing and disse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al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al cooperation with other countries mainly in Europe and Af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 – supervision and coordination of the statistical system: includes requests and decisions about confidentiality mat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public bodies – same purposes as 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804800">
            <a:off x="2482200" y="183960"/>
            <a:ext cx="6118200" cy="1155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Organization of the Statistical System – INE, SC, other public 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91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735-1FFA-4895-A98C-7DDB84A884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1628640"/>
            <a:ext cx="7272360" cy="37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tion: the privacy of data providers, the confidentiality of the information they provide and its use only for statistical purposes must be absolutely guarantee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uropean Statistics Code of Pract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ance: keeping the confidence of respondents assuring that the information they provide will be used only for statistical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ndaries: main rule that denies the transmission of information related to individual units by INE, as well as the access to individual statistical data by any public auth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Definition, importance and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03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136-6642-401C-8190-32CD35017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1628640"/>
            <a:ext cx="7272360" cy="449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exis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limitations of the law concerning access to confidential statistical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– To preserve the competition among business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– To guarantee respondents trust in the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– To assure that required statistical information refers only to juridical pers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– To assure that requested information will only be used for planning and coordination purposes or international economical rel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The future of statisticalconfidentialiy</a:t>
            </a:r>
            <a:r>
              <a:rPr b="1" i="1" lang="pt-PT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15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2D6-305A-4F1D-A1E5-C5B231930B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71640" y="1413000"/>
            <a:ext cx="7272360" cy="408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may be improv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o conciliate the increasing demands for confidential statistical data with the need to preserve respondents’ trust in statistical institu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ing advantage of international benchmark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ring efficient co-ordination between the statistical services and the public body which takes the responsibility for personal data protection and contr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ing the use of data obtained through administrative 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The future of statisticalconfidential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27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2BD-96BA-4C9B-B36D-07F152AAD9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1628640"/>
            <a:ext cx="8424720" cy="34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an be don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monised statistical methods for confidentiality treatment, resulting from different combined approaches such as statistical, juridical, methodological and administ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al unit for providing integrated proposals and solutions relating to confidentiality matters, which could function as a link between INE and 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The future of statisticalconfidential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39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C05-C399-4956-ABE1-C31A7A1D01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1628640"/>
            <a:ext cx="7632720" cy="327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an be don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legal solution to provide a good communication between INE and National Data Protection Com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legal purposes to be considered as exceptions to statistical confidentiality, such as scientific research, public health or criminal investi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028000" y="6234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Humanst521 BT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6138720"/>
            <a:ext cx="2160720" cy="357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708360" y="6093000"/>
            <a:ext cx="719280" cy="47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41128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 rot="10804800">
            <a:off x="2484000" y="185400"/>
            <a:ext cx="6118200" cy="9381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Humanst521 BT"/>
              </a:rPr>
              <a:t>Statistics and confidentiality - the Portuguese ca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Wingdings 2"/>
                <a:ea typeface="Wingdings 2"/>
              </a:rPr>
              <a:t>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808080"/>
                </a:solidFill>
                <a:latin typeface="Arial"/>
              </a:rPr>
              <a:t>The future of statisticalconfidential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4000" y="189000"/>
            <a:ext cx="2015640" cy="431280"/>
            <a:chOff x="324000" y="189000"/>
            <a:chExt cx="2015640" cy="431280"/>
          </a:xfrm>
        </p:grpSpPr>
        <p:sp>
          <p:nvSpPr>
            <p:cNvPr id="151" name=""/>
            <p:cNvSpPr/>
            <p:nvPr/>
          </p:nvSpPr>
          <p:spPr>
            <a:xfrm>
              <a:off x="324000" y="189000"/>
              <a:ext cx="20124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640" y="189000"/>
              <a:ext cx="267840" cy="258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28440" y="189000"/>
              <a:ext cx="807120" cy="258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02160" y="189000"/>
              <a:ext cx="537480" cy="258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9880" y="361800"/>
              <a:ext cx="5374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090-D9A6-4242-9685-981765657F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6:14:16Z</dcterms:created>
  <dc:creator>DPHCN</dc:creator>
  <dc:description/>
  <dc:language>en-US</dc:language>
  <cp:lastModifiedBy>ONU</cp:lastModifiedBy>
  <dcterms:modified xsi:type="dcterms:W3CDTF">2005-11-08T15:47:14Z</dcterms:modified>
  <cp:revision>48</cp:revision>
  <dc:subject/>
  <dc:title>títul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03517</vt:r8>
  </property>
  <property fmtid="{D5CDD505-2E9C-101B-9397-08002B2CF9AE}" pid="3" name="_AuthorEmail">
    <vt:lpwstr>ana.dpinto@ine.pt</vt:lpwstr>
  </property>
  <property fmtid="{D5CDD505-2E9C-101B-9397-08002B2CF9AE}" pid="4" name="_AuthorEmailDisplayName">
    <vt:lpwstr>Ana Dulce Pinto</vt:lpwstr>
  </property>
  <property fmtid="{D5CDD505-2E9C-101B-9397-08002B2CF9AE}" pid="5" name="_EmailSubject">
    <vt:lpwstr>Eurostat - UNECE work session on Statistical Confidentiality - slides presentation </vt:lpwstr>
  </property>
  <property fmtid="{D5CDD505-2E9C-101B-9397-08002B2CF9AE}" pid="6" name="_ReviewingToolsShownOnce">
    <vt:lpwstr/>
  </property>
</Properties>
</file>