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600-BD58-47F4-9597-E60344B0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012-002C-4F6F-BCFC-D680904C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0C0-D1DB-409F-A9F2-536A5A3F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E3C-8C30-408F-819C-B41C5251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0F9-EB1E-4686-9E0B-94DA7B40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1EA-916D-49B3-BB8F-E4569E5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547-8599-4BF3-86D9-5F981DF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783-F6C7-4BE9-A00D-F8D0CF37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462-BAF2-4BD8-B1CF-185B19B4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7D4-63F5-45D7-AD0E-5635505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611-A43E-418E-8C7B-F012B4C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45F-8AD0-4AB8-A87D-9945FB0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3ED-219B-487B-9342-72D9E0EF0E16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68360" cy="525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979640" y="5013360"/>
            <a:ext cx="57960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anst521 BT"/>
              </a:rPr>
              <a:t>Ana Dulce P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24000" y="5516640"/>
            <a:ext cx="2160720" cy="360360"/>
            <a:chOff x="2124000" y="5516640"/>
            <a:chExt cx="2160720" cy="360360"/>
          </a:xfrm>
        </p:grpSpPr>
        <p:sp>
          <p:nvSpPr>
            <p:cNvPr id="45" name=""/>
            <p:cNvSpPr/>
            <p:nvPr/>
          </p:nvSpPr>
          <p:spPr>
            <a:xfrm>
              <a:off x="2124000" y="5516640"/>
              <a:ext cx="21600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13080" y="551664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2000" y="5516640"/>
              <a:ext cx="865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08360" y="5516640"/>
              <a:ext cx="57636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84360" y="5661000"/>
              <a:ext cx="576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324000" y="162828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3573360"/>
            <a:ext cx="5472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808080"/>
                </a:solidFill>
                <a:latin typeface="Arial"/>
              </a:rPr>
              <a:t>Work session on statistical confidenti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Humanst521 BT"/>
              </a:rPr>
              <a:t>Geneva, 9 - 11 Novemb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936720" cy="62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3779640" y="549360"/>
            <a:ext cx="39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1341360"/>
            <a:ext cx="7201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808080"/>
                </a:solidFill>
                <a:latin typeface="Humanst521 BT"/>
              </a:rPr>
              <a:t>Statistics </a:t>
            </a:r>
            <a:r>
              <a:rPr b="0" lang="en-GB" sz="4400" spc="-1" strike="noStrike">
                <a:solidFill>
                  <a:srgbClr val="808080"/>
                </a:solidFill>
                <a:latin typeface="Humanst521 BT"/>
              </a:rPr>
              <a:t>and</a:t>
            </a:r>
            <a:r>
              <a:rPr b="0" lang="pt-PT" sz="4400" spc="-1" strike="noStrike">
                <a:solidFill>
                  <a:srgbClr val="808080"/>
                </a:solidFill>
                <a:latin typeface="Humanst521 BT"/>
              </a:rPr>
              <a:t> confidentiality - the Portugue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E65-B059-46B1-97A6-4DA5EF7C54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060640"/>
            <a:ext cx="7632720" cy="245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briga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63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768-DED4-48F8-9BC4-B7B6F51CF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6049800" cy="86364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10920" y="198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1989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0800000">
            <a:off x="463680" y="2275920"/>
            <a:ext cx="581040" cy="2454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1557360"/>
            <a:ext cx="7345440" cy="5127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Cross legal references concerning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Organization of the Portuguese Statistical System – INE (NSI) Statistics Council (SC), other public          bo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Definition, importance and boundaries of confidentiality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The future of statistical confidentiality: what exists, what may be improved, what can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8360" y="765000"/>
            <a:ext cx="2160720" cy="360360"/>
            <a:chOff x="468360" y="765000"/>
            <a:chExt cx="2160720" cy="360360"/>
          </a:xfrm>
        </p:grpSpPr>
        <p:sp>
          <p:nvSpPr>
            <p:cNvPr id="61" name=""/>
            <p:cNvSpPr/>
            <p:nvPr/>
          </p:nvSpPr>
          <p:spPr>
            <a:xfrm>
              <a:off x="468360" y="765000"/>
              <a:ext cx="21600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7440" y="76500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16360" y="765000"/>
              <a:ext cx="865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2720" y="765000"/>
              <a:ext cx="57636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8720" y="909360"/>
              <a:ext cx="576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BAF-DB75-425C-B82D-54C44E9E20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1640" y="3357720"/>
            <a:ext cx="7272360" cy="168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ational Statistical Law -  nº 6/89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Law 294/2001 – access, collection and processing personal data obtained through administrative 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Cross legal references concerning confidenti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77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76720" y="5013360"/>
            <a:ext cx="388800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Personal Data Protection L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Law 67/9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413000"/>
            <a:ext cx="6697800" cy="20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Council Regulation 1588/90 - Transmission of Confidential Statistical Data from INE to Eurost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Statistical Law – Council Regulation CE/322/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Commission Regulation 831/2002, Access of scientific researchers to Confidential European Statistic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The Personal Data Directive – 95/46/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AD4-5309-4D5C-900F-EA1CE80A2E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1916280"/>
            <a:ext cx="7272360" cy="37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main purpo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al production: data collection, processing and disse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al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al cooperation with other countries mainly in Europe and Af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 – supervision and coordination of the statistical system: includes requests and decisions about confidentiality mat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public bodies – same purposes as 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804800">
            <a:off x="2482200" y="183960"/>
            <a:ext cx="6118200" cy="1155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Organization of the Statistical System – INE, SC, other public 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91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856-2204-42EB-90B2-A17FF22BF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628640"/>
            <a:ext cx="7272360" cy="37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ion: the privacy of data providers, the confidentiality of the information they provide and its use only for statistical purposes must be absolutely guarantee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uropean Statistics Code of Pract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ce: keeping the confidence of respondents assuring that the information they provide will be used only for statistical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daries: main rule that denies the transmission of information related to individual units by INE, as well as the access to individual statistical data by any public auth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Definition, importance and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03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EE1-D140-443D-BE87-3C73450C1D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1628640"/>
            <a:ext cx="7272360" cy="449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exi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limitations of the law concerning access to confidential statistical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– To preserve the competition among business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– To guarantee respondents trust in the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– To assure that required statistical information refers only to juridical pers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– To assure that requested information will only be used for planning and coordination purposes or international economical rel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r>
              <a:rPr b="1" i="1" lang="pt-PT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15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081-A71C-4206-B9C3-5836FB1ED2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71640" y="1413000"/>
            <a:ext cx="7272360" cy="40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may be improv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o conciliate the increasing demands for confidential statistical data with the need to preserve respondents’ trust in statistical institu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ing advantage of international benchmark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ing efficient co-ordination between the statistical services and the public body which takes the responsibility for personal data protection and contr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ing the use of data obtained through administrative 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27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356-0C2D-4C19-9823-C53A0715B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1628640"/>
            <a:ext cx="8424720" cy="34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an be don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monised statistical methods for confidentiality treatment, resulting from different combined approaches such as statistical, juridical, methodological and administ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al unit for providing integrated proposals and solutions relating to confidentiality matters, which could function as a link between INE and 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39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7D6-44BC-4CB2-AE39-42EE7205C6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1628640"/>
            <a:ext cx="7632720" cy="327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an be don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legal solution to provide a good communication between INE and National Data Protection Com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legal purposes to be considered as exceptions to statistical confidentiality, such as scientific research, public health or criminal investi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51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6DA-86AA-4AFA-A23B-BE5CCA4C33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6:14:16Z</dcterms:created>
  <dc:creator>DPHCN</dc:creator>
  <dc:description/>
  <dc:language>en-US</dc:language>
  <cp:lastModifiedBy>ONU</cp:lastModifiedBy>
  <dcterms:modified xsi:type="dcterms:W3CDTF">2005-11-08T15:47:14Z</dcterms:modified>
  <cp:revision>48</cp:revision>
  <dc:subject/>
  <dc:title>títu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03517</vt:r8>
  </property>
  <property fmtid="{D5CDD505-2E9C-101B-9397-08002B2CF9AE}" pid="3" name="_AuthorEmail">
    <vt:lpwstr>ana.dpinto@ine.pt</vt:lpwstr>
  </property>
  <property fmtid="{D5CDD505-2E9C-101B-9397-08002B2CF9AE}" pid="4" name="_AuthorEmailDisplayName">
    <vt:lpwstr>Ana Dulce Pinto</vt:lpwstr>
  </property>
  <property fmtid="{D5CDD505-2E9C-101B-9397-08002B2CF9AE}" pid="5" name="_EmailSubject">
    <vt:lpwstr>Eurostat - UNECE work session on Statistical Confidentiality - slides presentation </vt:lpwstr>
  </property>
  <property fmtid="{D5CDD505-2E9C-101B-9397-08002B2CF9AE}" pid="6" name="_ReviewingToolsShownOnce">
    <vt:lpwstr/>
  </property>
</Properties>
</file>