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D525-53BD-4EF8-888E-BA87E11996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258-61AE-4685-9F4B-A4382B81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405468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8C4-B756-44DE-9336-94C11802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405468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2680" y="405468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5F3-E978-4FBB-9AF3-C604F080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8080" y="16682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0520" y="16682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405468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8080" y="405468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0520" y="405468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21E-C423-45F8-844E-4D7B9CC7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16682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095-BC6E-4802-8648-EDE32DBE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3E5-D970-41F7-835A-05A7F1A0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CB2-F874-447E-B177-6709389F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ECD-5068-462B-80FF-82D5A728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5640" y="476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45C-D33B-437F-9CF2-03E4D912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05468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0B8-40ED-41C7-8276-C92C3E7D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2680" y="405468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E07-A86F-4CB4-B534-378B665D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2680" y="16682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405468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ED3-30E4-4A95-813E-8B5AB08A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-3117600" y="3120120"/>
            <a:ext cx="6742440" cy="505080"/>
          </a:xfrm>
          <a:prstGeom prst="rect">
            <a:avLst/>
          </a:prstGeom>
          <a:gradFill rotWithShape="0">
            <a:gsLst>
              <a:gs pos="0">
                <a:srgbClr val="66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1440"/>
            <a:ext cx="91425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55640" y="16682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C6C8-CB25-4E41-8A1D-BD04ED646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39600" y="55440"/>
          <a:ext cx="47628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55440"/>
                    <a:ext cx="4762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 txBox="1"/>
          <p:nvPr/>
        </p:nvSpPr>
        <p:spPr>
          <a:xfrm rot="16200000">
            <a:off x="-2876760" y="3486960"/>
            <a:ext cx="6192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99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NECE Statistics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6699cc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nece.org/stats/documents/tfcm.htm" TargetMode="External"/><Relationship Id="rId2" Type="http://schemas.openxmlformats.org/officeDocument/2006/relationships/hyperlink" Target="http://www.unece.org/stats/documents/tfcm.htm" TargetMode="External"/><Relationship Id="rId3" Type="http://schemas.openxmlformats.org/officeDocument/2006/relationships/hyperlink" Target="http://www.unece.org/stats/documents/tfcm.htm" TargetMode="External"/><Relationship Id="rId4" Type="http://schemas.openxmlformats.org/officeDocument/2006/relationships/hyperlink" Target="http://www.unece.org/stats/documents/tfcm.htm" TargetMode="External"/><Relationship Id="rId5" Type="http://schemas.openxmlformats.org/officeDocument/2006/relationships/hyperlink" Target="http://www.unece.org/stats/documents/tfcm.htm" TargetMode="External"/><Relationship Id="rId6" Type="http://schemas.openxmlformats.org/officeDocument/2006/relationships/hyperlink" Target="http://www.unece.org/stats/documents/tfcm.htm" TargetMode="External"/><Relationship Id="rId7" Type="http://schemas.openxmlformats.org/officeDocument/2006/relationships/hyperlink" Target="mailto:dennis.trewin@abs.gov.au" TargetMode="External"/><Relationship Id="rId8" Type="http://schemas.openxmlformats.org/officeDocument/2006/relationships/hyperlink" Target="mailto:dennis.trewin@abs.gov.au" TargetMode="External"/><Relationship Id="rId9" Type="http://schemas.openxmlformats.org/officeDocument/2006/relationships/hyperlink" Target="mailto:dennis.trewin@abs.gov.au" TargetMode="External"/><Relationship Id="rId10" Type="http://schemas.openxmlformats.org/officeDocument/2006/relationships/hyperlink" Target="mailto:dennis.trewin@abs.gov.au" TargetMode="External"/><Relationship Id="rId11" Type="http://schemas.openxmlformats.org/officeDocument/2006/relationships/hyperlink" Target="mailto:dennis.trewin@abs.gov.au" TargetMode="External"/><Relationship Id="rId12" Type="http://schemas.openxmlformats.org/officeDocument/2006/relationships/hyperlink" Target="mailto:dennis.trewin@abs.gov.au" TargetMode="External"/><Relationship Id="rId13" Type="http://schemas.openxmlformats.org/officeDocument/2006/relationships/hyperlink" Target="mailto:tiina.luige@unece.org" TargetMode="External"/><Relationship Id="rId14" Type="http://schemas.openxmlformats.org/officeDocument/2006/relationships/hyperlink" Target="mailto:tiina.luige@unece.org" TargetMode="External"/><Relationship Id="rId15" Type="http://schemas.openxmlformats.org/officeDocument/2006/relationships/hyperlink" Target="mailto:tiina.luige@unece.org" TargetMode="External"/><Relationship Id="rId16" Type="http://schemas.openxmlformats.org/officeDocument/2006/relationships/hyperlink" Target="mailto:tiina.luige@unece.org" TargetMode="External"/><Relationship Id="rId17" Type="http://schemas.openxmlformats.org/officeDocument/2006/relationships/hyperlink" Target="mailto:tiina.luige@unece.org" TargetMode="External"/><Relationship Id="rId18" Type="http://schemas.openxmlformats.org/officeDocument/2006/relationships/hyperlink" Target="mailto:tiina.luige@unece.org" TargetMode="External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nece.org/stats/documents/tfcm.htm" TargetMode="External"/><Relationship Id="rId2" Type="http://schemas.openxmlformats.org/officeDocument/2006/relationships/hyperlink" Target="http://www.unece.org/stats/documents/tfcm.htm" TargetMode="External"/><Relationship Id="rId3" Type="http://schemas.openxmlformats.org/officeDocument/2006/relationships/hyperlink" Target="http://www.unece.org/stats/documents/tfcm.htm" TargetMode="External"/><Relationship Id="rId4" Type="http://schemas.openxmlformats.org/officeDocument/2006/relationships/hyperlink" Target="http://www.unece.org/stats/documents/tfcm.htm" TargetMode="External"/><Relationship Id="rId5" Type="http://schemas.openxmlformats.org/officeDocument/2006/relationships/hyperlink" Target="http://www.unece.org/stats/documents/tfcm.htm" TargetMode="External"/><Relationship Id="rId6" Type="http://schemas.openxmlformats.org/officeDocument/2006/relationships/hyperlink" Target="http://www.unece.org/stats/documents/tfcm.htm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 Narrow"/>
              </a:rPr>
              <a:t>CES Task Force on </a:t>
            </a:r>
            <a:br>
              <a:rPr sz="4800"/>
            </a:br>
            <a:r>
              <a:rPr b="1" lang="en-GB" sz="4800" spc="-1" strike="noStrike">
                <a:solidFill>
                  <a:srgbClr val="333399"/>
                </a:solidFill>
                <a:latin typeface="Arial Narrow"/>
              </a:rPr>
              <a:t>Confidentiality and Microdata</a:t>
            </a:r>
            <a:endParaRPr b="1" lang="en-US" sz="4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7619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iina Luige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ECE Statistical Division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Conference of European Statisticians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UN Economic Commission for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Different opinions expressed (cont.):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International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access – more developed in the updated version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enforcing punishment across border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access by international organization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Public benefit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better criterion: furthering the objectives of statistical offic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Other: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conflict with data protection law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sensitive variabl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different</a:t>
            </a:r>
            <a:r>
              <a:rPr b="0" lang="en-GB" sz="24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kinds of research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=&gt; </a:t>
            </a: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Flexibility in implementation should be allowed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UNECE Survey on international access to microdata (fall 2005)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68240"/>
            <a:ext cx="860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Sent out to UNECE and OECD member countries - 61 countries, 43 responded ( response rate about 70%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Majority of countries release microdata to international organisations (only 3 do not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Arial Narrow"/>
              </a:rPr>
              <a:t>Can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 release: 55% as PUF, 82% licensed microdata files, few RAF (12%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Arial Narrow"/>
              </a:rPr>
              <a:t>Do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 release: 40% as PUF, 67% licensed fil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50% to an int. organization as a whole, 50% to an individu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business and household data - 65% the same arrangements, 32% different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85% can release to researchers collaborating with int. org.; 77% to researchers from other countri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Further steps: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Target date for final version for endorsement by the CES: </a:t>
            </a:r>
            <a:r>
              <a:rPr b="1" lang="en-GB" sz="3200" spc="-1" strike="noStrike">
                <a:solidFill>
                  <a:srgbClr val="333399"/>
                </a:solidFill>
                <a:latin typeface="Arial Narrow"/>
              </a:rPr>
              <a:t>June 2006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Will become the “UNECE Principles of confidentiality and access to microdata”, an extension of fundamental principles of official statistics in the area of confidentiality 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For more information: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Website: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http://www.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unece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.org/stats/documents/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tfcm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.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htm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Chairman: Dennis Trewin, Australian Bureau of Statistics (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ea typeface="Times New Roman"/>
                <a:hlinkClick r:id="rId7"/>
              </a:rPr>
              <a:t>dennis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ea typeface="Times New Roman"/>
                <a:hlinkClick r:id="rId8"/>
              </a:rPr>
              <a:t>.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ea typeface="Times New Roman"/>
                <a:hlinkClick r:id="rId9"/>
              </a:rPr>
              <a:t>trewin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ea typeface="Times New Roman"/>
                <a:hlinkClick r:id="rId10"/>
              </a:rPr>
              <a:t>@abs.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ea typeface="Times New Roman"/>
                <a:hlinkClick r:id="rId11"/>
              </a:rPr>
              <a:t>gov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ea typeface="Times New Roman"/>
                <a:hlinkClick r:id="rId12"/>
              </a:rPr>
              <a:t>.au</a:t>
            </a: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UNECE Secretariat: Tiina Luige (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hlinkClick r:id="rId13"/>
              </a:rPr>
              <a:t>tiina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hlinkClick r:id="rId14"/>
              </a:rPr>
              <a:t>.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hlinkClick r:id="rId15"/>
              </a:rPr>
              <a:t>luige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hlinkClick r:id="rId16"/>
              </a:rPr>
              <a:t>@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hlinkClick r:id="rId17"/>
              </a:rPr>
              <a:t>unece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 Narrow"/>
                <a:hlinkClick r:id="rId18"/>
              </a:rPr>
              <a:t>.org</a:t>
            </a: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Background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Conference of European Statisticians (CES) = Heads of the statistical offices of 55 ECE member countries  +  non-European OECD countries  +  int. org-s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Plenary session every June – 53</a:t>
            </a:r>
            <a:r>
              <a:rPr b="0" lang="en-GB" sz="3200" spc="-1" strike="noStrike" baseline="30000">
                <a:solidFill>
                  <a:srgbClr val="333399"/>
                </a:solidFill>
                <a:latin typeface="Arial Narrow"/>
              </a:rPr>
              <a:t>rd</a:t>
            </a: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 in 2005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http://www.unece.org/stats/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In 2003 a seminar on Statistical Confidentiality and Microdata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=&gt; dealing with managerial issues of confidentiality and microdata access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CES in 2003 agreed that …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confidentiality is becoming an international issue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need to unify the approaches internationally and to agree on core principles for dissemination of microdata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Narrow"/>
              </a:rPr>
              <a:t>to address research access internationally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Narrow"/>
              </a:rPr>
              <a:t>to help countries that are in the process of setting up their legal background and procedures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Narrow"/>
              </a:rPr>
              <a:t>help in discussions with user community and other government agencie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principles general enough to be applicable in countries with different level of developmen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accompanied by guidelines and good practic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endorsed by the C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Fundamental principles of official statistics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 Narrow"/>
              </a:rPr>
              <a:t>Principle 6: data confidentiality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Individual data collected by statistical agencies for statistical compilation, whether or not they refer to natural or legal persons, are to be strictly confidential and used exclusively for statistical purposes”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TF on Confidentiality and Microdata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Members: 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Arial"/>
              </a:rPr>
              <a:t>Australia (Chair), Canada, Denmark, Georgia, Italy, Poland, UNECE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Arial"/>
              </a:rPr>
              <a:t>Website: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 Narrow"/>
                <a:ea typeface="Arial"/>
                <a:hlinkClick r:id="rId1"/>
              </a:rPr>
              <a:t>http://www.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 Narrow"/>
                <a:ea typeface="Arial"/>
                <a:hlinkClick r:id="rId2"/>
              </a:rPr>
              <a:t>unece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 Narrow"/>
                <a:ea typeface="Arial"/>
                <a:hlinkClick r:id="rId3"/>
              </a:rPr>
              <a:t>.org/stats/documents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 Narrow"/>
                <a:ea typeface="Arial"/>
                <a:hlinkClick r:id="rId4"/>
              </a:rPr>
              <a:t>tfcm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 Narrow"/>
                <a:ea typeface="Arial"/>
                <a:hlinkClick r:id="rId5"/>
              </a:rPr>
              <a:t>.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 Narrow"/>
                <a:ea typeface="Arial"/>
                <a:hlinkClick r:id="rId6"/>
              </a:rPr>
              <a:t>htm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Arial"/>
              </a:rPr>
              <a:t>First draft presented at the CES 2004 plenary session: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Arial"/>
              </a:rPr>
              <a:t>Comments from countri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Arial"/>
              </a:rPr>
              <a:t>2</a:t>
            </a:r>
            <a:r>
              <a:rPr b="0" lang="en-GB" sz="2800" spc="-1" strike="noStrike" baseline="30000">
                <a:solidFill>
                  <a:srgbClr val="333399"/>
                </a:solidFill>
                <a:latin typeface="Arial Narrow"/>
                <a:ea typeface="Arial"/>
              </a:rPr>
              <a:t>nd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Arial"/>
              </a:rPr>
              <a:t> version at the 2005 CES plenary session “Managing confidentiality and microdata access: guidelines and core principles”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Arial"/>
              </a:rPr>
              <a:t>3</a:t>
            </a:r>
            <a:r>
              <a:rPr b="0" lang="en-GB" sz="2800" spc="-1" strike="noStrike" baseline="30000">
                <a:solidFill>
                  <a:srgbClr val="333399"/>
                </a:solidFill>
                <a:latin typeface="Arial Narrow"/>
                <a:ea typeface="Arial"/>
              </a:rPr>
              <a:t>rd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Arial"/>
              </a:rPr>
              <a:t> version for the 2005 October meeting of the CES Bureau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Arial"/>
              </a:rPr>
              <a:t>June 2006 – planned final endorsement of the Guidelin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Guidelines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668600"/>
            <a:ext cx="8229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Perspectives of the statistical offices and the research community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Core principl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Methods of supporting the research community (anonymised microdata files, remote access facilities, data laboratories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Management issues associated with the release of microdata (decision making, metadata, breaches by researchers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Special issues (international access, data linking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Case studies (21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Principles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 Narrow"/>
                <a:ea typeface="Times New Roman"/>
              </a:rPr>
              <a:t>Principle 1: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 It is </a:t>
            </a:r>
            <a:r>
              <a:rPr b="0" lang="en-GB" sz="2800" spc="-1" strike="noStrike" u="sng">
                <a:solidFill>
                  <a:srgbClr val="333399"/>
                </a:solidFill>
                <a:uFillTx/>
                <a:latin typeface="Arial Narrow"/>
                <a:ea typeface="Times New Roman"/>
              </a:rPr>
              <a:t>appropriate for microdata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collected for official statistical purposes </a:t>
            </a:r>
            <a:r>
              <a:rPr b="0" lang="en-GB" sz="2800" spc="-1" strike="noStrike" u="sng">
                <a:solidFill>
                  <a:srgbClr val="333399"/>
                </a:solidFill>
                <a:uFillTx/>
                <a:latin typeface="Arial Narrow"/>
                <a:ea typeface="Times New Roman"/>
              </a:rPr>
              <a:t>to be used for secondary data analysis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to support research as long as there are prescribed conditions that protect confidentiality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 Narrow"/>
                <a:ea typeface="Times New Roman"/>
              </a:rPr>
              <a:t>Principle 2: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Microdata should </a:t>
            </a:r>
            <a:r>
              <a:rPr b="0" lang="en-GB" sz="2800" spc="-1" strike="noStrike" u="sng">
                <a:solidFill>
                  <a:srgbClr val="333399"/>
                </a:solidFill>
                <a:uFillTx/>
                <a:latin typeface="Arial Narrow"/>
                <a:ea typeface="Times New Roman"/>
              </a:rPr>
              <a:t>only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be made available </a:t>
            </a:r>
            <a:r>
              <a:rPr b="0" lang="en-GB" sz="2800" spc="-1" strike="noStrike" u="sng">
                <a:solidFill>
                  <a:srgbClr val="333399"/>
                </a:solidFill>
                <a:uFillTx/>
                <a:latin typeface="Arial Narrow"/>
                <a:ea typeface="Times New Roman"/>
              </a:rPr>
              <a:t>for statistical purposes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.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 Narrow"/>
                <a:ea typeface="Times New Roman"/>
              </a:rPr>
              <a:t>Principle 3: 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ovision of microdata should be consistent with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legal and other necessary arrangements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which ensure that confidentiality of the released microdata is protected.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 Narrow"/>
                <a:ea typeface="Times New Roman"/>
              </a:rPr>
              <a:t>Principle 4: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The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Narrow"/>
                <a:ea typeface="Times New Roman"/>
              </a:rPr>
              <a:t>processes</a:t>
            </a:r>
            <a:r>
              <a:rPr b="0" lang="en-US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for researcher access to microdata as well as the uses and users of microdata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Narrow"/>
                <a:ea typeface="Times New Roman"/>
              </a:rPr>
              <a:t>should be transparent, and publicly available.</a:t>
            </a: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9852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Perspective of the research community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6682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From research side has been some criticism that the Guidelines are too restrictive, especially from the census microdata users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Guidelines apply to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both economic and social microdata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very different countries: big/small, developed market economies/developing and transition countri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Final responsibility for confidentiality lies with statistical offices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 Narrow"/>
              </a:rPr>
              <a:t>Issues where different opinions are expressed: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Statistical purposes”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microdata could be used for research purposes using statistical models, analysis and data based on microdata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Equality of access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transparent procedur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Informed consent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active and passive consen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Narrow"/>
              </a:rPr>
              <a:t>Public Use Files</a:t>
            </a:r>
            <a:endParaRPr b="0" lang="en-US" sz="32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</a:rPr>
              <a:t>stocktaking of different approaches needed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20:40:31Z</dcterms:created>
  <dc:creator>Juraj Riecan</dc:creator>
  <dc:description/>
  <dc:language>en-US</dc:language>
  <cp:lastModifiedBy>Luige</cp:lastModifiedBy>
  <dcterms:modified xsi:type="dcterms:W3CDTF">2005-11-01T14:42:17Z</dcterms:modified>
  <cp:revision>132</cp:revision>
  <dc:subject/>
  <dc:title>Slide 1</dc:title>
</cp:coreProperties>
</file>